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chimes.wav" ContentType="audio/x-wav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274-41B6-45A0-A547-38A5BA18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C35-B162-4DBD-BA64-73D94911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B0C-D6F7-47C7-B0AB-9ABDE8F0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DAB-5E6D-4B88-B5CE-F5E8D9DC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031-1A3D-4B11-998A-3AEAFE75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773-65DB-46BD-807C-B7588A05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126-2A23-464E-BB92-5D867E31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F98-40D4-4CE4-8085-ADC6EBAC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189-63F9-4133-A18D-B6948F5E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2292-4898-4E38-B808-A6AEC771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79B-5475-4641-8A1D-9FAB9455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014-45F7-451C-8512-3816B4FE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E352-E46F-42F8-8181-47D59771395C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9490-B959-40CE-8C00-48B1481C6B89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01040" y="249804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909"/>
                </a:solidFill>
                <a:latin typeface="宋体"/>
              </a:rPr>
              <a:t>第一章 生物的生殖和发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00000" y="17715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7"/>
                </a:solidFill>
                <a:latin typeface="黑体"/>
                <a:ea typeface="黑体"/>
              </a:rPr>
              <a:t>第七单元 生物圈中生命的延续和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379680" y="3367800"/>
            <a:ext cx="27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第四节 鸟的生殖和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28400" y="1357200"/>
            <a:ext cx="77151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从商场买回家的鸡蛋一般都不能孵出小鸡，这是为什么呢？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620720" y="7668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探究点二  鸟的生殖和发育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齿轮1 501"/>
          <p:cNvSpPr/>
          <p:nvPr/>
        </p:nvSpPr>
        <p:spPr>
          <a:xfrm rot="720000">
            <a:off x="914400" y="794880"/>
            <a:ext cx="706320" cy="500040"/>
          </a:xfrm>
          <a:custGeom>
            <a:avLst/>
            <a:gdLst/>
            <a:ahLst/>
            <a:rect l="l" t="t" r="r" b="b"/>
            <a:pathLst>
              <a:path w="2063518" h="1276454">
                <a:moveTo>
                  <a:pt x="1631470" y="557485"/>
                </a:moveTo>
                <a:cubicBezTo>
                  <a:pt x="1479172" y="557485"/>
                  <a:pt x="1355710" y="680947"/>
                  <a:pt x="1355710" y="833245"/>
                </a:cubicBezTo>
                <a:cubicBezTo>
                  <a:pt x="1355710" y="985543"/>
                  <a:pt x="1479172" y="1109005"/>
                  <a:pt x="1631470" y="1109005"/>
                </a:cubicBezTo>
                <a:cubicBezTo>
                  <a:pt x="1783768" y="1109005"/>
                  <a:pt x="1907230" y="985543"/>
                  <a:pt x="1907230" y="833245"/>
                </a:cubicBezTo>
                <a:cubicBezTo>
                  <a:pt x="1907230" y="680947"/>
                  <a:pt x="1783768" y="557485"/>
                  <a:pt x="1631470" y="557485"/>
                </a:cubicBezTo>
                <a:close/>
                <a:moveTo>
                  <a:pt x="1596087" y="400771"/>
                </a:moveTo>
                <a:lnTo>
                  <a:pt x="1666853" y="400771"/>
                </a:lnTo>
                <a:lnTo>
                  <a:pt x="1682233" y="488008"/>
                </a:lnTo>
                <a:cubicBezTo>
                  <a:pt x="1729134" y="494904"/>
                  <a:pt x="1774137" y="511284"/>
                  <a:pt x="1814498" y="536149"/>
                </a:cubicBezTo>
                <a:lnTo>
                  <a:pt x="1882355" y="479207"/>
                </a:lnTo>
                <a:lnTo>
                  <a:pt x="1936564" y="524695"/>
                </a:lnTo>
                <a:lnTo>
                  <a:pt x="1892271" y="601408"/>
                </a:lnTo>
                <a:cubicBezTo>
                  <a:pt x="1923766" y="636838"/>
                  <a:pt x="1947711" y="678313"/>
                  <a:pt x="1962647" y="723304"/>
                </a:cubicBezTo>
                <a:lnTo>
                  <a:pt x="2051230" y="723302"/>
                </a:lnTo>
                <a:lnTo>
                  <a:pt x="2063518" y="792992"/>
                </a:lnTo>
                <a:lnTo>
                  <a:pt x="1980277" y="823287"/>
                </a:lnTo>
                <a:cubicBezTo>
                  <a:pt x="1981630" y="870672"/>
                  <a:pt x="1973314" y="917837"/>
                  <a:pt x="1955836" y="961902"/>
                </a:cubicBezTo>
                <a:lnTo>
                  <a:pt x="2023695" y="1018840"/>
                </a:lnTo>
                <a:lnTo>
                  <a:pt x="1988313" y="1080125"/>
                </a:lnTo>
                <a:lnTo>
                  <a:pt x="1905073" y="1049826"/>
                </a:lnTo>
                <a:cubicBezTo>
                  <a:pt x="1875651" y="1086995"/>
                  <a:pt x="1838963" y="1117779"/>
                  <a:pt x="1797250" y="1140300"/>
                </a:cubicBezTo>
                <a:lnTo>
                  <a:pt x="1812635" y="1227537"/>
                </a:lnTo>
                <a:lnTo>
                  <a:pt x="1746136" y="1251740"/>
                </a:lnTo>
                <a:lnTo>
                  <a:pt x="1701847" y="1175024"/>
                </a:lnTo>
                <a:cubicBezTo>
                  <a:pt x="1655416" y="1184585"/>
                  <a:pt x="1607524" y="1184585"/>
                  <a:pt x="1561093" y="1175024"/>
                </a:cubicBezTo>
                <a:lnTo>
                  <a:pt x="1516804" y="1251740"/>
                </a:lnTo>
                <a:lnTo>
                  <a:pt x="1450306" y="1227537"/>
                </a:lnTo>
                <a:lnTo>
                  <a:pt x="1465691" y="1140300"/>
                </a:lnTo>
                <a:cubicBezTo>
                  <a:pt x="1423978" y="1117779"/>
                  <a:pt x="1387290" y="1086995"/>
                  <a:pt x="1357868" y="1049826"/>
                </a:cubicBezTo>
                <a:lnTo>
                  <a:pt x="1274628" y="1080125"/>
                </a:lnTo>
                <a:lnTo>
                  <a:pt x="1239245" y="1018840"/>
                </a:lnTo>
                <a:lnTo>
                  <a:pt x="1307105" y="961902"/>
                </a:lnTo>
                <a:cubicBezTo>
                  <a:pt x="1289627" y="917837"/>
                  <a:pt x="1281310" y="870672"/>
                  <a:pt x="1282663" y="823287"/>
                </a:cubicBezTo>
                <a:lnTo>
                  <a:pt x="1199422" y="792992"/>
                </a:lnTo>
                <a:lnTo>
                  <a:pt x="1211710" y="723302"/>
                </a:lnTo>
                <a:lnTo>
                  <a:pt x="1300293" y="723304"/>
                </a:lnTo>
                <a:cubicBezTo>
                  <a:pt x="1315229" y="678313"/>
                  <a:pt x="1339174" y="636838"/>
                  <a:pt x="1370670" y="601408"/>
                </a:cubicBezTo>
                <a:lnTo>
                  <a:pt x="1326376" y="524695"/>
                </a:lnTo>
                <a:lnTo>
                  <a:pt x="1380586" y="479207"/>
                </a:lnTo>
                <a:lnTo>
                  <a:pt x="1448443" y="536149"/>
                </a:lnTo>
                <a:cubicBezTo>
                  <a:pt x="1488803" y="511284"/>
                  <a:pt x="1533807" y="494905"/>
                  <a:pt x="1580707" y="488008"/>
                </a:cubicBezTo>
                <a:lnTo>
                  <a:pt x="1596087" y="400771"/>
                </a:lnTo>
                <a:close/>
                <a:moveTo>
                  <a:pt x="648072" y="235071"/>
                </a:moveTo>
                <a:cubicBezTo>
                  <a:pt x="419625" y="235071"/>
                  <a:pt x="234432" y="420264"/>
                  <a:pt x="234432" y="648711"/>
                </a:cubicBezTo>
                <a:cubicBezTo>
                  <a:pt x="234432" y="877158"/>
                  <a:pt x="419625" y="1062352"/>
                  <a:pt x="648072" y="1062352"/>
                </a:cubicBezTo>
                <a:cubicBezTo>
                  <a:pt x="876519" y="1062352"/>
                  <a:pt x="1061712" y="877158"/>
                  <a:pt x="1061712" y="648711"/>
                </a:cubicBezTo>
                <a:cubicBezTo>
                  <a:pt x="1061712" y="420264"/>
                  <a:pt x="876519" y="235071"/>
                  <a:pt x="648072" y="235071"/>
                </a:cubicBezTo>
                <a:close/>
                <a:moveTo>
                  <a:pt x="594998" y="0"/>
                </a:moveTo>
                <a:lnTo>
                  <a:pt x="701146" y="0"/>
                </a:lnTo>
                <a:lnTo>
                  <a:pt x="724216" y="130856"/>
                </a:lnTo>
                <a:cubicBezTo>
                  <a:pt x="794567" y="141200"/>
                  <a:pt x="862072" y="165770"/>
                  <a:pt x="922614" y="203067"/>
                </a:cubicBezTo>
                <a:lnTo>
                  <a:pt x="1024399" y="117654"/>
                </a:lnTo>
                <a:lnTo>
                  <a:pt x="1105713" y="185886"/>
                </a:lnTo>
                <a:lnTo>
                  <a:pt x="1039273" y="300956"/>
                </a:lnTo>
                <a:cubicBezTo>
                  <a:pt x="1086516" y="354101"/>
                  <a:pt x="1122434" y="416314"/>
                  <a:pt x="1144837" y="483799"/>
                </a:cubicBezTo>
                <a:lnTo>
                  <a:pt x="1277712" y="483796"/>
                </a:lnTo>
                <a:lnTo>
                  <a:pt x="1296144" y="588332"/>
                </a:lnTo>
                <a:lnTo>
                  <a:pt x="1171283" y="633774"/>
                </a:lnTo>
                <a:cubicBezTo>
                  <a:pt x="1173312" y="704852"/>
                  <a:pt x="1160838" y="775599"/>
                  <a:pt x="1134620" y="841697"/>
                </a:cubicBezTo>
                <a:lnTo>
                  <a:pt x="1236410" y="927104"/>
                </a:lnTo>
                <a:lnTo>
                  <a:pt x="1183336" y="1019032"/>
                </a:lnTo>
                <a:lnTo>
                  <a:pt x="1058476" y="973583"/>
                </a:lnTo>
                <a:cubicBezTo>
                  <a:pt x="1014343" y="1029336"/>
                  <a:pt x="959312" y="1075513"/>
                  <a:pt x="896742" y="1109294"/>
                </a:cubicBezTo>
                <a:lnTo>
                  <a:pt x="919819" y="1240149"/>
                </a:lnTo>
                <a:lnTo>
                  <a:pt x="820071" y="1276454"/>
                </a:lnTo>
                <a:lnTo>
                  <a:pt x="753637" y="1161380"/>
                </a:lnTo>
                <a:cubicBezTo>
                  <a:pt x="683991" y="1175721"/>
                  <a:pt x="612153" y="1175721"/>
                  <a:pt x="542507" y="1161380"/>
                </a:cubicBezTo>
                <a:lnTo>
                  <a:pt x="476073" y="1276454"/>
                </a:lnTo>
                <a:lnTo>
                  <a:pt x="376326" y="1240149"/>
                </a:lnTo>
                <a:lnTo>
                  <a:pt x="399403" y="1109294"/>
                </a:lnTo>
                <a:cubicBezTo>
                  <a:pt x="336833" y="1075513"/>
                  <a:pt x="281802" y="1029336"/>
                  <a:pt x="237669" y="973583"/>
                </a:cubicBezTo>
                <a:lnTo>
                  <a:pt x="112809" y="1019032"/>
                </a:lnTo>
                <a:lnTo>
                  <a:pt x="59735" y="927104"/>
                </a:lnTo>
                <a:lnTo>
                  <a:pt x="161524" y="841697"/>
                </a:lnTo>
                <a:cubicBezTo>
                  <a:pt x="135307" y="775599"/>
                  <a:pt x="122832" y="704852"/>
                  <a:pt x="124862" y="633774"/>
                </a:cubicBezTo>
                <a:lnTo>
                  <a:pt x="0" y="588332"/>
                </a:lnTo>
                <a:lnTo>
                  <a:pt x="18432" y="483796"/>
                </a:lnTo>
                <a:lnTo>
                  <a:pt x="151306" y="483799"/>
                </a:lnTo>
                <a:cubicBezTo>
                  <a:pt x="173710" y="416314"/>
                  <a:pt x="209628" y="354100"/>
                  <a:pt x="256871" y="300956"/>
                </a:cubicBezTo>
                <a:lnTo>
                  <a:pt x="190431" y="185886"/>
                </a:lnTo>
                <a:lnTo>
                  <a:pt x="271746" y="117654"/>
                </a:lnTo>
                <a:lnTo>
                  <a:pt x="373531" y="203067"/>
                </a:lnTo>
                <a:cubicBezTo>
                  <a:pt x="434072" y="165770"/>
                  <a:pt x="501577" y="141200"/>
                  <a:pt x="571928" y="130856"/>
                </a:cubicBezTo>
                <a:lnTo>
                  <a:pt x="594998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0727"/>
          <p:cNvSpPr/>
          <p:nvPr/>
        </p:nvSpPr>
        <p:spPr>
          <a:xfrm>
            <a:off x="971640" y="33577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只有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受精的鸡蛋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在适宜的条件下才能孵出小鸡。从商场买的鸡蛋是养鸡场的鸡群产的蛋，一般为未受精的卵，所以不能用于孵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103"/>
          <p:cNvSpPr/>
          <p:nvPr/>
        </p:nvSpPr>
        <p:spPr>
          <a:xfrm>
            <a:off x="106200" y="2844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888840" y="506520"/>
            <a:ext cx="7993080" cy="5661000"/>
          </a:xfrm>
          <a:prstGeom prst="flowChartAlternateProcess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cap="rnd" w="76320">
            <a:solidFill>
              <a:srgbClr val="ccffcc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68480" y="577800"/>
            <a:ext cx="72835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继续讨论：鸟是怎么繁殖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536840" y="1874880"/>
            <a:ext cx="6408720" cy="394344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4103"/>
          <p:cNvSpPr/>
          <p:nvPr/>
        </p:nvSpPr>
        <p:spPr>
          <a:xfrm>
            <a:off x="106200" y="190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714320" y="2227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  <a:ea typeface="华文行楷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106640" y="2608200"/>
            <a:ext cx="807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pic_8175"/>
          <p:cNvPicPr/>
          <p:nvPr/>
        </p:nvPicPr>
        <p:blipFill>
          <a:blip r:embed="rId1"/>
          <a:stretch/>
        </p:blipFill>
        <p:spPr>
          <a:xfrm>
            <a:off x="822240" y="1160640"/>
            <a:ext cx="2306880" cy="2143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pic_8177"/>
          <p:cNvPicPr/>
          <p:nvPr/>
        </p:nvPicPr>
        <p:blipFill>
          <a:blip r:embed="rId2"/>
          <a:stretch/>
        </p:blipFill>
        <p:spPr>
          <a:xfrm>
            <a:off x="6180120" y="1160640"/>
            <a:ext cx="2357280" cy="2143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pic_8178"/>
          <p:cNvPicPr/>
          <p:nvPr/>
        </p:nvPicPr>
        <p:blipFill>
          <a:blip r:embed="rId3"/>
          <a:stretch/>
        </p:blipFill>
        <p:spPr>
          <a:xfrm>
            <a:off x="3608280" y="1160640"/>
            <a:ext cx="2232000" cy="2143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pic_8179"/>
          <p:cNvPicPr/>
          <p:nvPr/>
        </p:nvPicPr>
        <p:blipFill>
          <a:blip r:embed="rId4"/>
          <a:stretch/>
        </p:blipFill>
        <p:spPr>
          <a:xfrm>
            <a:off x="3608280" y="3875040"/>
            <a:ext cx="221472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pic_8180"/>
          <p:cNvPicPr/>
          <p:nvPr/>
        </p:nvPicPr>
        <p:blipFill>
          <a:blip r:embed="rId5"/>
          <a:stretch/>
        </p:blipFill>
        <p:spPr>
          <a:xfrm>
            <a:off x="6251400" y="3875040"/>
            <a:ext cx="2286000" cy="2143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822240" y="3232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65360" y="3232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6608880" y="32320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筑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322800" y="59468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孵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2376360" y="4222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鸟的生殖和发育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6" descr="美国反嘴雀的卵"/>
          <p:cNvPicPr/>
          <p:nvPr/>
        </p:nvPicPr>
        <p:blipFill>
          <a:blip r:embed="rId6"/>
          <a:stretch/>
        </p:blipFill>
        <p:spPr>
          <a:xfrm>
            <a:off x="750960" y="3875040"/>
            <a:ext cx="2305080" cy="2143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4" name="Text Box 17"/>
          <p:cNvSpPr/>
          <p:nvPr/>
        </p:nvSpPr>
        <p:spPr>
          <a:xfrm>
            <a:off x="608040" y="59468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产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7"/>
          <p:cNvSpPr/>
          <p:nvPr/>
        </p:nvSpPr>
        <p:spPr>
          <a:xfrm>
            <a:off x="7060320" y="5946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育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103"/>
          <p:cNvSpPr/>
          <p:nvPr/>
        </p:nvSpPr>
        <p:spPr>
          <a:xfrm>
            <a:off x="106200" y="190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7" name="chimes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42920" y="692280"/>
            <a:ext cx="7075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鸟类的生殖和发育的过程一般包括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462680" y="223848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7d31"/>
                </a:solidFill>
                <a:latin typeface="Times New Roman"/>
              </a:rPr>
              <a:t>产    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285920" y="1595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求    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177600" y="223848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育    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891600" y="223848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孵    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249240" y="15955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imes New Roman"/>
              </a:rPr>
              <a:t>筑    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3891600" y="15955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63c1"/>
                </a:solidFill>
                <a:latin typeface="Times New Roman"/>
              </a:rPr>
              <a:t>交    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9"/>
          <p:cNvGrpSpPr/>
          <p:nvPr/>
        </p:nvGrpSpPr>
        <p:grpSpPr>
          <a:xfrm>
            <a:off x="2643120" y="4167360"/>
            <a:ext cx="3643560" cy="856800"/>
            <a:chOff x="2643120" y="4167360"/>
            <a:chExt cx="3643560" cy="856800"/>
          </a:xfrm>
        </p:grpSpPr>
        <p:sp>
          <p:nvSpPr>
            <p:cNvPr id="145" name="AutoShape 10"/>
            <p:cNvSpPr/>
            <p:nvPr/>
          </p:nvSpPr>
          <p:spPr>
            <a:xfrm>
              <a:off x="4282560" y="4167360"/>
              <a:ext cx="146880" cy="407520"/>
            </a:xfrm>
            <a:prstGeom prst="downArrow">
              <a:avLst>
                <a:gd name="adj1" fmla="val 50000"/>
                <a:gd name="adj2" fmla="val 96311"/>
              </a:avLst>
            </a:prstGeom>
            <a:solidFill>
              <a:srgbClr val="ff0000"/>
            </a:solidFill>
            <a:ln w="19080">
              <a:solidFill>
                <a:srgbClr val="954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WordArt 11"/>
            <p:cNvSpPr txBox="1"/>
            <p:nvPr/>
          </p:nvSpPr>
          <p:spPr>
            <a:xfrm>
              <a:off x="2643120" y="4672800"/>
              <a:ext cx="3643560" cy="351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隶书"/>
                </a:rPr>
                <a:t>鸟类生殖发育必须过程</a:t>
              </a:r>
              <a:endPara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隶书"/>
                <a:ea typeface="隶书"/>
              </a:endParaRPr>
            </a:p>
          </p:txBody>
        </p:sp>
      </p:grpSp>
      <p:sp>
        <p:nvSpPr>
          <p:cNvPr id="147" name="Oval 12"/>
          <p:cNvSpPr/>
          <p:nvPr/>
        </p:nvSpPr>
        <p:spPr>
          <a:xfrm>
            <a:off x="2357280" y="3095640"/>
            <a:ext cx="4105440" cy="1000080"/>
          </a:xfrm>
          <a:prstGeom prst="ellipse">
            <a:avLst/>
          </a:prstGeom>
          <a:solidFill>
            <a:srgbClr val="5b9bd5"/>
          </a:solidFill>
          <a:ln w="19080">
            <a:solidFill>
              <a:srgbClr val="954f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3023280" y="3309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求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4094640" y="3309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交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166360" y="3309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产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28760" y="5095800"/>
            <a:ext cx="8001000" cy="13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鸟类的繁殖行为是对复杂多变的陆地环境的适应，也表明鸟类是脊椎动物中较高等的类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4103"/>
          <p:cNvSpPr/>
          <p:nvPr/>
        </p:nvSpPr>
        <p:spPr>
          <a:xfrm>
            <a:off x="106200" y="2844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777960" y="771480"/>
            <a:ext cx="739764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未受精的鸡卵里含有的细胞数目是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     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     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     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很多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家鸽的卵产出后，胚胎发育暂时停止，要使胚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一步发育，必须的环境条件是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适宜的温度　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充足的养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一定的水分　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雌鸽孵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438880" y="21099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168960" y="820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776160" y="3564000"/>
            <a:ext cx="768996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家鸽的胚胎发育部位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胚盘　　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卵黄　　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卵黄膜　　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卵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家鸽的受精卵的胚胎发育开始于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雌鸽体内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卵产出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亲鸽孵卵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卵产出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4646520" y="34671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5811840" y="4381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919080" y="3541680"/>
            <a:ext cx="739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鸟类的生殖和发育过程一般都经过求偶、交配、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巢、产卵、孵卵、育雏等阶段，这些阶段都有例外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除了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筑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孵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育雏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偶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和产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919160" y="4684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919080" y="755640"/>
            <a:ext cx="7317000" cy="28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鸡蛋的气室是由什麽围成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卵壳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内外两层壳膜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卵黄膜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卵白和卵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家鸽卵细胞的细胞膜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外层卵壳膜　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内层卵壳膜　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卵黄膜　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卵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419800" y="684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848120" y="2112840"/>
            <a:ext cx="6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103"/>
          <p:cNvSpPr/>
          <p:nvPr/>
        </p:nvSpPr>
        <p:spPr>
          <a:xfrm>
            <a:off x="106200" y="190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鸟窝的蛋"/>
          <p:cNvPicPr/>
          <p:nvPr/>
        </p:nvPicPr>
        <p:blipFill>
          <a:blip r:embed="rId1"/>
          <a:stretch/>
        </p:blipFill>
        <p:spPr>
          <a:xfrm>
            <a:off x="4859280" y="2084400"/>
            <a:ext cx="3889440" cy="3798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1476360" y="909720"/>
            <a:ext cx="18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情景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录像机 512"/>
          <p:cNvSpPr/>
          <p:nvPr/>
        </p:nvSpPr>
        <p:spPr>
          <a:xfrm>
            <a:off x="828720" y="907920"/>
            <a:ext cx="554040" cy="497160"/>
          </a:xfrm>
          <a:custGeom>
            <a:avLst/>
            <a:gdLst/>
            <a:ahLst/>
            <a:rect l="l" t="t" r="r" b="b"/>
            <a:pathLst>
              <a:path w="3710374" h="2848566">
                <a:moveTo>
                  <a:pt x="132902" y="1177607"/>
                </a:moveTo>
                <a:cubicBezTo>
                  <a:pt x="206302" y="1177607"/>
                  <a:pt x="265804" y="1237109"/>
                  <a:pt x="265804" y="1310509"/>
                </a:cubicBezTo>
                <a:lnTo>
                  <a:pt x="265804" y="1822976"/>
                </a:lnTo>
                <a:cubicBezTo>
                  <a:pt x="265804" y="1896376"/>
                  <a:pt x="206302" y="1955878"/>
                  <a:pt x="132902" y="1955878"/>
                </a:cubicBezTo>
                <a:cubicBezTo>
                  <a:pt x="59502" y="1955878"/>
                  <a:pt x="0" y="1896376"/>
                  <a:pt x="0" y="1822976"/>
                </a:cubicBezTo>
                <a:lnTo>
                  <a:pt x="0" y="1310509"/>
                </a:lnTo>
                <a:cubicBezTo>
                  <a:pt x="0" y="1237109"/>
                  <a:pt x="59502" y="1177607"/>
                  <a:pt x="132902" y="1177607"/>
                </a:cubicBezTo>
                <a:close/>
                <a:moveTo>
                  <a:pt x="3676647" y="1014899"/>
                </a:moveTo>
                <a:cubicBezTo>
                  <a:pt x="3699953" y="1011726"/>
                  <a:pt x="3709766" y="1038156"/>
                  <a:pt x="3709762" y="1126078"/>
                </a:cubicBezTo>
                <a:lnTo>
                  <a:pt x="3709762" y="2733814"/>
                </a:lnTo>
                <a:cubicBezTo>
                  <a:pt x="3714789" y="2810852"/>
                  <a:pt x="3689665" y="2852720"/>
                  <a:pt x="3604255" y="2784056"/>
                </a:cubicBezTo>
                <a:cubicBezTo>
                  <a:pt x="3539382" y="2731902"/>
                  <a:pt x="3308368" y="2542961"/>
                  <a:pt x="3100502" y="2373078"/>
                </a:cubicBezTo>
                <a:lnTo>
                  <a:pt x="2983265" y="2373078"/>
                </a:lnTo>
                <a:lnTo>
                  <a:pt x="2983265" y="2692091"/>
                </a:lnTo>
                <a:cubicBezTo>
                  <a:pt x="2983265" y="2778510"/>
                  <a:pt x="2913209" y="2848566"/>
                  <a:pt x="2826790" y="2848566"/>
                </a:cubicBezTo>
                <a:lnTo>
                  <a:pt x="542844" y="2848566"/>
                </a:lnTo>
                <a:cubicBezTo>
                  <a:pt x="456425" y="2848566"/>
                  <a:pt x="386369" y="2778510"/>
                  <a:pt x="386369" y="2692091"/>
                </a:cubicBezTo>
                <a:lnTo>
                  <a:pt x="386369" y="1261585"/>
                </a:lnTo>
                <a:cubicBezTo>
                  <a:pt x="386369" y="1175166"/>
                  <a:pt x="456425" y="1105110"/>
                  <a:pt x="542844" y="1105110"/>
                </a:cubicBezTo>
                <a:lnTo>
                  <a:pt x="2826790" y="1105110"/>
                </a:lnTo>
                <a:cubicBezTo>
                  <a:pt x="2913209" y="1105110"/>
                  <a:pt x="2983265" y="1175166"/>
                  <a:pt x="2983265" y="1261585"/>
                </a:cubicBezTo>
                <a:lnTo>
                  <a:pt x="2983265" y="1470870"/>
                </a:lnTo>
                <a:lnTo>
                  <a:pt x="3095401" y="1470870"/>
                </a:lnTo>
                <a:cubicBezTo>
                  <a:pt x="3315877" y="1289257"/>
                  <a:pt x="3568799" y="1079374"/>
                  <a:pt x="3619327" y="1045691"/>
                </a:cubicBezTo>
                <a:cubicBezTo>
                  <a:pt x="3643821" y="1029362"/>
                  <a:pt x="3662662" y="1016802"/>
                  <a:pt x="3676647" y="1014899"/>
                </a:cubicBezTo>
                <a:close/>
                <a:moveTo>
                  <a:pt x="2266043" y="0"/>
                </a:moveTo>
                <a:cubicBezTo>
                  <a:pt x="2555481" y="0"/>
                  <a:pt x="2790117" y="234636"/>
                  <a:pt x="2790117" y="524074"/>
                </a:cubicBezTo>
                <a:cubicBezTo>
                  <a:pt x="2790117" y="813512"/>
                  <a:pt x="2555481" y="1048148"/>
                  <a:pt x="2266043" y="1048148"/>
                </a:cubicBezTo>
                <a:cubicBezTo>
                  <a:pt x="1976605" y="1048148"/>
                  <a:pt x="1741969" y="813512"/>
                  <a:pt x="1741969" y="524074"/>
                </a:cubicBezTo>
                <a:cubicBezTo>
                  <a:pt x="1741969" y="234636"/>
                  <a:pt x="1976605" y="0"/>
                  <a:pt x="2266043" y="0"/>
                </a:cubicBezTo>
                <a:close/>
                <a:moveTo>
                  <a:pt x="1041907" y="0"/>
                </a:moveTo>
                <a:cubicBezTo>
                  <a:pt x="1331345" y="0"/>
                  <a:pt x="1565981" y="234636"/>
                  <a:pt x="1565981" y="524074"/>
                </a:cubicBezTo>
                <a:cubicBezTo>
                  <a:pt x="1565981" y="813512"/>
                  <a:pt x="1331345" y="1048148"/>
                  <a:pt x="1041907" y="1048148"/>
                </a:cubicBezTo>
                <a:cubicBezTo>
                  <a:pt x="752469" y="1048148"/>
                  <a:pt x="517833" y="813512"/>
                  <a:pt x="517833" y="524074"/>
                </a:cubicBezTo>
                <a:cubicBezTo>
                  <a:pt x="517833" y="234636"/>
                  <a:pt x="752469" y="0"/>
                  <a:pt x="1041907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2534"/>
          <p:cNvSpPr/>
          <p:nvPr/>
        </p:nvSpPr>
        <p:spPr>
          <a:xfrm>
            <a:off x="900000" y="1895400"/>
            <a:ext cx="4033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右图是一个用枯枝搭建、内铺干草的知更鸟鸟巢，两枚鸟卵正待孵化。你见过怎样的鸟巢和鸟卵？你能试着说说鸟类生殖发育的主要特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103"/>
          <p:cNvSpPr/>
          <p:nvPr/>
        </p:nvSpPr>
        <p:spPr>
          <a:xfrm>
            <a:off x="106200" y="190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684360" y="1255680"/>
            <a:ext cx="8305560" cy="53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"/>
                <a:ea typeface="楷体"/>
              </a:rPr>
              <a:t>目的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观察鸡卵（鸡蛋），认识鸡卵的结构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"/>
                <a:ea typeface="楷体"/>
              </a:rPr>
              <a:t>材料用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新鲜鸡卵，放大镜，剪子，镊子，培养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"/>
                <a:ea typeface="楷体"/>
              </a:rPr>
              <a:t>方法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取一个鸡卵，用放大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观察卵壳的表面是否光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鸡蛋的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钝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轻敲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裂纹，用镊子将碎裂的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卵壳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同外壳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除去，看卵壳下面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否有一个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小空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照片 015"/>
          <p:cNvPicPr/>
          <p:nvPr/>
        </p:nvPicPr>
        <p:blipFill>
          <a:blip r:embed="rId1"/>
          <a:srcRect l="0" t="0" r="-13" b="0"/>
          <a:stretch/>
        </p:blipFill>
        <p:spPr>
          <a:xfrm>
            <a:off x="4929120" y="3755880"/>
            <a:ext cx="2071800" cy="2452680"/>
          </a:xfrm>
          <a:prstGeom prst="rect">
            <a:avLst/>
          </a:prstGeom>
          <a:ln w="0">
            <a:noFill/>
          </a:ln>
          <a:effectLst>
            <a:outerShdw dist="134955" dir="247288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2" descr="观察鸡卵的操作步骤"/>
          <p:cNvPicPr/>
          <p:nvPr/>
        </p:nvPicPr>
        <p:blipFill>
          <a:blip r:embed="rId2"/>
          <a:stretch/>
        </p:blipFill>
        <p:spPr>
          <a:xfrm>
            <a:off x="6715080" y="1469880"/>
            <a:ext cx="2139840" cy="1928880"/>
          </a:xfrm>
          <a:prstGeom prst="rect">
            <a:avLst/>
          </a:prstGeom>
          <a:ln w="0">
            <a:noFill/>
          </a:ln>
        </p:spPr>
      </p:pic>
      <p:sp>
        <p:nvSpPr>
          <p:cNvPr id="52" name="Line 10"/>
          <p:cNvSpPr/>
          <p:nvPr/>
        </p:nvSpPr>
        <p:spPr>
          <a:xfrm>
            <a:off x="6143760" y="454176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6357960" y="4898880"/>
            <a:ext cx="92880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357960" y="5541840"/>
            <a:ext cx="100008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473600" y="4255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内壳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7473600" y="4684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外壳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7483320" y="5327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卵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620720" y="55080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探究点一  鸟卵的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齿轮1 501"/>
          <p:cNvSpPr/>
          <p:nvPr/>
        </p:nvSpPr>
        <p:spPr>
          <a:xfrm rot="720000">
            <a:off x="914400" y="579240"/>
            <a:ext cx="706320" cy="500040"/>
          </a:xfrm>
          <a:custGeom>
            <a:avLst/>
            <a:gdLst/>
            <a:ahLst/>
            <a:rect l="l" t="t" r="r" b="b"/>
            <a:pathLst>
              <a:path w="2063518" h="1276454">
                <a:moveTo>
                  <a:pt x="1631470" y="557485"/>
                </a:moveTo>
                <a:cubicBezTo>
                  <a:pt x="1479172" y="557485"/>
                  <a:pt x="1355710" y="680947"/>
                  <a:pt x="1355710" y="833245"/>
                </a:cubicBezTo>
                <a:cubicBezTo>
                  <a:pt x="1355710" y="985543"/>
                  <a:pt x="1479172" y="1109005"/>
                  <a:pt x="1631470" y="1109005"/>
                </a:cubicBezTo>
                <a:cubicBezTo>
                  <a:pt x="1783768" y="1109005"/>
                  <a:pt x="1907230" y="985543"/>
                  <a:pt x="1907230" y="833245"/>
                </a:cubicBezTo>
                <a:cubicBezTo>
                  <a:pt x="1907230" y="680947"/>
                  <a:pt x="1783768" y="557485"/>
                  <a:pt x="1631470" y="557485"/>
                </a:cubicBezTo>
                <a:close/>
                <a:moveTo>
                  <a:pt x="1596087" y="400771"/>
                </a:moveTo>
                <a:lnTo>
                  <a:pt x="1666853" y="400771"/>
                </a:lnTo>
                <a:lnTo>
                  <a:pt x="1682233" y="488008"/>
                </a:lnTo>
                <a:cubicBezTo>
                  <a:pt x="1729134" y="494904"/>
                  <a:pt x="1774137" y="511284"/>
                  <a:pt x="1814498" y="536149"/>
                </a:cubicBezTo>
                <a:lnTo>
                  <a:pt x="1882355" y="479207"/>
                </a:lnTo>
                <a:lnTo>
                  <a:pt x="1936564" y="524695"/>
                </a:lnTo>
                <a:lnTo>
                  <a:pt x="1892271" y="601408"/>
                </a:lnTo>
                <a:cubicBezTo>
                  <a:pt x="1923766" y="636838"/>
                  <a:pt x="1947711" y="678313"/>
                  <a:pt x="1962647" y="723304"/>
                </a:cubicBezTo>
                <a:lnTo>
                  <a:pt x="2051230" y="723302"/>
                </a:lnTo>
                <a:lnTo>
                  <a:pt x="2063518" y="792992"/>
                </a:lnTo>
                <a:lnTo>
                  <a:pt x="1980277" y="823287"/>
                </a:lnTo>
                <a:cubicBezTo>
                  <a:pt x="1981630" y="870672"/>
                  <a:pt x="1973314" y="917837"/>
                  <a:pt x="1955836" y="961902"/>
                </a:cubicBezTo>
                <a:lnTo>
                  <a:pt x="2023695" y="1018840"/>
                </a:lnTo>
                <a:lnTo>
                  <a:pt x="1988313" y="1080125"/>
                </a:lnTo>
                <a:lnTo>
                  <a:pt x="1905073" y="1049826"/>
                </a:lnTo>
                <a:cubicBezTo>
                  <a:pt x="1875651" y="1086995"/>
                  <a:pt x="1838963" y="1117779"/>
                  <a:pt x="1797250" y="1140300"/>
                </a:cubicBezTo>
                <a:lnTo>
                  <a:pt x="1812635" y="1227537"/>
                </a:lnTo>
                <a:lnTo>
                  <a:pt x="1746136" y="1251740"/>
                </a:lnTo>
                <a:lnTo>
                  <a:pt x="1701847" y="1175024"/>
                </a:lnTo>
                <a:cubicBezTo>
                  <a:pt x="1655416" y="1184585"/>
                  <a:pt x="1607524" y="1184585"/>
                  <a:pt x="1561093" y="1175024"/>
                </a:cubicBezTo>
                <a:lnTo>
                  <a:pt x="1516804" y="1251740"/>
                </a:lnTo>
                <a:lnTo>
                  <a:pt x="1450306" y="1227537"/>
                </a:lnTo>
                <a:lnTo>
                  <a:pt x="1465691" y="1140300"/>
                </a:lnTo>
                <a:cubicBezTo>
                  <a:pt x="1423978" y="1117779"/>
                  <a:pt x="1387290" y="1086995"/>
                  <a:pt x="1357868" y="1049826"/>
                </a:cubicBezTo>
                <a:lnTo>
                  <a:pt x="1274628" y="1080125"/>
                </a:lnTo>
                <a:lnTo>
                  <a:pt x="1239245" y="1018840"/>
                </a:lnTo>
                <a:lnTo>
                  <a:pt x="1307105" y="961902"/>
                </a:lnTo>
                <a:cubicBezTo>
                  <a:pt x="1289627" y="917837"/>
                  <a:pt x="1281310" y="870672"/>
                  <a:pt x="1282663" y="823287"/>
                </a:cubicBezTo>
                <a:lnTo>
                  <a:pt x="1199422" y="792992"/>
                </a:lnTo>
                <a:lnTo>
                  <a:pt x="1211710" y="723302"/>
                </a:lnTo>
                <a:lnTo>
                  <a:pt x="1300293" y="723304"/>
                </a:lnTo>
                <a:cubicBezTo>
                  <a:pt x="1315229" y="678313"/>
                  <a:pt x="1339174" y="636838"/>
                  <a:pt x="1370670" y="601408"/>
                </a:cubicBezTo>
                <a:lnTo>
                  <a:pt x="1326376" y="524695"/>
                </a:lnTo>
                <a:lnTo>
                  <a:pt x="1380586" y="479207"/>
                </a:lnTo>
                <a:lnTo>
                  <a:pt x="1448443" y="536149"/>
                </a:lnTo>
                <a:cubicBezTo>
                  <a:pt x="1488803" y="511284"/>
                  <a:pt x="1533807" y="494905"/>
                  <a:pt x="1580707" y="488008"/>
                </a:cubicBezTo>
                <a:lnTo>
                  <a:pt x="1596087" y="400771"/>
                </a:lnTo>
                <a:close/>
                <a:moveTo>
                  <a:pt x="648072" y="235071"/>
                </a:moveTo>
                <a:cubicBezTo>
                  <a:pt x="419625" y="235071"/>
                  <a:pt x="234432" y="420264"/>
                  <a:pt x="234432" y="648711"/>
                </a:cubicBezTo>
                <a:cubicBezTo>
                  <a:pt x="234432" y="877158"/>
                  <a:pt x="419625" y="1062352"/>
                  <a:pt x="648072" y="1062352"/>
                </a:cubicBezTo>
                <a:cubicBezTo>
                  <a:pt x="876519" y="1062352"/>
                  <a:pt x="1061712" y="877158"/>
                  <a:pt x="1061712" y="648711"/>
                </a:cubicBezTo>
                <a:cubicBezTo>
                  <a:pt x="1061712" y="420264"/>
                  <a:pt x="876519" y="235071"/>
                  <a:pt x="648072" y="235071"/>
                </a:cubicBezTo>
                <a:close/>
                <a:moveTo>
                  <a:pt x="594998" y="0"/>
                </a:moveTo>
                <a:lnTo>
                  <a:pt x="701146" y="0"/>
                </a:lnTo>
                <a:lnTo>
                  <a:pt x="724216" y="130856"/>
                </a:lnTo>
                <a:cubicBezTo>
                  <a:pt x="794567" y="141200"/>
                  <a:pt x="862072" y="165770"/>
                  <a:pt x="922614" y="203067"/>
                </a:cubicBezTo>
                <a:lnTo>
                  <a:pt x="1024399" y="117654"/>
                </a:lnTo>
                <a:lnTo>
                  <a:pt x="1105713" y="185886"/>
                </a:lnTo>
                <a:lnTo>
                  <a:pt x="1039273" y="300956"/>
                </a:lnTo>
                <a:cubicBezTo>
                  <a:pt x="1086516" y="354101"/>
                  <a:pt x="1122434" y="416314"/>
                  <a:pt x="1144837" y="483799"/>
                </a:cubicBezTo>
                <a:lnTo>
                  <a:pt x="1277712" y="483796"/>
                </a:lnTo>
                <a:lnTo>
                  <a:pt x="1296144" y="588332"/>
                </a:lnTo>
                <a:lnTo>
                  <a:pt x="1171283" y="633774"/>
                </a:lnTo>
                <a:cubicBezTo>
                  <a:pt x="1173312" y="704852"/>
                  <a:pt x="1160838" y="775599"/>
                  <a:pt x="1134620" y="841697"/>
                </a:cubicBezTo>
                <a:lnTo>
                  <a:pt x="1236410" y="927104"/>
                </a:lnTo>
                <a:lnTo>
                  <a:pt x="1183336" y="1019032"/>
                </a:lnTo>
                <a:lnTo>
                  <a:pt x="1058476" y="973583"/>
                </a:lnTo>
                <a:cubicBezTo>
                  <a:pt x="1014343" y="1029336"/>
                  <a:pt x="959312" y="1075513"/>
                  <a:pt x="896742" y="1109294"/>
                </a:cubicBezTo>
                <a:lnTo>
                  <a:pt x="919819" y="1240149"/>
                </a:lnTo>
                <a:lnTo>
                  <a:pt x="820071" y="1276454"/>
                </a:lnTo>
                <a:lnTo>
                  <a:pt x="753637" y="1161380"/>
                </a:lnTo>
                <a:cubicBezTo>
                  <a:pt x="683991" y="1175721"/>
                  <a:pt x="612153" y="1175721"/>
                  <a:pt x="542507" y="1161380"/>
                </a:cubicBezTo>
                <a:lnTo>
                  <a:pt x="476073" y="1276454"/>
                </a:lnTo>
                <a:lnTo>
                  <a:pt x="376326" y="1240149"/>
                </a:lnTo>
                <a:lnTo>
                  <a:pt x="399403" y="1109294"/>
                </a:lnTo>
                <a:cubicBezTo>
                  <a:pt x="336833" y="1075513"/>
                  <a:pt x="281802" y="1029336"/>
                  <a:pt x="237669" y="973583"/>
                </a:cubicBezTo>
                <a:lnTo>
                  <a:pt x="112809" y="1019032"/>
                </a:lnTo>
                <a:lnTo>
                  <a:pt x="59735" y="927104"/>
                </a:lnTo>
                <a:lnTo>
                  <a:pt x="161524" y="841697"/>
                </a:lnTo>
                <a:cubicBezTo>
                  <a:pt x="135307" y="775599"/>
                  <a:pt x="122832" y="704852"/>
                  <a:pt x="124862" y="633774"/>
                </a:cubicBezTo>
                <a:lnTo>
                  <a:pt x="0" y="588332"/>
                </a:lnTo>
                <a:lnTo>
                  <a:pt x="18432" y="483796"/>
                </a:lnTo>
                <a:lnTo>
                  <a:pt x="151306" y="483799"/>
                </a:lnTo>
                <a:cubicBezTo>
                  <a:pt x="173710" y="416314"/>
                  <a:pt x="209628" y="354100"/>
                  <a:pt x="256871" y="300956"/>
                </a:cubicBezTo>
                <a:lnTo>
                  <a:pt x="190431" y="185886"/>
                </a:lnTo>
                <a:lnTo>
                  <a:pt x="271746" y="117654"/>
                </a:lnTo>
                <a:lnTo>
                  <a:pt x="373531" y="203067"/>
                </a:lnTo>
                <a:cubicBezTo>
                  <a:pt x="434072" y="165770"/>
                  <a:pt x="501577" y="141200"/>
                  <a:pt x="571928" y="130856"/>
                </a:cubicBezTo>
                <a:lnTo>
                  <a:pt x="594998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103"/>
          <p:cNvSpPr/>
          <p:nvPr/>
        </p:nvSpPr>
        <p:spPr>
          <a:xfrm>
            <a:off x="106200" y="2844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20"/>
          <p:cNvSpPr/>
          <p:nvPr/>
        </p:nvSpPr>
        <p:spPr>
          <a:xfrm>
            <a:off x="857160" y="68580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用剪刀将小空腔下面的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内壳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剪破，使壳膜内的卵白和卵黄流到一个烧杯或培养皿内。对照鸡卵结构图观察卵的结构，注意观察卵黄上有没有一个乳白色小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I:\u=791504406,2842598270&amp;fm=23&amp;gp=0.jpg"/>
          <p:cNvPicPr/>
          <p:nvPr/>
        </p:nvPicPr>
        <p:blipFill>
          <a:blip r:embed="rId1"/>
          <a:stretch/>
        </p:blipFill>
        <p:spPr>
          <a:xfrm>
            <a:off x="2071800" y="2571840"/>
            <a:ext cx="5286240" cy="3395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11"/>
          <p:cNvSpPr/>
          <p:nvPr/>
        </p:nvSpPr>
        <p:spPr>
          <a:xfrm>
            <a:off x="2152800" y="2928960"/>
            <a:ext cx="369720" cy="32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6786720" y="2428920"/>
            <a:ext cx="461880" cy="33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571760" y="3571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214280" y="300024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壳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500120" y="40006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气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1571760" y="5357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715080" y="5143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黄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786720" y="31431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6786720" y="25002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胚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6786720" y="45720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系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103"/>
          <p:cNvSpPr/>
          <p:nvPr/>
        </p:nvSpPr>
        <p:spPr>
          <a:xfrm>
            <a:off x="106200" y="190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2644920" y="476280"/>
            <a:ext cx="4173120" cy="581400"/>
            <a:chOff x="2644920" y="476280"/>
            <a:chExt cx="4173120" cy="581400"/>
          </a:xfrm>
        </p:grpSpPr>
        <p:sp>
          <p:nvSpPr>
            <p:cNvPr id="75" name="AutoShape 4"/>
            <p:cNvSpPr/>
            <p:nvPr/>
          </p:nvSpPr>
          <p:spPr>
            <a:xfrm>
              <a:off x="2644920" y="519840"/>
              <a:ext cx="4173120" cy="53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66ccff"/>
              </a:solidFill>
              <a:round/>
            </a:ln>
            <a:effectLst>
              <a:outerShdw dist="71785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5"/>
            <p:cNvSpPr/>
            <p:nvPr/>
          </p:nvSpPr>
          <p:spPr>
            <a:xfrm>
              <a:off x="2674440" y="476280"/>
              <a:ext cx="414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你知道它们的作用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6"/>
          <p:cNvSpPr/>
          <p:nvPr/>
        </p:nvSpPr>
        <p:spPr>
          <a:xfrm>
            <a:off x="2359080" y="296244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含有营养物质和水分，供给胚胎发育的需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073320" y="546264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含有细胞核，是胚胎发育的部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287440" y="239076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贮存空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供给胚胎发育所需要的氧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195640" y="5981760"/>
            <a:ext cx="57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悬挂卵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固定和减震，利于孵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987640" y="446868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为胚胎发育提供营养物质， 是胚胎发育的主要营养来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216160" y="1247760"/>
            <a:ext cx="573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保护（气孔：气体交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042920" y="4253040"/>
            <a:ext cx="5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2573280" y="181944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保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3359160" y="39625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保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1359360" y="1247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卵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1430640" y="1819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卵壳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1359360" y="2390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1330920" y="5981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系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2070720" y="4470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卵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2073600" y="3962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卵黄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1359360" y="2962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卵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1855800" y="5427720"/>
            <a:ext cx="12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胚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3"/>
          <p:cNvSpPr/>
          <p:nvPr/>
        </p:nvSpPr>
        <p:spPr>
          <a:xfrm>
            <a:off x="1547640" y="4319640"/>
            <a:ext cx="311400" cy="1303200"/>
          </a:xfrm>
          <a:custGeom>
            <a:avLst/>
            <a:gdLst>
              <a:gd name="textAreaLeft" fmla="*/ 199080 w 311400"/>
              <a:gd name="textAreaRight" fmla="*/ 311400 w 311400"/>
              <a:gd name="textAreaTop" fmla="*/ 40320 h 1303200"/>
              <a:gd name="textAreaBottom" fmla="*/ 1262880 h 130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76"/>
                  <a:pt x="10800" y="2151"/>
                </a:cubicBezTo>
                <a:lnTo>
                  <a:pt x="10800" y="8649"/>
                </a:lnTo>
                <a:cubicBezTo>
                  <a:pt x="10800" y="9725"/>
                  <a:pt x="5400" y="10800"/>
                  <a:pt x="0" y="10800"/>
                </a:cubicBezTo>
                <a:cubicBezTo>
                  <a:pt x="5400" y="10800"/>
                  <a:pt x="10800" y="11876"/>
                  <a:pt x="10800" y="12951"/>
                </a:cubicBezTo>
                <a:lnTo>
                  <a:pt x="10800" y="19449"/>
                </a:lnTo>
                <a:cubicBezTo>
                  <a:pt x="10800" y="2052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4103"/>
          <p:cNvSpPr/>
          <p:nvPr/>
        </p:nvSpPr>
        <p:spPr>
          <a:xfrm>
            <a:off x="106200" y="2844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857160" y="3357720"/>
            <a:ext cx="802800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卵的哪一部分将来可以发育成雏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57160" y="3929040"/>
            <a:ext cx="74898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受精卵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胚盘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将来发育成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雏鸡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胚盘里面含有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细胞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未受精的卵，胚盘色浅而小；已受精的卵，色浓而略大。胚盘是胚胎发育的部位，在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适宜的条件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胚胎发育成雏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928800" y="1285920"/>
            <a:ext cx="80359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有人说一个鸟卵就是一个卵细胞，你认为对吗？在鸟卵中真正的卵细胞应包括哪些结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不对   应包括：卵黄膜、卵黄和胚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6631"/>
          <p:cNvSpPr/>
          <p:nvPr/>
        </p:nvSpPr>
        <p:spPr>
          <a:xfrm>
            <a:off x="1299960" y="5158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思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103"/>
          <p:cNvSpPr/>
          <p:nvPr/>
        </p:nvSpPr>
        <p:spPr>
          <a:xfrm>
            <a:off x="106200" y="2844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6"/>
          <p:cNvSpPr/>
          <p:nvPr/>
        </p:nvSpPr>
        <p:spPr>
          <a:xfrm>
            <a:off x="684360" y="1460520"/>
            <a:ext cx="7715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人估算过，一个鸡卵的卵壳上约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气孔。请你设计一个简单的实验，来证明卵壳上有许多气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826920" y="2852640"/>
            <a:ext cx="7715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将蛋壳用针扎一个小眼，在小眼处插入注射器的针头，注意小眼和针头间的缝隙应尽量密实。用注射器从这个小眼向里缓缓打气，使蛋壳里的压力增大。过一段时间后，可见蛋壳表面就出现一点一点的液珠，由此说明蛋壳上有小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也可将鸡卵浸没在</a:t>
            </a:r>
            <a:r>
              <a:rPr b="1" lang="en-US" sz="2800" spc="-1" strike="noStrike">
                <a:solidFill>
                  <a:srgbClr val="000099"/>
                </a:solidFill>
                <a:latin typeface="楷体"/>
                <a:ea typeface="楷体"/>
              </a:rPr>
              <a:t>40—50℃</a:t>
            </a: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的温水中，可观察到卵壳上有小气泡发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7654"/>
          <p:cNvSpPr/>
          <p:nvPr/>
        </p:nvSpPr>
        <p:spPr>
          <a:xfrm>
            <a:off x="1711440" y="5158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试一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4103"/>
          <p:cNvSpPr/>
          <p:nvPr/>
        </p:nvSpPr>
        <p:spPr>
          <a:xfrm>
            <a:off x="106200" y="190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3564000" y="890640"/>
            <a:ext cx="2224080" cy="809640"/>
          </a:xfrm>
          <a:prstGeom prst="horizontalScroll">
            <a:avLst>
              <a:gd name="adj" fmla="val 6800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3492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71720" y="1714680"/>
            <a:ext cx="72928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鸟卵为什么具有这么复杂的结构？这与它们所处的环境有关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000080" y="3000240"/>
            <a:ext cx="74167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坚硬的卵壳和内部的壳膜起保护作用，卵白提供水环境，气室提供了氧气，卵黄提供营养物质，使鸟的胚胎发育受到了良好的保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鸟类胚胎的发育已完全摆脱水环境的限制，从而增加了对陆地复杂环境的适应性，是真正的陆生脊椎动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103"/>
          <p:cNvSpPr/>
          <p:nvPr/>
        </p:nvSpPr>
        <p:spPr>
          <a:xfrm>
            <a:off x="106200" y="190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5100" spc="-1" strike="noStrike">
                <a:solidFill>
                  <a:srgbClr val="ff0000"/>
                </a:solidFill>
                <a:latin typeface="Franklin Gothic Medium"/>
                <a:ea typeface="隶书"/>
              </a:rPr>
              <a:t>归纳总结</a:t>
            </a:r>
            <a:endParaRPr b="0" lang="en-US" sz="5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060280"/>
            <a:ext cx="85392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鸟卵既可贮存丰富的营养物质供胚胎发育需要；又有卵壳、卵壳膜的保护，能减少水分的丢失。这都有利于鸟类在陆地上繁殖后代。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文本框 4103"/>
          <p:cNvSpPr/>
          <p:nvPr/>
        </p:nvSpPr>
        <p:spPr>
          <a:xfrm>
            <a:off x="106200" y="2844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14T01:48:22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