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6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5.jpeg" ContentType="image/jpeg"/>
  <Override PartName="/ppt/media/image3.wmf" ContentType="image/x-wmf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BF6-D26F-4141-8219-3EC1DEFD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7AE-A131-4E86-BA49-CFFF7A62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FA2-1665-4C3E-A66C-BF7144FD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524-57FF-44E5-BC34-0A081282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5DA-9FFD-4D2C-A68A-DD898467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E17-D82B-4B73-8DC2-C532CBCD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664-2971-404E-866B-E48C1D1F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1D25-CB59-4543-95F5-E82B45CA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C96-93CE-4DD0-A6CE-7FE0939F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CA9-8312-41B8-BD6A-C5E48FCC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A88-91D1-42E6-9F91-26B630FC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F8D-2E08-4D03-A7AA-AE75ACEB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5D59-414B-45FF-A883-DD1D2909919E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FF74-8E8C-491E-821C-E2D5BBAE7F41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378960" y="32871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一章 生物的生殖和发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11280" y="206064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0707"/>
                </a:solidFill>
                <a:latin typeface="黑体"/>
                <a:ea typeface="黑体"/>
              </a:rPr>
              <a:t>第七单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0707"/>
                </a:solidFill>
                <a:latin typeface="黑体"/>
                <a:ea typeface="黑体"/>
              </a:rPr>
              <a:t>生物圈中生命的延续和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713760" y="4143960"/>
            <a:ext cx="19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一节 植物的生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6137280" y="4378320"/>
            <a:ext cx="72072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2627280" y="2349360"/>
            <a:ext cx="72072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627280" y="4438800"/>
            <a:ext cx="72072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538200" y="285264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971640" y="2565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1547640" y="1487520"/>
            <a:ext cx="217800" cy="3313080"/>
          </a:xfrm>
          <a:custGeom>
            <a:avLst/>
            <a:gdLst>
              <a:gd name="textAreaLeft" fmla="*/ 139320 w 217800"/>
              <a:gd name="textAreaRight" fmla="*/ 218160 w 217800"/>
              <a:gd name="textAreaTop" fmla="*/ 86040 h 3313080"/>
              <a:gd name="textAreaBottom" fmla="*/ 322704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1908000" y="1054080"/>
            <a:ext cx="32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萼、花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763640" y="37180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1"/>
          <p:cNvSpPr/>
          <p:nvPr/>
        </p:nvSpPr>
        <p:spPr>
          <a:xfrm>
            <a:off x="2413080" y="292572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/>
          <p:cNvSpPr/>
          <p:nvPr/>
        </p:nvSpPr>
        <p:spPr>
          <a:xfrm>
            <a:off x="3419640" y="4584600"/>
            <a:ext cx="215640" cy="1297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3"/>
          <p:cNvSpPr/>
          <p:nvPr/>
        </p:nvSpPr>
        <p:spPr>
          <a:xfrm>
            <a:off x="3492360" y="1846440"/>
            <a:ext cx="216000" cy="223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3780000" y="1773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柱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3851280" y="25653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花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3708360" y="3357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子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3635280" y="43639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花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8"/>
          <p:cNvSpPr/>
          <p:nvPr/>
        </p:nvSpPr>
        <p:spPr>
          <a:xfrm>
            <a:off x="3706920" y="551664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花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4788000" y="3645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5003640" y="29955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胚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1"/>
          <p:cNvSpPr/>
          <p:nvPr/>
        </p:nvSpPr>
        <p:spPr>
          <a:xfrm>
            <a:off x="-545760" y="1917720"/>
            <a:ext cx="12776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成熟的植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5651640" y="35719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3"/>
          <p:cNvSpPr/>
          <p:nvPr/>
        </p:nvSpPr>
        <p:spPr>
          <a:xfrm>
            <a:off x="4572000" y="4726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7164360" y="371808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5"/>
          <p:cNvSpPr/>
          <p:nvPr/>
        </p:nvSpPr>
        <p:spPr>
          <a:xfrm>
            <a:off x="4930920" y="4221000"/>
            <a:ext cx="71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花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6"/>
          <p:cNvSpPr/>
          <p:nvPr/>
        </p:nvSpPr>
        <p:spPr>
          <a:xfrm>
            <a:off x="5651640" y="472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7"/>
          <p:cNvSpPr/>
          <p:nvPr/>
        </p:nvSpPr>
        <p:spPr>
          <a:xfrm>
            <a:off x="7272360" y="2924280"/>
            <a:ext cx="1692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受精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8101080" y="3718080"/>
            <a:ext cx="1440" cy="5745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9"/>
          <p:cNvSpPr/>
          <p:nvPr/>
        </p:nvSpPr>
        <p:spPr>
          <a:xfrm>
            <a:off x="8244000" y="522936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0"/>
          <p:cNvSpPr/>
          <p:nvPr/>
        </p:nvSpPr>
        <p:spPr>
          <a:xfrm>
            <a:off x="7667640" y="42210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种子的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1"/>
          <p:cNvSpPr/>
          <p:nvPr/>
        </p:nvSpPr>
        <p:spPr>
          <a:xfrm>
            <a:off x="7093080" y="5734080"/>
            <a:ext cx="30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新一代植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2"/>
          <p:cNvSpPr/>
          <p:nvPr/>
        </p:nvSpPr>
        <p:spPr>
          <a:xfrm>
            <a:off x="6948360" y="2997360"/>
            <a:ext cx="76320" cy="1657080"/>
          </a:xfrm>
          <a:custGeom>
            <a:avLst/>
            <a:gdLst>
              <a:gd name="textAreaLeft" fmla="*/ 0 w 76320"/>
              <a:gd name="textAreaRight" fmla="*/ 27360 w 76320"/>
              <a:gd name="textAreaTop" fmla="*/ 43200 h 1657080"/>
              <a:gd name="textAreaBottom" fmla="*/ 1613880 h 16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3"/>
          <p:cNvSpPr/>
          <p:nvPr/>
        </p:nvSpPr>
        <p:spPr>
          <a:xfrm>
            <a:off x="6083280" y="2563920"/>
            <a:ext cx="72072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4"/>
          <p:cNvSpPr/>
          <p:nvPr/>
        </p:nvSpPr>
        <p:spPr>
          <a:xfrm>
            <a:off x="6154560" y="4437000"/>
            <a:ext cx="6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精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5"/>
          <p:cNvSpPr/>
          <p:nvPr/>
        </p:nvSpPr>
        <p:spPr>
          <a:xfrm>
            <a:off x="6156360" y="2494080"/>
            <a:ext cx="64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卵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6"/>
          <p:cNvSpPr/>
          <p:nvPr/>
        </p:nvSpPr>
        <p:spPr>
          <a:xfrm>
            <a:off x="2700360" y="4654440"/>
            <a:ext cx="5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雄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700360" y="249408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8"/>
          <p:cNvSpPr/>
          <p:nvPr/>
        </p:nvSpPr>
        <p:spPr>
          <a:xfrm>
            <a:off x="1187280" y="351000"/>
            <a:ext cx="34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隶书"/>
              </a:rPr>
              <a:t>有性生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757080" y="2432160"/>
            <a:ext cx="82440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有性生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经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性生殖细胞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，形成受精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受精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发育成新个体的生殖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2004121511115859383"/>
          <p:cNvPicPr/>
          <p:nvPr/>
        </p:nvPicPr>
        <p:blipFill>
          <a:blip r:embed="rId1"/>
          <a:stretch/>
        </p:blipFill>
        <p:spPr>
          <a:xfrm>
            <a:off x="539640" y="5157720"/>
            <a:ext cx="8247240" cy="1216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pic_36374"/>
          <p:cNvPicPr/>
          <p:nvPr/>
        </p:nvPicPr>
        <p:blipFill>
          <a:blip r:embed="rId2"/>
          <a:stretch/>
        </p:blipFill>
        <p:spPr>
          <a:xfrm>
            <a:off x="4140360" y="907920"/>
            <a:ext cx="4755960" cy="15130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6"/>
          <p:cNvSpPr/>
          <p:nvPr/>
        </p:nvSpPr>
        <p:spPr>
          <a:xfrm>
            <a:off x="1392120" y="6429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小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3" descr="无性生殖——椒草"/>
          <p:cNvPicPr/>
          <p:nvPr/>
        </p:nvPicPr>
        <p:blipFill>
          <a:blip r:embed="rId1"/>
          <a:stretch/>
        </p:blipFill>
        <p:spPr>
          <a:xfrm>
            <a:off x="1116000" y="1413000"/>
            <a:ext cx="7086600" cy="2084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无性生殖-马铃薯"/>
          <p:cNvPicPr/>
          <p:nvPr/>
        </p:nvPicPr>
        <p:blipFill>
          <a:blip r:embed="rId2"/>
          <a:stretch/>
        </p:blipFill>
        <p:spPr>
          <a:xfrm>
            <a:off x="684360" y="4005360"/>
            <a:ext cx="7543800" cy="20224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5"/>
          <p:cNvSpPr/>
          <p:nvPr/>
        </p:nvSpPr>
        <p:spPr>
          <a:xfrm>
            <a:off x="2216160" y="3429000"/>
            <a:ext cx="45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椒草的叶片长成新植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2376360" y="59468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马铃薯块茎发芽生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齿轮1 501"/>
          <p:cNvSpPr/>
          <p:nvPr/>
        </p:nvSpPr>
        <p:spPr>
          <a:xfrm rot="720000">
            <a:off x="914400" y="579240"/>
            <a:ext cx="706320" cy="500040"/>
          </a:xfrm>
          <a:custGeom>
            <a:avLst/>
            <a:gdLst/>
            <a:ahLst/>
            <a:rect l="l" t="t" r="r" b="b"/>
            <a:pathLst>
              <a:path w="2063518" h="1276454">
                <a:moveTo>
                  <a:pt x="1631470" y="557485"/>
                </a:moveTo>
                <a:cubicBezTo>
                  <a:pt x="1479172" y="557485"/>
                  <a:pt x="1355710" y="680947"/>
                  <a:pt x="1355710" y="833245"/>
                </a:cubicBezTo>
                <a:cubicBezTo>
                  <a:pt x="1355710" y="985543"/>
                  <a:pt x="1479172" y="1109005"/>
                  <a:pt x="1631470" y="1109005"/>
                </a:cubicBezTo>
                <a:cubicBezTo>
                  <a:pt x="1783768" y="1109005"/>
                  <a:pt x="1907230" y="985543"/>
                  <a:pt x="1907230" y="833245"/>
                </a:cubicBezTo>
                <a:cubicBezTo>
                  <a:pt x="1907230" y="680947"/>
                  <a:pt x="1783768" y="557485"/>
                  <a:pt x="1631470" y="557485"/>
                </a:cubicBezTo>
                <a:close/>
                <a:moveTo>
                  <a:pt x="1596087" y="400771"/>
                </a:moveTo>
                <a:lnTo>
                  <a:pt x="1666853" y="400771"/>
                </a:lnTo>
                <a:lnTo>
                  <a:pt x="1682233" y="488008"/>
                </a:lnTo>
                <a:cubicBezTo>
                  <a:pt x="1729134" y="494904"/>
                  <a:pt x="1774137" y="511284"/>
                  <a:pt x="1814498" y="536149"/>
                </a:cubicBezTo>
                <a:lnTo>
                  <a:pt x="1882355" y="479207"/>
                </a:lnTo>
                <a:lnTo>
                  <a:pt x="1936564" y="524695"/>
                </a:lnTo>
                <a:lnTo>
                  <a:pt x="1892271" y="601408"/>
                </a:lnTo>
                <a:cubicBezTo>
                  <a:pt x="1923766" y="636838"/>
                  <a:pt x="1947711" y="678313"/>
                  <a:pt x="1962647" y="723304"/>
                </a:cubicBezTo>
                <a:lnTo>
                  <a:pt x="2051230" y="723302"/>
                </a:lnTo>
                <a:lnTo>
                  <a:pt x="2063518" y="792992"/>
                </a:lnTo>
                <a:lnTo>
                  <a:pt x="1980277" y="823287"/>
                </a:lnTo>
                <a:cubicBezTo>
                  <a:pt x="1981630" y="870672"/>
                  <a:pt x="1973314" y="917837"/>
                  <a:pt x="1955836" y="961902"/>
                </a:cubicBezTo>
                <a:lnTo>
                  <a:pt x="2023695" y="1018840"/>
                </a:lnTo>
                <a:lnTo>
                  <a:pt x="1988313" y="1080125"/>
                </a:lnTo>
                <a:lnTo>
                  <a:pt x="1905073" y="1049826"/>
                </a:lnTo>
                <a:cubicBezTo>
                  <a:pt x="1875651" y="1086995"/>
                  <a:pt x="1838963" y="1117779"/>
                  <a:pt x="1797250" y="1140300"/>
                </a:cubicBezTo>
                <a:lnTo>
                  <a:pt x="1812635" y="1227537"/>
                </a:lnTo>
                <a:lnTo>
                  <a:pt x="1746136" y="1251740"/>
                </a:lnTo>
                <a:lnTo>
                  <a:pt x="1701847" y="1175024"/>
                </a:lnTo>
                <a:cubicBezTo>
                  <a:pt x="1655416" y="1184585"/>
                  <a:pt x="1607524" y="1184585"/>
                  <a:pt x="1561093" y="1175024"/>
                </a:cubicBezTo>
                <a:lnTo>
                  <a:pt x="1516804" y="1251740"/>
                </a:lnTo>
                <a:lnTo>
                  <a:pt x="1450306" y="1227537"/>
                </a:lnTo>
                <a:lnTo>
                  <a:pt x="1465691" y="1140300"/>
                </a:lnTo>
                <a:cubicBezTo>
                  <a:pt x="1423978" y="1117779"/>
                  <a:pt x="1387290" y="1086995"/>
                  <a:pt x="1357868" y="1049826"/>
                </a:cubicBezTo>
                <a:lnTo>
                  <a:pt x="1274628" y="1080125"/>
                </a:lnTo>
                <a:lnTo>
                  <a:pt x="1239245" y="1018840"/>
                </a:lnTo>
                <a:lnTo>
                  <a:pt x="1307105" y="961902"/>
                </a:lnTo>
                <a:cubicBezTo>
                  <a:pt x="1289627" y="917837"/>
                  <a:pt x="1281310" y="870672"/>
                  <a:pt x="1282663" y="823287"/>
                </a:cubicBezTo>
                <a:lnTo>
                  <a:pt x="1199422" y="792992"/>
                </a:lnTo>
                <a:lnTo>
                  <a:pt x="1211710" y="723302"/>
                </a:lnTo>
                <a:lnTo>
                  <a:pt x="1300293" y="723304"/>
                </a:lnTo>
                <a:cubicBezTo>
                  <a:pt x="1315229" y="678313"/>
                  <a:pt x="1339174" y="636838"/>
                  <a:pt x="1370670" y="601408"/>
                </a:cubicBezTo>
                <a:lnTo>
                  <a:pt x="1326376" y="524695"/>
                </a:lnTo>
                <a:lnTo>
                  <a:pt x="1380586" y="479207"/>
                </a:lnTo>
                <a:lnTo>
                  <a:pt x="1448443" y="536149"/>
                </a:lnTo>
                <a:cubicBezTo>
                  <a:pt x="1488803" y="511284"/>
                  <a:pt x="1533807" y="494905"/>
                  <a:pt x="1580707" y="488008"/>
                </a:cubicBezTo>
                <a:lnTo>
                  <a:pt x="1596087" y="400771"/>
                </a:lnTo>
                <a:close/>
                <a:moveTo>
                  <a:pt x="648072" y="235071"/>
                </a:moveTo>
                <a:cubicBezTo>
                  <a:pt x="419625" y="235071"/>
                  <a:pt x="234432" y="420264"/>
                  <a:pt x="234432" y="648711"/>
                </a:cubicBezTo>
                <a:cubicBezTo>
                  <a:pt x="234432" y="877158"/>
                  <a:pt x="419625" y="1062352"/>
                  <a:pt x="648072" y="1062352"/>
                </a:cubicBezTo>
                <a:cubicBezTo>
                  <a:pt x="876519" y="1062352"/>
                  <a:pt x="1061712" y="877158"/>
                  <a:pt x="1061712" y="648711"/>
                </a:cubicBezTo>
                <a:cubicBezTo>
                  <a:pt x="1061712" y="420264"/>
                  <a:pt x="876519" y="235071"/>
                  <a:pt x="648072" y="235071"/>
                </a:cubicBezTo>
                <a:close/>
                <a:moveTo>
                  <a:pt x="594998" y="0"/>
                </a:moveTo>
                <a:lnTo>
                  <a:pt x="701146" y="0"/>
                </a:lnTo>
                <a:lnTo>
                  <a:pt x="724216" y="130856"/>
                </a:lnTo>
                <a:cubicBezTo>
                  <a:pt x="794567" y="141200"/>
                  <a:pt x="862072" y="165770"/>
                  <a:pt x="922614" y="203067"/>
                </a:cubicBezTo>
                <a:lnTo>
                  <a:pt x="1024399" y="117654"/>
                </a:lnTo>
                <a:lnTo>
                  <a:pt x="1105713" y="185886"/>
                </a:lnTo>
                <a:lnTo>
                  <a:pt x="1039273" y="300956"/>
                </a:lnTo>
                <a:cubicBezTo>
                  <a:pt x="1086516" y="354101"/>
                  <a:pt x="1122434" y="416314"/>
                  <a:pt x="1144837" y="483799"/>
                </a:cubicBezTo>
                <a:lnTo>
                  <a:pt x="1277712" y="483796"/>
                </a:lnTo>
                <a:lnTo>
                  <a:pt x="1296144" y="588332"/>
                </a:lnTo>
                <a:lnTo>
                  <a:pt x="1171283" y="633774"/>
                </a:lnTo>
                <a:cubicBezTo>
                  <a:pt x="1173312" y="704852"/>
                  <a:pt x="1160838" y="775599"/>
                  <a:pt x="1134620" y="841697"/>
                </a:cubicBezTo>
                <a:lnTo>
                  <a:pt x="1236410" y="927104"/>
                </a:lnTo>
                <a:lnTo>
                  <a:pt x="1183336" y="1019032"/>
                </a:lnTo>
                <a:lnTo>
                  <a:pt x="1058476" y="973583"/>
                </a:lnTo>
                <a:cubicBezTo>
                  <a:pt x="1014343" y="1029336"/>
                  <a:pt x="959312" y="1075513"/>
                  <a:pt x="896742" y="1109294"/>
                </a:cubicBezTo>
                <a:lnTo>
                  <a:pt x="919819" y="1240149"/>
                </a:lnTo>
                <a:lnTo>
                  <a:pt x="820071" y="1276454"/>
                </a:lnTo>
                <a:lnTo>
                  <a:pt x="753637" y="1161380"/>
                </a:lnTo>
                <a:cubicBezTo>
                  <a:pt x="683991" y="1175721"/>
                  <a:pt x="612153" y="1175721"/>
                  <a:pt x="542507" y="1161380"/>
                </a:cubicBezTo>
                <a:lnTo>
                  <a:pt x="476073" y="1276454"/>
                </a:lnTo>
                <a:lnTo>
                  <a:pt x="376326" y="1240149"/>
                </a:lnTo>
                <a:lnTo>
                  <a:pt x="399403" y="1109294"/>
                </a:lnTo>
                <a:cubicBezTo>
                  <a:pt x="336833" y="1075513"/>
                  <a:pt x="281802" y="1029336"/>
                  <a:pt x="237669" y="973583"/>
                </a:cubicBezTo>
                <a:lnTo>
                  <a:pt x="112809" y="1019032"/>
                </a:lnTo>
                <a:lnTo>
                  <a:pt x="59735" y="927104"/>
                </a:lnTo>
                <a:lnTo>
                  <a:pt x="161524" y="841697"/>
                </a:lnTo>
                <a:cubicBezTo>
                  <a:pt x="135307" y="775599"/>
                  <a:pt x="122832" y="704852"/>
                  <a:pt x="124862" y="633774"/>
                </a:cubicBezTo>
                <a:lnTo>
                  <a:pt x="0" y="588332"/>
                </a:lnTo>
                <a:lnTo>
                  <a:pt x="18432" y="483796"/>
                </a:lnTo>
                <a:lnTo>
                  <a:pt x="151306" y="483799"/>
                </a:lnTo>
                <a:cubicBezTo>
                  <a:pt x="173710" y="416314"/>
                  <a:pt x="209628" y="354100"/>
                  <a:pt x="256871" y="300956"/>
                </a:cubicBezTo>
                <a:lnTo>
                  <a:pt x="190431" y="185886"/>
                </a:lnTo>
                <a:lnTo>
                  <a:pt x="271746" y="117654"/>
                </a:lnTo>
                <a:lnTo>
                  <a:pt x="373531" y="203067"/>
                </a:lnTo>
                <a:cubicBezTo>
                  <a:pt x="434072" y="165770"/>
                  <a:pt x="501577" y="141200"/>
                  <a:pt x="571928" y="130856"/>
                </a:cubicBezTo>
                <a:lnTo>
                  <a:pt x="594998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1676520" y="546120"/>
            <a:ext cx="56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探究点二   植物的无性生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324000" y="184464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不经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两性生殖细胞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的结合，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母体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直接产生新个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691200" y="119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无性生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4-4"/>
          <p:cNvPicPr/>
          <p:nvPr/>
        </p:nvPicPr>
        <p:blipFill>
          <a:blip r:embed="rId1"/>
          <a:stretch/>
        </p:blipFill>
        <p:spPr>
          <a:xfrm>
            <a:off x="274680" y="3789360"/>
            <a:ext cx="2855880" cy="2136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T4-04"/>
          <p:cNvPicPr/>
          <p:nvPr/>
        </p:nvPicPr>
        <p:blipFill>
          <a:blip r:embed="rId2"/>
          <a:stretch/>
        </p:blipFill>
        <p:spPr>
          <a:xfrm>
            <a:off x="6227640" y="3789360"/>
            <a:ext cx="2808360" cy="1951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R4-02C"/>
          <p:cNvPicPr/>
          <p:nvPr/>
        </p:nvPicPr>
        <p:blipFill>
          <a:blip r:embed="rId3"/>
          <a:stretch/>
        </p:blipFill>
        <p:spPr>
          <a:xfrm>
            <a:off x="3346560" y="3789360"/>
            <a:ext cx="2733480" cy="20588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8"/>
          <p:cNvSpPr/>
          <p:nvPr/>
        </p:nvSpPr>
        <p:spPr>
          <a:xfrm>
            <a:off x="703440" y="5935680"/>
            <a:ext cx="26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甘薯的块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6535800" y="594684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楷体"/>
                <a:ea typeface="楷体"/>
              </a:rPr>
              <a:t>非洲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堇的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3316320" y="5935680"/>
            <a:ext cx="26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草莓的匍匐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1" descr="图片6"/>
          <p:cNvPicPr/>
          <p:nvPr/>
        </p:nvPicPr>
        <p:blipFill>
          <a:blip r:embed="rId4"/>
          <a:srcRect l="0" t="25320" r="0" b="0"/>
          <a:stretch/>
        </p:blipFill>
        <p:spPr>
          <a:xfrm>
            <a:off x="395280" y="546120"/>
            <a:ext cx="2809800" cy="6508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3"/>
          <p:cNvSpPr/>
          <p:nvPr/>
        </p:nvSpPr>
        <p:spPr>
          <a:xfrm>
            <a:off x="6157800" y="2852640"/>
            <a:ext cx="2230560" cy="58140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"/>
              </a:rPr>
              <a:t>营养器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4"/>
          <p:cNvSpPr/>
          <p:nvPr/>
        </p:nvSpPr>
        <p:spPr>
          <a:xfrm flipV="1">
            <a:off x="6732720" y="1917720"/>
            <a:ext cx="1079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6800760" y="184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母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7308720" y="2492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401120" y="2033640"/>
            <a:ext cx="1583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分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3809880" cy="23590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6732720" y="404640"/>
            <a:ext cx="2160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474200" y="4697280"/>
            <a:ext cx="1583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压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2"/>
          <a:stretch/>
        </p:blipFill>
        <p:spPr>
          <a:xfrm>
            <a:off x="3851280" y="3857760"/>
            <a:ext cx="3816360" cy="2523960"/>
          </a:xfrm>
          <a:prstGeom prst="rect">
            <a:avLst/>
          </a:prstGeom>
          <a:ln w="0">
            <a:noFill/>
          </a:ln>
        </p:spPr>
      </p:pic>
      <p:sp>
        <p:nvSpPr>
          <p:cNvPr id="319" name="齿轮1 501"/>
          <p:cNvSpPr/>
          <p:nvPr/>
        </p:nvSpPr>
        <p:spPr>
          <a:xfrm rot="720000">
            <a:off x="914400" y="794880"/>
            <a:ext cx="706320" cy="500040"/>
          </a:xfrm>
          <a:custGeom>
            <a:avLst/>
            <a:gdLst/>
            <a:ahLst/>
            <a:rect l="l" t="t" r="r" b="b"/>
            <a:pathLst>
              <a:path w="2063518" h="1276454">
                <a:moveTo>
                  <a:pt x="1631470" y="557485"/>
                </a:moveTo>
                <a:cubicBezTo>
                  <a:pt x="1479172" y="557485"/>
                  <a:pt x="1355710" y="680947"/>
                  <a:pt x="1355710" y="833245"/>
                </a:cubicBezTo>
                <a:cubicBezTo>
                  <a:pt x="1355710" y="985543"/>
                  <a:pt x="1479172" y="1109005"/>
                  <a:pt x="1631470" y="1109005"/>
                </a:cubicBezTo>
                <a:cubicBezTo>
                  <a:pt x="1783768" y="1109005"/>
                  <a:pt x="1907230" y="985543"/>
                  <a:pt x="1907230" y="833245"/>
                </a:cubicBezTo>
                <a:cubicBezTo>
                  <a:pt x="1907230" y="680947"/>
                  <a:pt x="1783768" y="557485"/>
                  <a:pt x="1631470" y="557485"/>
                </a:cubicBezTo>
                <a:close/>
                <a:moveTo>
                  <a:pt x="1596087" y="400771"/>
                </a:moveTo>
                <a:lnTo>
                  <a:pt x="1666853" y="400771"/>
                </a:lnTo>
                <a:lnTo>
                  <a:pt x="1682233" y="488008"/>
                </a:lnTo>
                <a:cubicBezTo>
                  <a:pt x="1729134" y="494904"/>
                  <a:pt x="1774137" y="511284"/>
                  <a:pt x="1814498" y="536149"/>
                </a:cubicBezTo>
                <a:lnTo>
                  <a:pt x="1882355" y="479207"/>
                </a:lnTo>
                <a:lnTo>
                  <a:pt x="1936564" y="524695"/>
                </a:lnTo>
                <a:lnTo>
                  <a:pt x="1892271" y="601408"/>
                </a:lnTo>
                <a:cubicBezTo>
                  <a:pt x="1923766" y="636838"/>
                  <a:pt x="1947711" y="678313"/>
                  <a:pt x="1962647" y="723304"/>
                </a:cubicBezTo>
                <a:lnTo>
                  <a:pt x="2051230" y="723302"/>
                </a:lnTo>
                <a:lnTo>
                  <a:pt x="2063518" y="792992"/>
                </a:lnTo>
                <a:lnTo>
                  <a:pt x="1980277" y="823287"/>
                </a:lnTo>
                <a:cubicBezTo>
                  <a:pt x="1981630" y="870672"/>
                  <a:pt x="1973314" y="917837"/>
                  <a:pt x="1955836" y="961902"/>
                </a:cubicBezTo>
                <a:lnTo>
                  <a:pt x="2023695" y="1018840"/>
                </a:lnTo>
                <a:lnTo>
                  <a:pt x="1988313" y="1080125"/>
                </a:lnTo>
                <a:lnTo>
                  <a:pt x="1905073" y="1049826"/>
                </a:lnTo>
                <a:cubicBezTo>
                  <a:pt x="1875651" y="1086995"/>
                  <a:pt x="1838963" y="1117779"/>
                  <a:pt x="1797250" y="1140300"/>
                </a:cubicBezTo>
                <a:lnTo>
                  <a:pt x="1812635" y="1227537"/>
                </a:lnTo>
                <a:lnTo>
                  <a:pt x="1746136" y="1251740"/>
                </a:lnTo>
                <a:lnTo>
                  <a:pt x="1701847" y="1175024"/>
                </a:lnTo>
                <a:cubicBezTo>
                  <a:pt x="1655416" y="1184585"/>
                  <a:pt x="1607524" y="1184585"/>
                  <a:pt x="1561093" y="1175024"/>
                </a:cubicBezTo>
                <a:lnTo>
                  <a:pt x="1516804" y="1251740"/>
                </a:lnTo>
                <a:lnTo>
                  <a:pt x="1450306" y="1227537"/>
                </a:lnTo>
                <a:lnTo>
                  <a:pt x="1465691" y="1140300"/>
                </a:lnTo>
                <a:cubicBezTo>
                  <a:pt x="1423978" y="1117779"/>
                  <a:pt x="1387290" y="1086995"/>
                  <a:pt x="1357868" y="1049826"/>
                </a:cubicBezTo>
                <a:lnTo>
                  <a:pt x="1274628" y="1080125"/>
                </a:lnTo>
                <a:lnTo>
                  <a:pt x="1239245" y="1018840"/>
                </a:lnTo>
                <a:lnTo>
                  <a:pt x="1307105" y="961902"/>
                </a:lnTo>
                <a:cubicBezTo>
                  <a:pt x="1289627" y="917837"/>
                  <a:pt x="1281310" y="870672"/>
                  <a:pt x="1282663" y="823287"/>
                </a:cubicBezTo>
                <a:lnTo>
                  <a:pt x="1199422" y="792992"/>
                </a:lnTo>
                <a:lnTo>
                  <a:pt x="1211710" y="723302"/>
                </a:lnTo>
                <a:lnTo>
                  <a:pt x="1300293" y="723304"/>
                </a:lnTo>
                <a:cubicBezTo>
                  <a:pt x="1315229" y="678313"/>
                  <a:pt x="1339174" y="636838"/>
                  <a:pt x="1370670" y="601408"/>
                </a:cubicBezTo>
                <a:lnTo>
                  <a:pt x="1326376" y="524695"/>
                </a:lnTo>
                <a:lnTo>
                  <a:pt x="1380586" y="479207"/>
                </a:lnTo>
                <a:lnTo>
                  <a:pt x="1448443" y="536149"/>
                </a:lnTo>
                <a:cubicBezTo>
                  <a:pt x="1488803" y="511284"/>
                  <a:pt x="1533807" y="494905"/>
                  <a:pt x="1580707" y="488008"/>
                </a:cubicBezTo>
                <a:lnTo>
                  <a:pt x="1596087" y="400771"/>
                </a:lnTo>
                <a:close/>
                <a:moveTo>
                  <a:pt x="648072" y="235071"/>
                </a:moveTo>
                <a:cubicBezTo>
                  <a:pt x="419625" y="235071"/>
                  <a:pt x="234432" y="420264"/>
                  <a:pt x="234432" y="648711"/>
                </a:cubicBezTo>
                <a:cubicBezTo>
                  <a:pt x="234432" y="877158"/>
                  <a:pt x="419625" y="1062352"/>
                  <a:pt x="648072" y="1062352"/>
                </a:cubicBezTo>
                <a:cubicBezTo>
                  <a:pt x="876519" y="1062352"/>
                  <a:pt x="1061712" y="877158"/>
                  <a:pt x="1061712" y="648711"/>
                </a:cubicBezTo>
                <a:cubicBezTo>
                  <a:pt x="1061712" y="420264"/>
                  <a:pt x="876519" y="235071"/>
                  <a:pt x="648072" y="235071"/>
                </a:cubicBezTo>
                <a:close/>
                <a:moveTo>
                  <a:pt x="594998" y="0"/>
                </a:moveTo>
                <a:lnTo>
                  <a:pt x="701146" y="0"/>
                </a:lnTo>
                <a:lnTo>
                  <a:pt x="724216" y="130856"/>
                </a:lnTo>
                <a:cubicBezTo>
                  <a:pt x="794567" y="141200"/>
                  <a:pt x="862072" y="165770"/>
                  <a:pt x="922614" y="203067"/>
                </a:cubicBezTo>
                <a:lnTo>
                  <a:pt x="1024399" y="117654"/>
                </a:lnTo>
                <a:lnTo>
                  <a:pt x="1105713" y="185886"/>
                </a:lnTo>
                <a:lnTo>
                  <a:pt x="1039273" y="300956"/>
                </a:lnTo>
                <a:cubicBezTo>
                  <a:pt x="1086516" y="354101"/>
                  <a:pt x="1122434" y="416314"/>
                  <a:pt x="1144837" y="483799"/>
                </a:cubicBezTo>
                <a:lnTo>
                  <a:pt x="1277712" y="483796"/>
                </a:lnTo>
                <a:lnTo>
                  <a:pt x="1296144" y="588332"/>
                </a:lnTo>
                <a:lnTo>
                  <a:pt x="1171283" y="633774"/>
                </a:lnTo>
                <a:cubicBezTo>
                  <a:pt x="1173312" y="704852"/>
                  <a:pt x="1160838" y="775599"/>
                  <a:pt x="1134620" y="841697"/>
                </a:cubicBezTo>
                <a:lnTo>
                  <a:pt x="1236410" y="927104"/>
                </a:lnTo>
                <a:lnTo>
                  <a:pt x="1183336" y="1019032"/>
                </a:lnTo>
                <a:lnTo>
                  <a:pt x="1058476" y="973583"/>
                </a:lnTo>
                <a:cubicBezTo>
                  <a:pt x="1014343" y="1029336"/>
                  <a:pt x="959312" y="1075513"/>
                  <a:pt x="896742" y="1109294"/>
                </a:cubicBezTo>
                <a:lnTo>
                  <a:pt x="919819" y="1240149"/>
                </a:lnTo>
                <a:lnTo>
                  <a:pt x="820071" y="1276454"/>
                </a:lnTo>
                <a:lnTo>
                  <a:pt x="753637" y="1161380"/>
                </a:lnTo>
                <a:cubicBezTo>
                  <a:pt x="683991" y="1175721"/>
                  <a:pt x="612153" y="1175721"/>
                  <a:pt x="542507" y="1161380"/>
                </a:cubicBezTo>
                <a:lnTo>
                  <a:pt x="476073" y="1276454"/>
                </a:lnTo>
                <a:lnTo>
                  <a:pt x="376326" y="1240149"/>
                </a:lnTo>
                <a:lnTo>
                  <a:pt x="399403" y="1109294"/>
                </a:lnTo>
                <a:cubicBezTo>
                  <a:pt x="336833" y="1075513"/>
                  <a:pt x="281802" y="1029336"/>
                  <a:pt x="237669" y="973583"/>
                </a:cubicBezTo>
                <a:lnTo>
                  <a:pt x="112809" y="1019032"/>
                </a:lnTo>
                <a:lnTo>
                  <a:pt x="59735" y="927104"/>
                </a:lnTo>
                <a:lnTo>
                  <a:pt x="161524" y="841697"/>
                </a:lnTo>
                <a:cubicBezTo>
                  <a:pt x="135307" y="775599"/>
                  <a:pt x="122832" y="704852"/>
                  <a:pt x="124862" y="633774"/>
                </a:cubicBezTo>
                <a:lnTo>
                  <a:pt x="0" y="588332"/>
                </a:lnTo>
                <a:lnTo>
                  <a:pt x="18432" y="483796"/>
                </a:lnTo>
                <a:lnTo>
                  <a:pt x="151306" y="483799"/>
                </a:lnTo>
                <a:cubicBezTo>
                  <a:pt x="173710" y="416314"/>
                  <a:pt x="209628" y="354100"/>
                  <a:pt x="256871" y="300956"/>
                </a:cubicBezTo>
                <a:lnTo>
                  <a:pt x="190431" y="185886"/>
                </a:lnTo>
                <a:lnTo>
                  <a:pt x="271746" y="117654"/>
                </a:lnTo>
                <a:lnTo>
                  <a:pt x="373531" y="203067"/>
                </a:lnTo>
                <a:cubicBezTo>
                  <a:pt x="434072" y="165770"/>
                  <a:pt x="501577" y="141200"/>
                  <a:pt x="571928" y="130856"/>
                </a:cubicBezTo>
                <a:lnTo>
                  <a:pt x="594998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1676520" y="762120"/>
            <a:ext cx="56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探究点三   无性生殖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2"/>
          <p:cNvPicPr/>
          <p:nvPr/>
        </p:nvPicPr>
        <p:blipFill>
          <a:blip r:embed="rId1"/>
          <a:stretch/>
        </p:blipFill>
        <p:spPr>
          <a:xfrm>
            <a:off x="779400" y="981000"/>
            <a:ext cx="3792600" cy="3272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1"/>
          <p:cNvPicPr/>
          <p:nvPr/>
        </p:nvPicPr>
        <p:blipFill>
          <a:blip r:embed="rId2"/>
          <a:stretch/>
        </p:blipFill>
        <p:spPr>
          <a:xfrm>
            <a:off x="5245200" y="981000"/>
            <a:ext cx="3719520" cy="32036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779400" y="692280"/>
            <a:ext cx="30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扦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"/>
          <p:cNvSpPr/>
          <p:nvPr/>
        </p:nvSpPr>
        <p:spPr>
          <a:xfrm flipV="1">
            <a:off x="4379760" y="2781360"/>
            <a:ext cx="627120" cy="9360"/>
          </a:xfrm>
          <a:prstGeom prst="line">
            <a:avLst/>
          </a:prstGeom>
          <a:ln w="7632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539640" y="47386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扦插材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切口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方切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使扦插材料生根快而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3995640" y="4653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水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7164360" y="4653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斜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7380360" y="508644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7405560" y="5877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7164360" y="522936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5508720" y="54514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900000" y="544500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>
            <a:off x="2414520" y="522936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700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接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700360" y="5877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砧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嫁接步骤"/>
          <p:cNvPicPr/>
          <p:nvPr/>
        </p:nvPicPr>
        <p:blipFill>
          <a:blip r:embed="rId1"/>
          <a:stretch/>
        </p:blipFill>
        <p:spPr>
          <a:xfrm>
            <a:off x="1403280" y="1773360"/>
            <a:ext cx="7056360" cy="320328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2"/>
          <p:cNvSpPr/>
          <p:nvPr/>
        </p:nvSpPr>
        <p:spPr>
          <a:xfrm>
            <a:off x="755640" y="54936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嫁接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一个植物体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枝或芽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在另一个植物体上，使结合在一起的两部分长成一个完整的植物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嫁接步骤"/>
          <p:cNvPicPr/>
          <p:nvPr/>
        </p:nvPicPr>
        <p:blipFill>
          <a:blip r:embed="rId1"/>
          <a:stretch/>
        </p:blipFill>
        <p:spPr>
          <a:xfrm>
            <a:off x="1476360" y="1812960"/>
            <a:ext cx="7416720" cy="379872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"/>
          <p:cNvSpPr/>
          <p:nvPr/>
        </p:nvSpPr>
        <p:spPr>
          <a:xfrm>
            <a:off x="3132000" y="1125360"/>
            <a:ext cx="561672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1"/>
          <p:cNvPicPr/>
          <p:nvPr/>
        </p:nvPicPr>
        <p:blipFill>
          <a:blip r:embed="rId2"/>
          <a:stretch/>
        </p:blipFill>
        <p:spPr>
          <a:xfrm>
            <a:off x="3851280" y="1413000"/>
            <a:ext cx="4859280" cy="37242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3059280" y="34034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形成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2484360" y="3333600"/>
            <a:ext cx="681120" cy="28116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 flipV="1">
            <a:off x="2505240" y="3713040"/>
            <a:ext cx="685800" cy="7632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 flipV="1">
            <a:off x="6300720" y="1988640"/>
            <a:ext cx="1511280" cy="430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1"/>
          <p:cNvSpPr/>
          <p:nvPr/>
        </p:nvSpPr>
        <p:spPr>
          <a:xfrm flipV="1">
            <a:off x="7164360" y="1990800"/>
            <a:ext cx="720720" cy="3585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7164360" y="1459080"/>
            <a:ext cx="129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形成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4"/>
          <p:cNvSpPr/>
          <p:nvPr/>
        </p:nvSpPr>
        <p:spPr>
          <a:xfrm>
            <a:off x="900000" y="5734080"/>
            <a:ext cx="79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接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砧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形成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紧密结合在一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684360" y="76500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长出的植株性状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哪株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性状一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未知" descr=""/>
          <p:cNvPicPr/>
          <p:nvPr/>
        </p:nvPicPr>
        <p:blipFill>
          <a:blip r:embed="rId3"/>
          <a:stretch/>
        </p:blipFill>
        <p:spPr>
          <a:xfrm>
            <a:off x="1974960" y="3610080"/>
            <a:ext cx="403200" cy="268200"/>
          </a:xfrm>
          <a:prstGeom prst="rect">
            <a:avLst/>
          </a:prstGeom>
          <a:ln w="0">
            <a:noFill/>
          </a:ln>
        </p:spPr>
      </p:pic>
      <p:pic>
        <p:nvPicPr>
          <p:cNvPr id="354" name="Ink 6" descr=""/>
          <p:cNvPicPr/>
          <p:nvPr/>
        </p:nvPicPr>
        <p:blipFill>
          <a:blip r:embed="rId4"/>
          <a:stretch/>
        </p:blipFill>
        <p:spPr>
          <a:xfrm>
            <a:off x="2284560" y="3179880"/>
            <a:ext cx="14436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pic_8124"/>
          <p:cNvPicPr/>
          <p:nvPr/>
        </p:nvPicPr>
        <p:blipFill>
          <a:blip r:embed="rId1"/>
          <a:stretch/>
        </p:blipFill>
        <p:spPr>
          <a:xfrm>
            <a:off x="1187280" y="1125360"/>
            <a:ext cx="6770880" cy="39672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3"/>
          <p:cNvSpPr/>
          <p:nvPr/>
        </p:nvSpPr>
        <p:spPr>
          <a:xfrm>
            <a:off x="1933560" y="700200"/>
            <a:ext cx="51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嫁接的仙人掌类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971640" y="490212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优点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：保持植物的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优良性状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繁殖速度较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植物组织培养"/>
          <p:cNvPicPr/>
          <p:nvPr/>
        </p:nvPicPr>
        <p:blipFill>
          <a:blip r:embed="rId1"/>
          <a:stretch/>
        </p:blipFill>
        <p:spPr>
          <a:xfrm>
            <a:off x="3637080" y="849240"/>
            <a:ext cx="5472000" cy="452448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3849120" y="230040"/>
            <a:ext cx="2100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植物的组织培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250920" y="477720"/>
            <a:ext cx="878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在无菌条件下，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植物体的器官或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织片段切下来，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在适当的人工培养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上进行离体培养，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些器官或组织就会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细胞分裂和分化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新的组织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愈伤组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在适当的光照、温度等条件下，愈伤组织便开始萌发，产生根、茎、叶等器官，进而发育成一个新的植物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646200" y="51516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思考：在小榄菊花展上，有一盆同一株菊花植株上盛开着颜色、形态各异的菊花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如图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，农艺师是通过什么方法让同一株菊花植株盛开不同的菊花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19244162040"/>
          <p:cNvPicPr/>
          <p:nvPr/>
        </p:nvPicPr>
        <p:blipFill>
          <a:blip r:embed="rId1"/>
          <a:srcRect l="0" t="0" r="-3313" b="0"/>
          <a:stretch/>
        </p:blipFill>
        <p:spPr>
          <a:xfrm>
            <a:off x="2268360" y="1557360"/>
            <a:ext cx="5177160" cy="3456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1476360" y="909720"/>
            <a:ext cx="18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情景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录像机 512"/>
          <p:cNvSpPr/>
          <p:nvPr/>
        </p:nvSpPr>
        <p:spPr>
          <a:xfrm>
            <a:off x="828720" y="907920"/>
            <a:ext cx="554040" cy="497160"/>
          </a:xfrm>
          <a:custGeom>
            <a:avLst/>
            <a:gdLst/>
            <a:ahLst/>
            <a:rect l="l" t="t" r="r" b="b"/>
            <a:pathLst>
              <a:path w="3710374" h="2848566">
                <a:moveTo>
                  <a:pt x="132902" y="1177607"/>
                </a:moveTo>
                <a:cubicBezTo>
                  <a:pt x="206302" y="1177607"/>
                  <a:pt x="265804" y="1237109"/>
                  <a:pt x="265804" y="1310509"/>
                </a:cubicBezTo>
                <a:lnTo>
                  <a:pt x="265804" y="1822976"/>
                </a:lnTo>
                <a:cubicBezTo>
                  <a:pt x="265804" y="1896376"/>
                  <a:pt x="206302" y="1955878"/>
                  <a:pt x="132902" y="1955878"/>
                </a:cubicBezTo>
                <a:cubicBezTo>
                  <a:pt x="59502" y="1955878"/>
                  <a:pt x="0" y="1896376"/>
                  <a:pt x="0" y="1822976"/>
                </a:cubicBezTo>
                <a:lnTo>
                  <a:pt x="0" y="1310509"/>
                </a:lnTo>
                <a:cubicBezTo>
                  <a:pt x="0" y="1237109"/>
                  <a:pt x="59502" y="1177607"/>
                  <a:pt x="132902" y="1177607"/>
                </a:cubicBezTo>
                <a:close/>
                <a:moveTo>
                  <a:pt x="3676647" y="1014899"/>
                </a:moveTo>
                <a:cubicBezTo>
                  <a:pt x="3699953" y="1011726"/>
                  <a:pt x="3709766" y="1038156"/>
                  <a:pt x="3709762" y="1126078"/>
                </a:cubicBezTo>
                <a:lnTo>
                  <a:pt x="3709762" y="2733814"/>
                </a:lnTo>
                <a:cubicBezTo>
                  <a:pt x="3714789" y="2810852"/>
                  <a:pt x="3689665" y="2852720"/>
                  <a:pt x="3604255" y="2784056"/>
                </a:cubicBezTo>
                <a:cubicBezTo>
                  <a:pt x="3539382" y="2731902"/>
                  <a:pt x="3308368" y="2542961"/>
                  <a:pt x="3100502" y="2373078"/>
                </a:cubicBezTo>
                <a:lnTo>
                  <a:pt x="2983265" y="2373078"/>
                </a:lnTo>
                <a:lnTo>
                  <a:pt x="2983265" y="2692091"/>
                </a:lnTo>
                <a:cubicBezTo>
                  <a:pt x="2983265" y="2778510"/>
                  <a:pt x="2913209" y="2848566"/>
                  <a:pt x="2826790" y="2848566"/>
                </a:cubicBezTo>
                <a:lnTo>
                  <a:pt x="542844" y="2848566"/>
                </a:lnTo>
                <a:cubicBezTo>
                  <a:pt x="456425" y="2848566"/>
                  <a:pt x="386369" y="2778510"/>
                  <a:pt x="386369" y="2692091"/>
                </a:cubicBezTo>
                <a:lnTo>
                  <a:pt x="386369" y="1261585"/>
                </a:lnTo>
                <a:cubicBezTo>
                  <a:pt x="386369" y="1175166"/>
                  <a:pt x="456425" y="1105110"/>
                  <a:pt x="542844" y="1105110"/>
                </a:cubicBezTo>
                <a:lnTo>
                  <a:pt x="2826790" y="1105110"/>
                </a:lnTo>
                <a:cubicBezTo>
                  <a:pt x="2913209" y="1105110"/>
                  <a:pt x="2983265" y="1175166"/>
                  <a:pt x="2983265" y="1261585"/>
                </a:cubicBezTo>
                <a:lnTo>
                  <a:pt x="2983265" y="1470870"/>
                </a:lnTo>
                <a:lnTo>
                  <a:pt x="3095401" y="1470870"/>
                </a:lnTo>
                <a:cubicBezTo>
                  <a:pt x="3315877" y="1289257"/>
                  <a:pt x="3568799" y="1079374"/>
                  <a:pt x="3619327" y="1045691"/>
                </a:cubicBezTo>
                <a:cubicBezTo>
                  <a:pt x="3643821" y="1029362"/>
                  <a:pt x="3662662" y="1016802"/>
                  <a:pt x="3676647" y="1014899"/>
                </a:cubicBezTo>
                <a:close/>
                <a:moveTo>
                  <a:pt x="2266043" y="0"/>
                </a:moveTo>
                <a:cubicBezTo>
                  <a:pt x="2555481" y="0"/>
                  <a:pt x="2790117" y="234636"/>
                  <a:pt x="2790117" y="524074"/>
                </a:cubicBezTo>
                <a:cubicBezTo>
                  <a:pt x="2790117" y="813512"/>
                  <a:pt x="2555481" y="1048148"/>
                  <a:pt x="2266043" y="1048148"/>
                </a:cubicBezTo>
                <a:cubicBezTo>
                  <a:pt x="1976605" y="1048148"/>
                  <a:pt x="1741969" y="813512"/>
                  <a:pt x="1741969" y="524074"/>
                </a:cubicBezTo>
                <a:cubicBezTo>
                  <a:pt x="1741969" y="234636"/>
                  <a:pt x="1976605" y="0"/>
                  <a:pt x="2266043" y="0"/>
                </a:cubicBezTo>
                <a:close/>
                <a:moveTo>
                  <a:pt x="1041907" y="0"/>
                </a:moveTo>
                <a:cubicBezTo>
                  <a:pt x="1331345" y="0"/>
                  <a:pt x="1565981" y="234636"/>
                  <a:pt x="1565981" y="524074"/>
                </a:cubicBezTo>
                <a:cubicBezTo>
                  <a:pt x="1565981" y="813512"/>
                  <a:pt x="1331345" y="1048148"/>
                  <a:pt x="1041907" y="1048148"/>
                </a:cubicBezTo>
                <a:cubicBezTo>
                  <a:pt x="752469" y="1048148"/>
                  <a:pt x="517833" y="813512"/>
                  <a:pt x="517833" y="524074"/>
                </a:cubicBezTo>
                <a:cubicBezTo>
                  <a:pt x="517833" y="234636"/>
                  <a:pt x="752469" y="0"/>
                  <a:pt x="1041907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图片2副本"/>
          <p:cNvPicPr/>
          <p:nvPr/>
        </p:nvPicPr>
        <p:blipFill>
          <a:blip r:embed="rId1"/>
          <a:srcRect l="295" t="504" r="0" b="0"/>
          <a:stretch/>
        </p:blipFill>
        <p:spPr>
          <a:xfrm>
            <a:off x="1403280" y="1844640"/>
            <a:ext cx="6408720" cy="30560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1209600" y="765000"/>
            <a:ext cx="51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例：胡萝卜的组织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258920" y="5229360"/>
            <a:ext cx="76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优点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"/>
              </a:rPr>
              <a:t>繁殖速度快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"/>
              </a:rPr>
              <a:t>防止植物病毒侵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898560" y="1628640"/>
            <a:ext cx="8066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生产实践中，人们经常利用植物的无性生殖来栽培农作物和园林植物。你知道为什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图片6"/>
          <p:cNvPicPr/>
          <p:nvPr/>
        </p:nvPicPr>
        <p:blipFill>
          <a:blip r:embed="rId1"/>
          <a:srcRect l="0" t="25320" r="0" b="0"/>
          <a:stretch/>
        </p:blipFill>
        <p:spPr>
          <a:xfrm>
            <a:off x="393840" y="546120"/>
            <a:ext cx="2809800" cy="6508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5"/>
          <p:cNvSpPr/>
          <p:nvPr/>
        </p:nvSpPr>
        <p:spPr>
          <a:xfrm>
            <a:off x="322200" y="2781360"/>
            <a:ext cx="88218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无性生殖的意义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繁殖快；培育时间短；保持亲本的优良性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324000" y="4292640"/>
            <a:ext cx="8820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有性生殖的意义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性生殖可以使后代具有双亲的遗传特性，能适应更复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环境，更容易发生变异，在进化上更有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900000" y="1125360"/>
            <a:ext cx="54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植物多种生殖方式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826920" y="1628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有性生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以被子植物为例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08000" y="2565360"/>
            <a:ext cx="158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"/>
              </a:rPr>
              <a:t>精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"/>
              </a:rPr>
              <a:t>卵细胞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6"/>
          <p:cNvSpPr/>
          <p:nvPr/>
        </p:nvSpPr>
        <p:spPr>
          <a:xfrm>
            <a:off x="1908000" y="321300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2627280" y="2925720"/>
            <a:ext cx="14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"/>
              </a:rPr>
              <a:t>受精卵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3924360" y="3213000"/>
            <a:ext cx="426960" cy="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>
            <a:off x="5003640" y="3238560"/>
            <a:ext cx="428760" cy="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0"/>
          <p:cNvSpPr/>
          <p:nvPr/>
        </p:nvSpPr>
        <p:spPr>
          <a:xfrm>
            <a:off x="6372360" y="3238560"/>
            <a:ext cx="426960" cy="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4356000" y="292572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"/>
              </a:rPr>
              <a:t>胚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5364000" y="2908440"/>
            <a:ext cx="12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"/>
              </a:rPr>
              <a:t>种子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6804000" y="2916360"/>
            <a:ext cx="24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"/>
              </a:rPr>
              <a:t>新一代植株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3132000" y="4076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"/>
              </a:rPr>
              <a:t>母体的一部分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5"/>
          <p:cNvSpPr/>
          <p:nvPr/>
        </p:nvSpPr>
        <p:spPr>
          <a:xfrm>
            <a:off x="5724360" y="4365720"/>
            <a:ext cx="571680" cy="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826920" y="4100400"/>
            <a:ext cx="31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无性生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6300720" y="4076640"/>
            <a:ext cx="19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"/>
              </a:rPr>
              <a:t>新个体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1547640" y="2781360"/>
            <a:ext cx="216000" cy="792000"/>
          </a:xfrm>
          <a:custGeom>
            <a:avLst/>
            <a:gdLst>
              <a:gd name="textAreaLeft" fmla="*/ 0 w 216000"/>
              <a:gd name="textAreaRight" fmla="*/ 7812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826920" y="4821120"/>
            <a:ext cx="39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无性生殖的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0"/>
          <p:cNvSpPr/>
          <p:nvPr/>
        </p:nvSpPr>
        <p:spPr>
          <a:xfrm>
            <a:off x="826920" y="55864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根、压条、扦插、嫁接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（营养生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4103"/>
          <p:cNvSpPr/>
          <p:nvPr/>
        </p:nvSpPr>
        <p:spPr>
          <a:xfrm>
            <a:off x="106200" y="324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4"/>
          <p:cNvSpPr/>
          <p:nvPr/>
        </p:nvSpPr>
        <p:spPr>
          <a:xfrm>
            <a:off x="3925080" y="1700280"/>
            <a:ext cx="16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哪种结构能够发育成新一代植株？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143000" y="2590920"/>
            <a:ext cx="68850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子的胚　　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子的种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子的胚乳　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果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8220600" y="162864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4103"/>
          <p:cNvSpPr/>
          <p:nvPr/>
        </p:nvSpPr>
        <p:spPr>
          <a:xfrm>
            <a:off x="106200" y="324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1957320" y="1752480"/>
            <a:ext cx="45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哪种方式是有性生殖？（ 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2634840" y="2590920"/>
            <a:ext cx="335664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植物的叶发育成新个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植物的根发育成新个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受精卵发育成新个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植物的芽发育成新个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6589440" y="1752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1838880" y="1752480"/>
            <a:ext cx="41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嫁接时的关键步骤是？（ 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2691360" y="2708280"/>
            <a:ext cx="457560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使用芽作为接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使用枝作为接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使接穗和砧木的形成层结合在一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使用树苗作为砧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5941800" y="1752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"/>
          <p:cNvSpPr/>
          <p:nvPr/>
        </p:nvSpPr>
        <p:spPr>
          <a:xfrm>
            <a:off x="3783600" y="1752480"/>
            <a:ext cx="16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西瓜中有很多种子，是因为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3839400" y="2590920"/>
            <a:ext cx="108108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子房中有很多胚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胚珠中有很多受精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胚珠中有很多子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子房中有很多子房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7408800" y="1770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4"/>
          <p:cNvSpPr/>
          <p:nvPr/>
        </p:nvSpPr>
        <p:spPr>
          <a:xfrm>
            <a:off x="1989000" y="1752480"/>
            <a:ext cx="546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使一种开白花的花卉植株上同时开出白花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花和紫花，可采用下列哪种技术（　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349280" y="3132000"/>
            <a:ext cx="581508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培养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压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播种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嫁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7048440" y="220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4211640" y="1979640"/>
            <a:ext cx="4419720" cy="642600"/>
            <a:chOff x="4211640" y="1979640"/>
            <a:chExt cx="4419720" cy="642600"/>
          </a:xfrm>
        </p:grpSpPr>
        <p:sp>
          <p:nvSpPr>
            <p:cNvPr id="50" name="Line 3"/>
            <p:cNvSpPr/>
            <p:nvPr/>
          </p:nvSpPr>
          <p:spPr>
            <a:xfrm>
              <a:off x="4211640" y="2284200"/>
              <a:ext cx="3124080" cy="0"/>
            </a:xfrm>
            <a:prstGeom prst="line">
              <a:avLst/>
            </a:prstGeom>
            <a:ln w="28440">
              <a:solidFill>
                <a:srgbClr val="e7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7335720" y="19796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柱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 Box 5"/>
          <p:cNvSpPr/>
          <p:nvPr/>
        </p:nvSpPr>
        <p:spPr>
          <a:xfrm>
            <a:off x="7974360" y="2771640"/>
            <a:ext cx="127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flipH="1">
            <a:off x="970920" y="1908000"/>
            <a:ext cx="75960" cy="1295640"/>
          </a:xfrm>
          <a:custGeom>
            <a:avLst/>
            <a:gdLst>
              <a:gd name="textAreaLeft" fmla="*/ -360 w 75960"/>
              <a:gd name="textAreaRight" fmla="*/ 27000 w 759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587"/>
                </a:lnTo>
                <a:cubicBezTo>
                  <a:pt x="10800" y="10485"/>
                  <a:pt x="16200" y="11383"/>
                  <a:pt x="21600" y="11383"/>
                </a:cubicBezTo>
                <a:cubicBezTo>
                  <a:pt x="16200" y="11383"/>
                  <a:pt x="10800" y="12281"/>
                  <a:pt x="10800" y="13179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-290160" y="1908000"/>
            <a:ext cx="127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71640" y="1692360"/>
            <a:ext cx="2361600" cy="642600"/>
            <a:chOff x="971640" y="1692360"/>
            <a:chExt cx="2361600" cy="642600"/>
          </a:xfrm>
        </p:grpSpPr>
        <p:sp>
          <p:nvSpPr>
            <p:cNvPr id="56" name="Text Box 9"/>
            <p:cNvSpPr/>
            <p:nvPr/>
          </p:nvSpPr>
          <p:spPr>
            <a:xfrm>
              <a:off x="971640" y="169236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花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>
              <a:off x="1962000" y="2072880"/>
              <a:ext cx="1371240" cy="0"/>
            </a:xfrm>
            <a:prstGeom prst="line">
              <a:avLst/>
            </a:prstGeom>
            <a:ln w="28440">
              <a:solidFill>
                <a:srgbClr val="e7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1446840" y="1619280"/>
            <a:ext cx="5668920" cy="5410080"/>
            <a:chOff x="1446840" y="1619280"/>
            <a:chExt cx="5668920" cy="5410080"/>
          </a:xfrm>
        </p:grpSpPr>
        <p:sp>
          <p:nvSpPr>
            <p:cNvPr id="59" name="Line 12"/>
            <p:cNvSpPr/>
            <p:nvPr/>
          </p:nvSpPr>
          <p:spPr>
            <a:xfrm>
              <a:off x="4176720" y="5221440"/>
              <a:ext cx="0" cy="1807920"/>
            </a:xfrm>
            <a:prstGeom prst="line">
              <a:avLst/>
            </a:prstGeom>
            <a:ln w="127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3"/>
            <p:cNvGrpSpPr/>
            <p:nvPr/>
          </p:nvGrpSpPr>
          <p:grpSpPr>
            <a:xfrm>
              <a:off x="1446840" y="2238480"/>
              <a:ext cx="5668920" cy="3693600"/>
              <a:chOff x="1446840" y="2238480"/>
              <a:chExt cx="5668920" cy="3693600"/>
            </a:xfrm>
          </p:grpSpPr>
          <p:sp>
            <p:nvSpPr>
              <p:cNvPr id="61" name="AutoShape 14"/>
              <p:cNvSpPr/>
              <p:nvPr/>
            </p:nvSpPr>
            <p:spPr>
              <a:xfrm rot="18154800">
                <a:off x="2209320" y="3094560"/>
                <a:ext cx="1715400" cy="2749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ff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AutoShape 15"/>
              <p:cNvSpPr/>
              <p:nvPr/>
            </p:nvSpPr>
            <p:spPr>
              <a:xfrm rot="20232000">
                <a:off x="2881080" y="2457000"/>
                <a:ext cx="1692000" cy="278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ff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16"/>
              <p:cNvSpPr/>
              <p:nvPr/>
            </p:nvSpPr>
            <p:spPr>
              <a:xfrm rot="3274200">
                <a:off x="4640760" y="2987640"/>
                <a:ext cx="1715400" cy="2749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ff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17"/>
              <p:cNvSpPr/>
              <p:nvPr/>
            </p:nvSpPr>
            <p:spPr>
              <a:xfrm rot="1209000">
                <a:off x="3938400" y="2457000"/>
                <a:ext cx="1692000" cy="278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ff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8"/>
            <p:cNvGrpSpPr/>
            <p:nvPr/>
          </p:nvGrpSpPr>
          <p:grpSpPr>
            <a:xfrm>
              <a:off x="3978360" y="2208240"/>
              <a:ext cx="457200" cy="3068280"/>
              <a:chOff x="3978360" y="2208240"/>
              <a:chExt cx="457200" cy="3068280"/>
            </a:xfrm>
          </p:grpSpPr>
          <p:sp>
            <p:nvSpPr>
              <p:cNvPr id="66" name="Oval 19"/>
              <p:cNvSpPr/>
              <p:nvPr/>
            </p:nvSpPr>
            <p:spPr>
              <a:xfrm>
                <a:off x="3978360" y="3657240"/>
                <a:ext cx="457200" cy="1619280"/>
              </a:xfrm>
              <a:prstGeom prst="ellipse">
                <a:avLst/>
              </a:prstGeom>
              <a:solidFill>
                <a:srgbClr val="5b9bd5"/>
              </a:solidFill>
              <a:ln w="9360">
                <a:solidFill>
                  <a:srgbClr val="5b9b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0"/>
              <p:cNvSpPr/>
              <p:nvPr/>
            </p:nvSpPr>
            <p:spPr>
              <a:xfrm flipH="1">
                <a:off x="4149000" y="2208240"/>
                <a:ext cx="114120" cy="2104920"/>
              </a:xfrm>
              <a:prstGeom prst="ellipse">
                <a:avLst/>
              </a:prstGeom>
              <a:solidFill>
                <a:srgbClr val="5b9bd5"/>
              </a:solidFill>
              <a:ln w="9360">
                <a:solidFill>
                  <a:srgbClr val="5b9b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21"/>
              <p:cNvSpPr/>
              <p:nvPr/>
            </p:nvSpPr>
            <p:spPr>
              <a:xfrm>
                <a:off x="4108680" y="2208240"/>
                <a:ext cx="228600" cy="162720"/>
              </a:xfrm>
              <a:prstGeom prst="ellipse">
                <a:avLst/>
              </a:prstGeom>
              <a:solidFill>
                <a:srgbClr val="5b9bd5"/>
              </a:solidFill>
              <a:ln w="9360">
                <a:solidFill>
                  <a:srgbClr val="5b9b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22"/>
            <p:cNvGrpSpPr/>
            <p:nvPr/>
          </p:nvGrpSpPr>
          <p:grpSpPr>
            <a:xfrm>
              <a:off x="3292560" y="1619280"/>
              <a:ext cx="1828440" cy="3354480"/>
              <a:chOff x="3292560" y="1619280"/>
              <a:chExt cx="1828440" cy="3354480"/>
            </a:xfrm>
          </p:grpSpPr>
          <p:grpSp>
            <p:nvGrpSpPr>
              <p:cNvPr id="70" name="Group 23"/>
              <p:cNvGrpSpPr/>
              <p:nvPr/>
            </p:nvGrpSpPr>
            <p:grpSpPr>
              <a:xfrm>
                <a:off x="4435200" y="1619280"/>
                <a:ext cx="685800" cy="3354480"/>
                <a:chOff x="4435200" y="1619280"/>
                <a:chExt cx="685800" cy="3354480"/>
              </a:xfrm>
            </p:grpSpPr>
            <p:sp>
              <p:nvSpPr>
                <p:cNvPr id="71" name="Arc 24"/>
                <p:cNvSpPr/>
                <p:nvPr/>
              </p:nvSpPr>
              <p:spPr>
                <a:xfrm flipH="1">
                  <a:off x="4434840" y="1924200"/>
                  <a:ext cx="685800" cy="304956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55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Oval 25"/>
                <p:cNvSpPr/>
                <p:nvPr/>
              </p:nvSpPr>
              <p:spPr>
                <a:xfrm flipH="1" flipV="1">
                  <a:off x="4968360" y="1771560"/>
                  <a:ext cx="152280" cy="4572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Oval 26"/>
                <p:cNvSpPr/>
                <p:nvPr/>
              </p:nvSpPr>
              <p:spPr>
                <a:xfrm flipH="1" flipV="1">
                  <a:off x="4816440" y="1619280"/>
                  <a:ext cx="152640" cy="4572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27"/>
              <p:cNvGrpSpPr/>
              <p:nvPr/>
            </p:nvGrpSpPr>
            <p:grpSpPr>
              <a:xfrm>
                <a:off x="3292560" y="1619280"/>
                <a:ext cx="685800" cy="3354480"/>
                <a:chOff x="3292560" y="1619280"/>
                <a:chExt cx="685800" cy="3354480"/>
              </a:xfrm>
            </p:grpSpPr>
            <p:sp>
              <p:nvSpPr>
                <p:cNvPr id="75" name="Arc 28"/>
                <p:cNvSpPr/>
                <p:nvPr/>
              </p:nvSpPr>
              <p:spPr>
                <a:xfrm>
                  <a:off x="3292560" y="1924200"/>
                  <a:ext cx="685800" cy="304956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55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Oval 29"/>
                <p:cNvSpPr/>
                <p:nvPr/>
              </p:nvSpPr>
              <p:spPr>
                <a:xfrm flipV="1">
                  <a:off x="3292560" y="1771560"/>
                  <a:ext cx="152280" cy="4572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Oval 30"/>
                <p:cNvSpPr/>
                <p:nvPr/>
              </p:nvSpPr>
              <p:spPr>
                <a:xfrm flipV="1">
                  <a:off x="3444480" y="1619280"/>
                  <a:ext cx="152640" cy="4572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" name="Group 31"/>
            <p:cNvGrpSpPr/>
            <p:nvPr/>
          </p:nvGrpSpPr>
          <p:grpSpPr>
            <a:xfrm>
              <a:off x="3015720" y="4427640"/>
              <a:ext cx="2413440" cy="1221480"/>
              <a:chOff x="3015720" y="4427640"/>
              <a:chExt cx="2413440" cy="1221480"/>
            </a:xfrm>
          </p:grpSpPr>
          <p:sp>
            <p:nvSpPr>
              <p:cNvPr id="79" name="AutoShape 32"/>
              <p:cNvSpPr/>
              <p:nvPr/>
            </p:nvSpPr>
            <p:spPr>
              <a:xfrm rot="19107600">
                <a:off x="4205880" y="4743000"/>
                <a:ext cx="1175400" cy="590400"/>
              </a:xfrm>
              <a:prstGeom prst="lightningBolt">
                <a:avLst/>
              </a:prstGeom>
              <a:solidFill>
                <a:srgbClr val="5b9bd5"/>
              </a:solidFill>
              <a:ln w="936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33"/>
              <p:cNvSpPr/>
              <p:nvPr/>
            </p:nvSpPr>
            <p:spPr>
              <a:xfrm flipH="1" rot="2492400">
                <a:off x="3062880" y="4743000"/>
                <a:ext cx="1175400" cy="590040"/>
              </a:xfrm>
              <a:prstGeom prst="lightningBolt">
                <a:avLst/>
              </a:prstGeom>
              <a:solidFill>
                <a:srgbClr val="5b9bd5"/>
              </a:solidFill>
              <a:ln w="936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" name="Group 34"/>
          <p:cNvGrpSpPr/>
          <p:nvPr/>
        </p:nvGrpSpPr>
        <p:grpSpPr>
          <a:xfrm>
            <a:off x="4145040" y="2865600"/>
            <a:ext cx="4419000" cy="642600"/>
            <a:chOff x="4145040" y="2865600"/>
            <a:chExt cx="4419000" cy="642600"/>
          </a:xfrm>
        </p:grpSpPr>
        <p:sp>
          <p:nvSpPr>
            <p:cNvPr id="82" name="Line 35"/>
            <p:cNvSpPr/>
            <p:nvPr/>
          </p:nvSpPr>
          <p:spPr>
            <a:xfrm>
              <a:off x="4145040" y="3170160"/>
              <a:ext cx="3123720" cy="0"/>
            </a:xfrm>
            <a:prstGeom prst="line">
              <a:avLst/>
            </a:prstGeom>
            <a:ln w="28440">
              <a:solidFill>
                <a:srgbClr val="e7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6"/>
            <p:cNvSpPr/>
            <p:nvPr/>
          </p:nvSpPr>
          <p:spPr>
            <a:xfrm>
              <a:off x="7268760" y="28656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花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37"/>
          <p:cNvGrpSpPr/>
          <p:nvPr/>
        </p:nvGrpSpPr>
        <p:grpSpPr>
          <a:xfrm>
            <a:off x="4284720" y="3708360"/>
            <a:ext cx="4419720" cy="642600"/>
            <a:chOff x="4284720" y="3708360"/>
            <a:chExt cx="4419720" cy="642600"/>
          </a:xfrm>
        </p:grpSpPr>
        <p:sp>
          <p:nvSpPr>
            <p:cNvPr id="85" name="Line 38"/>
            <p:cNvSpPr/>
            <p:nvPr/>
          </p:nvSpPr>
          <p:spPr>
            <a:xfrm>
              <a:off x="4284720" y="4013280"/>
              <a:ext cx="3124080" cy="0"/>
            </a:xfrm>
            <a:prstGeom prst="line">
              <a:avLst/>
            </a:prstGeom>
            <a:ln w="28440">
              <a:solidFill>
                <a:srgbClr val="e7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9"/>
            <p:cNvSpPr/>
            <p:nvPr/>
          </p:nvSpPr>
          <p:spPr>
            <a:xfrm>
              <a:off x="7408800" y="37083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子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40"/>
          <p:cNvSpPr/>
          <p:nvPr/>
        </p:nvSpPr>
        <p:spPr>
          <a:xfrm>
            <a:off x="900000" y="1052640"/>
            <a:ext cx="3529080" cy="5814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7d31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ed7d31"/>
                </a:solidFill>
                <a:latin typeface="宋体"/>
              </a:rPr>
              <a:t>、观察花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1"/>
          <p:cNvGrpSpPr/>
          <p:nvPr/>
        </p:nvGrpSpPr>
        <p:grpSpPr>
          <a:xfrm>
            <a:off x="5076720" y="4211640"/>
            <a:ext cx="3352680" cy="642600"/>
            <a:chOff x="5076720" y="4211640"/>
            <a:chExt cx="3352680" cy="642600"/>
          </a:xfrm>
        </p:grpSpPr>
        <p:sp>
          <p:nvSpPr>
            <p:cNvPr id="89" name="Line 42"/>
            <p:cNvSpPr/>
            <p:nvPr/>
          </p:nvSpPr>
          <p:spPr>
            <a:xfrm>
              <a:off x="5076720" y="4548240"/>
              <a:ext cx="1905120" cy="0"/>
            </a:xfrm>
            <a:prstGeom prst="line">
              <a:avLst/>
            </a:prstGeom>
            <a:ln w="28440">
              <a:solidFill>
                <a:srgbClr val="e7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3"/>
            <p:cNvSpPr/>
            <p:nvPr/>
          </p:nvSpPr>
          <p:spPr>
            <a:xfrm>
              <a:off x="7134120" y="421164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花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44"/>
          <p:cNvGrpSpPr/>
          <p:nvPr/>
        </p:nvGrpSpPr>
        <p:grpSpPr>
          <a:xfrm>
            <a:off x="4572000" y="4859280"/>
            <a:ext cx="3886200" cy="642600"/>
            <a:chOff x="4572000" y="4859280"/>
            <a:chExt cx="3886200" cy="642600"/>
          </a:xfrm>
        </p:grpSpPr>
        <p:sp>
          <p:nvSpPr>
            <p:cNvPr id="92" name="Line 45"/>
            <p:cNvSpPr/>
            <p:nvPr/>
          </p:nvSpPr>
          <p:spPr>
            <a:xfrm>
              <a:off x="4572000" y="4859280"/>
              <a:ext cx="2438280" cy="228600"/>
            </a:xfrm>
            <a:prstGeom prst="line">
              <a:avLst/>
            </a:prstGeom>
            <a:ln w="28440">
              <a:solidFill>
                <a:srgbClr val="e7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46"/>
            <p:cNvSpPr/>
            <p:nvPr/>
          </p:nvSpPr>
          <p:spPr>
            <a:xfrm>
              <a:off x="7162920" y="48592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花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47"/>
          <p:cNvGrpSpPr/>
          <p:nvPr/>
        </p:nvGrpSpPr>
        <p:grpSpPr>
          <a:xfrm>
            <a:off x="1143000" y="5095440"/>
            <a:ext cx="2895480" cy="1100160"/>
            <a:chOff x="1143000" y="5095440"/>
            <a:chExt cx="2895480" cy="1100160"/>
          </a:xfrm>
        </p:grpSpPr>
        <p:sp>
          <p:nvSpPr>
            <p:cNvPr id="95" name="Line 48"/>
            <p:cNvSpPr/>
            <p:nvPr/>
          </p:nvSpPr>
          <p:spPr>
            <a:xfrm flipV="1">
              <a:off x="2286000" y="5095440"/>
              <a:ext cx="1752480" cy="762120"/>
            </a:xfrm>
            <a:prstGeom prst="line">
              <a:avLst/>
            </a:prstGeom>
            <a:ln w="28440">
              <a:solidFill>
                <a:srgbClr val="e7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49"/>
            <p:cNvSpPr/>
            <p:nvPr/>
          </p:nvSpPr>
          <p:spPr>
            <a:xfrm>
              <a:off x="1143000" y="55530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花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50"/>
          <p:cNvGrpSpPr/>
          <p:nvPr/>
        </p:nvGrpSpPr>
        <p:grpSpPr>
          <a:xfrm>
            <a:off x="4191120" y="5934240"/>
            <a:ext cx="4572000" cy="642600"/>
            <a:chOff x="4191120" y="5934240"/>
            <a:chExt cx="4572000" cy="642600"/>
          </a:xfrm>
        </p:grpSpPr>
        <p:sp>
          <p:nvSpPr>
            <p:cNvPr id="98" name="Line 51"/>
            <p:cNvSpPr/>
            <p:nvPr/>
          </p:nvSpPr>
          <p:spPr>
            <a:xfrm>
              <a:off x="4191120" y="6314760"/>
              <a:ext cx="3200400" cy="0"/>
            </a:xfrm>
            <a:prstGeom prst="line">
              <a:avLst/>
            </a:prstGeom>
            <a:ln w="28440">
              <a:solidFill>
                <a:srgbClr val="e7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52"/>
            <p:cNvSpPr/>
            <p:nvPr/>
          </p:nvSpPr>
          <p:spPr>
            <a:xfrm>
              <a:off x="7467840" y="593424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花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AutoShape 53"/>
          <p:cNvSpPr/>
          <p:nvPr/>
        </p:nvSpPr>
        <p:spPr>
          <a:xfrm>
            <a:off x="8317080" y="2195640"/>
            <a:ext cx="304560" cy="2057400"/>
          </a:xfrm>
          <a:custGeom>
            <a:avLst/>
            <a:gdLst>
              <a:gd name="textAreaLeft" fmla="*/ 0 w 304560"/>
              <a:gd name="textAreaRight" fmla="*/ 10980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83"/>
                </a:lnTo>
                <a:cubicBezTo>
                  <a:pt x="10800" y="10483"/>
                  <a:pt x="16200" y="11383"/>
                  <a:pt x="21600" y="11383"/>
                </a:cubicBezTo>
                <a:cubicBezTo>
                  <a:pt x="16200" y="11383"/>
                  <a:pt x="10800" y="12283"/>
                  <a:pt x="10800" y="1318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7"/>
          <p:cNvGrpSpPr/>
          <p:nvPr/>
        </p:nvGrpSpPr>
        <p:grpSpPr>
          <a:xfrm>
            <a:off x="1116000" y="2771640"/>
            <a:ext cx="2666880" cy="642600"/>
            <a:chOff x="1116000" y="2771640"/>
            <a:chExt cx="2666880" cy="642600"/>
          </a:xfrm>
        </p:grpSpPr>
        <p:sp>
          <p:nvSpPr>
            <p:cNvPr id="102" name="Text Box 58"/>
            <p:cNvSpPr/>
            <p:nvPr/>
          </p:nvSpPr>
          <p:spPr>
            <a:xfrm>
              <a:off x="1116000" y="277164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花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9"/>
            <p:cNvSpPr/>
            <p:nvPr/>
          </p:nvSpPr>
          <p:spPr>
            <a:xfrm>
              <a:off x="2106720" y="3076560"/>
              <a:ext cx="1676160" cy="0"/>
            </a:xfrm>
            <a:prstGeom prst="line">
              <a:avLst/>
            </a:prstGeom>
            <a:ln w="28440">
              <a:solidFill>
                <a:srgbClr val="e7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齿轮1 501"/>
          <p:cNvSpPr/>
          <p:nvPr/>
        </p:nvSpPr>
        <p:spPr>
          <a:xfrm rot="720000">
            <a:off x="914400" y="434520"/>
            <a:ext cx="706320" cy="500040"/>
          </a:xfrm>
          <a:custGeom>
            <a:avLst/>
            <a:gdLst/>
            <a:ahLst/>
            <a:rect l="l" t="t" r="r" b="b"/>
            <a:pathLst>
              <a:path w="2063518" h="1276454">
                <a:moveTo>
                  <a:pt x="1631470" y="557485"/>
                </a:moveTo>
                <a:cubicBezTo>
                  <a:pt x="1479172" y="557485"/>
                  <a:pt x="1355710" y="680947"/>
                  <a:pt x="1355710" y="833245"/>
                </a:cubicBezTo>
                <a:cubicBezTo>
                  <a:pt x="1355710" y="985543"/>
                  <a:pt x="1479172" y="1109005"/>
                  <a:pt x="1631470" y="1109005"/>
                </a:cubicBezTo>
                <a:cubicBezTo>
                  <a:pt x="1783768" y="1109005"/>
                  <a:pt x="1907230" y="985543"/>
                  <a:pt x="1907230" y="833245"/>
                </a:cubicBezTo>
                <a:cubicBezTo>
                  <a:pt x="1907230" y="680947"/>
                  <a:pt x="1783768" y="557485"/>
                  <a:pt x="1631470" y="557485"/>
                </a:cubicBezTo>
                <a:close/>
                <a:moveTo>
                  <a:pt x="1596087" y="400771"/>
                </a:moveTo>
                <a:lnTo>
                  <a:pt x="1666853" y="400771"/>
                </a:lnTo>
                <a:lnTo>
                  <a:pt x="1682233" y="488008"/>
                </a:lnTo>
                <a:cubicBezTo>
                  <a:pt x="1729134" y="494904"/>
                  <a:pt x="1774137" y="511284"/>
                  <a:pt x="1814498" y="536149"/>
                </a:cubicBezTo>
                <a:lnTo>
                  <a:pt x="1882355" y="479207"/>
                </a:lnTo>
                <a:lnTo>
                  <a:pt x="1936564" y="524695"/>
                </a:lnTo>
                <a:lnTo>
                  <a:pt x="1892271" y="601408"/>
                </a:lnTo>
                <a:cubicBezTo>
                  <a:pt x="1923766" y="636838"/>
                  <a:pt x="1947711" y="678313"/>
                  <a:pt x="1962647" y="723304"/>
                </a:cubicBezTo>
                <a:lnTo>
                  <a:pt x="2051230" y="723302"/>
                </a:lnTo>
                <a:lnTo>
                  <a:pt x="2063518" y="792992"/>
                </a:lnTo>
                <a:lnTo>
                  <a:pt x="1980277" y="823287"/>
                </a:lnTo>
                <a:cubicBezTo>
                  <a:pt x="1981630" y="870672"/>
                  <a:pt x="1973314" y="917837"/>
                  <a:pt x="1955836" y="961902"/>
                </a:cubicBezTo>
                <a:lnTo>
                  <a:pt x="2023695" y="1018840"/>
                </a:lnTo>
                <a:lnTo>
                  <a:pt x="1988313" y="1080125"/>
                </a:lnTo>
                <a:lnTo>
                  <a:pt x="1905073" y="1049826"/>
                </a:lnTo>
                <a:cubicBezTo>
                  <a:pt x="1875651" y="1086995"/>
                  <a:pt x="1838963" y="1117779"/>
                  <a:pt x="1797250" y="1140300"/>
                </a:cubicBezTo>
                <a:lnTo>
                  <a:pt x="1812635" y="1227537"/>
                </a:lnTo>
                <a:lnTo>
                  <a:pt x="1746136" y="1251740"/>
                </a:lnTo>
                <a:lnTo>
                  <a:pt x="1701847" y="1175024"/>
                </a:lnTo>
                <a:cubicBezTo>
                  <a:pt x="1655416" y="1184585"/>
                  <a:pt x="1607524" y="1184585"/>
                  <a:pt x="1561093" y="1175024"/>
                </a:cubicBezTo>
                <a:lnTo>
                  <a:pt x="1516804" y="1251740"/>
                </a:lnTo>
                <a:lnTo>
                  <a:pt x="1450306" y="1227537"/>
                </a:lnTo>
                <a:lnTo>
                  <a:pt x="1465691" y="1140300"/>
                </a:lnTo>
                <a:cubicBezTo>
                  <a:pt x="1423978" y="1117779"/>
                  <a:pt x="1387290" y="1086995"/>
                  <a:pt x="1357868" y="1049826"/>
                </a:cubicBezTo>
                <a:lnTo>
                  <a:pt x="1274628" y="1080125"/>
                </a:lnTo>
                <a:lnTo>
                  <a:pt x="1239245" y="1018840"/>
                </a:lnTo>
                <a:lnTo>
                  <a:pt x="1307105" y="961902"/>
                </a:lnTo>
                <a:cubicBezTo>
                  <a:pt x="1289627" y="917837"/>
                  <a:pt x="1281310" y="870672"/>
                  <a:pt x="1282663" y="823287"/>
                </a:cubicBezTo>
                <a:lnTo>
                  <a:pt x="1199422" y="792992"/>
                </a:lnTo>
                <a:lnTo>
                  <a:pt x="1211710" y="723302"/>
                </a:lnTo>
                <a:lnTo>
                  <a:pt x="1300293" y="723304"/>
                </a:lnTo>
                <a:cubicBezTo>
                  <a:pt x="1315229" y="678313"/>
                  <a:pt x="1339174" y="636838"/>
                  <a:pt x="1370670" y="601408"/>
                </a:cubicBezTo>
                <a:lnTo>
                  <a:pt x="1326376" y="524695"/>
                </a:lnTo>
                <a:lnTo>
                  <a:pt x="1380586" y="479207"/>
                </a:lnTo>
                <a:lnTo>
                  <a:pt x="1448443" y="536149"/>
                </a:lnTo>
                <a:cubicBezTo>
                  <a:pt x="1488803" y="511284"/>
                  <a:pt x="1533807" y="494905"/>
                  <a:pt x="1580707" y="488008"/>
                </a:cubicBezTo>
                <a:lnTo>
                  <a:pt x="1596087" y="400771"/>
                </a:lnTo>
                <a:close/>
                <a:moveTo>
                  <a:pt x="648072" y="235071"/>
                </a:moveTo>
                <a:cubicBezTo>
                  <a:pt x="419625" y="235071"/>
                  <a:pt x="234432" y="420264"/>
                  <a:pt x="234432" y="648711"/>
                </a:cubicBezTo>
                <a:cubicBezTo>
                  <a:pt x="234432" y="877158"/>
                  <a:pt x="419625" y="1062352"/>
                  <a:pt x="648072" y="1062352"/>
                </a:cubicBezTo>
                <a:cubicBezTo>
                  <a:pt x="876519" y="1062352"/>
                  <a:pt x="1061712" y="877158"/>
                  <a:pt x="1061712" y="648711"/>
                </a:cubicBezTo>
                <a:cubicBezTo>
                  <a:pt x="1061712" y="420264"/>
                  <a:pt x="876519" y="235071"/>
                  <a:pt x="648072" y="235071"/>
                </a:cubicBezTo>
                <a:close/>
                <a:moveTo>
                  <a:pt x="594998" y="0"/>
                </a:moveTo>
                <a:lnTo>
                  <a:pt x="701146" y="0"/>
                </a:lnTo>
                <a:lnTo>
                  <a:pt x="724216" y="130856"/>
                </a:lnTo>
                <a:cubicBezTo>
                  <a:pt x="794567" y="141200"/>
                  <a:pt x="862072" y="165770"/>
                  <a:pt x="922614" y="203067"/>
                </a:cubicBezTo>
                <a:lnTo>
                  <a:pt x="1024399" y="117654"/>
                </a:lnTo>
                <a:lnTo>
                  <a:pt x="1105713" y="185886"/>
                </a:lnTo>
                <a:lnTo>
                  <a:pt x="1039273" y="300956"/>
                </a:lnTo>
                <a:cubicBezTo>
                  <a:pt x="1086516" y="354101"/>
                  <a:pt x="1122434" y="416314"/>
                  <a:pt x="1144837" y="483799"/>
                </a:cubicBezTo>
                <a:lnTo>
                  <a:pt x="1277712" y="483796"/>
                </a:lnTo>
                <a:lnTo>
                  <a:pt x="1296144" y="588332"/>
                </a:lnTo>
                <a:lnTo>
                  <a:pt x="1171283" y="633774"/>
                </a:lnTo>
                <a:cubicBezTo>
                  <a:pt x="1173312" y="704852"/>
                  <a:pt x="1160838" y="775599"/>
                  <a:pt x="1134620" y="841697"/>
                </a:cubicBezTo>
                <a:lnTo>
                  <a:pt x="1236410" y="927104"/>
                </a:lnTo>
                <a:lnTo>
                  <a:pt x="1183336" y="1019032"/>
                </a:lnTo>
                <a:lnTo>
                  <a:pt x="1058476" y="973583"/>
                </a:lnTo>
                <a:cubicBezTo>
                  <a:pt x="1014343" y="1029336"/>
                  <a:pt x="959312" y="1075513"/>
                  <a:pt x="896742" y="1109294"/>
                </a:cubicBezTo>
                <a:lnTo>
                  <a:pt x="919819" y="1240149"/>
                </a:lnTo>
                <a:lnTo>
                  <a:pt x="820071" y="1276454"/>
                </a:lnTo>
                <a:lnTo>
                  <a:pt x="753637" y="1161380"/>
                </a:lnTo>
                <a:cubicBezTo>
                  <a:pt x="683991" y="1175721"/>
                  <a:pt x="612153" y="1175721"/>
                  <a:pt x="542507" y="1161380"/>
                </a:cubicBezTo>
                <a:lnTo>
                  <a:pt x="476073" y="1276454"/>
                </a:lnTo>
                <a:lnTo>
                  <a:pt x="376326" y="1240149"/>
                </a:lnTo>
                <a:lnTo>
                  <a:pt x="399403" y="1109294"/>
                </a:lnTo>
                <a:cubicBezTo>
                  <a:pt x="336833" y="1075513"/>
                  <a:pt x="281802" y="1029336"/>
                  <a:pt x="237669" y="973583"/>
                </a:cubicBezTo>
                <a:lnTo>
                  <a:pt x="112809" y="1019032"/>
                </a:lnTo>
                <a:lnTo>
                  <a:pt x="59735" y="927104"/>
                </a:lnTo>
                <a:lnTo>
                  <a:pt x="161524" y="841697"/>
                </a:lnTo>
                <a:cubicBezTo>
                  <a:pt x="135307" y="775599"/>
                  <a:pt x="122832" y="704852"/>
                  <a:pt x="124862" y="633774"/>
                </a:cubicBezTo>
                <a:lnTo>
                  <a:pt x="0" y="588332"/>
                </a:lnTo>
                <a:lnTo>
                  <a:pt x="18432" y="483796"/>
                </a:lnTo>
                <a:lnTo>
                  <a:pt x="151306" y="483799"/>
                </a:lnTo>
                <a:cubicBezTo>
                  <a:pt x="173710" y="416314"/>
                  <a:pt x="209628" y="354100"/>
                  <a:pt x="256871" y="300956"/>
                </a:cubicBezTo>
                <a:lnTo>
                  <a:pt x="190431" y="185886"/>
                </a:lnTo>
                <a:lnTo>
                  <a:pt x="271746" y="117654"/>
                </a:lnTo>
                <a:lnTo>
                  <a:pt x="373531" y="203067"/>
                </a:lnTo>
                <a:cubicBezTo>
                  <a:pt x="434072" y="165770"/>
                  <a:pt x="501577" y="141200"/>
                  <a:pt x="571928" y="130856"/>
                </a:cubicBezTo>
                <a:lnTo>
                  <a:pt x="594998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1"/>
          <p:cNvSpPr/>
          <p:nvPr/>
        </p:nvSpPr>
        <p:spPr>
          <a:xfrm>
            <a:off x="1676520" y="401760"/>
            <a:ext cx="56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探究点一   植物的有性生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dur="indefinite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8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92" dur="indefinite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3"/>
          <p:cNvGrpSpPr/>
          <p:nvPr/>
        </p:nvGrpSpPr>
        <p:grpSpPr>
          <a:xfrm>
            <a:off x="-169200" y="1447920"/>
            <a:ext cx="5668920" cy="5410080"/>
            <a:chOff x="-169200" y="1447920"/>
            <a:chExt cx="5668920" cy="5410080"/>
          </a:xfrm>
        </p:grpSpPr>
        <p:grpSp>
          <p:nvGrpSpPr>
            <p:cNvPr id="108" name="Group 4"/>
            <p:cNvGrpSpPr/>
            <p:nvPr/>
          </p:nvGrpSpPr>
          <p:grpSpPr>
            <a:xfrm>
              <a:off x="-169200" y="2067120"/>
              <a:ext cx="5668920" cy="3693600"/>
              <a:chOff x="-169200" y="2067120"/>
              <a:chExt cx="5668920" cy="3693600"/>
            </a:xfrm>
          </p:grpSpPr>
          <p:sp>
            <p:nvSpPr>
              <p:cNvPr id="109" name="AutoShape 5"/>
              <p:cNvSpPr/>
              <p:nvPr/>
            </p:nvSpPr>
            <p:spPr>
              <a:xfrm rot="18154800">
                <a:off x="593280" y="2923200"/>
                <a:ext cx="1715400" cy="2749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ff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 rot="20232000">
                <a:off x="1265040" y="2285640"/>
                <a:ext cx="1692000" cy="278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ff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 rot="3274200">
                <a:off x="3024720" y="2816280"/>
                <a:ext cx="1715400" cy="2749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ff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8"/>
              <p:cNvSpPr/>
              <p:nvPr/>
            </p:nvSpPr>
            <p:spPr>
              <a:xfrm rot="1209000">
                <a:off x="2322360" y="2285640"/>
                <a:ext cx="1692000" cy="278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ff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9"/>
            <p:cNvGrpSpPr/>
            <p:nvPr/>
          </p:nvGrpSpPr>
          <p:grpSpPr>
            <a:xfrm>
              <a:off x="1400040" y="4256280"/>
              <a:ext cx="2415240" cy="1222200"/>
              <a:chOff x="1400040" y="4256280"/>
              <a:chExt cx="2415240" cy="1222200"/>
            </a:xfrm>
          </p:grpSpPr>
          <p:sp>
            <p:nvSpPr>
              <p:cNvPr id="114" name="AutoShape 10"/>
              <p:cNvSpPr/>
              <p:nvPr/>
            </p:nvSpPr>
            <p:spPr>
              <a:xfrm rot="19107600">
                <a:off x="2590560" y="4572000"/>
                <a:ext cx="1176480" cy="590400"/>
              </a:xfrm>
              <a:prstGeom prst="lightningBolt">
                <a:avLst/>
              </a:prstGeom>
              <a:solidFill>
                <a:srgbClr val="5b9bd5"/>
              </a:solidFill>
              <a:ln w="936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11"/>
              <p:cNvSpPr/>
              <p:nvPr/>
            </p:nvSpPr>
            <p:spPr>
              <a:xfrm flipH="1" rot="2492400">
                <a:off x="1447560" y="4572000"/>
                <a:ext cx="1176480" cy="590400"/>
              </a:xfrm>
              <a:prstGeom prst="lightningBolt">
                <a:avLst/>
              </a:prstGeom>
              <a:solidFill>
                <a:srgbClr val="5b9bd5"/>
              </a:solidFill>
              <a:ln w="936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12"/>
            <p:cNvGrpSpPr/>
            <p:nvPr/>
          </p:nvGrpSpPr>
          <p:grpSpPr>
            <a:xfrm>
              <a:off x="2362320" y="2036880"/>
              <a:ext cx="457200" cy="3068280"/>
              <a:chOff x="2362320" y="2036880"/>
              <a:chExt cx="457200" cy="3068280"/>
            </a:xfrm>
          </p:grpSpPr>
          <p:sp>
            <p:nvSpPr>
              <p:cNvPr id="117" name="Oval 13"/>
              <p:cNvSpPr/>
              <p:nvPr/>
            </p:nvSpPr>
            <p:spPr>
              <a:xfrm>
                <a:off x="2362320" y="3485880"/>
                <a:ext cx="457200" cy="1619280"/>
              </a:xfrm>
              <a:prstGeom prst="ellipse">
                <a:avLst/>
              </a:prstGeom>
              <a:solidFill>
                <a:srgbClr val="5b9bd5"/>
              </a:solidFill>
              <a:ln w="9360">
                <a:solidFill>
                  <a:srgbClr val="5b9b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14"/>
              <p:cNvSpPr/>
              <p:nvPr/>
            </p:nvSpPr>
            <p:spPr>
              <a:xfrm flipH="1">
                <a:off x="2532960" y="2036880"/>
                <a:ext cx="114120" cy="2104920"/>
              </a:xfrm>
              <a:prstGeom prst="ellipse">
                <a:avLst/>
              </a:prstGeom>
              <a:solidFill>
                <a:srgbClr val="5b9bd5"/>
              </a:solidFill>
              <a:ln w="9360">
                <a:solidFill>
                  <a:srgbClr val="5b9b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2492640" y="2036880"/>
                <a:ext cx="228600" cy="162720"/>
              </a:xfrm>
              <a:prstGeom prst="ellipse">
                <a:avLst/>
              </a:prstGeom>
              <a:solidFill>
                <a:srgbClr val="5b9bd5"/>
              </a:solidFill>
              <a:ln w="9360">
                <a:solidFill>
                  <a:srgbClr val="5b9b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1676520" y="1447920"/>
              <a:ext cx="1828440" cy="3354480"/>
              <a:chOff x="1676520" y="1447920"/>
              <a:chExt cx="1828440" cy="3354480"/>
            </a:xfrm>
          </p:grpSpPr>
          <p:grpSp>
            <p:nvGrpSpPr>
              <p:cNvPr id="121" name="Group 17"/>
              <p:cNvGrpSpPr/>
              <p:nvPr/>
            </p:nvGrpSpPr>
            <p:grpSpPr>
              <a:xfrm>
                <a:off x="2819160" y="1447920"/>
                <a:ext cx="685800" cy="3354480"/>
                <a:chOff x="2819160" y="1447920"/>
                <a:chExt cx="685800" cy="3354480"/>
              </a:xfrm>
            </p:grpSpPr>
            <p:sp>
              <p:nvSpPr>
                <p:cNvPr id="122" name="Arc 18"/>
                <p:cNvSpPr/>
                <p:nvPr/>
              </p:nvSpPr>
              <p:spPr>
                <a:xfrm flipH="1">
                  <a:off x="2818800" y="1752840"/>
                  <a:ext cx="685800" cy="304956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Oval 19"/>
                <p:cNvSpPr/>
                <p:nvPr/>
              </p:nvSpPr>
              <p:spPr>
                <a:xfrm flipH="1" flipV="1">
                  <a:off x="3352320" y="1600200"/>
                  <a:ext cx="152280" cy="4572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Oval 20"/>
                <p:cNvSpPr/>
                <p:nvPr/>
              </p:nvSpPr>
              <p:spPr>
                <a:xfrm flipH="1" flipV="1">
                  <a:off x="3200400" y="1447920"/>
                  <a:ext cx="152640" cy="4572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21"/>
              <p:cNvGrpSpPr/>
              <p:nvPr/>
            </p:nvGrpSpPr>
            <p:grpSpPr>
              <a:xfrm>
                <a:off x="1676520" y="1447920"/>
                <a:ext cx="685800" cy="3354480"/>
                <a:chOff x="1676520" y="1447920"/>
                <a:chExt cx="685800" cy="3354480"/>
              </a:xfrm>
            </p:grpSpPr>
            <p:sp>
              <p:nvSpPr>
                <p:cNvPr id="126" name="Arc 22"/>
                <p:cNvSpPr/>
                <p:nvPr/>
              </p:nvSpPr>
              <p:spPr>
                <a:xfrm>
                  <a:off x="1676520" y="1752840"/>
                  <a:ext cx="685800" cy="304956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23"/>
                <p:cNvSpPr/>
                <p:nvPr/>
              </p:nvSpPr>
              <p:spPr>
                <a:xfrm flipV="1">
                  <a:off x="1676520" y="1600200"/>
                  <a:ext cx="152280" cy="4572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Oval 24"/>
                <p:cNvSpPr/>
                <p:nvPr/>
              </p:nvSpPr>
              <p:spPr>
                <a:xfrm flipV="1">
                  <a:off x="1828440" y="1447920"/>
                  <a:ext cx="152640" cy="4572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" name="Line 25"/>
            <p:cNvSpPr/>
            <p:nvPr/>
          </p:nvSpPr>
          <p:spPr>
            <a:xfrm>
              <a:off x="2562480" y="5050080"/>
              <a:ext cx="0" cy="1807920"/>
            </a:xfrm>
            <a:prstGeom prst="line">
              <a:avLst/>
            </a:prstGeom>
            <a:ln w="127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26"/>
          <p:cNvSpPr/>
          <p:nvPr/>
        </p:nvSpPr>
        <p:spPr>
          <a:xfrm>
            <a:off x="1905120" y="3352680"/>
            <a:ext cx="129528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7"/>
          <p:cNvGrpSpPr/>
          <p:nvPr/>
        </p:nvGrpSpPr>
        <p:grpSpPr>
          <a:xfrm>
            <a:off x="2844000" y="4581000"/>
            <a:ext cx="5943240" cy="1237320"/>
            <a:chOff x="2844000" y="4581000"/>
            <a:chExt cx="5943240" cy="1237320"/>
          </a:xfrm>
        </p:grpSpPr>
        <p:sp>
          <p:nvSpPr>
            <p:cNvPr id="132" name="Text Box 28"/>
            <p:cNvSpPr/>
            <p:nvPr/>
          </p:nvSpPr>
          <p:spPr>
            <a:xfrm>
              <a:off x="4375440" y="5114880"/>
              <a:ext cx="279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纵切放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flipH="1" flipV="1" rot="5400000">
              <a:off x="5472360" y="1951920"/>
              <a:ext cx="685800" cy="594324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1039680 h 5943240"/>
                <a:gd name="textAreaBottom" fmla="*/ 4308480 h 594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3712"/>
                  <a:lnTo>
                    <a:pt x="14404" y="21168"/>
                  </a:lnTo>
                  <a:lnTo>
                    <a:pt x="21600" y="17280"/>
                  </a:lnTo>
                  <a:lnTo>
                    <a:pt x="14404" y="12528"/>
                  </a:lnTo>
                  <a:lnTo>
                    <a:pt x="14404" y="14688"/>
                  </a:lnTo>
                  <a:arcTo wR="21600" hR="7560" stAng="8116288" swAng="2326277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becff"/>
            </a:solidFill>
            <a:ln w="9360">
              <a:solidFill>
                <a:srgbClr val="9b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0"/>
          <p:cNvGrpSpPr/>
          <p:nvPr/>
        </p:nvGrpSpPr>
        <p:grpSpPr>
          <a:xfrm>
            <a:off x="5508720" y="822240"/>
            <a:ext cx="3384000" cy="4191120"/>
            <a:chOff x="5508720" y="822240"/>
            <a:chExt cx="3384000" cy="4191120"/>
          </a:xfrm>
        </p:grpSpPr>
        <p:sp>
          <p:nvSpPr>
            <p:cNvPr id="135" name="Oval 31"/>
            <p:cNvSpPr/>
            <p:nvPr/>
          </p:nvSpPr>
          <p:spPr>
            <a:xfrm>
              <a:off x="6372720" y="1279440"/>
              <a:ext cx="2520000" cy="373392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092720" y="822240"/>
              <a:ext cx="1008000" cy="12193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3"/>
            <p:cNvSpPr/>
            <p:nvPr/>
          </p:nvSpPr>
          <p:spPr>
            <a:xfrm>
              <a:off x="7596720" y="3641760"/>
              <a:ext cx="216000" cy="457200"/>
            </a:xfrm>
            <a:prstGeom prst="ellipse">
              <a:avLst/>
            </a:prstGeom>
            <a:solidFill>
              <a:srgbClr val="ffb469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rc 34"/>
            <p:cNvSpPr/>
            <p:nvPr/>
          </p:nvSpPr>
          <p:spPr>
            <a:xfrm flipH="1" flipV="1">
              <a:off x="6948000" y="2116800"/>
              <a:ext cx="1224360" cy="2057400"/>
            </a:xfrm>
            <a:custGeom>
              <a:avLst/>
              <a:gdLst/>
              <a:ahLst/>
              <a:rect l="l" t="t" r="r" b="b"/>
              <a:pathLst>
                <a:path fill="none" w="43200" h="42662">
                  <a:moveTo>
                    <a:pt x="29649" y="1018"/>
                  </a:moveTo>
                  <a:cubicBezTo>
                    <a:pt x="37835" y="4305"/>
                    <a:pt x="43200" y="12240"/>
                    <a:pt x="43200" y="21062"/>
                  </a:cubicBezTo>
                  <a:cubicBezTo>
                    <a:pt x="43200" y="32991"/>
                    <a:pt x="33529" y="42662"/>
                    <a:pt x="21600" y="42662"/>
                  </a:cubicBezTo>
                  <a:cubicBezTo>
                    <a:pt x="9670" y="42662"/>
                    <a:pt x="0" y="32991"/>
                    <a:pt x="0" y="21062"/>
                  </a:cubicBezTo>
                  <a:cubicBezTo>
                    <a:pt x="-1" y="10978"/>
                    <a:pt x="6977" y="2236"/>
                    <a:pt x="16809" y="-1"/>
                  </a:cubicBezTo>
                </a:path>
                <a:path stroke="0" w="43200" h="42662">
                  <a:moveTo>
                    <a:pt x="29649" y="1018"/>
                  </a:moveTo>
                  <a:cubicBezTo>
                    <a:pt x="37835" y="4305"/>
                    <a:pt x="43200" y="12240"/>
                    <a:pt x="43200" y="21062"/>
                  </a:cubicBezTo>
                  <a:cubicBezTo>
                    <a:pt x="43200" y="32991"/>
                    <a:pt x="33529" y="42662"/>
                    <a:pt x="21600" y="42662"/>
                  </a:cubicBezTo>
                  <a:cubicBezTo>
                    <a:pt x="9670" y="42662"/>
                    <a:pt x="0" y="32991"/>
                    <a:pt x="0" y="21062"/>
                  </a:cubicBezTo>
                  <a:cubicBezTo>
                    <a:pt x="-1" y="10978"/>
                    <a:pt x="6977" y="2236"/>
                    <a:pt x="16809" y="-1"/>
                  </a:cubicBezTo>
                  <a:lnTo>
                    <a:pt x="21600" y="21062"/>
                  </a:lnTo>
                  <a:close/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236720" y="3641760"/>
              <a:ext cx="216000" cy="457200"/>
            </a:xfrm>
            <a:prstGeom prst="ellipse">
              <a:avLst/>
            </a:prstGeom>
            <a:solidFill>
              <a:srgbClr val="ffb469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6"/>
            <p:cNvSpPr/>
            <p:nvPr/>
          </p:nvSpPr>
          <p:spPr>
            <a:xfrm>
              <a:off x="7380720" y="3489120"/>
              <a:ext cx="288000" cy="60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7"/>
            <p:cNvSpPr/>
            <p:nvPr/>
          </p:nvSpPr>
          <p:spPr>
            <a:xfrm>
              <a:off x="7309080" y="2498760"/>
              <a:ext cx="143640" cy="228600"/>
            </a:xfrm>
            <a:prstGeom prst="ellipse">
              <a:avLst/>
            </a:prstGeom>
            <a:solidFill>
              <a:srgbClr val="ffb469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8"/>
            <p:cNvSpPr/>
            <p:nvPr/>
          </p:nvSpPr>
          <p:spPr>
            <a:xfrm>
              <a:off x="7596720" y="2498760"/>
              <a:ext cx="144000" cy="228600"/>
            </a:xfrm>
            <a:prstGeom prst="ellipse">
              <a:avLst/>
            </a:prstGeom>
            <a:solidFill>
              <a:srgbClr val="ffb469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9"/>
            <p:cNvSpPr/>
            <p:nvPr/>
          </p:nvSpPr>
          <p:spPr>
            <a:xfrm>
              <a:off x="7309080" y="3031920"/>
              <a:ext cx="143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0"/>
            <p:cNvSpPr/>
            <p:nvPr/>
          </p:nvSpPr>
          <p:spPr>
            <a:xfrm>
              <a:off x="7452720" y="3108240"/>
              <a:ext cx="143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41"/>
            <p:cNvSpPr/>
            <p:nvPr/>
          </p:nvSpPr>
          <p:spPr>
            <a:xfrm>
              <a:off x="5508720" y="1355760"/>
              <a:ext cx="129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子房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380880"/>
            <a:ext cx="8826120" cy="6477120"/>
            <a:chOff x="0" y="380880"/>
            <a:chExt cx="8826120" cy="6477120"/>
          </a:xfrm>
        </p:grpSpPr>
        <p:grpSp>
          <p:nvGrpSpPr>
            <p:cNvPr id="148" name="Group 5"/>
            <p:cNvGrpSpPr/>
            <p:nvPr/>
          </p:nvGrpSpPr>
          <p:grpSpPr>
            <a:xfrm>
              <a:off x="0" y="380880"/>
              <a:ext cx="4608000" cy="6477120"/>
              <a:chOff x="0" y="380880"/>
              <a:chExt cx="4608000" cy="6477120"/>
            </a:xfrm>
          </p:grpSpPr>
          <p:sp>
            <p:nvSpPr>
              <p:cNvPr id="149" name="Oval 6"/>
              <p:cNvSpPr/>
              <p:nvPr/>
            </p:nvSpPr>
            <p:spPr>
              <a:xfrm>
                <a:off x="0" y="981000"/>
                <a:ext cx="4608000" cy="5877000"/>
              </a:xfrm>
              <a:prstGeom prst="ellipse">
                <a:avLst/>
              </a:prstGeom>
              <a:solidFill>
                <a:srgbClr val="5b9bd5"/>
              </a:solidFill>
              <a:ln w="9360">
                <a:solidFill>
                  <a:srgbClr val="5b9b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"/>
              <p:cNvSpPr/>
              <p:nvPr/>
            </p:nvSpPr>
            <p:spPr>
              <a:xfrm>
                <a:off x="1947600" y="2666880"/>
                <a:ext cx="395280" cy="360360"/>
              </a:xfrm>
              <a:prstGeom prst="ellipse">
                <a:avLst/>
              </a:prstGeom>
              <a:solidFill>
                <a:srgbClr val="ffb469"/>
              </a:solidFill>
              <a:ln w="9360">
                <a:solidFill>
                  <a:srgbClr val="ffb46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8"/>
              <p:cNvSpPr/>
              <p:nvPr/>
            </p:nvSpPr>
            <p:spPr>
              <a:xfrm>
                <a:off x="1789920" y="2814480"/>
                <a:ext cx="263160" cy="360360"/>
              </a:xfrm>
              <a:prstGeom prst="ellipse">
                <a:avLst/>
              </a:prstGeom>
              <a:solidFill>
                <a:srgbClr val="ffb469"/>
              </a:solidFill>
              <a:ln w="9360">
                <a:solidFill>
                  <a:srgbClr val="ffb46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9"/>
              <p:cNvSpPr/>
              <p:nvPr/>
            </p:nvSpPr>
            <p:spPr>
              <a:xfrm>
                <a:off x="2264760" y="2805120"/>
                <a:ext cx="261720" cy="360360"/>
              </a:xfrm>
              <a:prstGeom prst="ellipse">
                <a:avLst/>
              </a:prstGeom>
              <a:solidFill>
                <a:srgbClr val="ffb469"/>
              </a:solidFill>
              <a:ln w="9360">
                <a:solidFill>
                  <a:srgbClr val="ffb46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0"/>
              <p:cNvSpPr/>
              <p:nvPr/>
            </p:nvSpPr>
            <p:spPr>
              <a:xfrm>
                <a:off x="1327680" y="380880"/>
                <a:ext cx="1843920" cy="1919160"/>
              </a:xfrm>
              <a:prstGeom prst="rect">
                <a:avLst/>
              </a:prstGeom>
              <a:solidFill>
                <a:srgbClr val="5b9bd5"/>
              </a:solidFill>
              <a:ln w="936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11"/>
              <p:cNvSpPr/>
              <p:nvPr/>
            </p:nvSpPr>
            <p:spPr>
              <a:xfrm>
                <a:off x="2264760" y="4817880"/>
                <a:ext cx="393480" cy="720720"/>
              </a:xfrm>
              <a:prstGeom prst="ellipse">
                <a:avLst/>
              </a:prstGeom>
              <a:solidFill>
                <a:srgbClr val="ffb469"/>
              </a:solidFill>
              <a:ln w="9360">
                <a:solidFill>
                  <a:srgbClr val="ffb46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2"/>
              <p:cNvSpPr/>
              <p:nvPr/>
            </p:nvSpPr>
            <p:spPr>
              <a:xfrm flipH="1" flipV="1">
                <a:off x="1092960" y="1903320"/>
                <a:ext cx="2239200" cy="3735360"/>
              </a:xfrm>
              <a:custGeom>
                <a:avLst/>
                <a:gdLst/>
                <a:ahLst/>
                <a:rect l="l" t="t" r="r" b="b"/>
                <a:pathLst>
                  <a:path fill="none" w="43200" h="42678">
                    <a:moveTo>
                      <a:pt x="28566" y="632"/>
                    </a:moveTo>
                    <a:cubicBezTo>
                      <a:pt x="37317" y="3614"/>
                      <a:pt x="43200" y="11833"/>
                      <a:pt x="43200" y="21078"/>
                    </a:cubicBezTo>
                    <a:cubicBezTo>
                      <a:pt x="43200" y="33007"/>
                      <a:pt x="33529" y="42678"/>
                      <a:pt x="21600" y="42678"/>
                    </a:cubicBezTo>
                    <a:cubicBezTo>
                      <a:pt x="9670" y="42678"/>
                      <a:pt x="0" y="33007"/>
                      <a:pt x="0" y="21078"/>
                    </a:cubicBezTo>
                    <a:cubicBezTo>
                      <a:pt x="-1" y="10967"/>
                      <a:pt x="7013" y="2209"/>
                      <a:pt x="16879" y="0"/>
                    </a:cubicBezTo>
                  </a:path>
                  <a:path stroke="0" w="43200" h="42678">
                    <a:moveTo>
                      <a:pt x="28566" y="632"/>
                    </a:moveTo>
                    <a:cubicBezTo>
                      <a:pt x="37317" y="3614"/>
                      <a:pt x="43200" y="11833"/>
                      <a:pt x="43200" y="21078"/>
                    </a:cubicBezTo>
                    <a:cubicBezTo>
                      <a:pt x="43200" y="33007"/>
                      <a:pt x="33529" y="42678"/>
                      <a:pt x="21600" y="42678"/>
                    </a:cubicBezTo>
                    <a:cubicBezTo>
                      <a:pt x="9670" y="42678"/>
                      <a:pt x="0" y="33007"/>
                      <a:pt x="0" y="21078"/>
                    </a:cubicBezTo>
                    <a:cubicBezTo>
                      <a:pt x="-1" y="10967"/>
                      <a:pt x="7013" y="2209"/>
                      <a:pt x="16879" y="0"/>
                    </a:cubicBezTo>
                    <a:lnTo>
                      <a:pt x="21600" y="21078"/>
                    </a:lnTo>
                    <a:close/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3"/>
              <p:cNvSpPr/>
              <p:nvPr/>
            </p:nvSpPr>
            <p:spPr>
              <a:xfrm>
                <a:off x="1713240" y="4817880"/>
                <a:ext cx="395280" cy="720720"/>
              </a:xfrm>
              <a:prstGeom prst="ellipse">
                <a:avLst/>
              </a:prstGeom>
              <a:solidFill>
                <a:srgbClr val="ffb469"/>
              </a:solidFill>
              <a:ln w="9360">
                <a:solidFill>
                  <a:srgbClr val="ffb46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4"/>
              <p:cNvSpPr/>
              <p:nvPr/>
            </p:nvSpPr>
            <p:spPr>
              <a:xfrm flipH="1" flipV="1">
                <a:off x="1524960" y="2667600"/>
                <a:ext cx="1316520" cy="2971800"/>
              </a:xfrm>
              <a:custGeom>
                <a:avLst/>
                <a:gdLst/>
                <a:ahLst/>
                <a:rect l="l" t="t" r="r" b="b"/>
                <a:pathLst>
                  <a:path fill="none" w="43200" h="41880">
                    <a:moveTo>
                      <a:pt x="29847" y="316"/>
                    </a:moveTo>
                    <a:cubicBezTo>
                      <a:pt x="37928" y="3654"/>
                      <a:pt x="43200" y="11536"/>
                      <a:pt x="43200" y="20280"/>
                    </a:cubicBezTo>
                    <a:cubicBezTo>
                      <a:pt x="43200" y="32209"/>
                      <a:pt x="33529" y="41880"/>
                      <a:pt x="21600" y="41880"/>
                    </a:cubicBezTo>
                    <a:cubicBezTo>
                      <a:pt x="9670" y="41880"/>
                      <a:pt x="0" y="32209"/>
                      <a:pt x="0" y="20280"/>
                    </a:cubicBezTo>
                    <a:cubicBezTo>
                      <a:pt x="-1" y="11218"/>
                      <a:pt x="5656" y="3119"/>
                      <a:pt x="14164" y="0"/>
                    </a:cubicBezTo>
                  </a:path>
                  <a:path stroke="0" w="43200" h="41880">
                    <a:moveTo>
                      <a:pt x="29847" y="316"/>
                    </a:moveTo>
                    <a:cubicBezTo>
                      <a:pt x="37928" y="3654"/>
                      <a:pt x="43200" y="11536"/>
                      <a:pt x="43200" y="20280"/>
                    </a:cubicBezTo>
                    <a:cubicBezTo>
                      <a:pt x="43200" y="32209"/>
                      <a:pt x="33529" y="41880"/>
                      <a:pt x="21600" y="41880"/>
                    </a:cubicBezTo>
                    <a:cubicBezTo>
                      <a:pt x="9670" y="41880"/>
                      <a:pt x="0" y="32209"/>
                      <a:pt x="0" y="20280"/>
                    </a:cubicBezTo>
                    <a:cubicBezTo>
                      <a:pt x="-1" y="11218"/>
                      <a:pt x="5656" y="3119"/>
                      <a:pt x="14164" y="0"/>
                    </a:cubicBezTo>
                    <a:lnTo>
                      <a:pt x="21600" y="20280"/>
                    </a:lnTo>
                    <a:close/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5"/>
              <p:cNvSpPr/>
              <p:nvPr/>
            </p:nvSpPr>
            <p:spPr>
              <a:xfrm>
                <a:off x="1921680" y="4579920"/>
                <a:ext cx="525240" cy="958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16"/>
              <p:cNvSpPr/>
              <p:nvPr/>
            </p:nvSpPr>
            <p:spPr>
              <a:xfrm>
                <a:off x="1789920" y="3859200"/>
                <a:ext cx="263160" cy="239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7"/>
              <p:cNvSpPr/>
              <p:nvPr/>
            </p:nvSpPr>
            <p:spPr>
              <a:xfrm>
                <a:off x="2053440" y="3979800"/>
                <a:ext cx="263160" cy="239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Text Box 18"/>
            <p:cNvSpPr/>
            <p:nvPr/>
          </p:nvSpPr>
          <p:spPr>
            <a:xfrm>
              <a:off x="2733480" y="533160"/>
              <a:ext cx="609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 u="sng">
                  <a:solidFill>
                    <a:srgbClr val="ed7d31"/>
                  </a:solidFill>
                  <a:uFillTx/>
                  <a:latin typeface="Times New Roman"/>
                  <a:ea typeface="华文新魏"/>
                </a:rPr>
                <a:t>子房的结构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9"/>
          <p:cNvGrpSpPr/>
          <p:nvPr/>
        </p:nvGrpSpPr>
        <p:grpSpPr>
          <a:xfrm>
            <a:off x="4057560" y="2454120"/>
            <a:ext cx="3276720" cy="642600"/>
            <a:chOff x="4057560" y="2454120"/>
            <a:chExt cx="3276720" cy="642600"/>
          </a:xfrm>
        </p:grpSpPr>
        <p:sp>
          <p:nvSpPr>
            <p:cNvPr id="163" name="Text Box 20"/>
            <p:cNvSpPr/>
            <p:nvPr/>
          </p:nvSpPr>
          <p:spPr>
            <a:xfrm>
              <a:off x="5200560" y="245412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子房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1"/>
            <p:cNvSpPr/>
            <p:nvPr/>
          </p:nvSpPr>
          <p:spPr>
            <a:xfrm>
              <a:off x="4057560" y="2759040"/>
              <a:ext cx="1219320" cy="0"/>
            </a:xfrm>
            <a:prstGeom prst="line">
              <a:avLst/>
            </a:prstGeom>
            <a:ln w="38160">
              <a:solidFill>
                <a:srgbClr val="4454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2"/>
          <p:cNvGrpSpPr/>
          <p:nvPr/>
        </p:nvGrpSpPr>
        <p:grpSpPr>
          <a:xfrm>
            <a:off x="2914560" y="2911320"/>
            <a:ext cx="3200040" cy="642600"/>
            <a:chOff x="2914560" y="2911320"/>
            <a:chExt cx="3200040" cy="642600"/>
          </a:xfrm>
        </p:grpSpPr>
        <p:sp>
          <p:nvSpPr>
            <p:cNvPr id="166" name="Rectangle 23"/>
            <p:cNvSpPr/>
            <p:nvPr/>
          </p:nvSpPr>
          <p:spPr>
            <a:xfrm>
              <a:off x="5385240" y="29113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珠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4"/>
            <p:cNvSpPr/>
            <p:nvPr/>
          </p:nvSpPr>
          <p:spPr>
            <a:xfrm flipV="1">
              <a:off x="2914560" y="3349080"/>
              <a:ext cx="2286000" cy="19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5"/>
          <p:cNvGrpSpPr/>
          <p:nvPr/>
        </p:nvGrpSpPr>
        <p:grpSpPr>
          <a:xfrm>
            <a:off x="2457360" y="3368520"/>
            <a:ext cx="5562720" cy="642600"/>
            <a:chOff x="2457360" y="3368520"/>
            <a:chExt cx="5562720" cy="642600"/>
          </a:xfrm>
        </p:grpSpPr>
        <p:sp>
          <p:nvSpPr>
            <p:cNvPr id="169" name="Rectangle 26"/>
            <p:cNvSpPr/>
            <p:nvPr/>
          </p:nvSpPr>
          <p:spPr>
            <a:xfrm>
              <a:off x="5200560" y="3368520"/>
              <a:ext cx="281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胚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2457360" y="3673440"/>
              <a:ext cx="2743200" cy="75960"/>
            </a:xfrm>
            <a:prstGeom prst="line">
              <a:avLst/>
            </a:prstGeom>
            <a:ln w="28440">
              <a:solidFill>
                <a:srgbClr val="4454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AutoShape 28"/>
          <p:cNvSpPr/>
          <p:nvPr/>
        </p:nvSpPr>
        <p:spPr>
          <a:xfrm>
            <a:off x="6300720" y="3141720"/>
            <a:ext cx="216000" cy="689040"/>
          </a:xfrm>
          <a:custGeom>
            <a:avLst/>
            <a:gdLst>
              <a:gd name="textAreaLeft" fmla="*/ 0 w 216000"/>
              <a:gd name="textAreaRight" fmla="*/ 78120 w 216000"/>
              <a:gd name="textAreaTop" fmla="*/ 17640 h 689040"/>
              <a:gd name="textAreaBottom" fmla="*/ 671400 h 68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9"/>
          <p:cNvSpPr/>
          <p:nvPr/>
        </p:nvSpPr>
        <p:spPr>
          <a:xfrm>
            <a:off x="5897880" y="2997360"/>
            <a:ext cx="127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胚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30"/>
          <p:cNvGrpSpPr/>
          <p:nvPr/>
        </p:nvGrpSpPr>
        <p:grpSpPr>
          <a:xfrm>
            <a:off x="2457360" y="5197320"/>
            <a:ext cx="5638680" cy="932040"/>
            <a:chOff x="2457360" y="5197320"/>
            <a:chExt cx="5638680" cy="932040"/>
          </a:xfrm>
        </p:grpSpPr>
        <p:sp>
          <p:nvSpPr>
            <p:cNvPr id="174" name="Line 31"/>
            <p:cNvSpPr/>
            <p:nvPr/>
          </p:nvSpPr>
          <p:spPr>
            <a:xfrm>
              <a:off x="2457360" y="5197320"/>
              <a:ext cx="3809880" cy="533520"/>
            </a:xfrm>
            <a:prstGeom prst="line">
              <a:avLst/>
            </a:prstGeom>
            <a:ln w="28440">
              <a:solidFill>
                <a:srgbClr val="4454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2"/>
            <p:cNvSpPr/>
            <p:nvPr/>
          </p:nvSpPr>
          <p:spPr>
            <a:xfrm>
              <a:off x="6191280" y="5425920"/>
              <a:ext cx="190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卵细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33"/>
          <p:cNvGrpSpPr/>
          <p:nvPr/>
        </p:nvGrpSpPr>
        <p:grpSpPr>
          <a:xfrm>
            <a:off x="2266920" y="4221000"/>
            <a:ext cx="4500360" cy="932040"/>
            <a:chOff x="2266920" y="4221000"/>
            <a:chExt cx="4500360" cy="932040"/>
          </a:xfrm>
        </p:grpSpPr>
        <p:sp>
          <p:nvSpPr>
            <p:cNvPr id="177" name="Line 34"/>
            <p:cNvSpPr/>
            <p:nvPr/>
          </p:nvSpPr>
          <p:spPr>
            <a:xfrm>
              <a:off x="2266920" y="4221000"/>
              <a:ext cx="3505320" cy="533520"/>
            </a:xfrm>
            <a:prstGeom prst="line">
              <a:avLst/>
            </a:prstGeom>
            <a:ln w="28440">
              <a:solidFill>
                <a:srgbClr val="4454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5977080" y="444960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极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AutoShape 36"/>
          <p:cNvSpPr/>
          <p:nvPr/>
        </p:nvSpPr>
        <p:spPr>
          <a:xfrm>
            <a:off x="7164360" y="2708280"/>
            <a:ext cx="203400" cy="1104840"/>
          </a:xfrm>
          <a:custGeom>
            <a:avLst/>
            <a:gdLst>
              <a:gd name="textAreaLeft" fmla="*/ 0 w 203400"/>
              <a:gd name="textAreaRight" fmla="*/ 73440 w 203400"/>
              <a:gd name="textAreaTop" fmla="*/ 28440 h 1104840"/>
              <a:gd name="textAreaBottom" fmla="*/ 1076400 h 11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7"/>
          <p:cNvSpPr/>
          <p:nvPr/>
        </p:nvSpPr>
        <p:spPr>
          <a:xfrm>
            <a:off x="7093080" y="292428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子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a0ff4010dc80c641213f2eb6"/>
          <p:cNvPicPr/>
          <p:nvPr/>
        </p:nvPicPr>
        <p:blipFill>
          <a:blip r:embed="rId1"/>
          <a:stretch/>
        </p:blipFill>
        <p:spPr>
          <a:xfrm>
            <a:off x="7308720" y="1989000"/>
            <a:ext cx="1138320" cy="1511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图片6"/>
          <p:cNvPicPr/>
          <p:nvPr/>
        </p:nvPicPr>
        <p:blipFill>
          <a:blip r:embed="rId2"/>
          <a:srcRect l="0" t="25320" r="0" b="0"/>
          <a:stretch/>
        </p:blipFill>
        <p:spPr>
          <a:xfrm>
            <a:off x="270000" y="596880"/>
            <a:ext cx="3510000" cy="8161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26920" y="1298520"/>
            <a:ext cx="8066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株植物从开花到结果，其中要经历哪些重要的过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3890880" y="317196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传粉和受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975480" y="1004760"/>
            <a:ext cx="16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自花传粉：</a:t>
            </a:r>
            <a:r>
              <a:rPr b="1" lang="zh-CN" sz="2800" spc="-1" strike="noStrike">
                <a:solidFill>
                  <a:srgbClr val="ed7d31"/>
                </a:solidFill>
                <a:latin typeface="Arial"/>
                <a:ea typeface="黑体"/>
              </a:rPr>
              <a:t>同一朵花的雄蕊花药中的花粉传给雌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14-2"/>
          <p:cNvPicPr/>
          <p:nvPr/>
        </p:nvPicPr>
        <p:blipFill>
          <a:blip r:embed="rId1"/>
          <a:stretch/>
        </p:blipFill>
        <p:spPr>
          <a:xfrm>
            <a:off x="1809720" y="1630440"/>
            <a:ext cx="5403960" cy="50245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/>
          <p:cNvSpPr/>
          <p:nvPr/>
        </p:nvSpPr>
        <p:spPr>
          <a:xfrm>
            <a:off x="5086440" y="1930320"/>
            <a:ext cx="11880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5905440" y="242244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5559480" y="211140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5425920" y="203832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5546880" y="1895400"/>
            <a:ext cx="11880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>
            <a:off x="5989680" y="216864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6029280" y="246708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5084640" y="213840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2"/>
          <p:cNvSpPr/>
          <p:nvPr/>
        </p:nvSpPr>
        <p:spPr>
          <a:xfrm>
            <a:off x="3619440" y="193356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3022560" y="225108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4206960" y="2009880"/>
            <a:ext cx="11880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5"/>
          <p:cNvSpPr/>
          <p:nvPr/>
        </p:nvSpPr>
        <p:spPr>
          <a:xfrm>
            <a:off x="3654360" y="181944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6"/>
          <p:cNvSpPr/>
          <p:nvPr/>
        </p:nvSpPr>
        <p:spPr>
          <a:xfrm>
            <a:off x="3444840" y="173052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7"/>
          <p:cNvSpPr/>
          <p:nvPr/>
        </p:nvSpPr>
        <p:spPr>
          <a:xfrm>
            <a:off x="4052880" y="185112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3165480" y="225756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2847960" y="219384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0"/>
          <p:cNvSpPr/>
          <p:nvPr/>
        </p:nvSpPr>
        <p:spPr>
          <a:xfrm>
            <a:off x="4176720" y="187164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1"/>
          <p:cNvSpPr/>
          <p:nvPr/>
        </p:nvSpPr>
        <p:spPr>
          <a:xfrm>
            <a:off x="4211640" y="213372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3527280" y="1765440"/>
            <a:ext cx="119160" cy="10296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480" bIns="-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27 0.02778 C 0.05243 -0.05277 0.05695 -0.13356 0.0625 -0.16759 C 0.06788 -0.2 0.07483 -0.175 0.08108 -0.17754 C 0.0875 -0.1787 0.09445 -0.17384 0.10052 -0.17314 C 0.10677 -0.17175 0.10972 -0.17314 0.1191 -0.16805 C 0.12813 -0.16273 0.14497 -0.1537 0.15469 -0.14212 C 0.16441 -0.13032 0.17257 -0.10856 0.17726 -0.09583 C 0.18177 -0.08634 0.18021 -0.08333 0.1816 -0.07546 C 0.18316 -0.06712 0.18472 -0.05578 0.18611 -0.04837 C 0.18681 -0.04097 0.18733 -0.03587 0.18854 -0.03078 E">
                                      <p:cBhvr>
                                        <p:cTn id="182" dur="3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45 -0.07847 0.02291 -0.15694 0.03194 -0.18981 C 0.04097 -0.22268 0.0467 -0.19699 0.05416 -0.19722 C 0.06163 -0.19745 0.06927 -0.19305 0.07638 -0.19074 C 0.0835 -0.18842 0.08715 -0.18958 0.09722 -0.18333 C 0.10729 -0.17708 0.12656 -0.16643 0.1368 -0.1537 C 0.14704 -0.14097 0.15468 -0.11875 0.15902 -0.1074 C 0.16336 -0.09606 0.16215 -0.09328 0.16319 -0.08518 C 0.16423 -0.07708 0.16475 -0.06574 0.16527 -0.05833 C 0.16579 -0.05092 0.16614 -0.04583 0.16666 -0.04074 E">
                                      <p:cBhvr>
                                        <p:cTn id="184" dur="3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45 -0.07847 0.02291 -0.15694 0.03194 -0.18981 C 0.04097 -0.22268 0.0467 -0.19699 0.05416 -0.19722 C 0.06163 -0.19745 0.06927 -0.19305 0.07638 -0.19074 C 0.0835 -0.18842 0.08715 -0.18958 0.09722 -0.18333 C 0.10729 -0.17708 0.12656 -0.16643 0.1368 -0.1537 C 0.14704 -0.14097 0.15468 -0.11875 0.15902 -0.1074 C 0.16336 -0.09606 0.16215 -0.09328 0.16319 -0.08518 C 0.16423 -0.07708 0.16475 -0.06574 0.16527 -0.05833 C 0.16579 -0.05092 0.16614 -0.04583 0.16666 -0.04074 E">
                                      <p:cBhvr>
                                        <p:cTn id="186" dur="3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-0.0206 0.00087 -0.04097 0.00417 -0.05463 C 0.00747 -0.06829 0.01545 -0.07709 0.01945 -0.08241 C 0.02344 -0.08773 0.02483 -0.08519 0.02847 -0.08611 C 0.03212 -0.08704 0.03681 -0.08866 0.04097 -0.08796 C 0.04514 -0.08727 0.05 -0.0831 0.05347 -0.08148 C 0.05695 -0.07986 0.05747 -0.08148 0.06181 -0.07778 C 0.06615 -0.07408 0.075 -0.06574 0.07917 -0.05926 C 0.08333 -0.05278 0.08455 -0.04491 0.08681 -0.03889 C 0.08906 -0.03287 0.08941 -0.03148 0.09236 -0.02315 C 0.09531 -0.01482 0.10174 0.00139 0.10486 0.01111 C 0.10799 0.02083 0.10955 0.02801 0.11111 0.03518 E">
                                      <p:cBhvr>
                                        <p:cTn id="188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-0.0206 0.00087 -0.04097 0.00417 -0.05463 C 0.00747 -0.06829 0.01545 -0.07709 0.01945 -0.08241 C 0.02344 -0.08773 0.02483 -0.08519 0.02847 -0.08611 C 0.03212 -0.08704 0.03681 -0.08866 0.04097 -0.08796 C 0.04514 -0.08727 0.05 -0.0831 0.05347 -0.08148 C 0.05695 -0.07986 0.05747 -0.08148 0.06181 -0.07778 C 0.06615 -0.07408 0.075 -0.06574 0.07917 -0.05926 C 0.08333 -0.05278 0.08455 -0.04491 0.08681 -0.03889 C 0.08906 -0.03287 0.08941 -0.03148 0.09236 -0.02315 C 0.09531 -0.01482 0.10174 0.00139 0.10486 0.01111 C 0.10799 0.02083 0.10955 0.02801 0.11111 0.03518 E">
                                      <p:cBhvr>
                                        <p:cTn id="190" dur="3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-0.0206 0.00087 -0.04097 0.00417 -0.05463 C 0.00747 -0.06829 0.01545 -0.07709 0.01945 -0.08241 C 0.02344 -0.08773 0.02483 -0.08519 0.02847 -0.08611 C 0.03212 -0.08704 0.03681 -0.08866 0.04097 -0.08796 C 0.04514 -0.08727 0.05 -0.0831 0.05347 -0.08148 C 0.05695 -0.07986 0.05747 -0.08148 0.06181 -0.07778 C 0.06615 -0.07408 0.075 -0.06574 0.07917 -0.05926 C 0.08333 -0.05278 0.08455 -0.04491 0.08681 -0.03889 C 0.08906 -0.03287 0.08941 -0.03148 0.09236 -0.02315 C 0.09531 -0.01482 0.10174 0.00139 0.10486 0.01111 C 0.10799 0.02083 0.10955 0.02801 0.11111 0.03518 E">
                                      <p:cBhvr>
                                        <p:cTn id="192" dur="3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43 -0.05694 0.00486 -0.11366 0.00347 -0.14352 C 0.00208 -0.17338 -0.00156 -0.17014 -0.00833 -0.1787 C -0.0151 -0.18727 -0.0283 -0.1919 -0.0375 -0.19444 C -0.0467 -0.19699 -0.0533 -0.19792 -0.06319 -0.19352 C -0.07309 -0.18912 -0.08733 -0.17847 -0.09653 -0.16759 C -0.10573 -0.15671 -0.11163 -0.14259 -0.11806 -0.12778 C -0.12448 -0.11296 -0.13142 -0.09097 -0.13542 -0.0787 C -0.13941 -0.06643 -0.14062 -0.06273 -0.14236 -0.0537 C -0.1441 -0.04467 -0.14497 -0.03449 -0.14583 -0.02407 E">
                                      <p:cBhvr>
                                        <p:cTn id="194" dur="3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43 -0.05694 0.00486 -0.11366 0.00347 -0.14352 C 0.00208 -0.17338 -0.00156 -0.17014 -0.00833 -0.1787 C -0.0151 -0.18727 -0.0283 -0.1919 -0.0375 -0.19444 C -0.0467 -0.19699 -0.0533 -0.19792 -0.06319 -0.19352 C -0.07309 -0.18912 -0.08733 -0.17847 -0.09653 -0.16759 C -0.10573 -0.15671 -0.11163 -0.14259 -0.11806 -0.12778 C -0.12448 -0.11296 -0.13142 -0.09097 -0.13542 -0.0787 C -0.13941 -0.06643 -0.14062 -0.06273 -0.14236 -0.0537 C -0.1441 -0.04467 -0.14497 -0.03449 -0.14583 -0.02407 E">
                                      <p:cBhvr>
                                        <p:cTn id="196" dur="3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43 -0.05694 0.00486 -0.11366 0.00347 -0.14352 C 0.00208 -0.17338 -0.00156 -0.17014 -0.00833 -0.1787 C -0.0151 -0.18727 -0.0283 -0.1919 -0.0375 -0.19444 C -0.0467 -0.19699 -0.0533 -0.19792 -0.06319 -0.19352 C -0.07309 -0.18912 -0.08733 -0.17847 -0.09653 -0.16759 C -0.10573 -0.15671 -0.11163 -0.14259 -0.11806 -0.12778 C -0.12448 -0.11296 -0.13142 -0.09097 -0.13542 -0.0787 C -0.13941 -0.06643 -0.14062 -0.06273 -0.14236 -0.0537 C -0.1441 -0.04467 -0.14497 -0.03449 -0.14583 -0.02407 E">
                                      <p:cBhvr>
                                        <p:cTn id="198" dur="3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64 -0.00926 -0.00711 -0.01829 -0.01388 -0.03148 C -0.02066 -0.04468 -0.0335 -0.06921 -0.04027 -0.07963 C -0.04704 -0.09005 -0.04826 -0.09097 -0.05416 -0.09444 C -0.06006 -0.09792 -0.06909 -0.10162 -0.07569 -0.10093 C -0.08229 -0.10023 -0.09045 -0.09329 -0.09375 -0.08981 C -0.09704 -0.08634 -0.09461 -0.08634 -0.09513 -0.08055 C -0.09566 -0.07477 -0.09704 -0.06505 -0.09722 -0.05555 C -0.09739 -0.04606 -0.09687 -0.03079 -0.09652 -0.02315 C -0.09618 -0.01551 -0.09461 -0.01944 -0.09513 -0.00926 C -0.09566 0.00093 -0.09861 0.02986 -0.0993 0.03796 E">
                                      <p:cBhvr>
                                        <p:cTn id="200" dur="3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64 -0.00926 -0.00711 -0.01829 -0.01388 -0.03148 C -0.02066 -0.04468 -0.0335 -0.06921 -0.04027 -0.07963 C -0.04704 -0.09005 -0.04826 -0.09097 -0.05416 -0.09444 C -0.06006 -0.09792 -0.06909 -0.10162 -0.07569 -0.10093 C -0.08229 -0.10023 -0.09045 -0.09329 -0.09375 -0.08981 C -0.09704 -0.08634 -0.09461 -0.08634 -0.09513 -0.08055 C -0.09566 -0.07477 -0.09704 -0.06505 -0.09722 -0.05555 C -0.09739 -0.04606 -0.09687 -0.03079 -0.09652 -0.02315 C -0.09618 -0.01551 -0.09461 -0.01944 -0.09513 -0.00926 C -0.09566 0.00093 -0.09861 0.02986 -0.0993 0.03796 E">
                                      <p:cBhvr>
                                        <p:cTn id="202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64 -0.00926 -0.00711 -0.01829 -0.01388 -0.03148 C -0.02066 -0.04468 -0.0335 -0.06921 -0.04027 -0.07963 C -0.04704 -0.09005 -0.04826 -0.09097 -0.05416 -0.09444 C -0.06006 -0.09792 -0.06909 -0.10162 -0.07569 -0.10093 C -0.08229 -0.10023 -0.09045 -0.09329 -0.09375 -0.08981 C -0.09704 -0.08634 -0.09461 -0.08634 -0.09513 -0.08055 C -0.09566 -0.07477 -0.09704 -0.06505 -0.09722 -0.05555 C -0.09739 -0.04606 -0.09687 -0.03079 -0.09652 -0.02315 C -0.09618 -0.01551 -0.09461 -0.01944 -0.09513 -0.00926 C -0.09566 0.00093 -0.09861 0.02986 -0.0993 0.03796 E">
                                      <p:cBhvr>
                                        <p:cTn id="204" dur="3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3 -0.01898 0.00677 -0.03796 0.01459 -0.04815 C 0.0224 -0.05833 0.04028 -0.06227 0.04653 -0.06111 C 0.05278 -0.05996 0.05105 -0.05023 0.05209 -0.04167 C 0.05313 -0.0331 0.05226 -0.01968 0.05278 -0.00926 C 0.0533 0.00116 0.05434 0.01111 0.05556 0.02129 E">
                                      <p:cBhvr>
                                        <p:cTn id="206" dur="3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3 -0.01898 0.00677 -0.03796 0.01459 -0.04815 C 0.0224 -0.05833 0.04028 -0.06227 0.04653 -0.06111 C 0.05278 -0.05996 0.05105 -0.05023 0.05209 -0.04167 C 0.05313 -0.0331 0.05226 -0.01968 0.05278 -0.00926 C 0.0533 0.00116 0.05434 0.01111 0.05556 0.02129 E">
                                      <p:cBhvr>
                                        <p:cTn id="208" dur="3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3 -0.01898 0.00677 -0.03796 0.01459 -0.04815 C 0.0224 -0.05833 0.04028 -0.06227 0.04653 -0.06111 C 0.05278 -0.05996 0.05105 -0.05023 0.05209 -0.04167 C 0.05313 -0.0331 0.05226 -0.01968 0.05278 -0.00926 C 0.0533 0.00116 0.05434 0.01111 0.05556 0.02129 E">
                                      <p:cBhvr>
                                        <p:cTn id="210" dur="3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29 -0.03657 -0.01458 -0.07291 -0.02222 -0.09537 C -0.02986 -0.11782 -0.03923 -0.13264 -0.04583 -0.13426 C -0.05243 -0.13588 -0.05902 -0.11805 -0.0618 -0.10463 C -0.06458 -0.0912 -0.06232 -0.0706 -0.0625 -0.05277 C -0.06267 -0.03495 -0.06302 -0.01157 -0.0625 0.00278 C -0.06198 0.01713 -0.06059 0.02524 -0.05902 0.03334 E">
                                      <p:cBhvr>
                                        <p:cTn id="212" dur="3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29 -0.03657 -0.01458 -0.07291 -0.02222 -0.09537 C -0.02986 -0.11782 -0.03923 -0.13264 -0.04583 -0.13426 C -0.05243 -0.13588 -0.05902 -0.11805 -0.0618 -0.10463 C -0.06458 -0.0912 -0.06232 -0.0706 -0.0625 -0.05277 C -0.06267 -0.03495 -0.06302 -0.01157 -0.0625 0.00278 C -0.06198 0.01713 -0.06059 0.02524 -0.05902 0.03334 E">
                                      <p:cBhvr>
                                        <p:cTn id="214" dur="3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3 -0.01898 0.00677 -0.03796 0.01459 -0.04815 C 0.0224 -0.05833 0.04028 -0.06227 0.04653 -0.06111 C 0.05278 -0.05996 0.05105 -0.05023 0.05209 -0.04167 C 0.05313 -0.0331 0.05226 -0.01968 0.05278 -0.00926 C 0.0533 0.00116 0.05434 0.01111 0.05556 0.02129 E">
                                      <p:cBhvr>
                                        <p:cTn id="216" dur="3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-0.0206 0.00087 -0.04097 0.00417 -0.05463 C 0.00747 -0.06829 0.01545 -0.07709 0.01945 -0.08241 C 0.02344 -0.08773 0.02483 -0.08519 0.02847 -0.08611 C 0.03212 -0.08704 0.03681 -0.08866 0.04097 -0.08796 C 0.04514 -0.08727 0.05 -0.0831 0.05347 -0.08148 C 0.05695 -0.07986 0.05747 -0.08148 0.06181 -0.07778 C 0.06615 -0.07408 0.075 -0.06574 0.07917 -0.05926 C 0.08333 -0.05278 0.08455 -0.04491 0.08681 -0.03889 C 0.08906 -0.03287 0.08941 -0.03148 0.09236 -0.02315 C 0.09531 -0.01482 0.10174 0.00139 0.10486 0.01111 C 0.10799 0.02083 0.10955 0.02801 0.11111 0.03518 E">
                                      <p:cBhvr>
                                        <p:cTn id="218" dur="3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14-2"/>
          <p:cNvPicPr/>
          <p:nvPr/>
        </p:nvPicPr>
        <p:blipFill>
          <a:blip r:embed="rId1"/>
          <a:stretch/>
        </p:blipFill>
        <p:spPr>
          <a:xfrm>
            <a:off x="108000" y="2349360"/>
            <a:ext cx="4583160" cy="4527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14-2"/>
          <p:cNvPicPr/>
          <p:nvPr/>
        </p:nvPicPr>
        <p:blipFill>
          <a:blip r:embed="rId2"/>
          <a:stretch/>
        </p:blipFill>
        <p:spPr>
          <a:xfrm>
            <a:off x="4556160" y="2340000"/>
            <a:ext cx="4587840" cy="451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3608280" y="90792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异花传粉：</a:t>
            </a:r>
            <a:r>
              <a:rPr b="1" lang="zh-CN" sz="2800" spc="-1" strike="noStrike">
                <a:solidFill>
                  <a:srgbClr val="000048"/>
                </a:solidFill>
                <a:latin typeface="Arial"/>
                <a:ea typeface="黑体"/>
              </a:rPr>
              <a:t>一朵花的雄蕊花药中花粉传给另一朵花的雌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1058760" y="287640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154160" y="294624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952560" y="281304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031760" y="281772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9"/>
          <p:cNvSpPr/>
          <p:nvPr/>
        </p:nvSpPr>
        <p:spPr>
          <a:xfrm>
            <a:off x="2832120" y="266868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2773440" y="257508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2787480" y="277668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2"/>
          <p:cNvSpPr/>
          <p:nvPr/>
        </p:nvSpPr>
        <p:spPr>
          <a:xfrm>
            <a:off x="2716200" y="270036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2668680" y="2811600"/>
            <a:ext cx="11880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4"/>
          <p:cNvSpPr/>
          <p:nvPr/>
        </p:nvSpPr>
        <p:spPr>
          <a:xfrm>
            <a:off x="2871720" y="256716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5"/>
          <p:cNvSpPr/>
          <p:nvPr/>
        </p:nvSpPr>
        <p:spPr>
          <a:xfrm>
            <a:off x="1569960" y="256068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6"/>
          <p:cNvSpPr/>
          <p:nvPr/>
        </p:nvSpPr>
        <p:spPr>
          <a:xfrm>
            <a:off x="1469880" y="251136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1509840" y="2411280"/>
            <a:ext cx="11880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8"/>
          <p:cNvSpPr/>
          <p:nvPr/>
        </p:nvSpPr>
        <p:spPr>
          <a:xfrm>
            <a:off x="1652760" y="2585880"/>
            <a:ext cx="11880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9"/>
          <p:cNvSpPr/>
          <p:nvPr/>
        </p:nvSpPr>
        <p:spPr>
          <a:xfrm>
            <a:off x="1406520" y="242424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0"/>
          <p:cNvSpPr/>
          <p:nvPr/>
        </p:nvSpPr>
        <p:spPr>
          <a:xfrm>
            <a:off x="3106800" y="271152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1"/>
          <p:cNvSpPr/>
          <p:nvPr/>
        </p:nvSpPr>
        <p:spPr>
          <a:xfrm>
            <a:off x="3092400" y="262080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2"/>
          <p:cNvSpPr/>
          <p:nvPr/>
        </p:nvSpPr>
        <p:spPr>
          <a:xfrm>
            <a:off x="3178080" y="266076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3"/>
          <p:cNvSpPr/>
          <p:nvPr/>
        </p:nvSpPr>
        <p:spPr>
          <a:xfrm>
            <a:off x="3146400" y="278460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4"/>
          <p:cNvSpPr/>
          <p:nvPr/>
        </p:nvSpPr>
        <p:spPr>
          <a:xfrm>
            <a:off x="3111480" y="250020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5"/>
          <p:cNvSpPr/>
          <p:nvPr/>
        </p:nvSpPr>
        <p:spPr>
          <a:xfrm>
            <a:off x="3191040" y="2563920"/>
            <a:ext cx="11880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6"/>
          <p:cNvSpPr/>
          <p:nvPr/>
        </p:nvSpPr>
        <p:spPr>
          <a:xfrm>
            <a:off x="1996920" y="275436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7"/>
          <p:cNvSpPr/>
          <p:nvPr/>
        </p:nvSpPr>
        <p:spPr>
          <a:xfrm>
            <a:off x="1941480" y="267192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8"/>
          <p:cNvSpPr/>
          <p:nvPr/>
        </p:nvSpPr>
        <p:spPr>
          <a:xfrm>
            <a:off x="1866960" y="252108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9"/>
          <p:cNvSpPr/>
          <p:nvPr/>
        </p:nvSpPr>
        <p:spPr>
          <a:xfrm>
            <a:off x="2006640" y="267480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0"/>
          <p:cNvSpPr/>
          <p:nvPr/>
        </p:nvSpPr>
        <p:spPr>
          <a:xfrm>
            <a:off x="1936800" y="256392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1"/>
          <p:cNvSpPr/>
          <p:nvPr/>
        </p:nvSpPr>
        <p:spPr>
          <a:xfrm>
            <a:off x="3476520" y="284796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2"/>
          <p:cNvSpPr/>
          <p:nvPr/>
        </p:nvSpPr>
        <p:spPr>
          <a:xfrm>
            <a:off x="3457440" y="296532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3"/>
          <p:cNvSpPr/>
          <p:nvPr/>
        </p:nvSpPr>
        <p:spPr>
          <a:xfrm>
            <a:off x="3492360" y="308124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4"/>
          <p:cNvSpPr/>
          <p:nvPr/>
        </p:nvSpPr>
        <p:spPr>
          <a:xfrm>
            <a:off x="3537000" y="2925720"/>
            <a:ext cx="119160" cy="103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5"/>
          <p:cNvSpPr/>
          <p:nvPr/>
        </p:nvSpPr>
        <p:spPr>
          <a:xfrm>
            <a:off x="3556080" y="303228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6"/>
          <p:cNvSpPr/>
          <p:nvPr/>
        </p:nvSpPr>
        <p:spPr>
          <a:xfrm>
            <a:off x="1073160" y="2897280"/>
            <a:ext cx="119160" cy="10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47062E-007 L 0.17031 -0.17978 C 0.2059 -0.2205 0.26094 -0.24503 0.31875 -0.24896 C 0.38472 -0.25359 0.43889 -0.23646 0.47743 -0.20014 L 0.66129 -0.04512 E">
                                      <p:cBhvr>
                                        <p:cTn id="224" dur="3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19343E-006 L 0.1658 -0.17954 C 0.20053 -0.22003 0.254 -0.24479 0.31042 -0.24849 C 0.37483 -0.25289 0.42744 -0.23577 0.46511 -0.19944 L 0.6448 -0.04419 E">
                                      <p:cBhvr>
                                        <p:cTn id="226" dur="3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55021E-006 L 0.15504 -0.17631 C 0.1875 -0.21564 0.23802 -0.23994 0.29149 -0.24549 C 0.35347 -0.25197 0.4033 -0.23809 0.44028 -0.20639 L 0.61545 -0.06455 E">
                                      <p:cBhvr>
                                        <p:cTn id="228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6.84868E-007 L 0.16007 -0.12864 C 0.19358 -0.15757 0.24375 -0.1733 0.29601 -0.1733 C 0.35573 -0.1733 0.40348 -0.15757 0.43698 -0.12864 L 0.59723 -6.84868E-007 E">
                                      <p:cBhvr>
                                        <p:cTn id="230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10042E-007 L 0.1559 -0.1261 C 0.18871 -0.15433 0.2375 -0.16983 0.28854 -0.16983 C 0.3467 -0.16983 0.39305 -0.15433 0.42587 -0.1261 L 0.58194 3.10042E-007 E">
                                      <p:cBhvr>
                                        <p:cTn id="232" dur="3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092 L 0.15469 -0.12911 C 0.18716 -0.15757 0.2356 -0.17307 0.28612 -0.17307 C 0.34393 -0.17307 0.38994 -0.15757 0.4224 -0.12911 L 0.57726 -0.00092 E">
                                      <p:cBhvr>
                                        <p:cTn id="234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9454E-007 C 0.00347 -0.0118 0.01806 -0.01966 0.02569 -0.0266 C 0.03594 -0.03609 0.03455 -0.03517 0.04323 -0.04673 C 0.04983 -0.05553 0.06059 -0.06062 0.06875 -0.06594 C 0.07031 -0.06686 0.07135 -0.06918 0.07274 -0.07033 C 0.07396 -0.07126 0.07535 -0.07172 0.07674 -0.07242 C 0.08576 -0.08699 0.09705 -0.10412 0.11129 -0.10874 C 0.11615 -0.11383 0.13038 -0.12077 0.13681 -0.12263 C 0.15156 -0.13697 0.16806 -0.14576 0.18646 -0.14808 C 0.19965 -0.15247 0.21319 -0.15409 0.22639 -0.15779 C 0.23247 -0.15965 0.23767 -0.16288 0.24392 -0.16404 C 0.24931 -0.16913 0.25608 -0.17121 0.26233 -0.17376 C 0.27274 -0.17214 0.28333 -0.17168 0.29358 -0.16936 C 0.30469 -0.16682 0.31458 -0.15872 0.32483 -0.1534 C 0.33733 -0.14692 0.35556 -0.14785 0.36806 -0.14715 C 0.38247 -0.14299 0.3967 -0.13581 0.41129 -0.13211 C 0.41476 -0.13119 0.41806 -0.12818 0.42153 -0.12795 C 0.42882 -0.12725 0.43594 -0.12725 0.44323 -0.12679 C 0.44983 -0.12517 0.45469 -0.12471 0.4599 -0.11939 C 0.46337 -0.11615 0.46597 -0.11152 0.46944 -0.10967 C 0.47431 -0.10712 0.47865 -0.10365 0.48316 -0.10111 C 0.48715 -0.09879 0.49236 -0.09833 0.49601 -0.09486 C 0.50226 -0.08884 0.5099 -0.0826 0.51736 -0.07982 C 0.52066 -0.07704 0.52344 -0.07566 0.52726 -0.0745 C 0.5309 -0.07149 0.53524 -0.06918 0.53837 -0.06501 C 0.54271 -0.059 0.54254 -0.05437 0.54879 -0.05113 C 0.55382 -0.04072 0.54653 -0.05483 0.55278 -0.04581 C 0.55504 -0.04257 0.5592 -0.03517 0.5592 -0.03517 C 0.56024 -0.031 0.56076 -0.02892 0.56406 -0.02776 C 0.56788 -0.02198 0.56233 -0.03008 0.56962 -0.02128 C 0.57135 -0.0192 0.57448 -0.0148 0.57448 -0.0148 C 0.57517 -0.00995 0.57587 -0.00809 0.5776 -0.00416 E">
                                      <p:cBhvr>
                                        <p:cTn id="236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87691E-006 C 0.00399 -0.0051 0.00764 -0.01042 0.01198 -0.01482 C 0.01493 -0.02222 0.01597 -0.03078 0.01996 -0.03726 C 0.02396 -0.04374 0.0342 -0.04628 0.0401 -0.0479 C 0.04253 -0.05045 0.04462 -0.05322 0.04722 -0.05531 C 0.04844 -0.05623 0.05 -0.05623 0.05121 -0.05739 C 0.05642 -0.06202 0.06111 -0.06919 0.06649 -0.07358 C 0.06771 -0.07451 0.06927 -0.07474 0.07048 -0.07567 C 0.07587 -0.08006 0.08142 -0.08423 0.08646 -0.08955 C 0.09114 -0.09441 0.09462 -0.09973 0.0993 -0.10436 C 0.10451 -0.11593 0.11076 -0.11963 0.11996 -0.12564 C 0.17031 -0.1585 0.19618 -0.15549 0.25521 -0.15665 C 0.2717 -0.15595 0.28767 -0.1548 0.30399 -0.15248 C 0.31684 -0.14624 0.33125 -0.14439 0.34479 -0.14277 C 0.35226 -0.1393 0.34358 -0.143 0.36163 -0.14068 C 0.36458 -0.14022 0.37048 -0.1386 0.37048 -0.1386 C 0.37691 -0.13536 0.38368 -0.13259 0.38958 -0.12796 C 0.39305 -0.12518 0.39687 -0.12102 0.40087 -0.1194 C 0.41059 -0.1106 0.42344 -0.10852 0.43524 -0.10644 C 0.45052 -0.09695 0.46545 -0.08747 0.48246 -0.08423 C 0.48958 -0.08076 0.49809 -0.08168 0.50573 -0.07983 C 0.50712 -0.07844 0.50816 -0.07682 0.50972 -0.07567 C 0.51111 -0.07451 0.51302 -0.07474 0.51441 -0.07358 C 0.52309 -0.06618 0.5309 -0.05276 0.53923 -0.04466 C 0.54531 -0.03888 0.54219 -0.03194 0.54965 -0.02754 C 0.55278 -0.02222 0.55746 -0.01713 0.56007 -0.01158 C 0.56111 -0.00672 0.56094 -0.0088 0.56094 -0.00533 E">
                                      <p:cBhvr>
                                        <p:cTn id="238" dur="3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86673E-006 C 0.00347 -0.01157 0.01041 -0.01875 0.01927 -0.02337 C 0.02586 -0.03494 0.03802 -0.05993 0.04878 -0.06294 C 0.0552 -0.06849 0.06562 -0.07428 0.07291 -0.07566 C 0.08854 -0.08816 0.10711 -0.0988 0.12482 -0.10343 C 0.13281 -0.10875 0.13993 -0.10968 0.14809 -0.11407 C 0.16111 -0.12101 0.17343 -0.13073 0.18715 -0.13536 C 0.1967 -0.14276 0.20902 -0.14461 0.21996 -0.146 C 0.24166 -0.14554 0.26371 -0.15017 0.28489 -0.14392 C 0.29322 -0.14137 0.30156 -0.13582 0.31041 -0.13443 C 0.32031 -0.12495 0.33038 -0.1231 0.34236 -0.12055 C 0.36319 -0.11639 0.38385 -0.11245 0.40486 -0.11083 C 0.41145 -0.10898 0.40416 -0.11083 0.41441 -0.10875 C 0.41736 -0.10806 0.42326 -0.10667 0.42326 -0.10667 C 0.43854 -0.09926 0.43211 -0.10088 0.44236 -0.09926 C 0.44913 -0.09603 0.45677 -0.09603 0.46319 -0.09163 C 0.47656 -0.08261 0.48437 -0.07243 0.4993 -0.0671 C 0.50555 -0.06132 0.51267 -0.05484 0.51996 -0.05114 C 0.52569 -0.04489 0.53055 -0.03841 0.5368 -0.03309 C 0.53854 -0.03008 0.54409 -0.02522 0.54409 -0.02129 E">
                                      <p:cBhvr>
                                        <p:cTn id="240" dur="3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0046 C 0.00052 -0.0118 0.00382 -0.01226 0.01111 -0.01851 C 0.02152 -0.02754 0.02673 -0.03517 0.03923 -0.03887 C 0.04618 -0.04813 0.05451 -0.05553 0.06319 -0.06224 C 0.06875 -0.06664 0.07187 -0.07543 0.0783 -0.07844 C 0.09583 -0.08654 0.11111 -0.08977 0.12951 -0.09116 C 0.14149 -0.09394 0.15034 -0.09741 0.16232 -0.10181 C 0.17152 -0.10528 0.18159 -0.10343 0.19114 -0.10389 C 0.24132 -0.10343 0.28819 -0.10273 0.3375 -0.09972 C 0.34722 -0.09787 0.34791 -0.09764 0.36076 -0.09648 C 0.37361 -0.09533 0.39913 -0.09325 0.39913 -0.09325 C 0.41562 -0.08977 0.43211 -0.08839 0.44878 -0.08584 C 0.45503 -0.08353 0.46145 -0.08191 0.46805 -0.08052 C 0.47482 -0.07705 0.48159 -0.07335 0.48871 -0.0708 C 0.49461 -0.06571 0.50104 -0.06294 0.50798 -0.06132 C 0.51145 -0.0597 0.51128 -0.05715 0.5151 -0.05599 C 0.51545 -0.05461 0.5151 -0.05275 0.51597 -0.0516 C 0.51718 -0.04998 0.51927 -0.04975 0.52083 -0.04836 C 0.5243 -0.04535 0.52777 -0.04165 0.53194 -0.04003 C 0.53316 -0.03887 0.53541 -0.03471 0.5368 -0.03471 E">
                                      <p:cBhvr>
                                        <p:cTn id="242" dur="3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50764E-006 C 0.00139 -0.028 0.00208 -0.03609 0.01198 -0.05877 C 0.01285 -0.06062 0.01632 -0.07497 0.0184 -0.0789 C 0.02569 -0.09209 0.03507 -0.10157 0.04236 -0.11522 C 0.04965 -0.12864 0.0467 -0.13258 0.05677 -0.13975 C 0.0592 -0.14137 0.06215 -0.1416 0.06476 -0.14299 C 0.07205 -0.14715 0.07483 -0.15155 0.08247 -0.15456 C 0.09948 -0.1615 0.09913 -0.16081 0.11354 -0.16219 C 0.1434 -0.15919 0.16997 -0.15595 0.19913 -0.15363 C 0.2151 -0.13859 0.1967 -0.15502 0.25035 -0.14831 C 0.26146 -0.14692 0.27066 -0.14091 0.2816 -0.13975 C 0.2974 -0.13605 0.31302 -0.13281 0.32882 -0.12911 C 0.33819 -0.12448 0.34288 -0.12448 0.35365 -0.12379 C 0.38368 -0.11314 0.40972 -0.09371 0.43837 -0.07797 C 0.44427 -0.07473 0.45087 -0.07358 0.45677 -0.06941 C 0.46128 -0.06617 0.4658 -0.06293 0.47031 -0.05969 C 0.47222 -0.05831 0.47674 -0.05553 0.47674 -0.05553 C 0.48212 -0.04836 0.48663 -0.04234 0.49444 -0.04049 C 0.49948 -0.03725 0.50503 -0.03494 0.51042 -0.03309 C 0.51528 -0.028 0.52066 -0.02429 0.52552 -0.0192 C 0.52812 -0.01643 0.53125 -0.01273 0.53437 -0.01064 C 0.53628 -0.00925 0.53872 -0.00925 0.5408 -0.00856 C 0.54219 -0.00717 0.5434 -0.00555 0.54479 -0.0044 C 0.54549 -0.0037 0.54653 -0.00393 0.54722 -0.00324 C 0.54809 -0.00231 0.54965 3.50764E-006 0.54965 3.50764E-006 E">
                                      <p:cBhvr>
                                        <p:cTn id="244" dur="3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0.00093 C -0.00399 -0.00671 -0.00469 -0.01781 -0.0059 -0.02684 C -0.00555 -0.03933 -0.00694 -0.05183 -0.00503 -0.06409 C -0.00399 -0.07103 0.00035 -0.07612 0.00295 -0.08214 C 0.01129 -0.10134 0.03455 -0.12494 0.04775 -0.13651 C 0.05556 -0.14345 0.0625 -0.14808 0.0717 -0.15039 C 0.08125 -0.15271 0.10052 -0.15687 0.10052 -0.15687 C 0.12379 -0.15571 0.14775 -0.16034 0.17014 -0.15247 C 0.19271 -0.14461 0.21163 -0.11638 0.23577 -0.11522 C 0.24966 -0.11453 0.26337 -0.11453 0.27726 -0.11407 C 0.33577 -0.10227 0.38837 -0.06687 0.44618 -0.05345 C 0.45625 -0.04674 0.45643 -0.04072 0.46372 -0.031 E">
                                      <p:cBhvr>
                                        <p:cTn id="246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3.19759E-006 C 0.00122 -0.01203 0.00087 -0.02499 0.00643 -0.03517 C 0.00799 -0.04118 0.00869 -0.04835 0.01199 -0.05321 C 0.01858 -0.06293 0.02622 -0.06756 0.03369 -0.07566 C 0.04792 -0.09093 0.06146 -0.10666 0.07917 -0.11499 C 0.08733 -0.12378 0.0948 -0.1254 0.10487 -0.12887 C 0.13195 -0.13836 0.15938 -0.14553 0.18716 -0.15016 C 0.21615 -0.14877 0.24462 -0.14461 0.27362 -0.14275 C 0.28907 -0.13628 0.30643 -0.13373 0.32084 -0.12355 C 0.33508 -0.11337 0.34705 -0.09741 0.36077 -0.0863 C 0.36407 -0.07913 0.37015 -0.07658 0.37518 -0.07126 C 0.39532 -0.04951 0.40712 -0.0266 0.43369 -0.0192 C 0.44133 -0.01064 0.45678 0.00764 0.4665 0.00764 E">
                                      <p:cBhvr>
                                        <p:cTn id="248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98473E-006 C 0.00711 -0.02777 0.00225 -0.01342 0.01527 -0.0428 C 0.01875 -0.0509 0.02569 -0.0553 0.02968 -0.06293 C 0.03697 -0.07635 0.0401 -0.09648 0.05208 -0.10458 C 0.06961 -0.11638 0.08177 -0.13512 0.09756 -0.15039 C 0.10138 -0.1541 0.11684 -0.16312 0.1217 -0.16543 C 0.13784 -0.17307 0.16197 -0.17261 0.17691 -0.17376 C 0.18194 -0.17423 0.19201 -0.17492 0.19201 -0.17492 C 0.24548 -0.17214 0.23506 -0.17585 0.26076 -0.1696 C 0.26284 -0.16844 0.26493 -0.16728 0.26718 -0.16636 C 0.26979 -0.16543 0.27256 -0.16543 0.27517 -0.16428 C 0.2993 -0.1534 0.26493 -0.1652 0.28802 -0.1578 C 0.29357 -0.15271 0.29982 -0.146 0.30555 -0.14091 C 0.31388 -0.13374 0.32743 -0.12703 0.33611 -0.1217 C 0.34635 -0.11523 0.3434 -0.10782 0.35607 -0.1025 C 0.36197 -0.09695 0.36736 -0.09556 0.37361 -0.0907 C 0.3802 -0.08538 0.38385 -0.07635 0.39131 -0.07265 C 0.39375 -0.07011 0.39548 -0.06849 0.39843 -0.06733 C 0.40208 -0.06386 0.40694 -0.05946 0.40885 -0.05437 C 0.41024 -0.05067 0.41267 -0.04396 0.41441 -0.04165 C 0.42135 -0.03239 0.41701 -0.03748 0.42569 -0.02892 C 0.42881 -0.02591 0.43107 -0.02175 0.43368 -0.01828 C 0.43506 -0.01643 0.4368 -0.0118 0.4368 -0.0118 E">
                                      <p:cBhvr>
                                        <p:cTn id="250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2.51273E-006 C -0.00278 -0.00416 -0.00383 -0.00879 -0.00487 -0.01388 C -0.00348 -0.03864 -0.000699999999999999 -0.04188 0.0111 -0.06085 C 0.01735 -0.07103 0.01892 -0.08005 0.02881 -0.08422 C 0.04513 -0.09139 0.06006 -0.09764 0.07673 -0.1025 C 0.09687 -0.10828 0.11614 -0.11731 0.1368 -0.11939 C 0.14548 -0.12193 0.14357 -0.1217 0.15208 -0.12263 C 0.16371 -0.12378 0.18715 -0.12587 0.18715 -0.12587 C 0.20815 -0.13003 0.22777 -0.12864 0.24878 -0.12587 C 0.26041 -0.11823 0.24548 -0.12749 0.26162 -0.12054 C 0.26492 -0.11916 0.26787 -0.11684 0.27117 -0.11522 C 0.27638 -0.11268 0.28176 -0.11083 0.28715 -0.10874 C 0.29357 -0.1062 0.30051 -0.10574 0.30711 -0.10342 C 0.31683 -0.09995 0.32274 -0.09694 0.33194 -0.09509 C 0.33906 -0.08931 0.34722 -0.08908 0.3552 -0.08746 C 0.35919 -0.08584 0.3618 -0.0826 0.36562 -0.08121 C 0.37048 -0.07404 0.38211 -0.0782 0.39044 -0.07358 C 0.39895 -0.06872 0.40277 -0.05483 0.4111 -0.05136 C 0.4144 -0.04836 0.4184 -0.04488 0.42083 -0.04049 C 0.42534 -0.03216 0.42395 -0.03077 0.43124 -0.02684 E">
                                      <p:cBhvr>
                                        <p:cTn id="252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1.23091E-006 C 0.00209 -0.00764 0.00747 -0.01411 0.01042 -0.02129 C 0.01181 -0.02453 0.01772 -0.0479 0.02483 -0.05553 C 0.03386 -0.06525 0.04515 -0.07034 0.05365 -0.08098 C 0.05799 -0.0863 0.06094 -0.0951 0.06633 -0.09926 C 0.08369 -0.11268 0.10365 -0.11985 0.12153 -0.13212 C 0.13004 -0.1379 0.13924 -0.14368 0.14723 -0.15039 C 0.15522 -0.1571 0.15626 -0.16219 0.16806 -0.16428 C 0.18212 -0.16659 0.1948 -0.1696 0.20886 -0.17052 C 0.23733 -0.17006 0.25087 -0.17076 0.27431 -0.16636 C 0.28074 -0.16381 0.28733 -0.16219 0.29358 -0.15896 C 0.30157 -0.15456 0.30938 -0.14947 0.31754 -0.146 C 0.32084 -0.14461 0.32796 -0.14392 0.32796 -0.14392 C 0.3356 -0.13998 0.34219 -0.13559 0.35035 -0.13443 C 0.36112 -0.12911 0.37553 -0.12541 0.38456 -0.11523 C 0.3889 -0.1106 0.39063 -0.10343 0.39428 -0.0981 C 0.39792 -0.09324 0.40226 -0.08723 0.40643 -0.08306 C 0.40799 -0.08168 0.4099 -0.08098 0.41112 -0.0789 C 0.41806 -0.06687 0.42414 -0.05437 0.43525 -0.04905 C 0.43768 -0.04558 0.44028 -0.04304 0.44324 -0.04049 C 0.44428 -0.03772 0.44723 -0.0317 0.44723 -0.02869 E">
                                      <p:cBhvr>
                                        <p:cTn id="254" dur="3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1273E-006 C 0.01858 -0.00301 0.03715 -0.01342 0.05608 -0.01597 C 0.10851 -0.02268 0.16997 -0.02291 0.22153 -0.02453 C 0.24445 -0.03031 0.26719 -0.03587 0.29045 -0.03957 C 0.31597 -0.03818 0.35313 -0.04882 0.37604 -0.02245 C 0.37778 -0.02036 0.37188 -0.02499 0.36962 -0.02569 C 0.36858 -0.02615 0.3717 -0.02407 0.37274 -0.0236 C 0.37587 -0.02198 0.37917 -0.0206 0.38247 -0.01921 C 0.3875 -0.01389 0.39636 -0.0044 0.40313 -0.0044 E">
                                      <p:cBhvr>
                                        <p:cTn id="256" dur="3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39472E-006 C -0.00104 -0.00416 -0.00226 -0.00832 -0.00312 -0.01272 C -0.00486 -0.02151 -0.00798 -0.03933 -0.00798 -0.03933 C -0.00937 -0.05853 -0.01059 -0.07681 -0.01111 -0.09601 C -0.01059 -0.11082 -0.01059 -0.12586 -0.00955 -0.14067 C -0.00903 -0.14854 -0.00191 -0.15964 0.00243 -0.16196 C 0.0191 -0.17075 0.03368 -0.17908 0.05122 -0.18324 C 0.08351 -0.19921 0.08368 -0.19805 0.1224 -0.20036 C 0.14358 -0.19944 0.16215 -0.19851 0.18247 -0.1962 C 0.19913 -0.19018 0.21511 -0.18185 0.23195 -0.17908 C 0.24254 -0.17029 0.25313 -0.17005 0.26563 -0.16728 C 0.26424 -0.16797 0.26163 -0.16751 0.26163 -0.16936 C 0.26163 -0.17121 0.26441 -0.16913 0.26563 -0.16843 C 0.27031 -0.16589 0.27465 -0.16242 0.27917 -0.15987 C 0.28889 -0.15432 0.29983 -0.15085 0.31042 -0.14923 C 0.32066 -0.14483 0.33056 -0.14252 0.33993 -0.13535 C 0.35504 -0.12355 0.37084 -0.1062 0.38802 -0.10134 C 0.38889 -0.10064 0.38959 -0.09972 0.39045 -0.09902 C 0.39202 -0.09787 0.39375 -0.0974 0.39514 -0.09601 C 0.39844 -0.09301 0.40486 -0.0863 0.40486 -0.0863 C 0.40643 -0.07936 0.41042 -0.07403 0.41198 -0.06709 C 0.4158 -0.04974 0.41528 -0.0539 0.41528 -0.04164 E">
                                      <p:cBhvr>
                                        <p:cTn id="258" dur="3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6.63582E-006 C 0.00574 -0.02245 0.00834 -0.04883 0.01841 -0.06826 C 0.02518 -0.08145 0.03317 -0.09394 0.03924 -0.1076 C 0.04706 -0.12518 0.03629 -0.11338 0.05365 -0.13652 C 0.06233 -0.14809 0.06129 -0.14045 0.07049 -0.14809 C 0.07535 -0.15202 0.07952 -0.15734 0.08404 -0.16197 C 0.10417 -0.18279 0.12744 -0.19575 0.15053 -0.20894 C 0.17327 -0.22189 0.19497 -0.23346 0.21841 -0.24411 C 0.24063 -0.25429 0.229 -0.25174 0.2441 -0.25382 C 0.26094 -0.26007 0.27726 -0.25984 0.29445 -0.25591 C 0.29862 -0.25382 0.30331 -0.25336 0.3073 -0.25058 C 0.3139 -0.24619 0.31789 -0.23555 0.32414 -0.23022 C 0.33942 -0.21727 0.3441 -0.21241 0.35452 -0.19297 C 0.35626 -0.18487 0.36494 -0.17169 0.36494 -0.17169 C 0.3665 -0.1659 0.36806 -0.16035 0.36963 -0.15456 C 0.37015 -0.15271 0.37119 -0.14924 0.37119 -0.14924 C 0.37154 -0.14276 0.37136 -0.13629 0.37206 -0.13004 C 0.37258 -0.12564 0.37726 -0.12171 0.37917 -0.11824 C 0.38369 -0.11037 0.38959 -0.10204 0.39289 -0.09279 C 0.39619 -0.08353 0.39844 -0.07173 0.40574 -0.0671 C 0.40713 -0.06039 0.40817 -0.06641 0.40973 -0.05854 C 0.4099 -0.05461 0.40956 -0.05068 0.41042 -0.04697 C 0.41233 -0.03818 0.41338 -0.04883 0.41372 -0.0405 C 0.4139 -0.03517 0.41372 -0.02985 0.41372 -0.02453 E">
                                      <p:cBhvr>
                                        <p:cTn id="260" dur="3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0069 C 0.00365 -0.03285 0.0132 -0.0428 0.02951 -0.06455 C 0.03767 -0.09231 0.05434 -0.09347 0.06945 -0.11267 C 0.07535 -0.12008 0.07969 -0.13072 0.08629 -0.1372 C 0.09427 -0.14507 0.10278 -0.15201 0.11111 -0.15941 C 0.11788 -0.16543 0.1217 -0.17746 0.12708 -0.18509 C 0.13767 -0.20037 0.14774 -0.20708 0.16233 -0.21494 C 0.16667 -0.22073 0.17153 -0.22073 0.17743 -0.22235 C 0.18472 -0.22721 0.19184 -0.23183 0.19983 -0.23415 C 0.21007 -0.24294 0.22431 -0.24155 0.23594 -0.24271 C 0.27361 -0.24664 0.22708 -0.24317 0.26788 -0.24595 C 0.27847 -0.24548 0.28924 -0.24548 0.29983 -0.24479 C 0.31059 -0.2441 0.33195 -0.24155 0.33195 -0.24155 C 0.33854 -0.2397 0.3474 -0.23577 0.35261 -0.22975 C 0.3592 -0.22235 0.3632 -0.2117 0.37188 -0.20846 C 0.37622 -0.2036 0.37917 -0.19851 0.38316 -0.19366 C 0.38663 -0.18394 0.3842 -0.18671 0.38872 -0.18301 C 0.39445 -0.16774 0.40122 -0.15178 0.40382 -0.13489 C 0.40451 -0.12355 0.40417 -0.10365 0.40712 -0.09347 C 0.40764 -0.08283 0.40903 -0.07288 0.41024 -0.06247 C 0.41076 -0.05714 0.41267 -0.05205 0.41267 -0.0465 E">
                                      <p:cBhvr>
                                        <p:cTn id="262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37436E-006 C 0.00295 -0.00625 0.00903 -0.01828 0.01354 -0.02245 C 0.01823 -0.02684 0.02396 -0.02892 0.02882 -0.03309 C 0.05052 -0.05206 0.06528 -0.06617 0.08889 -0.0789 C 0.10972 -0.09024 0.13056 -0.09648 0.15208 -0.10667 C 0.16944 -0.11499 0.18611 -0.12448 0.20399 -0.13119 C 0.22448 -0.13883 0.24583 -0.14045 0.26649 -0.14623 C 0.28264 -0.14438 0.27222 -0.14577 0.2816 -0.14068 C 0.2901 -0.13605 0.30052 -0.1335 0.30955 -0.13235 C 0.31615 -0.12795 0.31944 -0.12749 0.32726 -0.12587 C 0.33958 -0.11546 0.35069 -0.10111 0.36406 -0.09278 C 0.36719 -0.08839 0.37049 -0.08422 0.37361 -0.08006 C 0.37535 -0.07358 0.37934 -0.06733 0.38247 -0.06178 C 0.38368 -0.0597 0.38472 -0.05437 0.38646 -0.05437 E">
                                      <p:cBhvr>
                                        <p:cTn id="264" dur="3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3452E-007 C 0.00069 -0.00092 0.00625 -0.0081 0.00712 -0.01064 C 0.01337 -0.02823 0.00573 -0.01157 0.01041 -0.02129 C 0.01545 -0.04581 0.02048 -0.05923 0.03281 -0.0789 C 0.03941 -0.08954 0.04288 -0.09602 0.05121 -0.10342 C 0.05642 -0.10805 0.06024 -0.11337 0.06632 -0.11615 C 0.08125 -0.13165 0.09566 -0.13952 0.11441 -0.14299 C 0.12326 -0.14854 0.13281 -0.149 0.14236 -0.15039 C 0.16128 -0.1534 0.18003 -0.15525 0.19913 -0.15687 C 0.21771 -0.15641 0.23298 -0.15664 0.25035 -0.15363 C 0.26111 -0.1497 0.27205 -0.14854 0.28316 -0.14715 C 0.28819 -0.1453 0.29236 -0.14461 0.29757 -0.14391 C 0.30955 -0.13882 0.31805 -0.12749 0.32882 -0.11939 C 0.35017 -0.10319 0.33437 -0.11754 0.34722 -0.10551 C 0.35451 -0.0988 0.35538 -0.08908 0.36562 -0.08538 C 0.36979 -0.07774 0.37344 -0.07867 0.3776 -0.07358 C 0.37934 -0.07149 0.38055 -0.06895 0.38229 -0.0671 C 0.38264 -0.06687 0.38281 -0.0664 0.38316 -0.06617 E">
                                      <p:cBhvr>
                                        <p:cTn id="266" dur="3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61037E-006 C 0.00955 -0.00532 0.01962 -0.01296 0.02952 -0.01689 C 0.04653 -0.0236 0.06476 -0.02545 0.08229 -0.02754 C 0.10903 -0.03054 0.13455 -0.03448 0.16077 -0.03818 C 0.17344 -0.04443 0.18785 -0.0472 0.2007 -0.05114 C 0.21424 -0.0553 0.22726 -0.06641 0.2408 -0.07126 C 0.25365 -0.07589 0.2684 -0.07751 0.2816 -0.07867 C 0.3066 -0.08885 0.28941 -0.08306 0.34393 -0.08098 C 0.35139 -0.08075 0.36632 -0.07867 0.36632 -0.07867 E">
                                      <p:cBhvr>
                                        <p:cTn id="268" dur="3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1018 C -0.00434 -0.00926 -0.00503 -0.04836 0.00712 -0.06455 C 0.01129 -0.08977 0.02535 -0.10759 0.0375 -0.12633 C 0.04202 -0.13327 0.04532 -0.14206 0.05104 -0.14762 C 0.06702 -0.16289 0.08368 -0.17538 0.09983 -0.19019 C 0.10903 -0.19852 0.10538 -0.19875 0.11511 -0.20315 C 0.13195 -0.21078 0.14983 -0.21425 0.16702 -0.22004 C 0.1915 -0.21934 0.21615 -0.21888 0.24063 -0.21796 C 0.2467 -0.21772 0.2533 -0.21263 0.25903 -0.21055 C 0.28577 -0.2013 0.30938 -0.17978 0.33594 -0.17006 C 0.34045 -0.15988 0.33924 -0.14762 0.34393 -0.1379 C 0.34479 -0.13281 0.34653 -0.13281 0.34792 -0.12841 C 0.35139 -0.11754 0.3533 -0.10643 0.35591 -0.09533 C 0.35729 -0.08977 0.35938 -0.08492 0.36077 -0.07936 C 0.36094 -0.07682 0.36146 -0.07196 0.36146 -0.07196 E">
                                      <p:cBhvr>
                                        <p:cTn id="270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60528E-006 C 0.00278 -0.00717 0.00816 -0.00879 0.01198 -0.0148 C 0.01615 -0.02151 0.01927 -0.02961 0.02327 -0.03609 C 0.02795 -0.04349 0.03559 -0.04419 0.0408 -0.04997 C 0.04532 -0.05506 0.04913 -0.06224 0.05365 -0.06709 C 0.05538 -0.06895 0.05799 -0.06895 0.06007 -0.07033 C 0.06615 -0.07404 0.07223 -0.07658 0.07761 -0.0819 C 0.08108 -0.08907 0.08941 -0.09347 0.09532 -0.09486 C 0.09966 -0.0981 0.10834 -0.10597 0.11372 -0.10874 C 0.11927 -0.11152 0.12709 -0.11244 0.13282 -0.11406 C 0.14584 -0.12239 0.17691 -0.13766 0.19358 -0.14067 C 0.20799 -0.14646 0.22309 -0.1446 0.23768 -0.15016 C 0.24341 -0.15502 0.254 -0.15664 0.26077 -0.15779 C 0.27431 -0.15733 0.28802 -0.15779 0.30157 -0.15664 C 0.31059 -0.15594 0.32431 -0.15108 0.33282 -0.14599 C 0.33559 -0.14437 0.33716 -0.14183 0.34011 -0.14067 C 0.34514 -0.13604 0.35104 -0.13442 0.35608 -0.13003 C 0.35782 -0.12633 0.36007 -0.12332 0.3625 -0.12031 C 0.36441 -0.11545 0.36684 -0.11453 0.36962 -0.11082 E">
                                      <p:cBhvr>
                                        <p:cTn id="272" dur="3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3821040" y="765000"/>
            <a:ext cx="1542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受精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828720" y="1511280"/>
            <a:ext cx="7846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传粉以后，花粉受到柱头分泌黏液的刺激，就萌发出花粉管。花粉管沿着花柱向子房生长。花粉管内有精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2608560" cy="3166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3419640" y="3141720"/>
            <a:ext cx="2855880" cy="3352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2602080" cy="337176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14T01:47:38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