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0BA-542E-4236-B424-AAF703D2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1F5-83BD-4A0D-AB3C-45CE5B5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C27C2-E29F-47FA-AC46-BDAA761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A6332-7EE2-48E1-B2C4-C3A45527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F52D6-4476-4B76-BB24-D339D3BA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F317E-2D07-45C5-8FDA-CBBB511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64BC3-42AE-4520-A772-79773E25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3B493-3544-4707-92A3-E033791B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56AEC-82BE-42DA-92D4-5316B56C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F26FD-6A2F-4EE8-849D-816EFA6F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E975F-564F-470B-9578-33311918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E0034-1C9E-499A-9332-1A06A60D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CE0-3591-4A4A-9994-88A68799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0F6BB-9D63-49E9-B021-E9F1887D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6E706-327E-471A-964C-CA973BD7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2BD5E-B9E5-4A34-BD65-B33CC1EF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0D7FE-E5C7-458C-B1EA-927E3F0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1BFEF-EC6F-4465-861B-31537E4D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13AB6-512E-49CF-BC49-EA8191E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544E8-7800-4BDF-8E7A-8BBE3EB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95696-0123-4182-B6AD-95B9E58C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D1BE0-103D-48E1-91EC-76D1DE40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43DB9-C620-4E4E-B468-72CEB779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9ED-1278-457F-A783-823AC373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551E4-AF06-4E4A-93C3-5C1383EE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08156-8AD4-4B50-B8B8-510D9F7B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76997-CEDC-4C85-87B2-497A13DE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BCBE4-A90B-42C1-A2D3-15369A89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7AA22-1421-4351-A75A-F0A90A4B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5716B-FC4E-47C7-9314-0292FAF4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BCDC0-60C7-41F2-AA85-425A4840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1BB3A-7C28-4B4C-A494-CADCAAAF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35421-B248-48B6-9785-382284A5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F6C9A-638F-4395-82CD-0076A77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C84F-D3B9-4CFB-8A30-EC292809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6F855-AE95-466D-8E37-C2D677B6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2B5A8-F589-40D1-9F85-3DFD5A57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2D586-820C-44B2-B34E-0A190C55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47E9C-0E47-47B9-B1D5-976B7E4F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06F6C-91A4-4626-BB2E-3D7BD09F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E31D0-EA4C-45D9-B1A6-228A8E19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818B8-25C5-4F68-B720-3072BC07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A8CCE-0606-4A85-918B-3561AD64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3DB0B-4E2B-4B2A-A764-AC21D546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F079C-92B2-491B-8826-1553552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1C21-4FEA-43B9-AA05-81BAB784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3DBCA-80FC-4360-BD7A-96937CBA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178BF-CDB7-43A8-B752-7856D152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CAE8F-F2C7-4583-A5BC-DAC74506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0D1A9-E2E9-47EE-938D-4E39926C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E2C0B-6FEC-4CF2-8B91-7858FE70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EEAF5-DE3E-4D03-8A83-E0A481CE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17BB3-DB91-4A3B-93AE-B9AC384F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F479D-0BA2-4315-A851-D44C2DF4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BB9AC-3234-4353-882F-4BF306C1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68BC4-24AD-4EBD-B85D-F1615489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F1E2-3B3B-4781-A483-1191F153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C5919-4D75-47B1-8630-6AEB48B4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432B8-141D-4F3B-ADC2-EF5ADA5A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2FF38-87E7-4A9A-8082-8AE26CAC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7A4DB-DE99-431D-8137-1FEFC803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EA15A-DF8E-4644-822F-2F2A8300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8C6F2-23C0-41F4-A7E3-5B55AFA7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01BEE-4D93-48A8-899C-AFA3699B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25D45-F436-47C4-8D47-0BF20EA3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AD715-744E-4F20-95EA-B8E99F64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CF5EB-3786-4FDD-98C8-F2AEDF0D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F920-0C23-4969-B562-A0E891C6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E6685-8FB8-4BC2-888E-F98C73E3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26519-EB71-4BF4-B32D-0626F617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A30B2-8FD5-45F3-93AF-14888778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C59D2-36A1-4F38-A750-237B940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E68E5-8A7F-4528-B566-53CC599E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FDB5A-0CF8-46E0-AC8A-90D7D51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B9689-9524-49AD-854A-89F8EA1F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ECCB9-CB86-4247-93E9-33EE6A9D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ABED4-5FE5-4BD0-AC28-46FD09DD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7AE05-D6CA-47FA-A59A-C3671C18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A20B-EE7D-46EE-A0AB-33C39D9E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FB794-1903-41AF-AA80-3BD0A0F4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69918-B6BB-452D-A817-7A6AC005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7584A-518C-4231-BCCD-27CF1B0C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FFBC23-EE4E-49E6-88F3-7498667D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30DB4-87AD-485F-87C9-F5CC6CCA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D4787-0C13-482E-80A4-C70A588E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7A642-C678-45E6-A368-78FEB1D5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AB2C7-00DF-437A-993D-A3C85975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6F67A-4C87-45FF-9853-05457C58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EC9B8-E55F-4526-ADB7-A20856A6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889C-D6E4-47C3-8F66-13B5B9D3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56229-0E9B-4BDB-8F6A-5C06349F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DB77E-94DD-4390-BFA5-12A251DD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52FCD-CE54-40CE-BE6C-EAC791A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91AE7-CA85-42FC-AB5E-6BCE2A40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5DA2D-4B17-446B-B806-24A04C86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D04EE-2A67-4D94-B24A-6A8DEC66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EF872-8393-4E35-8FAC-C6D5DC5F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FD5D8-D196-4399-B0A9-D963754A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55692-2395-42EE-B748-BDE6657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348A7-B483-4489-8396-FEDC0ABD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2422-B466-4B39-8A96-CD587BB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E7537-FAD2-43B5-8D22-F57FFF52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558FC-B579-4C82-8116-73379320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6FFFB-BB7C-4EA0-B41C-18578E55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2448B2-E2AD-4CAF-947D-3D031D37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40F31B-873D-49B3-A092-286CCC43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C7A06-18E9-48EE-A68C-348CC327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CCA3C-B4AB-4CCA-8257-187188B9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2C609-4A83-47ED-922A-A746D62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A1A4E-5519-42E7-B101-F352A406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47FC6-A6C6-4A6A-B5EE-8724989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05B-8D06-443F-948F-907C31A5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605C-F6E5-40AC-A848-986DBD7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B2BBD-202E-480B-B679-EF9AE436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81C56-19EB-486A-9A79-606310B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74DC9-1E5E-4B5A-8EC4-BBAF9497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CA8ED3-D3C7-4A44-9A7D-47373704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BD32D-AEC0-4B3A-9F97-DCE91850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E23A50-DFF3-428C-A26E-D76355C2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DD372-0B75-4200-BC20-0A0CB92B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349FD-1FE7-4AEC-8712-65E5B3B6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94B76-96F0-4AC9-BFB9-82E2B016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15B5C-C8ED-42E8-9C90-B63F8816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8600-6837-4DB6-A604-F5E24D8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2F991-0E5F-4831-8819-65F6B361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038435-0A26-4819-BD30-A1B79D2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C0FCC-2CB2-49AC-99EB-C8FE536F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5AEE43-633D-4104-A759-3B65BA8A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C8BA2-E991-4B8C-B7CF-2F45D948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87763-3FCA-49BA-ACDB-4C671CE6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1C265-113E-46C3-8157-E46F3A72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0BA13E-BBFB-4F3D-BCF4-AEBAF4D6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D57EE-3D72-42CC-9BBA-1E0980CC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34C86-4E3A-42EE-A82E-007ACD6F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38A6-DB15-464A-BED6-44435ED5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D1BF6B-1813-4CB7-B47E-57E9E023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261FB-B30A-4716-9343-A456FB7F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A9FE35-D621-4105-A773-DAC8CF21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AB648-36C4-444A-B0B3-904787F1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908F6D-4413-4C07-8890-AD5E6F90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91E3A-1153-4D88-9366-96670FC1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164B0A-F59D-4238-BA1F-095D1C57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253C0-65BE-464C-A8E4-10329903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6890F-262A-4A2D-AF57-2674E2AD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8FA86-5DD1-4311-B7A8-2405BDD8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07FC-2A8F-4BE7-9BA7-DF3A00E1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88EF4-6736-4F84-80A8-AADD350F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27802-6A5E-4C4A-BB38-576AEE5E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89F090-91A6-4F9A-B580-364E9459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5E6FF-8E9A-4781-8BA0-70DEAD8D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CBDCBB-19BE-40E1-AD5B-912C0A0B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18B7D1-2B58-4F89-82ED-DBF6445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47F0D2-0EA4-4669-B7CE-28CEDE0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B0270-3D4C-4907-9E4D-B03F338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B9C5E-158A-46BF-A281-F007BA97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99E56-F486-4A50-B846-1CE17334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512B-AB3D-4A42-863A-46C15A59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2B629-0C6E-4737-A2AA-B08CC026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CCAF06-C41E-426F-B52E-92A79DD2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7F85BD-31A4-41D0-B1C8-1EC5C467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EF426-F711-4F82-B7AF-A41F9C72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C57B1D-4C11-48BD-BAF2-5B46948C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7129E1-F836-41D7-8492-C87DE34A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0FE458-5E0F-4338-875B-2AE636E4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D8210F-2EDC-432D-8EEB-0FC1A459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188422-9E78-4D28-A423-ED2909F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3B7F7D-C2B1-476A-927F-08CCD88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77DAD-F919-4F57-8F2F-3D08893B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FADB9-0051-4B48-8893-0F015D46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05BC8B-BA2C-44C8-99A8-3A1BB524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E6B70-70BB-4440-AF7A-17ED485A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86DF8A-E0F4-4C67-9505-7789FD13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3F87A4-40F4-47A7-8023-E9B812C1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5E8461-5401-4E88-A33B-FB998BF5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6DBFAE-1AFB-4DC0-BD18-BCDAC323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29874-D998-40B3-B3AA-0BCC69DE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C7DD88-899C-460F-B582-977EA24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B3669E-ECB1-4ED2-9C9A-18EEBF79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B9E59-A85C-4F83-A20F-5535AE01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5E4BC9-2FE9-4680-B140-5BF7EF97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3958FC-E29E-4D94-99EF-4035B08F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8841CE-4F6A-46DC-8E24-6D535953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D2BE78-967D-4DE3-B564-A0BF2C54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5DD01E-AE2B-4DE6-867A-BAECE13D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C75EBE-2EBF-422F-9B78-383C2F38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163B86-B0D2-4714-84A7-D9322267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6B7A77-67D9-4D1D-9971-768D3BA7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8D40A4-61A9-4CAA-A710-E14E5FD8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9DEF73-171D-4160-9243-75DD1767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C6E6-5CDE-429D-978C-AE5E9430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FDAE7F-5720-4A6D-9B61-8E085DCC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C4F9A8-5F3E-42E8-80FE-CAD1CE2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C1EA2E-032D-4D4F-86AB-E4A4210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C86170-12A5-4545-80CF-DC8ED720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E6A963-C231-45C7-AA5F-725678AE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E8A38A-EEFC-45A6-A281-9E5D8BC3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2C7590-1577-401C-84D9-60CB61A6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1AE7F7-3557-4EC9-8ACF-6409950F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2A6A50-45DB-41DC-B763-2290AFEC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5DB0B7-EE46-4081-86CE-A0E3438B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2F5D-493E-48C4-85C1-38BF657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9CA770-6CC2-4A0A-9035-0AEC7154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B987B0-D968-4200-B807-3D30840D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8DEF29-02A2-4E41-8E12-5163EFC6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FDD387-8C45-4C5D-9738-839F1AD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B1A4BE-C557-4C68-BFBD-17E34D3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067B29-D90D-49B0-A8C3-89FFB8B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42A5F0-7BCD-468E-9DA5-BC2C2621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443A93-ADD9-4F30-803B-DBEAE327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255298-011D-4E62-B71B-AC38EBD1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8FF5FF-9A3F-413C-A280-C041DC33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AD691-CABA-4B1C-B357-4AE4CF34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FE98B6-694D-4CF2-931B-F2811D25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3A4F61-D057-4F0C-80BD-75390472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42B12B-7424-4E83-A90B-26FEA211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0B7458-F4CD-46C6-AAB5-55D9A717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2E2A1B-1DDF-42BF-82D1-2C9FF2BC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253BCA-5E94-4E88-8E42-83A6820C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36524A-503F-49BE-866B-2E0AED6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B10481-DDE1-4F0F-82E3-7EA4DAC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0B994B-1C8A-4DE7-91D3-1F84504E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A0A3EA-FBFC-4443-B434-698B8410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FBF-9E8B-41B7-871B-70CA02D9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43AE9-019F-4851-8201-0DAEC34D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393FC1-F0AF-422C-8D6F-E7BE29EF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2FFF5E-6AF1-4D6C-B0AC-62B67263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9272BF-2C21-4112-8256-C9C23196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D61F25-C91E-4CB5-9A2E-5374FE4C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7CD9C6-D0CF-4010-BAAE-E46088A1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3742DC-EC31-4EA9-A457-788CF391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0188CF-E7BE-4F6C-808F-9FE22F4B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0B6BD8-AE48-48C5-83D5-3A42E46E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999CDD-6CB1-467A-A7EE-476EDD57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131319-25BE-494B-BB5C-010EC174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C6703-481B-4F46-AE26-6A911829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D78A6D-8A9F-40BD-9118-4015EE5C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614653-379E-4A84-9EEA-86D6118D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1F6C05-B85B-4356-B854-9A0A7227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29E01C-F02A-4624-AA96-AED05E3E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D8B34E-1AC2-4436-90FE-3F2C20D6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3133FD-2537-4DFA-835E-636A1901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D137A6-3324-4998-822B-0DD8D800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019311-B3FB-4666-ABA6-E47D70E5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2E7BE8-1B8C-4D87-B89C-30716B7A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ECEA5E-6E18-4188-BD7F-254A4C2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9705-0D2F-46D7-94EA-162CB323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B7E97C-7B72-44DC-B7CB-C8195CA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9A3864-D9E0-4E0F-80BE-74AD2971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3B2756-2D90-44DC-8037-8CC58DD9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2E92D8-34CE-4769-98FC-FCD93F5A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838189-AC3F-442B-BF6B-0CB7DF55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8DF60E-806C-4952-8376-0C48F285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FA230E-5F20-4FB6-8EBE-0E12668E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F9A452-45C6-472E-B8A4-F463AD3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9C1F36-DE09-47A5-8242-BCEE078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274270-5557-49BC-8A9B-380688BA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672C-324F-4ABE-B36B-847E68D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AA6893-D751-4E59-A190-80589CB3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37CA85-CE44-4856-82A8-F901106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83CF96-2A16-467E-AF7A-13B82F04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FA3405-1B0C-4D24-8F9E-8E23F6BD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A572A3-1445-4FD4-A110-6D320DE2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7C7716-A445-4D14-9983-8220ACCF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513451-EE5D-4AB8-A147-1C94C432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4813C6-6DF7-4E1A-8996-A86BD9FD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D541A6-0B26-4FBD-BDB5-B8F7515D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F46902C-38AA-4999-B371-17D57D5C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D5A4D-5C95-4ECE-A3CB-0276E36D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1536CC-B380-4D82-880F-134127F8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8A4562-B4AC-465B-94E6-F517EF25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B3D81B-28D5-4AA4-9312-15FAC9C9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E5021C-870E-466D-967D-A9F43737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FE6DC2-86E1-4ADE-926C-19244E63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99C6EA-B3D8-47E3-869D-64601A3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82DB13-95DD-4064-BC09-11458884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848F9D-A97A-4DD4-AC82-51A947B3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44A5F0-3257-4BCC-ADFF-CFCCE297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8FB277-77B0-4CCE-A6E3-E5DECA5B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E5374-9289-459D-A9B8-6D94BB64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7DCD7B-7FB7-4F57-B0BD-3753EFC9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3410C0-9E66-46A2-AC6D-2405C16B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8A4373-6306-4315-AD2B-BB105AD6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0ADF28-0EF7-4EDE-B826-883DA63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0308A8-75D7-429E-8B9C-EE8807F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72ADB1-BBBF-4772-A6B3-55D346A5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3DF98A-0135-4E00-8071-CA6DD764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3BE53F-E64E-453D-BEA7-D39C0D51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B099EF-33E6-4AD9-99D9-743A5B1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EBCFB4-1CB2-4279-8187-49D79529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908E0-42EB-4A89-8BB8-9BD46F03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CFB87A-EC00-4698-8231-A34F5E53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1FD8A2-5756-4DCA-BEB5-132978ED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4C0FF4-676C-4088-B6C2-D7337A10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9C5403-C21D-497C-A08E-06848EE1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9D3249-4DC3-4829-8EB8-6EDBE670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08DC31-A41F-467F-9F0C-DB8C828E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F9AFDF-F372-4E57-9520-D6EC60E7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64CDB9-6A2D-43A4-96FA-2CAE6BEB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6D0433-ADDE-4925-8EC6-B8494D9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356E44-B2EC-4C31-9941-5CB67C60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3533-E12D-491B-9233-7470F04A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C91C51-EDD4-475A-B694-76BAD07B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6809C8-7808-446A-830A-C7DFDC49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D7508E-D80A-4C10-AD92-6A94D353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E8C8-EF7C-442C-B5DC-92B68DFE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B6736-0B46-480D-AD08-A43E4434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729-73F2-4F11-936D-54D08D73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296BE-EF63-4C71-827E-C91C622F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535F-F26A-4A35-BE87-CBEFFC40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DBF3-735C-43AA-BADB-DDDC4416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B146C-A989-4148-AF44-684A71A3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2CBD9-A0A6-4BCB-8AC9-BBCDDD7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3632B-EB96-4395-93C9-D477651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8613-10C4-41B6-90BC-6E648DBB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60A7-5427-4CCA-A209-A94FF27A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C6FE9-ECA3-443F-BB66-6DAE92F3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1DB4-F91F-4FA7-B153-FDF5426C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F1BB-2F68-43CA-8919-9CD3B3D8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00BE6-AB40-4E4A-93B8-31191189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09BEA-209B-4E49-82C9-6C542395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1ECE-0736-4A9B-A814-E7F0EDF5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E9014-3627-4F61-AF7B-8C9D6BA8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47987-D3AE-4570-9034-B8031936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7937-B86D-4447-8373-782670E8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3F9D7-F349-4AD7-B8F9-D36A5D60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77E42-AD5E-43CA-9730-2FE429C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8285A-5689-4347-AECE-4FDAF779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5599C-E200-4CD9-B0BC-A7FAF087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260-B51E-4A35-BD70-72262342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CBF2-7FCC-4790-950C-B12DA253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E818B-55FF-4557-A01F-68DE513B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F3F00-EB90-4E71-A498-86D77FE7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A6EDA-C447-42DD-AEFC-349F1A52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61943-8E5A-411A-AB76-1605E4C6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861DF-595A-4DE1-83B8-98EF6634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0D2D-DE25-4061-AB32-6FD6C082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5CAA2-4EBC-49F0-825D-588F3FE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D7358-134A-444D-B580-D943CF26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A7E86-6168-4D8F-84EB-BAA121E3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52E-1E06-4E49-A7A0-6B905789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52A06-BA74-4DDD-8B81-9883B5E3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3928B-77B6-4E55-9F69-45CB76D8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2DA01-14AC-4931-B110-679584D4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0C2EB-B1A0-40BB-95EE-87521544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F3128-CA13-4AB9-9B39-9675DA82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AEBBD-5797-47BB-9900-E58B4512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FC8DF-4E9F-49C2-AFE0-77973F2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6A64C-422A-459D-A3BB-633F0143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BD32-C792-42D9-8E10-14D00A0C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FA079-4ECC-4D6A-847F-3829265D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307-4426-437D-BD25-DD1434B7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88856-D3B5-4782-A518-BA46B0B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3126F-7CCC-48B6-92C9-8D41B461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36E5C-6F7B-44FD-B96C-D6AB7FAF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E20C3-3F76-409E-A39A-D1CD87F8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A24E-8C3F-4CAB-80EA-E302DA9E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358F-1054-4D3A-895A-1F3315C9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C10A2-21C9-4B1F-8EA4-05BB1DEA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42A47-9030-4917-8035-44CBABD2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8450A-D330-4F86-BD56-F42DCE65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2E002-2148-44DB-ACFC-350F9CB5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A5A-5FA4-4352-ABC9-3EBD16C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1441A-BA1C-4D3A-A64A-616019E0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BB34-D877-445C-ACF9-D5D6709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113FF-E525-4FD5-8CDE-669BB527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8455D-9B1F-48E8-B9EB-1263803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F2CCF-B21B-45A3-ADFE-E5C43DC7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40C4F-FF47-469B-BC7B-B0114980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BC2A9-23F8-4427-9948-BC9288A4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C5432-3820-4D6E-A185-D36274DD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12D07-0F83-4B1A-888B-4B6D9206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212A8-8DBB-4DA4-B64D-D00D0C8B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4C64-7594-4323-A1F3-7F4FD22729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66B5-4963-49A2-9EBD-3ACD477842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8A95-11A5-40E6-934D-760F3DA761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DC63-CE55-4B54-81B1-4D285DE3BA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8A08-0716-4C89-89BC-58EAE01E75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3F94-2F13-4BEE-8010-513F7C7936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7F7C-27B8-4BD4-B870-08EFBC8DAF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4CDF-0719-4592-92A7-87BE2E99BF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4EED-06BD-4674-991B-62A8929344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25F-CD51-4EC3-AA2F-6DBE7C4B85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5C89-BF90-4A49-B9E4-EB2A5DFDAC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AF2-C93D-495D-905E-CEEC86D709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AC93-D5C3-41C8-AE47-DFE4165A7D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E5CA-1420-4824-B7C9-3134FA1D1D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AABE-6427-4E60-8A37-A266675B6B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532B-A3F5-45DF-9887-F3BBF66845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3374-50AE-4764-A7D1-2BBDD76FA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685B-B1B2-4F30-BE58-EA5F84082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E177-9504-4310-8053-669BD01C03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9BEA-5488-4291-B421-D7355E993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225C-C7CB-4101-80A3-C38A988BA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BDC8-D18A-4213-B0AE-21CDD28E36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F62A-3C28-442F-9930-C23C4A322E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3C9E-42B4-4A36-9EDE-B5EC187801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DB98-B980-4E18-8750-033FB0951E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EA71-929F-4407-AD24-2DBD590214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B5B0-0C76-48EF-9F22-1751DB571C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3269-432B-412C-8070-4478E9E27B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0D0A-054E-482F-A8A7-4A5360D454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C01F-6FDF-42C0-A5E4-90EBE81773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E6E4-C0F0-46DE-B5C8-9D074A1ECD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9F24-E01F-4B0C-8B0C-6B1579EB66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CFE-7D7F-47C9-ABF9-A665D9AEE5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09C1-4CFD-4EAD-ADFB-1401165D2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74D9-47E2-421B-8C9A-77FD450DC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157B-A94D-44E7-8255-B83A5E0088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4BE1-FAA5-4A0B-A018-B563107CB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4474-CE40-4AF5-8883-DE406D2B8F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7289-6DF4-4EB3-94DB-2F12E1499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8687-CE82-41EA-8A6C-DE4402ADF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F3B5-FE52-4897-ADB2-8FDC2D6663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B895-F623-4C80-95EE-A49BEF8CC7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370F-4925-4745-A2CE-866C44DE3A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0C0D-A207-4371-B73B-ADC94A477E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CE2A-4A35-4E82-9C6C-03D2720DB1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B5F5-E7F6-4470-A7F2-425A234A73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176E-8ADE-440C-9AEA-1634FA5C38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75AE-3A7C-4D85-98B3-1CDE7191BE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3721-FC38-4BC5-BC26-E514404419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2D6F-D22C-42D4-AB38-1FE87814EE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505560" cy="9903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3132000" y="3716280"/>
            <a:ext cx="2895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79873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105760" cy="484848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79874" descr=""/>
          <p:cNvPicPr/>
          <p:nvPr/>
        </p:nvPicPr>
        <p:blipFill>
          <a:blip r:embed="rId2"/>
          <a:stretch/>
        </p:blipFill>
        <p:spPr>
          <a:xfrm>
            <a:off x="1116000" y="5516640"/>
            <a:ext cx="5676840" cy="1341360"/>
          </a:xfrm>
          <a:prstGeom prst="rect">
            <a:avLst/>
          </a:prstGeom>
          <a:ln w="0">
            <a:noFill/>
          </a:ln>
        </p:spPr>
      </p:pic>
      <p:sp>
        <p:nvSpPr>
          <p:cNvPr id="1473" name="矩形 79875"/>
          <p:cNvSpPr/>
          <p:nvPr/>
        </p:nvSpPr>
        <p:spPr>
          <a:xfrm>
            <a:off x="7935840" y="3540240"/>
            <a:ext cx="3240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78849" descr=""/>
          <p:cNvPicPr/>
          <p:nvPr/>
        </p:nvPicPr>
        <p:blipFill>
          <a:blip r:embed="rId1"/>
          <a:stretch/>
        </p:blipFill>
        <p:spPr>
          <a:xfrm>
            <a:off x="471600" y="1085760"/>
            <a:ext cx="8200800" cy="4686480"/>
          </a:xfrm>
          <a:prstGeom prst="rect">
            <a:avLst/>
          </a:prstGeom>
          <a:ln w="0">
            <a:noFill/>
          </a:ln>
        </p:spPr>
      </p:pic>
      <p:sp>
        <p:nvSpPr>
          <p:cNvPr id="1475" name="矩形 78850"/>
          <p:cNvSpPr/>
          <p:nvPr/>
        </p:nvSpPr>
        <p:spPr>
          <a:xfrm>
            <a:off x="3851280" y="1052640"/>
            <a:ext cx="79200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78851"/>
          <p:cNvSpPr/>
          <p:nvPr/>
        </p:nvSpPr>
        <p:spPr>
          <a:xfrm>
            <a:off x="6632640" y="2100240"/>
            <a:ext cx="103500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78852"/>
          <p:cNvSpPr/>
          <p:nvPr/>
        </p:nvSpPr>
        <p:spPr>
          <a:xfrm>
            <a:off x="3060720" y="2633760"/>
            <a:ext cx="5745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77825" descr=""/>
          <p:cNvPicPr/>
          <p:nvPr/>
        </p:nvPicPr>
        <p:blipFill>
          <a:blip r:embed="rId1"/>
          <a:stretch/>
        </p:blipFill>
        <p:spPr>
          <a:xfrm>
            <a:off x="528480" y="2367000"/>
            <a:ext cx="8087040" cy="2124000"/>
          </a:xfrm>
          <a:prstGeom prst="rect">
            <a:avLst/>
          </a:prstGeom>
          <a:ln w="0">
            <a:noFill/>
          </a:ln>
        </p:spPr>
      </p:pic>
      <p:sp>
        <p:nvSpPr>
          <p:cNvPr id="1479" name="矩形 77826"/>
          <p:cNvSpPr/>
          <p:nvPr/>
        </p:nvSpPr>
        <p:spPr>
          <a:xfrm>
            <a:off x="3635280" y="2997360"/>
            <a:ext cx="108108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77827"/>
          <p:cNvSpPr/>
          <p:nvPr/>
        </p:nvSpPr>
        <p:spPr>
          <a:xfrm>
            <a:off x="6388200" y="3016080"/>
            <a:ext cx="1081080" cy="34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77828"/>
          <p:cNvSpPr/>
          <p:nvPr/>
        </p:nvSpPr>
        <p:spPr>
          <a:xfrm>
            <a:off x="1692360" y="4076640"/>
            <a:ext cx="25383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76801" descr=""/>
          <p:cNvPicPr/>
          <p:nvPr/>
        </p:nvPicPr>
        <p:blipFill>
          <a:blip r:embed="rId1"/>
          <a:stretch/>
        </p:blipFill>
        <p:spPr>
          <a:xfrm>
            <a:off x="547560" y="1633680"/>
            <a:ext cx="8048880" cy="3590640"/>
          </a:xfrm>
          <a:prstGeom prst="rect">
            <a:avLst/>
          </a:prstGeom>
          <a:ln w="0">
            <a:noFill/>
          </a:ln>
        </p:spPr>
      </p:pic>
      <p:sp>
        <p:nvSpPr>
          <p:cNvPr id="1483" name="矩形 76802"/>
          <p:cNvSpPr/>
          <p:nvPr/>
        </p:nvSpPr>
        <p:spPr>
          <a:xfrm>
            <a:off x="1654200" y="3257640"/>
            <a:ext cx="21258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76803"/>
          <p:cNvSpPr/>
          <p:nvPr/>
        </p:nvSpPr>
        <p:spPr>
          <a:xfrm>
            <a:off x="6730920" y="3781440"/>
            <a:ext cx="10098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76804"/>
          <p:cNvSpPr/>
          <p:nvPr/>
        </p:nvSpPr>
        <p:spPr>
          <a:xfrm>
            <a:off x="6902280" y="4324320"/>
            <a:ext cx="100980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89089" descr=""/>
          <p:cNvPicPr/>
          <p:nvPr/>
        </p:nvPicPr>
        <p:blipFill>
          <a:blip r:embed="rId1"/>
          <a:stretch/>
        </p:blipFill>
        <p:spPr>
          <a:xfrm>
            <a:off x="495360" y="1585800"/>
            <a:ext cx="8153280" cy="3686400"/>
          </a:xfrm>
          <a:prstGeom prst="rect">
            <a:avLst/>
          </a:prstGeom>
          <a:ln w="0">
            <a:noFill/>
          </a:ln>
        </p:spPr>
      </p:pic>
      <p:sp>
        <p:nvSpPr>
          <p:cNvPr id="1487" name="矩形 89090"/>
          <p:cNvSpPr/>
          <p:nvPr/>
        </p:nvSpPr>
        <p:spPr>
          <a:xfrm>
            <a:off x="2120760" y="3247920"/>
            <a:ext cx="115092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89091"/>
          <p:cNvSpPr/>
          <p:nvPr/>
        </p:nvSpPr>
        <p:spPr>
          <a:xfrm>
            <a:off x="5959440" y="3247920"/>
            <a:ext cx="115092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90113" descr=""/>
          <p:cNvPicPr/>
          <p:nvPr/>
        </p:nvPicPr>
        <p:blipFill>
          <a:blip r:embed="rId1"/>
          <a:stretch/>
        </p:blipFill>
        <p:spPr>
          <a:xfrm>
            <a:off x="523800" y="1752480"/>
            <a:ext cx="8096400" cy="3353040"/>
          </a:xfrm>
          <a:prstGeom prst="rect">
            <a:avLst/>
          </a:prstGeom>
          <a:ln w="0">
            <a:noFill/>
          </a:ln>
        </p:spPr>
      </p:pic>
      <p:sp>
        <p:nvSpPr>
          <p:cNvPr id="1490" name="矩形 90114"/>
          <p:cNvSpPr/>
          <p:nvPr/>
        </p:nvSpPr>
        <p:spPr>
          <a:xfrm>
            <a:off x="1073160" y="2828880"/>
            <a:ext cx="25383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图片 90115" descr=""/>
          <p:cNvPicPr/>
          <p:nvPr/>
        </p:nvPicPr>
        <p:blipFill>
          <a:blip r:embed="rId2"/>
          <a:stretch/>
        </p:blipFill>
        <p:spPr>
          <a:xfrm>
            <a:off x="3492360" y="2637000"/>
            <a:ext cx="42674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91137" descr=""/>
          <p:cNvPicPr/>
          <p:nvPr/>
        </p:nvPicPr>
        <p:blipFill>
          <a:blip r:embed="rId1"/>
          <a:stretch/>
        </p:blipFill>
        <p:spPr>
          <a:xfrm>
            <a:off x="495360" y="1219320"/>
            <a:ext cx="8153280" cy="4419360"/>
          </a:xfrm>
          <a:prstGeom prst="rect">
            <a:avLst/>
          </a:prstGeom>
          <a:ln w="0">
            <a:noFill/>
          </a:ln>
        </p:spPr>
      </p:pic>
      <p:sp>
        <p:nvSpPr>
          <p:cNvPr id="1493" name="矩形 91138"/>
          <p:cNvSpPr/>
          <p:nvPr/>
        </p:nvSpPr>
        <p:spPr>
          <a:xfrm>
            <a:off x="7740720" y="400536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3219480" cy="762120"/>
          </a:xfrm>
          <a:prstGeom prst="rect">
            <a:avLst/>
          </a:prstGeom>
          <a:ln w="0">
            <a:noFill/>
          </a:ln>
        </p:spPr>
      </p:pic>
      <p:pic>
        <p:nvPicPr>
          <p:cNvPr id="1435" name="图片 88066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429760" cy="31334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88067"/>
          <p:cNvSpPr/>
          <p:nvPr/>
        </p:nvSpPr>
        <p:spPr>
          <a:xfrm>
            <a:off x="1763640" y="1916280"/>
            <a:ext cx="3319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8"/>
          <p:cNvSpPr/>
          <p:nvPr/>
        </p:nvSpPr>
        <p:spPr>
          <a:xfrm>
            <a:off x="3201840" y="1925640"/>
            <a:ext cx="3319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69"/>
          <p:cNvSpPr/>
          <p:nvPr/>
        </p:nvSpPr>
        <p:spPr>
          <a:xfrm>
            <a:off x="7164360" y="1925640"/>
            <a:ext cx="5763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2"/>
          <p:cNvSpPr/>
          <p:nvPr/>
        </p:nvSpPr>
        <p:spPr>
          <a:xfrm>
            <a:off x="6507000" y="2630520"/>
            <a:ext cx="5763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3"/>
          <p:cNvSpPr/>
          <p:nvPr/>
        </p:nvSpPr>
        <p:spPr>
          <a:xfrm>
            <a:off x="1820880" y="3668760"/>
            <a:ext cx="5763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4"/>
          <p:cNvSpPr/>
          <p:nvPr/>
        </p:nvSpPr>
        <p:spPr>
          <a:xfrm>
            <a:off x="8354880" y="3668760"/>
            <a:ext cx="3207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5"/>
          <p:cNvSpPr/>
          <p:nvPr/>
        </p:nvSpPr>
        <p:spPr>
          <a:xfrm>
            <a:off x="1068480" y="4030560"/>
            <a:ext cx="3207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6"/>
          <p:cNvSpPr/>
          <p:nvPr/>
        </p:nvSpPr>
        <p:spPr>
          <a:xfrm>
            <a:off x="1420920" y="4373640"/>
            <a:ext cx="32040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7"/>
          <p:cNvSpPr/>
          <p:nvPr/>
        </p:nvSpPr>
        <p:spPr>
          <a:xfrm>
            <a:off x="2840040" y="4373640"/>
            <a:ext cx="32076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8"/>
          <p:cNvSpPr/>
          <p:nvPr/>
        </p:nvSpPr>
        <p:spPr>
          <a:xfrm>
            <a:off x="7278840" y="4383000"/>
            <a:ext cx="60624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7041" descr=""/>
          <p:cNvPicPr/>
          <p:nvPr/>
        </p:nvPicPr>
        <p:blipFill>
          <a:blip r:embed="rId1"/>
          <a:stretch/>
        </p:blipFill>
        <p:spPr>
          <a:xfrm>
            <a:off x="476280" y="1623960"/>
            <a:ext cx="8191440" cy="361008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7042"/>
          <p:cNvSpPr/>
          <p:nvPr/>
        </p:nvSpPr>
        <p:spPr>
          <a:xfrm>
            <a:off x="2992320" y="4525920"/>
            <a:ext cx="10033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7043"/>
          <p:cNvSpPr/>
          <p:nvPr/>
        </p:nvSpPr>
        <p:spPr>
          <a:xfrm>
            <a:off x="6443640" y="4508640"/>
            <a:ext cx="172872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7048"/>
          <p:cNvSpPr/>
          <p:nvPr/>
        </p:nvSpPr>
        <p:spPr>
          <a:xfrm>
            <a:off x="3132000" y="494172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7049"/>
          <p:cNvSpPr/>
          <p:nvPr/>
        </p:nvSpPr>
        <p:spPr>
          <a:xfrm>
            <a:off x="6199200" y="4903920"/>
            <a:ext cx="175752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86017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67560" cy="4029120"/>
          </a:xfrm>
          <a:prstGeom prst="rect">
            <a:avLst/>
          </a:prstGeom>
          <a:ln w="0">
            <a:noFill/>
          </a:ln>
        </p:spPr>
      </p:pic>
      <p:pic>
        <p:nvPicPr>
          <p:cNvPr id="1452" name="图片 86018" descr=""/>
          <p:cNvPicPr/>
          <p:nvPr/>
        </p:nvPicPr>
        <p:blipFill>
          <a:blip r:embed="rId2"/>
          <a:stretch/>
        </p:blipFill>
        <p:spPr>
          <a:xfrm>
            <a:off x="395280" y="5013360"/>
            <a:ext cx="5924520" cy="1476360"/>
          </a:xfrm>
          <a:prstGeom prst="rect">
            <a:avLst/>
          </a:prstGeom>
          <a:ln w="0">
            <a:noFill/>
          </a:ln>
        </p:spPr>
      </p:pic>
      <p:sp>
        <p:nvSpPr>
          <p:cNvPr id="1453" name="矩形 86019"/>
          <p:cNvSpPr/>
          <p:nvPr/>
        </p:nvSpPr>
        <p:spPr>
          <a:xfrm>
            <a:off x="8244000" y="1700280"/>
            <a:ext cx="323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86020"/>
          <p:cNvSpPr/>
          <p:nvPr/>
        </p:nvSpPr>
        <p:spPr>
          <a:xfrm>
            <a:off x="755640" y="3429000"/>
            <a:ext cx="1536840" cy="3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图片 86021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648160" cy="1542960"/>
          </a:xfrm>
          <a:prstGeom prst="rect">
            <a:avLst/>
          </a:prstGeom>
          <a:ln w="0">
            <a:noFill/>
          </a:ln>
        </p:spPr>
      </p:pic>
      <p:sp>
        <p:nvSpPr>
          <p:cNvPr id="1456" name="矩形 86022"/>
          <p:cNvSpPr/>
          <p:nvPr/>
        </p:nvSpPr>
        <p:spPr>
          <a:xfrm>
            <a:off x="717480" y="5372280"/>
            <a:ext cx="1536840" cy="309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图片 86023" descr=""/>
          <p:cNvPicPr/>
          <p:nvPr/>
        </p:nvPicPr>
        <p:blipFill>
          <a:blip r:embed="rId4"/>
          <a:stretch/>
        </p:blipFill>
        <p:spPr>
          <a:xfrm>
            <a:off x="3348000" y="5373720"/>
            <a:ext cx="27716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84994" descr=""/>
          <p:cNvPicPr/>
          <p:nvPr/>
        </p:nvPicPr>
        <p:blipFill>
          <a:blip r:embed="rId1"/>
          <a:stretch/>
        </p:blipFill>
        <p:spPr>
          <a:xfrm>
            <a:off x="357120" y="2305080"/>
            <a:ext cx="8429760" cy="22478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84995"/>
          <p:cNvSpPr/>
          <p:nvPr/>
        </p:nvSpPr>
        <p:spPr>
          <a:xfrm>
            <a:off x="852480" y="378936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84996"/>
          <p:cNvSpPr/>
          <p:nvPr/>
        </p:nvSpPr>
        <p:spPr>
          <a:xfrm>
            <a:off x="3414600" y="378936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84997"/>
          <p:cNvSpPr/>
          <p:nvPr/>
        </p:nvSpPr>
        <p:spPr>
          <a:xfrm>
            <a:off x="6072120" y="378936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84998"/>
          <p:cNvSpPr/>
          <p:nvPr/>
        </p:nvSpPr>
        <p:spPr>
          <a:xfrm>
            <a:off x="1116000" y="414972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83969" descr=""/>
          <p:cNvPicPr/>
          <p:nvPr/>
        </p:nvPicPr>
        <p:blipFill>
          <a:blip r:embed="rId1"/>
          <a:stretch/>
        </p:blipFill>
        <p:spPr>
          <a:xfrm>
            <a:off x="490680" y="1009800"/>
            <a:ext cx="8162640" cy="48384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83970"/>
          <p:cNvSpPr/>
          <p:nvPr/>
        </p:nvSpPr>
        <p:spPr>
          <a:xfrm>
            <a:off x="7869240" y="488304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82945" descr=""/>
          <p:cNvPicPr/>
          <p:nvPr/>
        </p:nvPicPr>
        <p:blipFill>
          <a:blip r:embed="rId1"/>
          <a:stretch/>
        </p:blipFill>
        <p:spPr>
          <a:xfrm>
            <a:off x="542880" y="1157400"/>
            <a:ext cx="8058240" cy="45432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82946"/>
          <p:cNvSpPr/>
          <p:nvPr/>
        </p:nvSpPr>
        <p:spPr>
          <a:xfrm>
            <a:off x="7916760" y="1197000"/>
            <a:ext cx="3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81921" descr=""/>
          <p:cNvPicPr/>
          <p:nvPr/>
        </p:nvPicPr>
        <p:blipFill>
          <a:blip r:embed="rId1"/>
          <a:stretch/>
        </p:blipFill>
        <p:spPr>
          <a:xfrm>
            <a:off x="533520" y="1109520"/>
            <a:ext cx="8076960" cy="46389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81922"/>
          <p:cNvSpPr/>
          <p:nvPr/>
        </p:nvSpPr>
        <p:spPr>
          <a:xfrm>
            <a:off x="7878600" y="2254320"/>
            <a:ext cx="32400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80897" descr=""/>
          <p:cNvPicPr/>
          <p:nvPr/>
        </p:nvPicPr>
        <p:blipFill>
          <a:blip r:embed="rId1"/>
          <a:stretch/>
        </p:blipFill>
        <p:spPr>
          <a:xfrm>
            <a:off x="495360" y="1090440"/>
            <a:ext cx="8153280" cy="4677120"/>
          </a:xfrm>
          <a:prstGeom prst="rect">
            <a:avLst/>
          </a:prstGeom>
          <a:ln w="0">
            <a:noFill/>
          </a:ln>
        </p:spPr>
      </p:pic>
      <p:sp>
        <p:nvSpPr>
          <p:cNvPr id="1470" name="矩形 80898"/>
          <p:cNvSpPr/>
          <p:nvPr/>
        </p:nvSpPr>
        <p:spPr>
          <a:xfrm>
            <a:off x="5068800" y="3301920"/>
            <a:ext cx="324000" cy="27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8:22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