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1DD9-ABF4-4E41-9326-FB602B059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2CD9-E677-48D3-841C-C10B3641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ACE54-C639-4861-8B04-9AAC767F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B4F57-3C82-4489-8163-364BA632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E617E-4FCB-46DB-B39F-07F28835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022E3-80D8-4C67-BF8C-666B589A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03FC50-1087-4181-A16E-F536AEF1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E13F3-1580-44B8-B8AF-240D939A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468DB-36A3-469D-8082-50AF261B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1FDA8-F946-4EE9-AE4D-3302408A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11F55-555D-400D-BA91-56FFA587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B277D-ACCD-41DC-A4A2-930B3A15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7013-D490-48B4-B824-1F4179920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3096B1-8F24-44CE-8257-FAACC39B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41E247-8DAA-4BCF-AFC9-6693546C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EF938B-8C14-4CC7-8B71-0FFE1A71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E9C60F-733D-48C4-BEBE-014E1EB1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38BE7-118E-4853-A9B0-D91A5F84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DE37C-66FC-438C-ABB5-DEEC79DE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C3FE3-BEE4-497F-B7A7-B1162C8B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A79D2-0D26-4522-A7F5-AF579176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A2C50-F5D9-4FF5-9756-8A2CE8E9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2C062-44D0-4AD4-8A25-CDDAA8F3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6A31-5117-4A46-BCF2-4F9DCBBFC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CB322-91D0-4841-A16A-22C78FB6E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5CD1E-9FC3-4D09-AAD8-08FBC086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01BC7-1FDE-4FE6-A73F-8C361CE8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9EDE4-F8E3-40D3-B4DF-D3C7F90C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61975-FE76-4EEE-B98F-2525B689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0B791-E690-40BD-866D-5FC7B41E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B53C9-2187-46FA-BA6D-4F7E2B02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5BE49-2B1D-46FE-8B15-7A47BFF6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78385-7831-4FA8-96E1-D263BFFC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BE774-8001-4E0B-A867-3A11343F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1ACD-62DF-4E77-8076-9601FA5AB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04817-156F-47B9-9C8B-FB8AC787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9DFB9-79CF-4376-950A-88FBC8F29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99A21-CFCB-41B3-8524-056A4C8DC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8BC63-8FC7-4FA1-9D0C-EE734667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B071D-CBED-4171-82B7-60CE6927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7202E3-5CB1-4EC7-8187-5938A58A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1A899-483F-4A8D-B9DA-66CB3BAA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5980BC-567E-4E30-A7A2-F4282140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0F6F7C-0632-4512-A129-F213755D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58C2FA-E2DC-4CDE-9D1A-29170C8D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7174-2541-4266-83A4-B7D5E874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72347-E686-4000-8A9A-DC1CD99E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F4CE0D-6096-4709-AE18-7F2A4C91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4452D-C2E4-45FA-90E3-F1881DDE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782BCD-8600-4F29-8079-3EBD26A16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982B4-9733-4345-ABBF-ACA15072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BF0AE0-BD45-411E-B8B7-1289078D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A352BA-1AF9-4F17-8B73-CD058E34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620B16-1815-4872-846F-9A0DCF4F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72202E-6433-40AB-972A-8B5EE267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F57100-F1DF-4F5A-850F-7AF0AB25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8229-CF41-4F79-BF9E-9152A503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53746B-B139-4D4E-BB4B-43475CDD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847167-C142-49EE-B46C-055FF426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500712-D5BE-4970-AA6A-BB40E27E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0CE5CD-D83F-40F7-A736-96CBE6D6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B0AD90-04F2-4F6C-B921-008BADE1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AD7FEE-285E-47A4-A482-7BFF8F8A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C47765-805D-4F19-BB44-285203A58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8B64B9-4D93-43A1-9619-EEC3C046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7215D6-1F86-44AD-8AAB-DB964F24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E09159-55A3-4C9C-AC1F-AA03B573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0443-BB23-457C-81EF-4A8C9E07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1FEBDB-60CD-492F-A2F9-3D75777F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5BAF88-B77D-40A6-B3E0-4B88B651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18770F-5A8C-4616-AE55-A78171DE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26725A-5516-4EDF-A976-6D8493EC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D966F2-D2BC-4E58-8F9F-2D65FBC5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588629-77D4-43CE-ADDD-88808B45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FC9FA4-87F7-4895-ABD9-8B6C8EAA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711DE5-2027-417E-B26A-E3560744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0AD656-20FF-4321-8E46-815BE93A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A7C44C-4059-4072-B602-913A0A74C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2518-6293-40B7-9E10-5EA9EB90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A4D2C0-3724-4AA9-8085-0EBED3CE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DAC127-1D17-46BB-B09E-7695818A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00D0D1-8DBE-4CA3-846B-A61E7026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9F4181-4D1C-48CC-87B7-4FCEC57C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5715A1-58E8-489B-B20A-A72FB1A6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475D0B-9D37-4153-AE26-814BD221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ED6E66-9651-42CE-8BB7-EE1C4180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102105-B044-42ED-B4CC-01455532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6FF2DD-58E8-4275-AC08-4692AEC3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205019-C58A-4B41-BE8F-194518D1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0397-8EE2-4B5B-954B-D7B0BAF5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8E289C-07E3-4397-BFDD-6E4029C70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A9CA7D-FA93-4790-9BA9-9C57CBDB7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12CEB1-2361-4E58-9BD0-77890006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64CB33-62F0-4D47-A441-0860D19C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DA9F8A-3A86-419B-B560-CC0CB32F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D1045E-907C-4847-88B2-0F2E6A77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05948E-8B6C-43A9-AE16-DD35AFDA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FEC035-5D79-4C0C-96D2-0CC29A61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370A0E-BADA-492E-BFC9-950BAF64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57E633-3308-4DDF-90CB-D458C7B1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4459-B654-4EDE-9BB4-4825B3A4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259A4A-D53A-46DD-B70A-F297658A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037243-58A0-4072-B27C-5DDDB4DD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AA34F0-9B92-422D-920D-808B862B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AFFC76-80BB-4240-ABF2-D89C65A9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ACC724-F71D-4956-80F3-2C474623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558B20-3D12-42FB-B35F-09CDADCC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E660DF-40C0-4026-854E-BA00A9EB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6A0FD7-94F7-4314-96DF-34FC213F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38A68F-30A2-49A5-B9C2-0F844D94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CB82D7-5705-45D4-8D71-889FE4C5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1FF7-BED5-492E-BBDC-14B67403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697E-18A1-43CF-B08D-C39EAE06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CDAA7B-4553-4DF5-B10A-F225E92D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737EB8-FE99-4DD7-8BD0-30EF61D7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DE6547-48C4-4E30-A29E-16D9666E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1E00AE-7027-4EC9-AAF5-879FE613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F9B9CD-8975-4D65-B7DF-65B4BE86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43B3C7-9F13-4B6D-B9C1-CAE82B22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A2E4B9-F002-41B2-8353-F00E0310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EEFD7C-57C0-4724-8AA8-300C3E28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653282-E9E0-492E-B92D-BD047FEB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F5152D-04BA-4866-8E45-3E124A70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7C28-FE08-46B1-A66F-913CC3A9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286711-059E-4C0A-A310-9A80BEB8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41A512-6D5F-4339-9B5F-78AEFC81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0F1768-EB25-4924-A405-BDA4AB87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55E18E-7726-42AA-91A2-4329B17B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EA084B-4057-4C40-B936-10ED5146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66EF11-DE00-42FB-98C0-7EB8EA6A9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904CE5-05EB-432B-AAD7-A1BA9110A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CB4DE9-1434-494B-A979-54EA6D316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F5C24F-579C-456C-A57E-C9DA91D0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DA7AD8-1821-418C-ADAA-39105F98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5A1D-E874-4C07-8752-5EE957C3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395F78-CA96-4F22-9816-5924BA71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C110B3-45E8-43FF-B8D0-04A74755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43B62B-F531-4A08-AAF2-719B2149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5FC663-8AB7-4242-8A0A-CD919E41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9AAD4B-DA58-4516-B490-FDAAD2AA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97E722-01C7-4F2F-87F9-815C3F85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64AB5E-7135-4DAC-977C-B673C40F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719C6B-8F5B-476F-81A5-31598D0EC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00FFBF-8A5C-4D3E-9500-8C0C28E8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4DA2E6-A307-4A87-A06C-20828552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123F-C011-4D05-B14C-4F2CF5602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888019-C9EA-428E-8292-952A4B17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623B25-92CF-42C3-B149-325B5F84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E57B10-1EC2-4C62-88D4-C1CBF17D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2FE2AB-536C-4EAB-89CD-F6924AE7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10365C-1316-41D5-AF92-1940A0ED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DBFB6F-3C54-4ABE-B4A8-E310283B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EDF2B8-4009-44EE-B01B-AAA24787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3EA80B-9273-43F6-97E0-FD6EC400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ADD382-9D4B-4586-8641-48697F91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B5FF0B-2992-4029-B29B-D91EB4BCB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D4F9-BFDF-46CA-B696-9E88111AE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E0296E-0020-4601-A623-5FAC6910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C439DB-C07A-41E3-A205-A6634D493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D9C91E-E7EA-4B2C-B391-28B935D6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290ED3-E125-4CF4-805C-744A0A04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F82746-8FE5-48D0-816D-2E154BBC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99CBD7-296A-4160-B207-C27C7F6D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BE65AD-59F9-4C7F-8550-A3908733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D3AA27-724A-4E8C-B125-1FADD805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FF5627-EB8A-4014-821C-2A3A2540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CEB825-46C4-423D-B1BE-70C86610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D2619-5F42-40A6-B8AD-2159F7468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9DF419-2DDD-4398-ADB1-97177072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8FDECD-B31A-439C-B94B-FE28A2AB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EB6D36-CA08-4653-954A-2270702FA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07C5C-FF04-4297-8987-B0FC15C9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C35C1-912C-4F18-83B0-E7076A96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9AE54-868E-4A90-9383-BA4CEA0A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2A31C-9F4A-4F71-8297-74314386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DD75-2A04-4A59-AB06-0192EB3B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4D150-512C-4420-83EA-4E762571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57AFC-FD9F-419C-A9F8-0CB7B08D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C9994-8465-4CD4-95DB-45B9629C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43716-882C-41A4-A778-ACB190BC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9BA7B-3F4A-4D74-AAB9-2B03C175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B4AFB-4D33-4FC0-992C-0CF46E35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35BE6-4F7A-470E-8B7C-D59C92AD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E7C9A-6A4D-4B68-8025-31F7AC6F9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3D2AA-FCBC-42A7-9474-29995333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FFEF4-C316-448C-8724-2A0F2904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A5DD-58EC-4CAC-9AF4-5ECB9351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450F2-00C4-436D-80EA-FF42B343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18D59-533B-4041-BE3A-FCC380C8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9EBF8-8D9D-464E-911D-AF6AE7D8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E2039-AA44-43D8-B7E7-2F82F275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3527D-5DEB-417F-BCFF-4E889AB6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21A50-CD32-413A-8869-6EEB0355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63148-E32E-48FE-BBEE-1475776E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F0D0A-AB16-4D2C-B4F9-F97B0654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3F40D-1A4C-4866-A586-977DD0EB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5647C-BC80-4CE8-B793-57438E8F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8DFE-8FCD-4A31-91C1-AC1FFEA0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27498-651E-44F9-8ED1-5A9A0DA2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793AC-A6AC-4C4B-9BFB-C169C45C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44C15-3B4B-4FDB-8DD1-EE8CDA62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76AA5-945E-4D8E-803A-31972573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C9DA3-EEFE-4BEE-9765-19AB2E61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D1A80-DAF9-443F-AB05-7ACDA645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000C2-B3BE-4F96-828A-5085A6A2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7CD7C-33D2-4000-B97E-B746A9AE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6CFDC-2C6A-4740-A118-3EBEF191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A91D1-96AA-46D7-AB2B-32F60CDAE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2C11-4CA6-4E9B-9BE4-1455A257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64FA4-8EB1-49E6-82BA-DFD3EA3EB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AF7D4-1100-4C31-8CF7-0023C5FB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EAA51-C2B8-4496-B3E2-12B7A447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71B81-7A0C-4DCA-94DD-11C40B6C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6D3A2-7A84-4B24-ADB2-1DF844C3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943CA-AAE6-4752-8351-9B20DBFF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6272E-0D05-472E-994F-71B197FB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5C126-2ECD-43C1-B20F-7AB1EE21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5BC5A-69D1-448F-9D70-5F33C277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0EFB6-2C99-4B66-87B2-8A5D2AF1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71A0-37EB-4FD9-A2FD-820E97D7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9E4A8-D016-4E5C-888D-16A2A873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3780B-C3C2-4CC3-93EC-7F27D69CB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81CDA-7C51-4D6E-B10B-77F734CF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262D8-4B27-4722-AC2B-F098BC89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A000A-1F66-47A9-BAEF-92A5E892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0BFE2-C799-4E20-948B-83E4CCD5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02349-59AA-42C8-8448-080743F6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258AD-FF27-47A5-948C-A3977CB7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338DF-6722-4E68-856C-50A13BFF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125B3-9F29-4AC0-B436-2B8F5838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F34E-123D-44C1-A4AA-9C6DE876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E3EEF-D2A1-45F3-AFBC-23825530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ADEC5-DAB0-4DCF-9C39-EFD7A2F8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5E095-3F8E-480F-B9C4-29FCCDA6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A48B7-A132-4443-B261-1E0AC6069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DFFA5-46EA-4C7D-AC68-FE3C67F3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EB261-724E-4C13-BA9D-6788A2FAE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8FC68-F142-4EF7-9025-68279D0C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9AB22-3AB9-427E-AB2B-875A6744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7B429-9C78-4EEA-B2E2-C4F1F5D8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090A5-6D90-4B08-A793-D3471555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1FAF-DAE8-4497-BD73-B3273BF5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BA6CC-7501-42C0-B70E-B4E4E1B4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11F99-3362-4E49-A9B3-EA490845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9D5F5-07EB-4487-BBC5-84AB964A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56967-73D5-40E3-ABE1-DA52DE64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31003-7AC2-4A85-B35A-59B5A9FC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D03E4-876A-438E-BCBF-16D63B357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EAA97-ACF2-46EB-9A60-AECC56338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F1D1E-BBEE-4BCB-83D8-30EC4726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C441B-495E-49DF-BD2C-2CBAAF8F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5FBBB-A5EB-41CB-A140-1F71159A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513C-6B0D-4CE2-9697-9D476757D3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A508-023F-4F16-B9A1-1E9F7A7EDA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5B67-FC12-40E8-A725-7DACDF46CF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2155-D3E3-4714-8E62-F2CCD30FF3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94B7-1878-4649-9461-B9F0D568C6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6245-71C4-4CC9-8137-71585EDD65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C534-A3A2-4A91-A472-42D47C463B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254B-15CE-4F77-ABF5-CB59009605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DC5F-FE7F-4709-9462-A159F111FC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1803-44CC-4B46-942E-3185D3DC57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BBE2-B26A-4F7B-84A7-0EC53AA1AC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8129-4E9D-42FA-AE3A-21E491C91F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A23C-7B5A-490E-8B00-93CCB86E96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DD36-9A0C-4656-A913-BAC7C84288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5451-2E53-4D65-BCE3-150B7421DD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D22C-F458-47E9-9186-4415B3C8FA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8C21-0BE9-4CAC-BCAA-99E6408A78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94DB-8416-4405-96F9-61F41A9C34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20DC-57CB-4B27-8FCE-EDBB959296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B737-C1BE-4EBC-A0A3-BCE7514DD7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0F9E-7541-49B7-869C-B8E5199A6C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3188-1B5B-43BD-BC26-AF3CAEC656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6853-7E0D-4849-836B-CDB6E39679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E74C-E892-49CE-A655-BF25E31B9D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A0E2-F5E4-4844-9AC3-F176741FAA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C9F5-BC54-4CE8-8C24-5126F0CD08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6545-ACFF-4FB0-B5D3-CC6866E899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EBD7-70CF-4381-921B-8C33188029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1CB4-B8AD-4A0A-92CA-784ED58A47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E1D6-CBE1-4278-903A-B14410FEB9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E8D5-F425-4574-82E0-3AABA0842D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817A-56FC-4F2C-B57D-BDBBC9E174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752E-CF8D-4955-A5A6-70E0A82253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2ADD-5EC7-46B2-AF78-F878FC8B72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C519-9BCE-478C-947B-EE4553972A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0085-0527-49FD-A318-95922DAD35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2665-6934-4E35-9770-D171DFC9E1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3CD5-FCE7-4E51-90F0-833FEFD174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B789-FB2F-4A85-95AE-1E276D26D6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3FB0-A4E4-498A-8353-61247BC0DB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90680" y="3224160"/>
            <a:ext cx="456264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57120" y="828720"/>
            <a:ext cx="8429760" cy="52005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633680" y="2133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851280" y="2060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940360" y="2133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8229600" y="20750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1619280" y="25938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3836880" y="252108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5925960" y="2593800"/>
            <a:ext cx="360720" cy="3207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8028000" y="25351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1663560" y="2997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3751200" y="2952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5970600" y="2997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8217000" y="29383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1663560" y="3429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3767040" y="3398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6083280" y="3429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8231040" y="33703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755640" y="479736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9"/>
          <a:stretch/>
        </p:blipFill>
        <p:spPr>
          <a:xfrm>
            <a:off x="1763640" y="4379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0"/>
          <a:stretch/>
        </p:blipFill>
        <p:spPr>
          <a:xfrm>
            <a:off x="2987640" y="479736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1"/>
          <a:stretch/>
        </p:blipFill>
        <p:spPr>
          <a:xfrm>
            <a:off x="3995640" y="4379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2"/>
          <a:stretch/>
        </p:blipFill>
        <p:spPr>
          <a:xfrm>
            <a:off x="5219640" y="479736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3"/>
          <a:stretch/>
        </p:blipFill>
        <p:spPr>
          <a:xfrm>
            <a:off x="6227640" y="4379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4"/>
          <a:stretch/>
        </p:blipFill>
        <p:spPr>
          <a:xfrm>
            <a:off x="7451640" y="479736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5"/>
          <a:stretch/>
        </p:blipFill>
        <p:spPr>
          <a:xfrm>
            <a:off x="8459640" y="437976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9410" descr=""/>
          <p:cNvPicPr/>
          <p:nvPr/>
        </p:nvPicPr>
        <p:blipFill>
          <a:blip r:embed="rId1"/>
          <a:stretch/>
        </p:blipFill>
        <p:spPr>
          <a:xfrm>
            <a:off x="480960" y="1224000"/>
            <a:ext cx="8182080" cy="44100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900000" y="1916280"/>
            <a:ext cx="1008000" cy="18730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2397240" y="134136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3419640" y="1744560"/>
            <a:ext cx="2232000" cy="13683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5"/>
          <a:stretch/>
        </p:blipFill>
        <p:spPr>
          <a:xfrm>
            <a:off x="5205240" y="13413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6"/>
          <a:stretch/>
        </p:blipFill>
        <p:spPr>
          <a:xfrm>
            <a:off x="6443640" y="1716120"/>
            <a:ext cx="2232000" cy="13683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7"/>
          <a:stretch/>
        </p:blipFill>
        <p:spPr>
          <a:xfrm>
            <a:off x="8229600" y="13129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8"/>
          <a:stretch/>
        </p:blipFill>
        <p:spPr>
          <a:xfrm>
            <a:off x="1809720" y="469116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9"/>
          <a:stretch/>
        </p:blipFill>
        <p:spPr>
          <a:xfrm>
            <a:off x="4452840" y="467820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10"/>
          <a:stretch/>
        </p:blipFill>
        <p:spPr>
          <a:xfrm>
            <a:off x="7083360" y="469116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11"/>
          <a:stretch/>
        </p:blipFill>
        <p:spPr>
          <a:xfrm>
            <a:off x="1679400" y="5254560"/>
            <a:ext cx="287640" cy="2556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2"/>
          <a:stretch/>
        </p:blipFill>
        <p:spPr>
          <a:xfrm>
            <a:off x="4452840" y="524196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13"/>
          <a:stretch/>
        </p:blipFill>
        <p:spPr>
          <a:xfrm>
            <a:off x="7080120" y="5254560"/>
            <a:ext cx="287640" cy="2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58373" descr=""/>
          <p:cNvPicPr/>
          <p:nvPr/>
        </p:nvPicPr>
        <p:blipFill>
          <a:blip r:embed="rId1"/>
          <a:stretch/>
        </p:blipFill>
        <p:spPr>
          <a:xfrm>
            <a:off x="399960" y="2209680"/>
            <a:ext cx="8344080" cy="24386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2"/>
          <a:stretch/>
        </p:blipFill>
        <p:spPr>
          <a:xfrm>
            <a:off x="1692360" y="386064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2627280" y="2852640"/>
            <a:ext cx="1152720" cy="16560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4"/>
          <a:stretch/>
        </p:blipFill>
        <p:spPr>
          <a:xfrm>
            <a:off x="4716360" y="385272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5"/>
          <a:stretch/>
        </p:blipFill>
        <p:spPr>
          <a:xfrm>
            <a:off x="5651640" y="2844720"/>
            <a:ext cx="1152360" cy="16560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6"/>
          <a:stretch/>
        </p:blipFill>
        <p:spPr>
          <a:xfrm>
            <a:off x="7812000" y="3908520"/>
            <a:ext cx="358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图片 57352" descr=""/>
          <p:cNvPicPr/>
          <p:nvPr/>
        </p:nvPicPr>
        <p:blipFill>
          <a:blip r:embed="rId1"/>
          <a:stretch/>
        </p:blipFill>
        <p:spPr>
          <a:xfrm>
            <a:off x="552600" y="1490760"/>
            <a:ext cx="8038800" cy="38764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2"/>
          <a:stretch/>
        </p:blipFill>
        <p:spPr>
          <a:xfrm>
            <a:off x="826920" y="3933720"/>
            <a:ext cx="2808360" cy="3193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3"/>
          <a:stretch/>
        </p:blipFill>
        <p:spPr>
          <a:xfrm>
            <a:off x="826920" y="4292640"/>
            <a:ext cx="2808360" cy="3189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4"/>
          <a:stretch/>
        </p:blipFill>
        <p:spPr>
          <a:xfrm>
            <a:off x="755640" y="4619520"/>
            <a:ext cx="2808360" cy="3193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5"/>
          <a:stretch/>
        </p:blipFill>
        <p:spPr>
          <a:xfrm>
            <a:off x="826920" y="4954680"/>
            <a:ext cx="64818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图片 56324" descr=""/>
          <p:cNvPicPr/>
          <p:nvPr/>
        </p:nvPicPr>
        <p:blipFill>
          <a:blip r:embed="rId1"/>
          <a:stretch/>
        </p:blipFill>
        <p:spPr>
          <a:xfrm>
            <a:off x="162000" y="1038240"/>
            <a:ext cx="8820000" cy="48387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2592360" cy="3189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3"/>
          <a:stretch/>
        </p:blipFill>
        <p:spPr>
          <a:xfrm>
            <a:off x="539640" y="1785960"/>
            <a:ext cx="2592360" cy="3189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4"/>
          <a:stretch/>
        </p:blipFill>
        <p:spPr>
          <a:xfrm>
            <a:off x="395280" y="2133720"/>
            <a:ext cx="4608360" cy="3189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5"/>
          <a:stretch/>
        </p:blipFill>
        <p:spPr>
          <a:xfrm>
            <a:off x="5148360" y="4219560"/>
            <a:ext cx="2592360" cy="3189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6"/>
          <a:stretch/>
        </p:blipFill>
        <p:spPr>
          <a:xfrm>
            <a:off x="5148360" y="4521240"/>
            <a:ext cx="2592360" cy="31896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7"/>
          <a:stretch/>
        </p:blipFill>
        <p:spPr>
          <a:xfrm>
            <a:off x="5146560" y="4869000"/>
            <a:ext cx="35290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8" name="图片 55300" descr=""/>
          <p:cNvPicPr/>
          <p:nvPr/>
        </p:nvPicPr>
        <p:blipFill>
          <a:blip r:embed="rId1"/>
          <a:stretch/>
        </p:blipFill>
        <p:spPr>
          <a:xfrm>
            <a:off x="152280" y="1438200"/>
            <a:ext cx="8839440" cy="398160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592360" cy="31896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3"/>
          <a:stretch/>
        </p:blipFill>
        <p:spPr>
          <a:xfrm>
            <a:off x="755640" y="3357720"/>
            <a:ext cx="2592360" cy="3189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4"/>
          <a:stretch/>
        </p:blipFill>
        <p:spPr>
          <a:xfrm>
            <a:off x="4932360" y="2984400"/>
            <a:ext cx="2160720" cy="31932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5"/>
          <a:stretch/>
        </p:blipFill>
        <p:spPr>
          <a:xfrm>
            <a:off x="4932360" y="3344760"/>
            <a:ext cx="2160720" cy="31932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6"/>
          <a:stretch/>
        </p:blipFill>
        <p:spPr>
          <a:xfrm>
            <a:off x="7164360" y="2971800"/>
            <a:ext cx="1584360" cy="31896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7"/>
          <a:stretch/>
        </p:blipFill>
        <p:spPr>
          <a:xfrm>
            <a:off x="539640" y="4365720"/>
            <a:ext cx="4319640" cy="37764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8"/>
          <a:stretch/>
        </p:blipFill>
        <p:spPr>
          <a:xfrm>
            <a:off x="539640" y="4784760"/>
            <a:ext cx="4319640" cy="31896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9"/>
          <a:stretch/>
        </p:blipFill>
        <p:spPr>
          <a:xfrm>
            <a:off x="468360" y="5097600"/>
            <a:ext cx="431964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8:01:05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