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F441-CC5B-4726-B6D3-D79924D04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FD9C-D962-4AF5-9721-D2E6E5EA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BF990-3D89-4B6D-A5AE-7E34F072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9467B-9995-4938-B9B8-1BB33CFC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621654-FD15-42C3-8446-CC29F9A4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38FBD-FE91-4A4E-AA7F-040A4111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A977C-10D3-491F-B162-D7BB26DB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20866-95D7-48C6-962E-65A719C4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48543-780E-4A7A-87E7-530C1752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EB068-8D3E-46CC-ADD1-025B71447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D5A15-51CE-498A-BAF6-7849B7805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A9AE44-47AC-4F44-BF09-9A6DAF695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A013-6917-4116-93D9-7BBA0D162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0111E-275B-4D06-A11E-9D37B2EA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06F5D-BD43-4A0B-8F08-B3E6709C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A612C7-06DA-4CCD-BC60-C96CA2BA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CA73BC-9FA8-4594-8BA9-9A8EE04A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12D1B1-BA42-4956-B28B-99EA95D0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165E0-DE67-4D98-89AF-70DA61AC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2C40DB-246D-4A35-B099-C930FEB5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075E32-E370-424E-8D89-2A222F1D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85076D-AB5B-4C2B-BAC4-0EA4B934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DEE91-1506-4A43-BCEB-875B9046E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F24B-8C94-4348-8FA4-180E58941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8365FA-FB4F-42D4-AB92-852BFE838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8E2EB-A175-4833-99F9-24D75D831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865DB-8002-427F-8BE5-D1B4093D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2CE43-B698-4AC1-A2C8-BF51ACC7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A5A458-370C-4491-8B10-42836B52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9CC1C-7719-41FD-8AD2-8E419144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B9C24-21D3-4B30-9CBB-2845AB99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F5883-FD80-422E-9850-57758A06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CED83-0CB0-4633-BDE8-CBBB61D1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060A2-0652-4397-9A9B-9C9D0050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750A-8483-411C-84B2-0F2C8554D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277CD-D898-4C81-AE3F-224E541F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20EFD-302C-4201-879E-3AB1FCA44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C6A0E-69CC-45CF-AE0D-D7891BCB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7C877B-DC00-46C5-B7CC-491EA66A3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208B1B-D3C1-402B-9D5D-E4DACABE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B12252-80B2-4C89-BFA8-903E3B8E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FE779B-DFF0-40E0-9AF1-D1823441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8E65F0-F784-4EC6-B9E8-BF57B129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5E861B-1778-48F4-BAF8-091B7016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42DC6D-AE03-4C46-9209-DB5A6B74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ADFD-0FD9-4278-9BE6-4EAE0CF5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E63C0F-0B99-4741-8819-3D1B756E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1A8735-2B8E-41F7-B51E-1C4D6FB9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CE8C0-94B7-4D02-AFB3-02BF279E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BF44B1-69D1-4DB6-A3D1-DD9560E59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BEC668-ADFA-4DFE-BBBD-E7DBC2962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82F609-A9A1-454C-864B-0C453F253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54A410-E7E4-43DC-A461-B13102FE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715A9E-149C-45EA-B29C-7318F347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C117F1-C75D-4D4D-ABBB-CD8FA067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37D1A1-FE93-4BD9-B1ED-DEE81DDD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47F6-EC80-4391-908F-D1AC7E98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1BB6A1-63D3-441B-9EFD-187B5EF0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3196EC-2905-4CF7-B42C-BF7F9EAA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F1A0A4-7EA6-4045-AF33-201B09EB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44D3E6-D84D-42B6-A67C-3AB6E526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C5A497-2EA6-4E38-8CE6-180C780F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32C258-1437-4CF5-A2BD-5C522D0AD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74EF61-9D62-444E-ABBC-522E6D08A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25DDFE-44AD-4245-852A-47DFE73D1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C0B3A3-E492-498D-A961-8A6893F0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737582-6CC2-4F15-9BE2-715EAA0F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63C7-3963-48D6-A2C2-6DCCF4BA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C571CA-2E64-4DDD-B875-E4439EE7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17EC95-3230-4A64-9543-A3CFE349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B60466-C7FD-4635-A73F-4F1DA3CD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401630-5D5F-4126-8056-70C00DE7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FAF17B-E646-49B2-9D63-7F070326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B608A4-A02A-452E-9180-0D314AA4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2897EB-5B7E-4FE2-BC6F-1034979E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7650E3-3B1D-406D-8E5A-0ADD8C894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AE8BE1-4CDC-4EC6-ACEE-CC1723AA1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C4968A-081F-4CBB-B2BF-BACC60A8E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1AA0-FCC6-4E78-9935-6F325D20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362515-6E7A-49A8-B938-EAA1278A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F48F12-CF93-4406-BE48-416A661B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058E28-06C9-4409-A24E-7972336D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A68016-3D9B-4450-B28A-8080957D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C67045-88D0-4775-9949-42DBC914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36A16B-960A-4537-8C15-B8B35284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57D56A-42EF-4362-9EC5-AF423508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3679CE-39DD-4138-81BD-5E20F2BA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522042-F630-4B16-9398-5C614942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924AA6-6EF5-4EB9-BCD1-CFFE66B55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7E21-E70E-46FC-BFF5-E8F758D7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EC6853-4818-4CD1-95C2-5FD6D3858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65D366-4413-4745-B495-71FCE867F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6D61B1-F010-4C87-A958-DC16AA5A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04A917-697F-4C07-A0AE-0F60E617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8EDA80-2F8B-4DC3-A549-12A3F1D5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BE5863-BE47-4D77-BE86-1105B2F5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1280A0-6D28-4E50-AA78-CBE5686E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67E48C-08DB-487E-BB91-0E446EC8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EE876B-9F53-45C9-946D-49EB4214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5747EC-9E32-4F44-9D09-ADAB9853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2B31-2D40-473F-B5B1-19DF6E1E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9085C7-7B5D-48B2-B3A1-AE83BAC8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3F44B1-7AA9-4933-933F-B8C3359E3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4627C7-BC5E-46A7-A860-EAAC7D2CE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892021-5028-47F1-91D3-F9FC15479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9F1A4A-5B0F-407A-82F3-35340BA8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C9399C-9D44-44C7-8D43-8C903BCD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A1591A-85DA-47A5-BBFB-9A00CC43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35FE80-19FC-4B0C-893D-056FA27E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3DA5E8-ACAB-4403-A108-4241EB8E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25184C-4324-46C7-AF6D-EE93AFEB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E80F-0A30-4BFA-A254-0A6C4DBD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246C-F8EC-4C0C-AF6B-5F318DD5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FDA908-4759-49BD-9B32-47EC04A6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17CF54-9B8E-4717-BBC1-47EEDA71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3C725B-3501-473D-9462-7B86399A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281751-089D-49D0-9DBC-4CF87BE0D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9E4181-0CA2-489A-9C5A-1B9B427D2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A12E1A-2900-4082-9B84-5AC14F50B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CF8F28-32FD-4195-9D80-AB0384BF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9825FC-0EE6-4C43-BD7E-505CB12D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D8FBF3-91F5-400B-92E9-FEEE5C44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8A1D7C-32F8-473D-AD6B-4DB9B622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A644-6E05-418B-AD97-311111F6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BD983F-AB38-4818-8ABE-0DD2D454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3DCA3E-0C27-42AA-B391-1F3A84C1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F905F7-E8D7-4D49-94DC-DAC87ABA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901352-A121-4126-B129-BAD91BBB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7194EF-8FBB-4FE4-A854-3297FC9E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C81D2A-F987-43E8-90F6-A9C9B7BC0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D5B562-9923-4C9C-801F-B78DAB9C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1CD204-C55E-496F-A723-33B09C8F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5D8FCA-8F70-4559-A0EC-99E1443B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7D40D9-6BFD-4307-88B0-4674088E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421D-3EEE-44FD-A1E2-302D8244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597546-4F9E-40E4-A934-D306A151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B58BAD-495D-47F5-A329-DEB391B9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1D86EB-D1E7-4ABE-A2EF-80684DED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74707D-EBE9-490D-872A-BBD5D147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37CC7F-0639-493D-8F81-A5807C0E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BA54AE-89B9-42A5-BCA3-478FD0F1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28D8A0-CCD8-48F1-A9DF-662CA71D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142AF0-6712-4FC8-A3E5-D5E871509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D897D0-EC06-43A6-9346-4766DB07E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161C0B-1340-400E-B9DD-63AAF3871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6AE4-7A6A-40E4-9B4E-16C943808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5D1F0D-E53B-4111-981D-27994EEF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F79500-0181-497A-B1DF-2A751942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D72E6A-915A-46E1-9809-795B4C54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59C1E6-DBA3-4E67-A772-9ADF3252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DA8004-D1B5-428F-84EC-B5B68047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6702FB-8A74-4B66-9E18-8E6CB142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2991AE-74E4-4B03-9250-3FD50A89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148903-32D7-40CB-9FDB-78A954E4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36DC89-6FEE-4518-9B90-A62121F2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4CCE55-F24B-4BFE-8BD0-A2DED29B2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7E56-17C1-4088-A171-0A49CCBEA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3F94A2-CC75-44A8-940A-822B4F687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DC0004-38FD-4343-8DC6-0F28A02F8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CBBB41-70AC-4E10-AA59-5B4E5998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E975A9-AD95-4150-ABA3-2C6F46DD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9DC615-2A4F-4273-A122-F0D5F66E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E557A0-D4DD-4466-8305-2D40D0DA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BF88E8-33C6-4AD7-9C41-E69AEDA2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34E8F9-E098-4959-8120-008C1264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641F6A-8189-4B84-9144-C7E24558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520431-C6F3-486C-A30C-30A6130E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CAF3D-C030-4917-9691-43D012407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2925A1-B999-4CE6-98E8-B5037F35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CD1D95-3B89-4101-8306-CF3E1718B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8BFBE2-85B7-4232-ADC2-06191F5F7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7F799-237C-4F7A-B2DE-188333BA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C4F4C-D431-4930-A548-20E41473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03008-FA58-4F47-8026-7F94B1C0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B464C-FFD4-4290-A91E-6376AD9B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5E96-7CB1-41E2-B12D-4B8E912D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A6289-9775-4FB9-AD8E-C1445427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86D07-D9C7-41CA-93E8-EC418FEF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ADA14-3494-40E9-AB9A-F4B01E79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2F74A-2F83-4D4A-ABAA-B2E880FF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1C518-ECE9-46A7-B4E4-FD24B595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8E480-E54D-4196-A786-8E05B1E09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44A03-A42A-458D-A233-48E3AE080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CE94B-0D68-4E32-8F58-1DDB1D36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FF24C-0D7F-4645-B9C1-10A6774D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90244-1B9A-4D30-B63E-E26E89D5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0245-ED5B-4101-98EF-35A17BC1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58CDC-CA49-4B56-9626-2190BC0A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BF195-40FC-4046-92E8-9889B946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1A40C-0322-4D61-84B9-51980D0F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AF129-6EA5-49D6-B9F3-9B326043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0F081-E154-4B0E-AE63-50E4209E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BF5A7-8D6F-4E16-98E9-2C3E5CEE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1DFEF-2059-42E3-9337-08FE65A0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AC608-580E-4C4E-B60E-F1BEC5095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DDF5D-CCE7-4AA2-843E-404D1A2BB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6E149-76BD-4C7A-83C5-785ADAD0C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335C-3498-4222-AE26-AF05FE88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A6230-A1DD-4318-ABDC-C790176C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874A2-EE3C-4084-AACB-F8D1BB7A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71C9B-40BA-4A23-96C2-F74EEEC4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F6979-7B7C-4C14-BC30-4CBEFB0E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E2C39-7D21-481B-B386-C5D50572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C35AD-01F5-4ED6-B6CF-B34C9BFC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DABEB-023C-4A0D-BCE9-0D8CA032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A8034-DAE6-4865-AF4D-C7CA9D11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11F84-CA20-41E2-A1DB-8010DAA6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C0AA0-7D9C-4F28-923D-079F0DB27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3A3A-30FC-434E-9AF5-FEBB9487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43E36-1CFD-4114-B135-F4956977C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E85D6-EA66-417A-8697-A106A2229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00060-83F7-4F35-98F5-994AB694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01704-4C08-4720-8F3C-99492E49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AB44A-B6B1-4233-8051-12C917B4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A43CB-8429-4126-AB34-DD346396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BBAF0-F228-4DFE-A949-D2CC2801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11FD1-D82B-4DAA-89EC-4725C488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35B5A-FC3F-47CC-ADE8-78B5A216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C978F-5859-406F-9AE6-0D3C8AFC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D295-0B3C-4BB2-8B5A-2A820D9B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16914-A90A-4E23-99FA-388E7D67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5CF4D-03FA-4F5D-B540-EB7D22F09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7D94B-ECCD-4123-8826-ED902524D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EE684-CF7C-40CA-B8C7-3B87115B5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7EB41-CD59-42E3-ABB8-FBD5275E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A0AD0-02A6-47C4-933E-3231FD03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7F293-FBBA-4F81-BE28-981BC76D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25DED-D182-4685-8786-908F1CBF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B25BD-0504-4421-96FE-9CEC8523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17E61-3D94-46D7-A6AA-EBBC4A4B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9227-A536-4276-B4EA-B83E90F1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FA5DF-E341-4B9C-B7D5-1BA0E440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9B4C5-8973-46D3-BC5B-35B973A0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9C637-3A0A-4E5F-BF50-E786DF1D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CBBE1-1280-4EAB-BE5A-50B4DE2B8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A4710-6A35-4E14-8C9C-EA2583177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D1334-ADF6-4904-BEEE-098D3BC4B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9A90B-0335-44D7-831F-D0C73B75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5A076-3AA7-48C3-9FE8-DE0BC765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26C78-0BA6-45DC-8F94-7E422E32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FDE3C-2A8E-4112-AD17-4F9F5BA4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DFDE-42D1-4B34-B0B0-6365A94A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C6EF4-AA49-4722-B17E-13C46676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61CBC-7D62-4F7D-A5A9-DA68DBAB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ACFF0-4974-4BB5-87D6-6D810F14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D07DF-6709-4E2F-B955-2EECFB81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85B57-7B56-495F-A75C-E91EA8B4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29BB8-42CD-4D66-A5E3-375AA658A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2F004-2ADD-4C25-8069-C7E3B3732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C2AA8-B465-4433-9056-9BA95E18C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1C18A-4AF0-4730-87DF-68EBE624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CF8915-244D-449F-8825-FC5033B1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8D26-588A-4D3C-AF2E-0B414E22C9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3C36-C793-48B9-ABCF-2414A89D10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2431-72CF-4AE1-9BF8-F6D39F226D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E381-6256-408E-BF72-751508ACF0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C859-3B16-4BA8-8CB3-5A44712BD7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BE51-57B9-48CC-A17F-91FFB81F4F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9BA7-75DB-4525-BA68-A8F5451D1F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9361-2743-4F16-9B75-68F31C2E0F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353A-BB84-4722-99E4-B3CEEAAA23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3B43-6CCA-415C-914B-C4E39BEB2B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766C-B079-4B81-AE4B-03105505AD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3ACA-6308-40A4-A1C9-E45D4F0D6B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1E71-BDA9-4CDD-8DF8-AC08F01995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AE8E-C769-4047-B640-D81688B1D8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FEB0-F462-4E6D-924C-E5745286E7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3509-BA89-42C3-A289-C0E21D6E54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1492-903D-45CB-8743-9E390921A2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4AD3-3DDB-49CC-9C5D-6FC28EE785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82FA-4863-4077-A9DF-6A4117FF67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E365-A759-40AB-BDA3-4371951848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F7F1-234E-4C22-AE46-3D02FF0C8E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9433-D8D7-4FEA-A30B-31333584AA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E27F-A091-4FF3-B7FB-6AA5A2A89B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AFF6-A39A-4502-A23F-B9DE5857F7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B84E-77AE-4022-8D2E-DDC24D3A24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0DCE-5331-4642-9561-7AD42AC9BF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EDC1-3F50-4362-A4A2-87F2A5B2FC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2532-FED3-4EC0-96AD-F2CCFFDF18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B8FE-4006-4D3D-8FA6-4BAAF4F486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4C22-6CCC-489A-90EB-4E6817CD96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5F3F-39E8-4366-A0A5-CAE3BE5E6F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C0E3-6194-41BA-A908-312E3B8E0F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1C71-D6CD-4166-9D69-FDB2BC411F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1D5D-DC32-46FC-86EE-B4CFE3E843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ACB6-F889-43BF-B73A-6138766539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8BE1-AE3A-4E6F-A57C-0D55CE19EA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1B3D-AEF4-4257-98FE-8F0D42B966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3448-F9B1-4DAA-BFB0-ABEBCFD5EE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06C8-04E7-47D9-8A17-6CD7EED3DD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D058-6229-43F8-B8F0-B5C11F849B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371680" y="2943360"/>
            <a:ext cx="440064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19160" y="871560"/>
            <a:ext cx="8905680" cy="55818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278000" y="2717640"/>
            <a:ext cx="144360" cy="2556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1042920" y="3068640"/>
            <a:ext cx="649440" cy="2556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1042920" y="3860640"/>
            <a:ext cx="649440" cy="2556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3995640" y="2646360"/>
            <a:ext cx="360360" cy="2556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2627280" y="3400560"/>
            <a:ext cx="720720" cy="2556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2800440" y="3068640"/>
            <a:ext cx="144360" cy="2556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2008080" y="1906560"/>
            <a:ext cx="360360" cy="2556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5680080" y="3068640"/>
            <a:ext cx="720720" cy="2602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5724360" y="3841920"/>
            <a:ext cx="720720" cy="2552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5767560" y="2997360"/>
            <a:ext cx="360360" cy="698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6516720" y="1873080"/>
            <a:ext cx="360360" cy="2556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8445600" y="2373480"/>
            <a:ext cx="360360" cy="2556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755640" y="4941720"/>
            <a:ext cx="1152360" cy="15829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2041560" y="4643280"/>
            <a:ext cx="514440" cy="25560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3502080" y="4913280"/>
            <a:ext cx="1285920" cy="1582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7"/>
          <a:stretch/>
        </p:blipFill>
        <p:spPr>
          <a:xfrm>
            <a:off x="4788000" y="4633920"/>
            <a:ext cx="514080" cy="2556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8"/>
          <a:stretch/>
        </p:blipFill>
        <p:spPr>
          <a:xfrm>
            <a:off x="5807160" y="4897440"/>
            <a:ext cx="2220840" cy="11955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9"/>
          <a:stretch/>
        </p:blipFill>
        <p:spPr>
          <a:xfrm>
            <a:off x="7610400" y="4618080"/>
            <a:ext cx="514440" cy="2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9410" descr=""/>
          <p:cNvPicPr/>
          <p:nvPr/>
        </p:nvPicPr>
        <p:blipFill>
          <a:blip r:embed="rId1"/>
          <a:stretch/>
        </p:blipFill>
        <p:spPr>
          <a:xfrm>
            <a:off x="395280" y="468360"/>
            <a:ext cx="7915320" cy="62006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1835280" y="2205000"/>
            <a:ext cx="360360" cy="2160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3068640" y="2205000"/>
            <a:ext cx="360360" cy="2160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3530520" y="1925640"/>
            <a:ext cx="360360" cy="21600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6227640" y="2205000"/>
            <a:ext cx="360360" cy="2160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6"/>
          <a:stretch/>
        </p:blipFill>
        <p:spPr>
          <a:xfrm>
            <a:off x="7389720" y="2205000"/>
            <a:ext cx="360360" cy="2160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7"/>
          <a:stretch/>
        </p:blipFill>
        <p:spPr>
          <a:xfrm>
            <a:off x="7812000" y="984240"/>
            <a:ext cx="360360" cy="2160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8"/>
          <a:stretch/>
        </p:blipFill>
        <p:spPr>
          <a:xfrm>
            <a:off x="7812000" y="1944720"/>
            <a:ext cx="360360" cy="2160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9"/>
          <a:stretch/>
        </p:blipFill>
        <p:spPr>
          <a:xfrm>
            <a:off x="2098800" y="3587760"/>
            <a:ext cx="288720" cy="21600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10"/>
          <a:stretch/>
        </p:blipFill>
        <p:spPr>
          <a:xfrm>
            <a:off x="3059280" y="3583080"/>
            <a:ext cx="288720" cy="2156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11"/>
          <a:stretch/>
        </p:blipFill>
        <p:spPr>
          <a:xfrm>
            <a:off x="4095720" y="3583080"/>
            <a:ext cx="289080" cy="2156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12"/>
          <a:stretch/>
        </p:blipFill>
        <p:spPr>
          <a:xfrm>
            <a:off x="5022720" y="3583080"/>
            <a:ext cx="289080" cy="2156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13"/>
          <a:stretch/>
        </p:blipFill>
        <p:spPr>
          <a:xfrm>
            <a:off x="6194520" y="3587760"/>
            <a:ext cx="288720" cy="21600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14"/>
          <a:stretch/>
        </p:blipFill>
        <p:spPr>
          <a:xfrm>
            <a:off x="2124000" y="4316400"/>
            <a:ext cx="289080" cy="21600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15"/>
          <a:stretch/>
        </p:blipFill>
        <p:spPr>
          <a:xfrm>
            <a:off x="3084480" y="4311720"/>
            <a:ext cx="289080" cy="21600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16"/>
          <a:stretch/>
        </p:blipFill>
        <p:spPr>
          <a:xfrm>
            <a:off x="4121280" y="4311720"/>
            <a:ext cx="288720" cy="2160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17"/>
          <a:stretch/>
        </p:blipFill>
        <p:spPr>
          <a:xfrm>
            <a:off x="5048280" y="4311720"/>
            <a:ext cx="288720" cy="21600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18"/>
          <a:stretch/>
        </p:blipFill>
        <p:spPr>
          <a:xfrm>
            <a:off x="6219720" y="4316400"/>
            <a:ext cx="289080" cy="21600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19"/>
          <a:stretch/>
        </p:blipFill>
        <p:spPr>
          <a:xfrm>
            <a:off x="5724360" y="6227640"/>
            <a:ext cx="36036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7:57:59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