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6AD-93DA-4A49-9796-A703A949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86E-9349-4A79-904E-328B10A3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00535-1E51-46E6-8A6C-CE2D20EF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DE7B1-03F7-45A0-A2DD-E2CDE555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83518-19BE-4DED-9548-EA92CEE5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41760-5EEE-4856-B352-F3C39719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66C16-3CC4-4930-AD86-6EE222BB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DEF32-FE97-47CB-88C0-6D7B7BDF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15661-89AC-45BE-845D-639922C1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55CAC-F994-43F9-9AD7-2752DF45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A16C2-9191-441C-BA0D-E27E7251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482B9-89F2-4CAE-AC5C-3F093C58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E7D-9BEB-41D6-B166-77B95623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636C3-7234-4E87-9E92-13D3DBBD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57B7B-A7B4-4755-A7C1-EFDDBC08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C1B24-18F7-4218-AB18-311A8AA2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B7890-405A-4509-9667-E6EFF49D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51CA1-BECC-4F35-B200-A9D477F4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EAACE-E502-4CBD-AAD1-870AD899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17867-E674-475D-900A-FC5CDA18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D735B-C170-4007-B292-060A3B06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60568-1234-4E7A-B123-A0FFE886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75B16-32D3-4BD6-A6FF-AD0C084A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F3C-0983-4950-BC22-D43C08D3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A9CAA-894E-4450-8402-FDC0942B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AF91B-EA2F-4B20-BAA4-3962E472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D4AD1-8DF8-4C3E-8EFE-85DA7BB8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E0182-2E1C-4967-BCB6-E9663EA1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85AE8-CA43-4BD1-9898-9F5A8318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68461-59B4-4BE1-A40B-44BE2958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31302-CA3C-46C8-863A-A6F9AABB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8813D-4CDC-498C-95DA-B69F5856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3C9B7-DB2D-4BC1-BC77-32049672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DD0A6-E694-420D-A096-CD2A4B55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0450-90C9-4B11-AB88-C706DAF7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52C29-A8E2-4AAB-ADCA-590ADA04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1E32C-D6E4-4DB8-B191-3E505DA9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FC1DE-C4F3-4E00-B33D-3898C726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5B680-F33D-4A43-B82C-BE5F5936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36246-97D0-4BC5-998D-0FC9C93C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68B80-2664-4496-A54C-8AA4A808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6E3BE-5E94-43D7-A6FE-30202C1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0C8E8-758B-4101-A097-0B9B1A59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1BED2-2158-48C2-902B-95501804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10F8B-FC9B-4F3A-89E7-B4D5E942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835D-6637-4739-9DC1-37962577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A7DF2-241A-4E94-AFEB-60715975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092E8-BCDA-4976-B7B3-D2731393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81637-A67F-4AFE-9B64-AFC404B2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1BAE0-0731-4DE4-946A-36E30BDB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25F93-2B39-440B-8AED-7B62216B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32A93-70AE-4334-8FA8-ADB8FA8B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8C15C-5ABD-41FC-AE0D-78C2D779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5732F-EFB5-4E05-9DE7-5AD5475D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8EC5C-952C-4F19-A5E9-C12F76C7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25985-BE88-40BD-8B24-E8295E11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A5E7-043E-4617-8B04-862A02CB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27902-B923-46AF-84A9-C5498DBB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A5830-E883-479F-9846-73A0273B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D58F3-075A-49FC-BB69-9F34B23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A2D22-8425-4F68-8F42-039CCB6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18592-98DC-4DB8-9C69-EEB907C3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C748C-1070-4FAE-A311-B20CF316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3AEFE-BABD-4664-94AC-8A482F9A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69BC5-63BC-496B-A3B9-632C4B24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50A3F-073A-425B-B067-163BCA73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3F37B-6026-4E65-9306-1B2AF780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2874-9E4E-45FD-B2E7-FEC1851D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7CA4C-3AA6-40EA-ACD2-07523DDC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18485B-98BA-47F7-BD97-D2ACF244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66FE3-C63F-4D38-9314-CA864E8B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7B9B4-B467-400A-974C-2834B971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F9D35-1AB4-424D-A6AA-B1DD0C56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71E88-443F-4239-8D08-31EE294F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E8521-7624-4623-AB78-2D1D2B8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39AC1-4906-443C-AC64-8DAF4288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00E57-5E7D-402A-A258-0DE72905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C78D1-D6E2-443C-8109-60409ECC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28CF-1F58-4CE9-85F0-EDD5161E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87B0B-5A69-4E43-8A92-4F9B36A3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08494-C5A7-4042-83A0-DF699A82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2170E-E5F2-4C3E-88F8-4BD2A0C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6C172-F28A-4FE9-8D22-FF9644C8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46742-16C8-47AF-B30E-BA06EA81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F073D-446A-4779-B429-25ADEF57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3F308-99EF-4AE5-B874-B2DC5C34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BFEC4-EFAE-4DAA-A8BE-E96C7814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909B9-DA34-4468-95B7-28904885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2B9FD5-D319-4BB2-B6DE-D239CB25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6308-0538-4BFF-AB1A-B8188FA2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F3317-92DD-41ED-8A9A-C9464869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A2225-5125-4C20-9EC5-D8C11C6D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787BB-1710-47E4-A9FF-5124571B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B93B2-8E55-4498-9097-079E18C1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4DFC7-47A6-424E-85A2-9472D04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FF026-DBD5-46AC-AA10-1219E332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363AA-3C9D-4607-910F-76248808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87479-12DA-4531-9137-EBD11EB0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5E3A2-5A32-4757-8D85-4318A106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D9C18-00FC-4C45-9090-F6B78332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7ABE-08F1-47B7-9409-9E2AE89F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EA6D4-841A-4B68-9837-4CF74BAC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09228-ECA3-44D4-A26C-844A09EC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BB391-645E-4102-A6E8-64C21308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33BC4-EBC5-430B-BDC9-5719B564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AEF13-3786-44FD-A925-883BC4A2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0E639-C787-4632-ACD1-B027981D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40327-ED49-4827-81F7-24206812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660CD8-66D6-4E98-AD28-9F8872C6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832B24-AB7E-4DFF-A557-85B6DBE3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5AC92-B81E-48DA-840C-8B4D8FC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46A-0941-4F2F-8FC1-9349CFA2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55E6-727C-408E-9594-172F04BC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57DB3-001B-4C4A-9C79-B120BD65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7028D-A361-4373-B47A-7F65FA89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36E86-27F2-4BA9-A2AA-24E1042B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BE603-965D-4278-B0DA-26B6DB2B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3CDC4-E649-4476-B4D6-249CD51E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2C2E7-740C-456E-9B7D-D107F96E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0C83A-F331-483D-A529-AF0CAB35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8878D6-CAB9-49CB-8A8B-AD47516F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FF3FA-4C37-4206-B857-205602E6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B4326-7618-4D67-8B9D-7DE1BCBE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81AF-110D-4750-96BA-6BFFF977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538B02-7A83-4113-A3AC-F674D1A1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CFBF82-367A-4D60-98D9-053E803D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962626-650D-4E0E-92AB-E81DA66E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DCC2E-41A5-4906-91D8-FDCADF48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A266F-85F0-47DB-B6EC-8CB3C0F2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4F0C1-D213-4C1B-86F3-D35D18DB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65864-F39F-4A4F-880A-182FD84D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65971-2A79-428C-B757-FF4647B4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265A8-277E-489F-B30A-E6BBDB1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81F2E-1E71-4CA5-A3F4-6C46C9AD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D3A7-8C3F-498F-9709-9BAF13A1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69886-A75D-4D16-823C-8A0DE225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E160AC-1C85-431C-AE13-3A491E8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B2FB9-76CB-4B14-ADD7-94145D66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0C08E-02C4-4A58-BC17-0F1452B6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45C177-D06D-4CB0-BCDE-A0905C66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78CAF-EFA2-4AB9-8C28-38D51009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06D200-C6DF-44ED-9CE0-7148812A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432986-55F0-4C40-9CE4-FE41A776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B8B81-ACB3-47F2-9A23-7993B9FE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E06119-3E3D-4D44-9F76-806B1D80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F4B9-F209-474E-BAC2-73D43D2E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A85402-80EA-49AF-B6EE-38C42EE8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BE8DC8-73D1-4449-B959-1CFDAF34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853084-C59B-423C-A6D4-6A6FF299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35321-5529-4BA9-AF82-9BB3ECBD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EF622-09DD-4982-8CEE-D37054D5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172B4E-49DD-489E-BDC7-5760389D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7B5D5-103B-4CEB-8558-C12A817F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8B67A-9704-4E8B-90AF-AC43103E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B8E786-B7FA-4861-8211-69FB755A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E1E31-86AA-4DC1-A95E-38C11843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588D-4BE1-490C-9616-07E6AD64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EEA3F4-6830-4FAF-9FE7-BAF36CB9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E97C0-48A8-42C7-8BA1-79B20C32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5A7FF-BEC7-4F73-BFB9-235D4FBB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489D0-0B47-4B09-A83C-3E935B46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CB63A7-CB23-4B8B-8B43-AB802F30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D9C038-930D-4192-9843-66ECD683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92AF21-A530-4595-B341-D8B84712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C9408-2041-4F85-BE28-0994483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AB754A-B6C8-4C44-BF38-184E189A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F9C0C-EB9B-4589-9790-AABC9D44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B6FC-4159-4D16-BA0F-E3A8C39D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25DAA5-E1CD-46E3-9BC0-1AAEC6E2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AE4737-63D2-433B-8AD0-AFEDA912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FA69BD-B38B-4B01-A3B9-947087FE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AEF1DA-B206-4797-8961-45061141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9EB719-8A47-4C0E-97A3-9CC61986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6FAB99-0AF9-46A0-A575-6E87110A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D51443-F3C0-420F-A35D-4515D7CE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ED3F59-1AF5-4E3B-A97D-4FB00D19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BA6035-2DEF-492A-A11E-CF93218C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737D3D-28AC-49B8-A7B2-13CF9D7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C5B5-6337-4B0C-BDDA-FF35A373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A3B25-6DC8-4B6C-A00E-BF80F036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5D6117-79E1-411B-8BD4-43CEB4B5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99A53C-FD3B-4A3E-BE03-F852FFA5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569D7B-EB1D-44A9-AE00-B7E7F70A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CA571F-9013-46A1-93D6-DFAF4ABC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A336A6-9EF7-4F9E-B60D-4C405ED5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71E41C-B342-4FF0-80B0-2475D027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057A39-4C23-4CBE-822C-D41280B1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83BE5E-F839-4D30-AC06-BADAED18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25B215-68D0-4530-B95F-36913981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6912-C84C-4F77-93C3-18CC5808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51E1AC-6EDA-4AAF-95D8-7B060FCD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C4AB7D-0AFC-4C6D-84D6-2251541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F2390-3168-4DEB-8671-C6AD9F4B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42D415-BBE4-43D3-8EDA-A5CB66C6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8965DE-70D1-4BF5-84B2-4A5B9910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C39B53-C24D-4587-9D1F-5EA06104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FD74F9-E23E-4808-9BB1-EE284AE9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947A-0F06-4B2C-A9AB-C3ACC52F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B4199-D32F-445F-8D37-00B3B84B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CDC-8B4F-43A0-BB68-1D1C193D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D5089-C968-4EA0-B9EA-AFACCBB1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6A0ED-360F-4DC5-AD14-2C7EAFD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E9758-0CB2-457D-98D4-7E67729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8DAF-F827-47C7-864E-237F22B6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94D5-6C92-4CDC-ADB5-0D022040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97F8-0556-4FBD-99C9-F9212C39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67A7-E29C-4536-870D-A980D832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B502D-A8C2-4BF7-B8BA-7F7ED3BC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9BAB-C023-4EAE-AF0B-A02C997C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EB91B-6606-49BC-860A-DB76C6CA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CDB-47E8-4320-952B-C63B8109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C543B-D191-43FD-8488-C96D5C46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43823-994A-4752-9D56-1693FEDC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4DC78-0513-49EA-AF1F-37EAD13E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50B2D-1CC5-4E81-A023-9CD96E26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6387-D77E-486A-BFA6-9DB1B33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EC45-A74F-43DD-9116-A6C30E2D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280DF-7F63-4EC0-A073-7758FEC9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7BFF3-7A36-471A-ACA3-B9FAC439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23DAF-202C-4227-9D68-6197F3E2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DD9C0-3B76-47C6-8758-50D516A3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5B5-217F-4029-ACEE-22B92920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C0444-6AF5-4D4E-BC22-F794A00C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4569-7207-41A0-AD26-FDE861D3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852D7-3788-45BD-9E0B-97C28480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17400-07A0-4A72-BF67-BBAE0A9F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E9D9B-758C-4D8D-A085-0B2523FC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EA213-40A5-411A-8B15-E0CB0885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392BE-1F3D-4FD5-AAFE-B8A00493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4C0C9-127D-4BDF-A283-4DC7BD4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6CD37-2EC4-4CE0-9253-57E18091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AB62-CA58-4DDB-B15F-8185C3AA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76E-5C21-40B4-9495-A4413F64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362E6-94D8-4E86-A8C1-8408B70E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E4D1B-22E7-4AE7-A13C-9F0CFD6C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72DC0-5D07-453C-8F84-FF70A285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7B6A7-25AE-4784-BDD4-49D9B26D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61F75-B46C-4C35-9B8A-FF331BC3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CD004-2E88-4D64-BA5A-2C990A22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91F70-3606-422F-A776-ECEEFC92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80D65-5DA8-4DFF-9810-F0303533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CBD86-BC99-4E1E-A8AD-B0DD59DB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F9790-C0CC-4F22-A2C3-51C1DA5F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6BE-1BDA-4E28-81AF-C4263AE6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946E5-9F0B-4B40-B91A-30A52305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1930-4748-48D8-9CC0-3C7FE4A5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5F1F1-52D9-4F7E-B04D-98309C79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371C1-AD79-4CC8-85F8-FCC33AE5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CD478-04E3-4716-9D1D-9CABC64A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98DE7-531B-4F93-B0FE-B35C8E80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19F76-887D-439E-AE70-6F412AC7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73DC5-B67F-48CE-8EB7-542F5AF8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64282-2CB9-4BDF-9AF3-7E1F49B2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932DD-611C-4114-A534-C727B58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12A-B916-4328-88E4-C7CC9D8B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B5AA9-1146-453E-B363-27DE0B7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7C1F4-455C-4CF8-90B0-7DC43C0D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988F7-0ADF-4D40-B7B9-795ADAC2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4523D-2EE4-4278-92E3-A40759CF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580AB-FB32-448D-8D7C-1BC7A609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E63E0-B79C-4709-B7E5-DF985AB9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F9A97-5363-43D1-9FB3-A91577F9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EE38E-6014-4700-9BBA-7B9E3D28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43E69-535F-45DA-987C-9EC14224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C8C02-C6CB-4902-B479-134EB56F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519-341F-41F0-A426-02358AF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FB7D7-8775-4831-A10A-6355E7E1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E03E7-7D6D-4C8C-BEFD-5559A852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9F53A-6A71-4784-8D94-576E3EE7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554A5-7E55-41DB-A548-341E1B5E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A5ED0-B95F-4EAB-9C39-71DE3185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97F0A-EE31-4A63-B180-ED8ADAAB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6A966-6ACE-43D6-BD02-53DF790A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3C09A-E8D8-4E53-8BCB-6D87B689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B3B79-D2A9-4E65-9FF1-F648A3D2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D5E04-A50D-4C64-B93D-08DA4E48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1DE3-9BA0-42DF-851E-EBE7F6E480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E462-430A-4A3A-8994-CA17B87381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B976-F328-41C3-9B3C-295E601592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C432-350E-4092-92E5-32C61E590C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56E2-EFDF-4A11-A6C4-CE5B8CDF28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DE4D-05C9-4187-8C87-94389361B5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9F58-2802-4275-A409-80F44D6CA8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7ACE-F10B-4845-B16D-04BCC69113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FF5A-1667-4E7A-B8F9-C9CAC81041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ACF8-0FA4-4181-9163-3D3BE9920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47DE-9E53-4F8A-9073-7836AFC950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02F6-65C5-4881-8BC0-6710310D61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48D6-2A18-4E9F-9BCB-183AC9921E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9433-2E5B-49F8-9604-A43774B34D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433-4CE8-4AD2-A721-D69DFBFA04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8A57-8255-4B5B-9488-13B3207C85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D9A8-E19F-4599-AF40-18A37F8ABD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2FF2-BD09-4775-B294-D6FF173D96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BC8A-C11E-4E3A-928B-BDA771095B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F2CD-F942-450F-A8E9-B9C099CAD9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A2A4-295F-4DC6-B6D1-4BB6DD6F80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8B1C-4FE4-4C22-AA84-C544717E36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8192-88F9-4A9D-BA38-5522792492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B84D-FFB3-4212-A08D-76E9C7B452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8CCE-2BF0-4A55-B3EE-0CC2640408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752E-0613-448F-87AF-D9E9A8729C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E7B8-43BC-40D2-ADD0-67080A61B9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C157-CE12-4992-88FA-7F242A95DB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9181-E01B-4547-82AB-BB8D73C978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2BA8-4A6B-426D-A0BE-B71B1F0D3F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1A9E-36EC-475B-BE39-4E32EED377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796C-76DB-476D-A85D-29B5214E26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404-274B-4C2A-8700-48D6C7A94E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56C3-5DCB-4F85-ABC3-E43E034568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4E59-8926-4CAA-AA46-0C52F4B07E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61D8-4807-4FDF-BDFE-0D503A33B4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2A06-4C93-44EB-80B7-B3F831BA3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51CF-FF6D-4BF6-B588-56AFF6ABEC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B3BE-C8E2-462F-BB52-78ABB7F20C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5E15-6D3C-41EA-AA40-4EA977534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123C-B967-41C2-B810-C250E7FFB7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41A-E7E5-4DCE-B8A2-08FD1D966E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205000" y="3157560"/>
            <a:ext cx="4734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00080" y="1228680"/>
            <a:ext cx="8943840" cy="44006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611280" y="224640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39640" y="2550960"/>
            <a:ext cx="2592360" cy="319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755640" y="380052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84360" y="410544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755640" y="501012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684360" y="5315040"/>
            <a:ext cx="2592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109440" y="1971720"/>
            <a:ext cx="8925120" cy="29145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755640" y="2952720"/>
            <a:ext cx="252108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252108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684360" y="4148280"/>
            <a:ext cx="324000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5"/>
          <a:stretch/>
        </p:blipFill>
        <p:spPr>
          <a:xfrm>
            <a:off x="755640" y="4479840"/>
            <a:ext cx="3240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61920" y="1152360"/>
            <a:ext cx="9020160" cy="45532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395280" y="2933640"/>
            <a:ext cx="2305080" cy="3193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395280" y="3232080"/>
            <a:ext cx="2305080" cy="319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324000" y="4498920"/>
            <a:ext cx="2305080" cy="319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324000" y="4797360"/>
            <a:ext cx="2305080" cy="319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395280" y="5065560"/>
            <a:ext cx="2305080" cy="319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395280" y="5364000"/>
            <a:ext cx="2305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22:3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