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1CC-942A-4E81-B027-1756F1D8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CEC-4D27-479B-BDB6-DF3F7CFA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99D72-3C30-402E-AB3E-1CBCC619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A222B-9357-4409-BBD1-CB10B3E5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EE2AA-A65D-4D4D-A85C-00FADD7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3E180-F909-4FF0-ADF2-71D284DC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9B022-C6F8-41BC-8123-2255096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49CAA-A76C-4BD2-AB36-D699551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F5E8D-0EB7-47FA-B89B-EF8C4B82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B720E-E943-41FC-9547-E8338B1B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E6E6E-D928-4C9F-B742-7DA018DA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5A618-701C-443A-885C-D6F4B2D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5B9-CC4D-4470-A0D3-4DACB8C5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22C6B-C2B4-459D-AD96-9760F86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1D639-A7D7-4919-BF82-F806D594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8504A-5680-4580-BC13-853110C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37ED5-5AA1-4C07-B2E1-3877EF9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5A0E7-0A15-4015-A9BD-C6CEA6C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DCED0-B016-4F4D-8DD4-F70538D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41E78-5145-42E0-B9AD-243433AE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07B5F-795B-4716-B3A9-E442370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71BBC-EB6D-40FB-BA4E-1680D32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47367-C207-408D-9022-55F6538E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4B3-57CA-4988-B935-47C5DDAC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28DF1-44C3-4280-8999-7BC46DD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4F02A-AEF4-41C5-9AD6-85A2A76B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FC73B-8A68-4F46-BEA9-C45C2FD8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DC066-913A-4917-A8BD-0171492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0294E-1A1F-44EB-ACE0-007AC561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2C4F-5352-44DF-9276-E6C4AAA4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707E7-A078-4430-9FEB-E06DB1B7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54984-F52E-4DD0-B406-F3BA8FF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E078D-FE2E-4472-B801-7E36023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A347D-A094-4143-B075-219781B8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5CD8-B845-4B71-B2DE-86E3E096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D8E30-2A72-4CC6-9530-48E1D42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3AA24-A278-48B7-9A52-F191568F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B844-F9F8-4DCE-8222-D9A89E5E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E2537-12EF-4935-883A-599A337F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E4A10-23D7-4A9F-8A00-AED5D596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E2721-238C-4E55-8A85-415090E6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13143-F2DB-4E04-BED3-4A8FB8B4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6B3AF-073E-49D2-B494-1A24268A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AE169-3C73-4C9F-89C7-86F52BE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23E72-BD1C-49A5-891F-8B09FA7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6831-9EB9-409F-BEB1-A461444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884E1-BF42-4B27-9196-0A63D33E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AADF1-B740-4147-B715-BF60CDF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C4AC4-8A66-4E15-8EDD-8A39955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CF228-259F-4A42-AD33-F75FBD95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391D3-6D14-4E4B-8921-6B98CA1A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77DE7-E921-49EF-9D2C-70FEB237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8DE12-E78A-42AD-8AFD-6ABCA1C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C1959-FDD2-4BF9-B03C-C5A58ADF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F1034-308B-4D45-B2B5-F06904FA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A5549-F499-4181-9D48-19488AB0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176A-47AD-4BD9-B952-9D2A9C78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D2EAD-900C-4FCA-AF37-BE6743B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CC161-EA6A-42A3-AF5D-F3D7668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B9EE2-9058-465D-B112-5DC2D5E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468D6-962B-4CF7-9A50-199094D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40267-B62E-4396-8EFE-9F999CBA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E6916-7036-4A5B-8D78-0DCA1171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7CED5-4A77-4846-A7A8-08DA41A7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F5F45-76AD-4768-92B5-FD2696D6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4CF97-A9FB-47C4-9EBE-8B9E6F45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9DC18-1C66-4400-B8E9-8FDCBA8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2381-0350-41E9-A03E-A180381C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E4B2A-83EA-4976-AE4B-4912FCE0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CAB31-7007-4613-AF32-3FA30004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3D4BA5-961C-46C0-96EA-C8B34C31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85CD1-2ACC-48EB-8B37-A391FBF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7A47C-8A8C-4DA0-89E4-B878989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AD093-FE2D-4EF8-A561-61FB47B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9B40F-B235-4233-AE13-C1A594E1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3D0E1-568F-4BF7-A9CD-F8ED39BA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1EB2D-A4DE-4594-9DE1-30A762F4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AC47F-0828-46FA-A15C-9015AA2C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A42-1657-4081-A8D6-794DA2A3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D500F-2CDB-4DA9-90EB-38942CF9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186D0-6AD1-43F2-8AA9-6D00D729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662BA-2ACC-4D56-A24C-5CE99A4E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477C1-32C5-4109-A7DD-5B434A0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D393D-0753-4F65-9A46-66B63F6A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5A496-EE63-4FDB-99CF-1DE7F94B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62050-7493-4BC5-9FB1-28A66FC9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63A15-4E76-4D6E-B78E-03BC4F48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58514-4915-4ADE-8723-B8A01C5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EC71D-4DC1-450D-9519-F794DE63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F2C2-F6EF-49FA-80A9-D33DBF95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EACB4-FAC2-45D3-88B7-0D6DF326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2B949-D2A8-4513-8238-2F3AE938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5C9CE-8788-4EDF-AF25-D84D971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807CC-90D3-480E-8569-472DD41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E72ED-D547-48EC-A749-F13DF693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09204-6DA6-4F9A-BEF3-3AD8460A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2E964-B7A0-4456-864C-E50E2BD0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C5FF1-A7FD-4FC6-B192-BD675FF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A8BFB-B812-4F89-9C7E-EA3A62B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03932-E4BF-423B-82D0-EB62A52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46A-7115-4FD4-AE12-B92AFAD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13186-736D-4B36-B69C-2208CD01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37F07-432D-4811-BC89-DA02737A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5DD76-8D34-4A25-9614-D042A6CD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908BD-E8DD-45E4-9CA8-CA6C7CFD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724F3-DF5F-45E1-806F-6CAEC00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FD5E2-49EC-4EF8-98F1-036F517C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98591-F9BB-4FBC-BB62-50A93D3B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D9CFD-366F-43E3-8E0C-B5AFD10F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224D8-2066-4E40-9FC9-5DAEF57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B7153-51A9-4434-95F2-75BC768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B2F-E88A-4326-AA5D-D6F3E60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3002-BC5B-4635-BB49-298CEAE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1875A-0D51-4A6F-B239-581EA19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2E87C-2AD4-44D1-BD20-9D901F5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6CFF8-766B-4E66-B9B3-0435B07B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5F125-B50B-4292-95C6-23F54483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A4753-F37D-4ABE-AB2C-51BD62C3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68BF7-7B57-41BA-94A9-1BC48A58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06CE6-6FC8-4D1C-923F-DE1E325A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B2AC5-7E8E-448B-9C46-290406B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9A4E6-75DB-4766-975A-6AE5DBBF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41406-2C41-41CF-A3F2-8A91A856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0F9-3B54-4E34-B7EE-B777516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ED05A-B44D-4279-A28B-F616B7F5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B5E4B-372A-4B77-ADE6-3323CAE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C5BCB-2383-46E5-BE3A-D2BF75A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14642-7333-4FD3-9D05-6E9FEFE9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F726C-59E8-449E-9147-C1D1B1EB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62E4C-28EC-425D-B967-1684953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660693-B984-4FA6-B368-8A8BA3DD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D7EE8-8BDF-44FB-9ABF-867A25AD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A7C00-B5EE-4A5F-BA1D-E61B203F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73D13-420F-4A50-A5E8-31E2E08E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E34-9050-406B-9D28-80BB51AF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6033D-3BF0-4B24-A981-0993FE66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5581A9-5B5B-406C-AF65-2B8819B9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502C0-7A0F-4F7F-B356-C6C93746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60307-B752-4E01-9631-8AB94ED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13F88D-8775-49A4-8DC5-2E40F328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493D6-7F20-4B12-AAD1-3D391D6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9FC01-6B04-486B-B006-80506F19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8FD45-49EB-46CF-B813-670C185E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6E87E-20EF-4A63-B26E-5A37E2C7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4339A-FB74-4F22-94F2-9FBDC002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2B0-14B7-4082-974F-3A06556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0262A-1DFD-47BC-A1AA-27CEBA7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DC78E-5E30-4178-AF64-844DF428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A93B8-98C0-4CA4-84B9-C88E059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FE711-D6EE-49B1-A99E-437A8802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8CAD1-582D-4342-846C-713D0C1F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888D2-C751-42F5-A614-42C485F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34AA7-6E61-4EC3-9EC6-38C8366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5D3A2-E1C3-4725-BBD2-365907F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B88BD-8DF7-4754-94E8-D5F9E5F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9D2C3-3900-4E90-99C9-D15E6B8C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EF26-6431-4349-ABE8-79990DEF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E73B35-B64F-4C12-8336-DF987677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73EC8F-2854-428D-85B4-3F6B5E4A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03B8A-C80B-469A-B98F-911D894C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F2CAA-38D8-4D85-96ED-436A6E85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50209A-0F55-4250-B78E-8FC8885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BEE8D4-D25B-4EA0-8E97-066FED1D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7A86D-BAF8-4AC6-A618-B0932B1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6D56E-06C0-469F-9A25-57E2C5A5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E0D08-99B9-477C-9043-2CFD04A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FE334-533A-44F4-AB11-6793D5E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B3CD-9FE2-430D-94D8-E9890552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393DF-79A5-48A6-9E02-8C11C29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5DEA0-4661-4A3F-93DD-1EC37C08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2F00C-EC89-49DD-8CA3-F440C577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5E66-A840-4919-B736-C6006C38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1D44-C125-49A9-BC13-A0C089AA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37EF-2ABD-4582-993E-BDBFCED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D39C-E352-43C2-9683-9E6DCC4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96F-BEFF-41FD-8208-1C78CA7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7D79-5652-429C-B279-80BDB0A1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88A1-EC86-4474-9A08-1AA5C39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0C5B-90C3-4EAB-AEDC-4859A256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3946-3C30-4B52-A3EF-AE50050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CE25-2642-4366-8786-CD5DFEE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D4F6-EA40-46CA-8893-FDB5EA7E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73DE-C7D9-47E1-9F6A-31DE5D23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8E22-D6F4-4685-882F-9B5A5C38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D05A-370F-40FF-9DFE-923981F1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E071-8989-4814-8859-0ACF72D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33F-8E5E-44FD-9687-49D9AA5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5727-385F-4DE6-ADA0-95A2A900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D4E08-2763-4FD4-9191-D353CFC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121F-A7FA-498F-A0CA-1F296411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7508-3939-4A62-A101-702C0E0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02B7-2DFD-4CDD-BF4E-73A0890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D454-72CF-4938-90C0-34EE9EB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BBE47-826D-4DC1-8A42-4763B44E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D4FC-7A3D-4C53-87E7-D5F64F05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2C67-E94E-430D-BFD4-337DE2E9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7AEC-AFF1-433D-877D-3951AFC8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05F-6CF0-4D0A-A10A-AACA5428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6456-861F-40B9-A8A5-354B086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A8FBA-AF69-4155-9F5B-07B10A6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25480-CBF9-4064-9B88-F9C8D7A5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7530-550C-49DA-A4D6-08340A5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D07A2-E4BE-476E-B291-2CD8310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BD2AC-5BFB-4F49-8991-FA174150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7655-6C1C-4DE7-999F-3379071C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2610-2673-4E87-B9A8-6B5FFE8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4FCC-610C-4E05-95E7-D483E6E0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C8E24-B555-43FD-9184-5D993C6D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6A5-ED3D-42B0-87E1-0897186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088C-3581-4F32-B10E-4319208C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DAD2-7DFD-4971-8A8E-D6D9EDF2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6118-2F20-47A9-860A-139FABC2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CAFF-402F-4A2C-A964-E25880D1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3A05-D014-4165-8037-23230CDE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9116-4083-40ED-8FC4-F7820183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4AC8-BAB4-41A9-8E15-A9256814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06611-E9B3-41F6-83D0-C746F8C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E770-1BDF-459B-9114-B623C00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EC22-DE92-4C01-BAFE-A02F3663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001-DFC3-442B-B69A-05735C75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4C3B-C023-4AEF-9A1F-A7BE68C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EB70-16C5-4E24-AE28-6F0F05DF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8DA6-EA2D-459A-B946-BE7C377C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32B6A-50B0-4B11-AC7D-65D915EC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300C-8C1E-4FA6-9279-3253ADB2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553B-8AD9-4AD4-96AE-4B50A95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898A7-9B54-4B68-9B4B-BFE4989E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EAA9-4681-486B-99C2-72D8EA82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ACB87-E492-49F7-A38B-1D50C693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CC0D-8F5F-46C1-BDC4-7F6979D9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8C5-2B33-4EFC-9892-7E83B72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DC8E-2E6F-44A8-AD10-660610ED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57EE-8BEC-43CC-BC6D-4082D37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5574F-C085-43CA-AAA0-1832807F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56A5-6AD7-4324-B2B6-33305C61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4CFCB-60EB-404E-B33D-42379239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8E02-416E-4A4B-8E80-B9B464CF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B651-72E8-4898-A89A-B9CF3B2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FCAA-48CE-48A7-B6DE-D05C7EF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BD2C-11A0-4862-A385-5D3A65B1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1156F-77AF-4E24-952A-C2606491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E89-1C0B-4FBA-AF41-F63AE301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73538-0D7C-47A9-9913-CDB4DF1E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CA9E-447B-4328-8B0B-03A599F1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FBD2B-41F7-4B55-8A62-B4CE53A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4452-8E04-4A19-BF81-C5D8797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14DF7-EE5F-4955-9FC9-9C5E971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1F2A-34B5-4E0C-897E-F922B248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D72B6-9E02-409A-A360-24463D21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40E7B-3682-49EF-A5AD-AB281FCD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09EF1-F644-4351-BBCD-FC4764F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7C645-6D16-4EE9-A858-A765DCB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3C9-4514-465F-9BFB-C31F985F3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2D0-2894-474A-AA99-48E903588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A698-C5F1-4C16-8338-175D3EF1A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808-23B7-4254-879C-5DB1BB70F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D29E-FC03-4F5D-9B13-7DA7EDD98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B99-778B-490F-868F-43B7536BC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BAA0-B90C-4A5B-9500-E9FF3D7E14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37D9-6F8C-4F38-804B-92AB7A73B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6A1D-46DB-4EEA-9200-DE319EACF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A38B-F0A1-4694-A62D-4548EA51B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C87-4350-4F47-A366-07B258A6B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BF39-8D37-456B-92E4-2B6E78B62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1630-42AE-4B0C-A17D-02E4B29CC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C35-9341-436C-9173-929263BC8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2E71-C18D-4710-B795-856DE21B7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A05-DF04-4168-9DA5-D81EBFB747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B418-78E6-40D4-8C5F-E5A354FA9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50AA-A955-4019-8768-C2A350EB82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E4FD-77A0-4C57-97E0-80AB5D1E8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9F55-0C72-4F86-A81C-2338A55FD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C79-5B3F-42B1-9E90-1DA7065D9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BB9E-04FE-47CF-A69D-88CA8C021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DE51-4E77-43B0-904F-BE51577C9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AC56-9942-4805-BDE5-434EEFE98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9B7-A313-4952-AB66-0D5343464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A4C-D825-4011-8245-C92E5E2AE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B22-FC79-4298-9322-23E0ABFE2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6569-99A9-4241-A6C6-E5D700CBF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BCA-1FDD-4F36-A7A9-7547F0A3E1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69FD-15D6-4C66-8D9C-196459DC8A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144-500B-4120-9C52-D288ECBAF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13A-AB73-4699-8520-5736F3698B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231-1215-4C7B-B261-456C40CA09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236-50A3-4514-997E-A82414F36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7447-17D3-4F4D-B039-FE9998FD8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163F-7035-41E3-AD09-98E89B442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F9C8-E291-4FFA-AA29-150C60F27B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66F7-02C3-4BA8-ABB1-4AE6AEA21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A41F-4CFA-4171-99C8-58FF369D4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FCA0-1292-4476-B9E9-0C1B79EB49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733400" y="3214800"/>
            <a:ext cx="512460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19160" y="1114560"/>
            <a:ext cx="8905680" cy="4743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142920" y="5572080"/>
            <a:ext cx="1476360" cy="542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1930320" y="223200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4786200" y="2239920"/>
            <a:ext cx="301680" cy="2761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7643880" y="2249640"/>
            <a:ext cx="301680" cy="274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2171880" y="2589120"/>
            <a:ext cx="301320" cy="276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5046840" y="2589120"/>
            <a:ext cx="301320" cy="276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7912080" y="2589120"/>
            <a:ext cx="301680" cy="276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1365120" y="337500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4118040" y="3365640"/>
            <a:ext cx="409680" cy="428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6964200" y="3365640"/>
            <a:ext cx="409680" cy="428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1239840" y="3811680"/>
            <a:ext cx="409680" cy="428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4100400" y="384012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6964200" y="3840120"/>
            <a:ext cx="409680" cy="428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500040" y="4678200"/>
            <a:ext cx="22147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1" descr=""/>
          <p:cNvPicPr/>
          <p:nvPr/>
        </p:nvPicPr>
        <p:blipFill>
          <a:blip r:embed="rId1"/>
          <a:stretch/>
        </p:blipFill>
        <p:spPr>
          <a:xfrm>
            <a:off x="114480" y="1023840"/>
            <a:ext cx="8915400" cy="5619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2" descr=""/>
          <p:cNvPicPr/>
          <p:nvPr/>
        </p:nvPicPr>
        <p:blipFill>
          <a:blip r:embed="rId2"/>
          <a:stretch/>
        </p:blipFill>
        <p:spPr>
          <a:xfrm>
            <a:off x="4572000" y="928800"/>
            <a:ext cx="3790800" cy="161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3"/>
          <a:stretch/>
        </p:blipFill>
        <p:spPr>
          <a:xfrm>
            <a:off x="474840" y="2043000"/>
            <a:ext cx="2428560" cy="3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4"/>
          <a:stretch/>
        </p:blipFill>
        <p:spPr>
          <a:xfrm>
            <a:off x="500040" y="2392200"/>
            <a:ext cx="2428920" cy="324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5"/>
          <a:stretch/>
        </p:blipFill>
        <p:spPr>
          <a:xfrm>
            <a:off x="428760" y="2786040"/>
            <a:ext cx="2428920" cy="3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6"/>
          <a:stretch/>
        </p:blipFill>
        <p:spPr>
          <a:xfrm>
            <a:off x="627120" y="4255920"/>
            <a:ext cx="2428920" cy="324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7"/>
          <a:stretch/>
        </p:blipFill>
        <p:spPr>
          <a:xfrm>
            <a:off x="627120" y="5319720"/>
            <a:ext cx="2428920" cy="324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8"/>
          <a:stretch/>
        </p:blipFill>
        <p:spPr>
          <a:xfrm>
            <a:off x="627120" y="6345360"/>
            <a:ext cx="242892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1" descr=""/>
          <p:cNvPicPr/>
          <p:nvPr/>
        </p:nvPicPr>
        <p:blipFill>
          <a:blip r:embed="rId1"/>
          <a:stretch/>
        </p:blipFill>
        <p:spPr>
          <a:xfrm>
            <a:off x="123840" y="2519280"/>
            <a:ext cx="8896320" cy="1819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2"/>
          <a:stretch/>
        </p:blipFill>
        <p:spPr>
          <a:xfrm>
            <a:off x="474840" y="2962440"/>
            <a:ext cx="2428560" cy="323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3"/>
          <a:stretch/>
        </p:blipFill>
        <p:spPr>
          <a:xfrm>
            <a:off x="474840" y="3322800"/>
            <a:ext cx="3882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22:1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