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09D-68F4-41A3-BD7D-6C34A806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C77-C48B-4DCC-BED4-D3A06783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BF920-BFCA-4445-9A9F-2E448444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DF021-9ED4-4294-B9E2-F390DB21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24D92-6CC7-4BCB-BC9F-6940ABF2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8326-BD69-45E8-8E00-E2371B1F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8FE66-B1A6-420A-AEEF-E08F25E6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7EE8F-A11D-4BC5-99FC-55BF25C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DDF42-61D6-415F-9BA2-A0CAB4C4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90C0-3DE9-474C-9CCE-7F933A7F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0268A-79C1-4755-A51F-D7BB4899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3C23D-BF86-4DD6-9E2F-D654DEDD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292-19EB-4662-B57F-9E7F2898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2197D-2127-465E-8BDD-66B7BBA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B39E8-98D8-47E4-AC55-3CDB698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FA136-E64A-40D0-84E8-4B3707C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E5B3F-BDE9-404D-9EC1-A2DA34FC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DA82F-069A-4CA6-90D2-C229067C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46DA6-89BC-4AD4-B877-D1B3FFC1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0F2D5-D58A-4579-995C-9460B87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2A431-FAB5-4E40-9543-46F0E2BA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8A422-9778-49D0-91CF-98A5548C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686B6-F4F5-41CF-8AAF-85D916E6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84F-5D0D-4AD8-B900-A425FE08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44147-BC04-4217-B49B-2102A55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3B7C9-C8F5-45FE-863A-518781C6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56110-1F0F-42CD-8B23-3AC4A11F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E34DA-F90E-4D70-A53A-1F67A8FC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6210E-E143-45DD-AC91-4B173D65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62212-DB2E-4B80-8A31-D8A64733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D060-14B1-47A7-ABC2-5717394E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1410D-277B-47A0-B2A1-5A0A0D9B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8DCB0-7A1A-4839-B759-70FB585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3EADF-1A72-4C4E-8F16-1E665C8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523F-BA93-4F02-AE51-C085BD13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B2BAE-01E4-4AD2-A567-2B259A0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C2A92-643D-40EF-8278-2262D26F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9A560-5DD6-408C-B43A-17082059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8643B-178A-49F8-9749-41ACC67A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A7FB4-6A35-4C16-956A-246BA37E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A7991-A541-4EF8-9706-6E5A8F5F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52597-7349-41B4-960F-14E486BC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6CE3C-C9BC-47E4-BF48-8C94C56C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FFF01-28EF-4EA0-A09C-2ABCD992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8FC3E-518E-41B4-8FE0-5983E9A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B6C7-848F-4844-9913-FDBDBF6F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68459-9418-4C85-80A5-8BFE7FBB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09DBB-6035-4D50-A9AD-8BF7819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58C6-581C-4FED-B7EA-30B4434C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75E27-B9E1-478D-B58F-37D72907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7BA92-6212-4DE0-B141-86143931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43F44-01B6-4531-A9C4-73039161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49B73-2B73-427E-B851-2E4BEEA4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389A2-C07A-4F2C-9F20-F28392B3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A5493-253F-4540-9BB5-1490777C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FF91F-58D2-4280-92A8-604A8EB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785-7721-482E-BD16-BCF310B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9E89F-587E-4D6F-884E-51FC8863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ECF73-072D-40F4-B439-B5BDF773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D33F2-0BD8-4FC8-AE67-522907A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37095-D0FA-43BF-8473-77985831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F006A-AA70-4608-8415-46751FE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07005-FC39-4E93-A3A2-110DF10C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90A01-508D-4D93-BAE4-DA6F699C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D43B5-F852-48B1-97E4-5A6DE4C2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1C099-C5BF-4221-A78D-F93039AC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8C601-2A8F-4436-BCEF-060F6FD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0556-36B8-4CC2-9D48-F752F38B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CD4CF-609F-47A8-BD5A-FACF9103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F89CB-5B03-492D-AEE9-0BCCDF6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980E6-7155-4A34-BD6C-F99CCE1C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AD808-911F-4631-9BD3-F4ED8DB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E1792-B209-4FAE-9153-E775AEA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654E3-CDD7-452A-8A59-3CA7E66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5555A-DEA7-485A-A829-D01F010B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9CDEB-08D7-4F1B-A480-83361A23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253F8-3BF9-4AA9-9EEB-39028BC2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3AE79-74FA-4928-B35B-2B089EB4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B94-6E61-424A-9C4E-AD46EE7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61757-93DE-4A74-94A8-1ECB2E9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BF17B-65D5-4AF0-B4E9-0045FD57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A44E8-09C0-41C5-A7FF-4623F2C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CA9B2-0B5D-4FBD-800E-E297B265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6DDBB-98EF-429E-85DF-69167E31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68CE8-0182-4F65-AC00-93F5E16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6E389-CBF4-4660-B6B7-73C68AA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5DD78-6286-44D8-8462-3BCD2092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D80B9-E341-4D62-BD9B-CAACB786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D92D1-42E0-4022-9FDB-0D6F0C09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99DE-A314-44D1-B28C-32C6AAD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FB370-63C2-4DB1-A56F-BA5B7A71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39450C-C815-4B90-9F8F-2EA89FEE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EC141-49D7-4EAB-BAC6-6C220488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358DA-CFA8-4465-A5F9-0561BA9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CC00B-B198-4D03-9FF6-7260C75D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10FB8-0E2F-435A-B4D6-A4A84E4D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10243-6D56-4E23-BA49-54D9EAF8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5F03D-0F3A-41D2-A800-56F1A3A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03FD5-2FD0-4333-AD9C-690CA91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82859-E5BD-4F1F-91E4-97D5F7A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2CD4-291E-4AD5-BAF1-098B9ED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20760-FA28-4F43-A002-A151970B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FEEDE-7811-4267-9A55-5205750E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5A822-DA24-4AA0-9B03-3AC0BCEB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7A20C-DA9C-481E-A9BE-873C1411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3D17F-74CB-4B89-8190-EC16A2E0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B34CA-849E-4D3F-A0EC-54A5E236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1E3CE-C136-4020-844D-BEA03A7D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9F847-2A3D-4EA6-9AA2-B61963D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A9C74-FA80-41CD-B5AD-0C43743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38F43-1EAA-4893-84B9-58F8780F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F23-9EFE-44EB-A177-83C4E298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9601-8A9A-4599-A440-8CF6F4B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E6973-AC52-4451-BDD9-31992EE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171B5-F945-401E-9C1D-B2488921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41954-D2F2-4F87-B959-740CBB7D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A1F4D-1794-49B3-8D10-0A45A9A6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56ED5-F084-44E9-94EB-BB3F241C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3EF1F-0AE1-4063-AD09-70FFDFEB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22643F-881E-4258-8ABA-709C7E2B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A0B86-742E-47B4-AF10-7873C08A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7745B-18EF-4EF4-B85A-4EC5D97A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32299-DA0A-4BBF-A50E-CF8E869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C869-95B0-401C-BE4D-A27AD0C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CFC14-BEE1-43B9-B981-2463C1B5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91537-F36C-416D-8560-1725978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860DE-DE8C-46F1-921A-AEF12AD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D4E22-E487-405A-A714-73D53B0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BC4B2-6D2B-49C5-AA46-6B62148C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7C0CB-5771-4C8F-B21E-5DB68D09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890A6-BD23-4C6F-8425-95C02A0B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43B1C-1486-4098-A346-84A05E2E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8467B5-0071-4933-A191-CDEE89CA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E34DD-DDFA-4875-ADDD-8009901C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EDF-252C-43AA-81FF-81225551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4CA08-4063-4CFE-84BA-1D795013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13D9E-03FC-40E4-9CB2-044289D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5CB4D-0C7B-4B56-AFFE-848F607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E916CB-72D0-4F72-8760-00AD0F4B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B6351-B133-4C61-8A0F-1F4A496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CEFE1-4AB9-420A-AF5A-2B656E1F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3ABC0-B627-4F0F-B40B-449B9B35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B073A-5152-4AEC-AACD-AA387AE5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987A6-E6C4-411B-B20B-91148727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56035-4071-4116-900D-2239BBB0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BD48-BDDE-40F7-9F5D-3DE471A0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8E269-5734-423E-8725-776DEE50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FF67C-06A1-4FA5-B9AD-8E1BF66D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536D6-866F-4806-AB36-1E6FD32C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BCE09-F672-4E56-A5D4-ABFB3650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5678A-2D48-4F8F-AFB1-3B3077FE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551373-706F-4E2B-B23F-8EE75A8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A3FB3-C40B-4783-81FB-71D7A602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93032-1047-42F8-AAF3-D4198F0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A316B-5980-4726-A425-D325963A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4E8F0-FFE4-4014-BE3B-01A815EE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AE07-7FF1-456B-B5E0-156FC36B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3431E-9F0C-4293-927D-098D0E5E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A0B88-2A74-4167-9929-7E1CAB01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05023-E245-41B1-9BF9-2DE2D7D9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3A429-4E09-40F1-8958-B216A77E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19D14-9B83-4F71-92DC-83ACE18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BDB9A-185D-4C67-B32E-EE7F20F5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86E3E-58BF-48B3-A8CF-C80BEE30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2559F-B999-410D-9E72-98D3987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D520E9-565A-46D6-8495-B7E19C9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74C23-D87C-4311-8A8C-AC7DBAD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9CB1-1AA9-44EE-B6C4-E7D674F5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DD224-8061-4C96-B09D-ABDBCCD1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6F762-45DF-48E8-95C5-76FCB155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1B1DB-C341-48DE-89C9-305074A3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3E1E-844C-47DD-AAA6-39F883B8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2F78-D6BA-491C-B609-0E23A042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7D0E-7378-4DE1-BAEA-882DC6FC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DC30-AF5C-4BD2-87EA-22A433EE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412-A7AF-44A2-B9FF-96E6A91C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D7CD-31DE-4A4F-83CA-9444467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B2EC-F9D7-4E5A-906E-F056E78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FD34-A7BB-4EB6-AA46-988A16B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FC95-67FE-4650-9F63-4F49DE5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A6B0-60F0-422F-862E-1207A186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1F34-23CC-4FAE-AA83-877FE34A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7C01-BCFC-4E17-9263-39209D9A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44E6-0B9B-4368-9018-A3BD5FD4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D3B4-7BFD-4E3C-8FA0-F1D71617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ED5E-1D5C-49D9-8736-7C23B41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010-118F-448F-A4A5-B52C3EFB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5449-5072-4B23-866E-CCFB0060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6DAF5-37F5-42B1-9A94-9D7F2AC0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349C-8B57-43E1-AB48-D5D1D8BA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3C82-2FEB-42B2-8699-D9268D4E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F467-F970-444F-BA38-8B23E5A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5794-4C9A-4335-B138-EB7825D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0258-2F7F-4720-B55D-E18D2F2A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B47E-F677-4629-A53C-D69B215C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216B-8A87-4B8E-98A6-C289A910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21BDA-8E1E-42F0-960F-5D95A275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E14-32A4-44DF-B24D-330098E9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D87E-15CC-436C-9471-0AF3043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5B6F-752A-4FB3-9A08-D04816BE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27A2-CB55-4481-A958-DE4E837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9095-C24F-47FD-8EDD-248160E9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5498D-381B-45BB-AF73-37641534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50A25-9146-41D7-883F-338DEDC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B171-4862-425F-9E1B-EDC36C2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0102-2C02-408A-95FD-D2D04BD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695D-AD98-486A-AF08-F0D4AB3F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DC0F-A141-4C44-A0DD-685D9518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CD0-FAC3-4962-99DB-B2E43D63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6E1B-B79A-4C8B-9FAD-80731201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598F-CF6A-4234-8124-5FADFA22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2A23-8FF7-4E86-AEDA-0D18A3A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5A2B9-DB40-4D71-83A4-B0F38814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03734-2B97-47D2-A143-7B3EF8B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BC01-14F3-4CFA-A9D1-00144DC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E6606-06AA-44BF-A0B0-1227E2A5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BC6F7-4013-44B1-A1C0-91DB468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7230-4A63-4DAE-8C30-24E8243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16AA2-208D-4C88-ABBC-EFB3785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24D-9870-4C2B-BB54-3F0779A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936E-F12D-420A-8BD3-EC04AE64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A1498-EC4A-40C3-9897-6C74AB52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D696-E8B6-463E-9D1F-5EDACA5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BD90-2B80-4742-889B-19E2A54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75A2D-E025-4765-A86E-5198C566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B25C6-5D21-4C54-9D4E-B1BA03C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60D1-7CEC-4749-BE15-7F09EE90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280F7-1CB4-40C6-8F01-939442F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4345-6BBE-4CC6-B257-E7040A7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7D4AF-7D27-403B-A16D-4496865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C8A-6FEB-44C9-B92A-4C1C7965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20F4E-BD30-4880-8098-267E0D5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4BEF-7E6D-47C4-B4C9-FA4F470A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0B41A-69A8-428E-8394-8D69D5C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75A99-43A2-4136-BD27-47B2FD8F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4F4B2-8D4E-485A-87CE-F8DB83DD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2C656-D318-4FD1-9B21-22D64170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C12E5-6E01-4031-8E1F-C847E8A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790D4-6616-41A1-BA8B-A00B495A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DD8B2-B424-46A4-9C63-C2EDCA67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0E907-4F18-448A-BABB-CAC1F50E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4C0-6839-4862-BBAA-DF99434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2B57-D8AD-4653-A2F6-EB9EF304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57A35-60DD-4138-9844-90522A61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D7C8C-98FD-4221-AF15-ED36613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862A-C9EF-454E-843E-8755D1C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CB44-75A2-4ABD-A7E0-6CEA06D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0CC5D-CD00-480E-9032-043C343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273B9-2E1E-42AB-9461-0626C585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53322-F997-42BA-B604-AE513A2D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5BFD2-C216-435F-983F-99AF135F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A3594-2866-44A6-B59F-B48787FD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9A5-3AF7-4F9C-BCE4-072BB7312E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F30C-614A-4C50-8B17-93B460BE9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49D2-AF44-4967-95BF-7C226566C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B391-8BAD-42B0-8BF0-21466D341E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4D9A-1592-4661-97F1-9CF3001B6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1CC-7238-4147-8F04-7CAC2B0542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9412-78C5-4A78-B78D-67920A4DB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30F9-CC7A-4CA5-8F52-4D81854E6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F432-3DFD-414D-AFFA-C5A172A86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8220-45A5-427E-BFAA-89DBE09EE4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C7D9-2C80-4C16-B1A0-8F02206AB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57E9-170A-40AE-816A-CF96CA9E4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C9DB-E1C7-4F56-8446-1C9C54656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51EC-013C-45BD-B8FB-CC08BDC66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A84-5E27-4562-9AC6-D2F42169A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69A4-C57B-4F90-97FD-202908F415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F69-E2FE-4802-B618-B72FB0DD2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97F-AD40-42EB-8F14-1490D7074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13EB-C229-4EFA-AA40-CA17EFCA9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02BB-D1D7-481B-8DE3-FDA89D0A2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E9DD-F4E3-4207-9953-080AED83D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275-A02B-490B-A798-D9AAC2F06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C89-4BCE-4EB8-84F4-D668F21CA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51E5-58D1-42B6-AE6A-D90F8021C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C1F-6DAB-4DEC-B951-DBD1844C68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F9A5-E4FF-4F54-8A13-AD48CC1FD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73A-CD53-465F-A1A7-6B85633BD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0461-F964-4FDB-9A74-70D30F6346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81B8-E920-45DB-A4F4-990C7B47C2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B704-4331-4273-BAAA-88B5D1010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89EB-E278-4CDD-BAF4-94D363028A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750-0B19-40E7-B9B9-3F66A58F35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3BAF-A975-4870-8E5C-CFE6D3FDD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D57-8845-4B60-8599-649C19120E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8A01-247C-4E16-89B8-587C40280E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653E-3F11-482C-B083-E119CC69A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9C03-6815-4BDC-8A46-6CFEDD96B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18C-9544-45DD-802F-A06271518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532C-AEFE-40FE-9DD3-68314924E8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803-8FD6-41D8-8878-BA36177B6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71840" y="3195720"/>
            <a:ext cx="40003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9160" y="1909800"/>
            <a:ext cx="8905680" cy="3038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3303720"/>
            <a:ext cx="863640" cy="301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3303720"/>
            <a:ext cx="2087640" cy="301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365436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5280" y="3962520"/>
            <a:ext cx="3240000" cy="3016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4000" y="4302000"/>
            <a:ext cx="324000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24000" y="4653000"/>
            <a:ext cx="475272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123840" y="1386000"/>
            <a:ext cx="8896320" cy="4086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468360" y="178272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95280" y="243036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468360" y="278136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395280" y="3841920"/>
            <a:ext cx="2158920" cy="301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395280" y="415908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395280" y="4508640"/>
            <a:ext cx="2158920" cy="301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324000" y="4835520"/>
            <a:ext cx="2158920" cy="301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250920" y="5186520"/>
            <a:ext cx="4105080" cy="3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176040" y="947880"/>
            <a:ext cx="8791920" cy="49622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68360" y="2617920"/>
            <a:ext cx="2087640" cy="301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2700360" y="2637000"/>
            <a:ext cx="2087640" cy="301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68360" y="2962440"/>
            <a:ext cx="2448000" cy="301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468360" y="328464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2627280" y="3284640"/>
            <a:ext cx="2449440" cy="301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39640" y="3611520"/>
            <a:ext cx="3527640" cy="301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4356000" y="4384800"/>
            <a:ext cx="863640" cy="3016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5076720" y="5157720"/>
            <a:ext cx="863640" cy="301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5076720" y="5535720"/>
            <a:ext cx="863640" cy="301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8478720" y="25369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8469360" y="2924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8566200" y="32846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4"/>
          <a:stretch/>
        </p:blipFill>
        <p:spPr>
          <a:xfrm>
            <a:off x="8566200" y="3716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5"/>
          <a:stretch/>
        </p:blipFill>
        <p:spPr>
          <a:xfrm>
            <a:off x="8575560" y="40957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6"/>
          <a:stretch/>
        </p:blipFill>
        <p:spPr>
          <a:xfrm>
            <a:off x="8578800" y="4508640"/>
            <a:ext cx="432000" cy="301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7"/>
          <a:stretch/>
        </p:blipFill>
        <p:spPr>
          <a:xfrm>
            <a:off x="8556480" y="489744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8"/>
          <a:stretch/>
        </p:blipFill>
        <p:spPr>
          <a:xfrm>
            <a:off x="8566200" y="531972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19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