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AC59-BBA4-4F3B-BFD8-0632C9F5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CC21-295A-462B-80C4-DB9E79F1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C4915-D2EB-4CC9-8C90-2A2BCD5B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D440D-5B9D-4241-BDC4-424D9FF7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DD796-E3E0-4D0F-86F8-F6D0E90E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3EB0B-213A-49F4-BB44-CD67E7BC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746B5-8B4E-475D-8F5E-69DD3945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C0CE4-1665-4574-AB14-65F93AC4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634FC-D9E0-497E-B8F2-1BBC88F0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12B8B-9274-4930-8E68-EBF72949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9E3A2-8CAF-42FB-8C56-32178720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B435B-5E38-4DEE-8F04-2EE5D77D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25E9-4255-477A-B132-326C25B0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E762D-9A94-43D1-9A36-FBDB9BA9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B6714B-6740-464C-A1EA-BF154E3C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97DF9-73E9-4747-BE5F-83154527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88594-EEEB-45F9-AEC6-A92699CB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3C7FF6-DF47-4786-8A3A-79897BA4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C80F4-A829-4139-AFAD-CE8CAD0A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FD073-2019-4EEF-B037-A639D8C7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30EA5-A82D-4832-8DDF-5DCC0D79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7FCDA6-BC19-47BD-AF40-D084C343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FC603E-D293-4F85-9856-48EFBB71B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2709-9110-4DA9-8FB0-D0672DD28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3F613-C20B-4642-A3F1-68E1D8C7F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621D8-AA06-4342-981F-EBEB42B77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C25EC-524E-4E30-A8BD-850841AF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251AF-86B3-4105-BD33-D50F1826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364CA-7226-4B11-A06B-07E6CA7C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30D01-2E7B-4ADD-B331-F10E1423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AD804-B175-48C5-B68F-2E2907F3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ACDDE-8586-4BCF-9503-00FCDABF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31309-2653-46E3-92B4-5F9BE9C0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78E05-7A1B-4015-B2F1-4CAB5636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25D9-8F37-4FE2-B573-F3EDEF668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FC2CE-8D61-4458-B36E-617ED430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FA5E2-725E-43ED-9575-44085417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9FB86-644E-47D6-B343-FF6821F7D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CA4886-5F04-435B-A75A-A0B61718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06C25-6FA9-43DB-90B5-0AFAA641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3E596-4FD9-4342-A13A-59273D24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CD7216-AFDD-4894-A6F8-7E29741F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3770BD-3F95-41D8-9106-4B8FC919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577F81-FADD-4E9D-A447-30049452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F3914-27C8-40E0-A934-5D7D97AA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8925-AD72-42DA-8A9D-204AC40C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E45B2-BA71-409C-91D1-1A0F5912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35FCC-3FE0-4A52-A846-0584F027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FC98A-54AB-469F-A34D-15FD1C21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1299E-2DAF-47BD-9525-134A301A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968FC-B516-4EB9-B5EF-5BDABDA7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7A7833-4B20-436C-8AD0-DB32AFF6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5EC685-C480-407B-B4DA-C583A579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250F8B-9ECF-4219-9033-94112307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AE0571-9252-40EA-8B40-C53FDCB5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7762C1-8B01-4B42-BF41-7F17492E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DD23-F218-4E91-A796-237A2F02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EC8B6C-873E-4916-A9AB-925B8B41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B8B59E-A9CB-49CB-8064-B93D04C5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E105BF-198F-4BFC-AB22-DAD05524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3A5C85-AC28-490B-91FF-AF4D85F3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A17844-5AF5-46FC-BA97-7CB1994C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143DB1-BA18-4D8B-B9CD-00F5CA0A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531B4D-CD37-44C7-9224-570A84B7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334562-A7C9-40C5-9E00-6B70673C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5ED223-4EB1-4D4E-8A96-7E7A0EF1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243F7E-EA63-4DA0-B185-B768BCD3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2756-0979-4771-A6A3-B21279A7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F15DD4-ACCD-4DB0-99CA-F4DEB6BB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5955DB-3FC9-40DB-8FD5-F7513953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15BCA2-2CBD-4743-81AE-CF9285AB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204E4D-3970-4670-B42A-81548983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1038E9-8A3E-4A46-965C-3BF509C9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6EB981-EA7B-4A93-868A-25EAC23D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2E55B9-57A4-4B37-8313-32725740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B1F0E6-627B-4E8F-AE3D-92560E2D8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85E4ED-191F-4EF2-95A7-495AA6C4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AC35CF-A9D1-4DA5-A8F3-BAEF7043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D292-E725-45E1-B046-73320A64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10713B-936B-423A-A352-36BD1BEC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093174-B0BC-4539-9EAC-33AC7921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DDDC09-09B2-41DC-AC43-3B938DF7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959D32-28BA-4C83-9540-859D9166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3E5F68-4232-47F3-AC44-4C971404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D7A4F8-26F8-4656-8F3A-05CFFD34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6510A5-CA37-4735-961D-D08B6CC1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F83FE8-D61A-43B4-BE21-44202FF3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C02D84-94F6-4601-9A5E-F51203DC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B5BC74-A131-46AD-B75A-565FA6A4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96DA-E60F-4CF5-8DA3-405AFE6F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C49BE1-A5ED-49A8-9F4C-909CA0822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B336C2-774A-4BA0-8688-12828B15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774333-2678-49A3-8A25-C3C41AF6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167CC0-D2B5-4521-9DD3-3434C3AC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BA004B-0631-4C55-A4CE-4110CE27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38A51A-5BD2-492A-BE50-CCE46041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516378-4990-459F-8D1D-2007A1FC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22E5D2-0116-4968-8D79-B8114A94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BFB3DD-B372-46E9-BE47-3E94C6D0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0DD1AD-7014-4D67-87DF-6BD562AB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AA69-1541-44C2-A47F-F675BDDE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E8CE72-C570-4579-A31D-FC4AA495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7F2898-F83B-4AAE-ABFF-2F29DE05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1975F8-17A0-4926-962B-3EA6D97F2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1D17CF-7E56-40C7-AEAC-465A6970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4BFF68-1C57-49A0-B9CA-BE740F3F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2890F3-1B09-4A9C-A994-555002A0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5D1A64-1922-4E59-8853-72DCA192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A790D5-747D-48BC-B945-DFBEEED3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886804-67B4-46A4-9640-2D52A31C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A783C3-D47B-498E-9523-3E71BA74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34E1-4B4A-40B0-AB6C-86B2AC91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B5AF-FA3A-48EC-906C-5909A1CB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037B63-A78D-4038-A55F-C05C7134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A11CF5-D0AD-4586-89B4-901D72DB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F9C548-C86A-49B6-B658-799B3D77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132208-5FCA-4688-A69C-BE2A7FDB6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CF3813-FAD1-4527-B002-1C9D62383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8DCDC2-211D-42E8-B069-5EE28BADF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B4250C-801C-4E02-BC13-88844E8C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A129FF-F13B-418E-BF27-0883DCCE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469F62-6FCB-42FF-8849-18ACCD98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5B8241-7461-4F90-AFBB-921C07F9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22A9-4227-47BB-BD35-6263F6A0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933B65-0B73-4E7A-8695-A057EAE6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B59ED0-7D53-437C-B61F-5BEBB0B5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C82ED3-00DF-4108-88D6-47852F5D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E6D011-98DA-4CF1-82AB-8966C010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AFA2F8-5ED6-469B-9D4A-8181F84F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6BA071-A937-4EF3-9118-1D1C4A93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AA6A2B-0CE4-4B50-8F67-F6D573304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E1067A-679F-48DF-95EB-B67B205E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6E4E40-3641-4DA2-953A-0F2D6E23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FF2636-BF20-4C7A-AB70-46EA2FB2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7BFA-92A9-4557-9883-33057D3C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35E7B1-FE74-4E72-B2C4-A8CA0D1C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B389FF-E05D-47C3-B477-EF9B2CC6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F12B60-6965-4687-B7EC-80AB01C1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10CD09-F0A7-43AF-88CC-E9D5EB02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ADD2EC-080D-4B1F-9FF5-40C55F25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6C97F5-9F8F-4253-A2DC-00155FA7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A46AEE-9877-4D79-99EE-9E3F7F7E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E61931-CC55-478B-81FC-82A674CA7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0CAA0D-17A8-42F1-BAF8-89DCBC622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CD4C55-FBB6-446F-8436-4E9A81F3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7936-8EE8-4D57-8000-42346E58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53931B-3398-44A4-A9A4-97FC5DB8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0667E5-2942-48F9-B78B-227C913D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7742FD-C7BE-4AD3-8A4F-555EFFA6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D4C567-7465-48F8-A283-74A8D8A8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EB4206-CC99-4F98-AA7F-FFEC74F8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7E2730-4E2D-4A92-AD98-9645DEB7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F31542-AED8-4B6D-B70F-4A1067AC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9DD385-0A7B-4C24-AE84-5F02E7B0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DA1465-A8F6-46DF-B74D-D09D8ED0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E0CC9D-399F-4A0A-9701-C62A5651D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1486-5294-4989-8D3E-B8EF25BE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FDF17C-8E87-4028-8460-5BAC2B9A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68B14B-B934-4182-8B0A-834282CBE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C04AC0-1C7F-499B-B839-F1327FA3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0D4F9A-281C-49CB-9B2F-CBF31F14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FB5B43-69C6-4C5D-9AA3-D4D53E99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89AF44-9E63-46F6-B028-15ECCE19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992755-2020-43C4-AD5F-D001EA8D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238F75-0DBD-43D7-A887-9CCC9BFF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D99112-FF0E-4C17-831C-67BBA171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3CC0D5-063B-4AE3-8107-370F0B63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C61C8-FACB-4CF6-83BE-09C34986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D69E5B-CE00-4BEA-8CD8-6D57375D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A08FD1-F2D9-4E9B-92A0-A385018C4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C46DC5-631C-4E76-B569-E6BCA5E3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5E59A-6A9E-482F-949C-A6B7A1CB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2B97E-5059-4F36-932C-C9411832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08360-6017-41D0-9656-35CBF2BE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86AF9-12D6-4FED-B1F1-6118E0BB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986D-EB07-432E-8705-124B646F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4617F-D015-4F45-B761-D1CD4EB8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A5F4F-887F-4A94-9A78-074E2715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D1409-EA62-47F7-8CC9-5A13BB12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E0495-0B8C-40DD-BC55-D8C25A22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36183-6BDC-4F36-B368-83AF245C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1F6C4-F733-46FE-A68C-0D9B35663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6A6C9-5068-4D53-84B4-A9165D29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F12D4-533A-4FC7-AC37-23763394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AA5AE-D3F2-488C-9AF4-3707F957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D0F8C-A3DC-4F9F-91F6-3E35513D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0E45-941A-4A7F-96C3-87E7CC73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97CBA-9B2B-4B83-B642-4B9565E7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33CD7-C2C7-4E47-B6DF-58C5121A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E6D1D-E7FE-474F-923E-15205687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00A87-5352-420C-9A16-6838A97B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6E8CE-5957-47E7-B0CC-9F79B483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35F6B-7EA7-4313-AAF8-965AC89D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EAE1C-B55A-424E-B0CF-EC2B7C06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87B56-1293-40CB-A7A5-615757770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E8960-4099-4B48-937F-6C2D7E31F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11E3A-DD81-4E5F-A4BF-6B6DDC6C5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0EA6-6CB4-4E21-8217-9521BE7A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E61E9-DEEE-4C1D-8E32-2FE1E09C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B3D75-3DE4-4FC2-BF04-5DEFD938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9E6B4-1886-4D5E-B56D-5EA2AF2A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2F784-35E9-4629-857F-F4144600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F958E-AF0C-478D-AF86-02361D88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69A1F-9B3B-4ABD-9252-A77C1C36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F76C0-4946-473C-94F9-1C02E812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A1110-17D9-4FEB-AA26-C9925934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CFFDE-6CF0-4806-B8E5-B7A34622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107DA-D503-4DED-A9FC-A7473E371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DA66-6FD0-4F79-9A0A-CFA8CB02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42C6E-FE46-4EC6-997E-39287FBD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C900E-B869-478D-AAF3-BCE3678A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F7D22-474C-4B91-8766-45E41428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B0C92-FCBF-4BCB-AD9E-65143055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8ACF6-9B0F-4954-9E31-E0352597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6138A-DCF3-44B3-AAEA-2EC0B6B7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989CE-E160-4249-BE5D-9FC351C2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CBDEC-CE25-42B1-9983-4847A409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D5AD6-0982-4F6E-A1D8-C1B9FB2B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9E3E3-454A-4B26-94F2-0CE32112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8F89-C8B2-4569-941C-E1D1DDCA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79EB9-E4D7-4B63-8694-6F74A4D6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A265C-A202-49DB-9BCB-7F731D151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24AF0-2EE1-4916-A2D3-15C6BDEC4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71492-9A01-4265-90AF-80EBE98E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69D61-5C02-49C0-990D-2EC60B33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52583-A18A-4E63-B717-8369239C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E8ACB-748A-4DBD-A8FD-85A7C510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7FFE9-6F74-45B8-A9DA-969732CC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00AE5-C2CC-48FB-AC33-DC7BCFFE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796C9-6C9F-4743-A686-32E1B917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CA30-2F5B-43EC-9FB9-47432E17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39A17-0348-4F62-8F8D-F66B4288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434F0-549E-43D7-AA41-3A16F2EA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A9F50-1395-4B48-AD7A-43E2A1CC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67C33-0E8A-462D-806A-E3B574D65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C40BD-5D1E-474B-9BDB-5D1F0D529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7F736-4651-45E8-8B6D-4ACB9EF8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A4CCB-EEBC-448C-A600-E6599C85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ECC6C-9195-44D6-B33F-61C4F384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438DA-B6F7-4D51-909D-D41B5A2D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4BC9B-BD5F-4228-905D-699102B4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E773-4095-4F31-AE4D-BAE6603A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96DE9-505A-4CD9-AE03-43873E5B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5A284-BCC5-4CED-93E5-A5A03AC6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6CE8B-1FB1-4326-A17D-4355DB9A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EF742-630A-42A2-A43C-24B831D0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C4608-30A9-4CC9-A907-06EB31E8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D3F01-3135-4664-97A3-3D0BA0AF1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E8B29-8126-4CAD-A16F-7CAD1C034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C3699-6F45-4F6D-B61A-15F3FA379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018EEE-7F0F-49DA-B3D3-9AB8D027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B53C7-01A3-4256-83A5-8F376832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B899-81AC-41CC-B980-346A674177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312B-B006-4B3D-B4C9-1F0A2FBF0F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1009-3FD2-4223-BCE5-ED4340D8A0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1639-02BB-4379-AA4A-12BDBD4559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2D96-BBDB-4AF3-9368-59C717EB22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B3A5-E57E-4C35-A424-0C19414A0B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A8EB-F779-417B-90A8-2B7C730E5D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12C8-2FA4-43F2-BC62-D74B46D8C6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CCF7-12CF-4410-9F0E-7E3A9A5A14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5E6E-097A-40B3-B031-D2F1CC389A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BEEE-9AAD-4B3F-8D1D-CAD10FE0E3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1667-C2D4-4B73-B3E8-D10EF6A69C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B027-8DA7-432B-B281-4ED6F5B2C9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8B46-E05E-4539-80BD-3EFF059111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9A60-5550-47D5-935C-5FCEC11A04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6645-BF45-455C-AC2A-182BBB1731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368B-039B-40C3-81FE-12C4689059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1DEC-5468-44DA-9768-70E5078F89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3114-6BAC-45AD-BF73-B8A5F40A1B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BFBA-4CCD-450A-95EB-ABCBA39BC4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6668-9FD3-4349-9731-8F771FC44D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7933-AC61-4019-B3EE-338D8810A8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43BF-E19A-4DAE-BC5C-CA2D785B9D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7BD5-5DBC-44BC-AE28-3CC84343D3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0542-49ED-4A6F-B428-3B74338CB3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64A7-B519-4A11-8315-9AAAD635CD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1E71-086E-41C6-B6AC-FC90A0A2E2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6BD3-B86D-4347-B8EE-AE80CA40EF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B68C-BAE6-4351-AD08-E40EB4F3AB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9EB2-059A-4CFC-9D01-59CC67C942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C957-67E3-474A-BA19-15F9F9D134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DBCA-5A04-4E14-AA33-E032C8C0ED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79ED-9114-4114-8CE7-D24133399E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D7B4-3359-484C-B36C-7DA373AE0B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3AB0-3F22-4F38-8113-3FA180FBF9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8FF9-8406-4634-BAFA-426082504B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3818-D3E3-438D-9AEC-2A9D4DD729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C0F3-A4A8-4B03-A522-B8BE879115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275E-830A-4686-BD3D-B37282F1D5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D5C0-5C23-486F-AF36-069966AF18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728800" y="3205080"/>
            <a:ext cx="3686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66680" y="909720"/>
            <a:ext cx="8810640" cy="50385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647640" cy="2556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826920" y="2502000"/>
            <a:ext cx="865440" cy="10080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987640" y="1989000"/>
            <a:ext cx="647640" cy="2556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2916360" y="2502000"/>
            <a:ext cx="865080" cy="10080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5148360" y="1989000"/>
            <a:ext cx="647640" cy="2556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4932360" y="2502000"/>
            <a:ext cx="865080" cy="10080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7308720" y="1989000"/>
            <a:ext cx="648000" cy="2556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7164360" y="2492280"/>
            <a:ext cx="865080" cy="10080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826920" y="4302000"/>
            <a:ext cx="865440" cy="15130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1908000" y="4340160"/>
            <a:ext cx="1151280" cy="15130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1590840" y="4014720"/>
            <a:ext cx="647640" cy="2556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3635280" y="4311720"/>
            <a:ext cx="865440" cy="15127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4859280" y="4311720"/>
            <a:ext cx="1081080" cy="15127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4471920" y="4014720"/>
            <a:ext cx="647640" cy="2556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6588000" y="4311720"/>
            <a:ext cx="865440" cy="15127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7667640" y="4330800"/>
            <a:ext cx="1152360" cy="15127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7370640" y="4024440"/>
            <a:ext cx="648000" cy="2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9410" descr=""/>
          <p:cNvPicPr/>
          <p:nvPr/>
        </p:nvPicPr>
        <p:blipFill>
          <a:blip r:embed="rId1"/>
          <a:stretch/>
        </p:blipFill>
        <p:spPr>
          <a:xfrm>
            <a:off x="133200" y="1171440"/>
            <a:ext cx="8877600" cy="45151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1106640" y="3716280"/>
            <a:ext cx="431640" cy="2556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3708360" y="3716280"/>
            <a:ext cx="432000" cy="2556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4"/>
          <a:stretch/>
        </p:blipFill>
        <p:spPr>
          <a:xfrm>
            <a:off x="4500720" y="2276640"/>
            <a:ext cx="1439640" cy="16570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5"/>
          <a:stretch/>
        </p:blipFill>
        <p:spPr>
          <a:xfrm>
            <a:off x="6588000" y="3735360"/>
            <a:ext cx="432000" cy="2556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6"/>
          <a:stretch/>
        </p:blipFill>
        <p:spPr>
          <a:xfrm>
            <a:off x="7236000" y="2286000"/>
            <a:ext cx="1439640" cy="16574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7"/>
          <a:stretch/>
        </p:blipFill>
        <p:spPr>
          <a:xfrm>
            <a:off x="468360" y="4778280"/>
            <a:ext cx="1871640" cy="2556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8"/>
          <a:stretch/>
        </p:blipFill>
        <p:spPr>
          <a:xfrm>
            <a:off x="2411280" y="4788000"/>
            <a:ext cx="1871640" cy="2556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9"/>
          <a:stretch/>
        </p:blipFill>
        <p:spPr>
          <a:xfrm>
            <a:off x="395280" y="5075280"/>
            <a:ext cx="8640720" cy="2556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10"/>
          <a:stretch/>
        </p:blipFill>
        <p:spPr>
          <a:xfrm>
            <a:off x="324000" y="5373720"/>
            <a:ext cx="8640720" cy="2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8373" descr=""/>
          <p:cNvPicPr/>
          <p:nvPr/>
        </p:nvPicPr>
        <p:blipFill>
          <a:blip r:embed="rId1"/>
          <a:stretch/>
        </p:blipFill>
        <p:spPr>
          <a:xfrm>
            <a:off x="162000" y="2095560"/>
            <a:ext cx="8820000" cy="26668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755640" y="4033800"/>
            <a:ext cx="2448000" cy="2556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684360" y="4302000"/>
            <a:ext cx="3095640" cy="4953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4788000" y="3952800"/>
            <a:ext cx="2448000" cy="2556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4869000" y="4240080"/>
            <a:ext cx="30956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1:07:04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