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A6-6CB7-49F7-97C0-B410B42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3F3-022A-42A1-B143-8146BBCC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EEB12-9223-480E-8637-24A3963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7EFA-AD01-4A50-8270-5418725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107C-E385-4C0C-AE41-FD331CD7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7182-734E-4AFE-81C6-00D1F40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B93FB-F93B-4EEA-9C20-7F3770F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EB074-9FD3-4E64-944D-9161063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3B6AF-0F74-4324-B6A0-6F2A56A8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123E-D10A-479D-B9FA-4A3599D8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16883-9639-4F67-B5BC-F35C87BD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E1BDA-27BF-4BBA-8184-BCCA66D9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FF0-E07F-47E1-9FA5-E529FCEC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1CB62-49E2-46EA-A943-CA751AB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AC8D-06C7-4C44-9583-516B334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9C1AF-FAA4-46A9-AA2F-045A8D36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8708B-ABD2-47D5-BC07-44442C4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13208-1D3E-48E5-BA6B-7288371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4C3C5-7781-4490-A86B-6A220EC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B7251-A290-401F-987C-7D6E656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1B600-FDD8-4DEF-9ED3-DF47956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7286A-35C2-46CC-844B-76F2BA8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0B727-E56D-405C-993D-8CF3BBB0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E38-066C-4B0F-B43F-773E74D1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A1E4-1E07-4D43-A9CB-B617F329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E2FB-1E1B-42B7-BABF-6AE3A3FF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12C3-4C25-4970-B3A1-AABFE4A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3256-63E2-4006-8DAC-5E18B11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84FA-4C47-487F-B93A-460D903A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7BA1E-E531-4426-9AEE-9CBFFB6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954F6-9B7F-48B0-89AD-5DE06A0A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1B1C0-FB2C-4C4C-A44B-49FE539C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08E1F-B7A4-444E-9CF3-09050B6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E9D46-4CFF-40F3-BDA0-D205AF8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978-7DE9-4644-9314-2036AF8F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1A0B6-91D0-4F0F-A00A-D20813C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BF6D2-7744-42E2-9803-D20583C6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C71F-DC46-474C-B5C0-CC34CC96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07F92-9A79-446D-A7EE-E6A139F8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413A-5C0E-4F6D-A60B-43AC51F5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CF26-4E4A-474D-B67E-01AD86B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248DA-713B-4755-9037-F11F3D6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61337-4398-4953-A747-7650BCC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CC4B5-5327-4B31-8F00-A48FAE1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51B90-3E44-4146-8DEB-9E54AED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0272-1297-426D-902E-E9F7484C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61C15-4707-4A64-ADA7-1EBB7A9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7B388-3FA7-4EB3-A738-6E84331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E0B8-40B1-42E9-819C-1C79CCE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0E22F-D82E-44C3-BEB4-4C4075F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55379-F724-46E0-B966-5A0B4046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C4F12-01F4-4052-9A68-B6E54AAC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10EA5-B25C-4362-A9F4-FDE517F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D6E76-A8DE-44E4-BC50-169F952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14CCD-9140-4468-91A9-F1F994C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6D9AB-153D-4702-9A83-6BB6B3AA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7CA-40ED-4349-9537-9EBF12F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85F6C-FDBE-49A9-8E15-B50CA33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16FCB-E0EC-4431-8AAD-FB57D4D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6215C-CE16-47FB-9359-47FEE8D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86192-6F55-468C-8EFD-6A995CD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BA63B-13E2-4ADD-93FE-63FCEF9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B99F9-4C4A-4A9C-9118-A036ED19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0CD33-769D-4CED-8AB5-2287DC7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16BDD-97F8-4997-A4B5-AAE39D91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42EE0-30A7-45FA-A754-F2337C7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C4A4B-7A5D-452C-BFCD-81BA0E96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0F6F-8524-4F2B-9594-4586A40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50F93-3B56-4BCE-B51B-3A57512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F7ACB-C7A0-48FC-B78D-2E081A8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B114F-EE4E-46C6-8B5D-7A2A45F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55839-3C24-4FB7-8060-D798B73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0D87E-2EA4-4773-9903-6A0C95E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69F1F-0786-40C9-BF86-03C3862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6E482-279B-4314-91A5-2F0FC96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24528-821A-4C79-A7E0-4C0B792F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ED11B-2945-494D-9E17-0A8DAEE1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C6A03-C6DF-43DA-A66E-F9B7FC92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C477-A0C6-4AEE-BE28-B44BC94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AAEB0-88A6-4104-820A-91AEBDB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EACC6-4FC6-4594-A187-9B8DBAA2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F9575-EBBE-40EB-B3A5-DD1FC6F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042C4-8145-4C71-912A-4BA7501F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646FE-C830-4846-A30C-87DB0F9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62BBE-58A4-4E39-8EDB-42F3078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2EE81-80D5-4409-BD5F-94F3C25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97E08-804E-4278-8701-CFF3014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B887C-0DD6-43F1-B31B-E20F1F1A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2AEF1-6049-4112-A95C-631A0349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4AFD-2D7C-4DE5-AE4F-6489209A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B30D2-9402-4A54-811A-D946EC5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38AE7-B0D2-4513-BDF3-D2A76C29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E4A6D-CDD8-4ADE-B6AA-7ED4058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A6A95-EC5B-4902-BD47-597204E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97403-6460-4C26-B203-6E43358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07FD6-9F60-4EF6-ABCF-1BC4E85E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91F50-95C7-44E8-8D58-9D02029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6DDB3-5F90-44C2-9949-40DE1ED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BC36B-81FA-4831-857F-A72DABD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024D8-29E2-4FA0-BA4D-58F6AD35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316-356B-4FFC-88B4-62CD388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3F101-CE1D-4255-9513-3FCA96E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DBE26-1699-4062-89FF-F23BD6A4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0246D-8F41-40BA-8266-9A169A1B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1F386-DF98-44C3-BF52-D83D5A5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26BB4-932E-4923-B998-7A331EA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2BC09-56F7-42A4-9E28-38FFDA38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5F8C8-DC6A-4277-BB6F-9C077C39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75A98-8B42-45C6-9351-560822A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6A097-8344-4223-8431-7434192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93D8E-AD5D-4D12-86E0-7D23913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266-B4D1-4F05-958F-018708E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38F-E8A5-44F2-8834-8EEC40A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33267-DF77-4A98-9085-03C1814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631ED-0767-4CD3-9F24-C7DA1D6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57F0F-5214-44E2-961C-6B9F5A6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B7018-8C50-4E1C-93C4-1266423A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EFAE0-44F4-43F6-B49D-20A69610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1396F-FFCD-452D-9BD1-71DA1B3E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B36EF-8A2A-48D7-B0F9-80D49265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43BB6-3419-4F87-A159-7FAFB69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3C14E-71C8-402F-BE2F-8CDFFC5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7F581-FDAA-4693-A5F8-CEF092BD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CBCC-5D2B-41B9-8109-BD7B00F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EFC7E-11BA-4633-89AC-C956DF0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F5B20-A426-405C-A66B-48327FE8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8A2AE-25E8-4EF1-8A66-0655EB3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73737-4340-4301-BA3E-1D860D9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BF68B-B97E-4421-B228-8E6E307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2734A-F81B-4311-801B-A7592881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496D8-592D-4675-A4B7-F3363A1F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5AA65-5F5D-489D-AE73-2A04EADD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7B6CC-1B76-4DCC-8E8A-F34CDEA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28B92-98C0-404F-8621-CF0B1E95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4894-4403-4689-811E-F157072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EFF98-C73C-4AB6-B70B-3910A05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E5431-BB88-4F90-8E0F-DB2DEF2C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03FBC-FC99-4C69-AB0E-9173CC3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69EDC-102C-4E9A-999B-32158DF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AF043-D7C1-487F-A29B-D18D8CB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F463C-55CC-4FC3-8ABC-DB7A699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49267-06F3-4771-AA54-A27AC4E0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60EB0-6D0C-42D0-A878-1A7150BB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EAA60-D79D-4DF1-87CC-B894D9D7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1EEE7-47D8-4328-8EE3-AEDFD4C6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6B9-5B2E-4A77-B263-973ED88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970D0-6FDC-4EF8-B223-DD5C13D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A537C-D45B-4523-A005-ADE58F37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AD6B5-58F0-4D54-810A-67073CC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496F8-738F-474C-988A-503042AE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6670E-CCAF-48A2-8288-3AE663C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136DF-9B6A-4DF8-B9A5-CB32C4F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D3FAC-4E70-4F3E-90B5-86C6A7F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BB26A-18FB-4B9B-A20D-B43B7C9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A25F6-C2DF-413A-AA45-0D88A102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1D79F-4941-4DA8-9A29-99DD6BDC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5066-8D18-4825-8B9B-D5C7038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A1408-EB7A-480F-9563-A4D72BB3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570DD-9AF7-4937-A837-7F0E195D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5FC31-EB54-424B-AC3A-760BB3B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192BD-AFE8-432A-A5F9-4934DD4A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29BBC-A312-4892-94EE-D3E80CED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71B4C-5C32-4C88-8362-1AB8AB0B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A15E7-7ED5-4892-9A67-00239E4C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126FE-556D-469B-A7D0-1C98784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E15D3-95F1-4821-90CE-95FB492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5D479B-AAEE-487B-A96D-141FD52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D47F-A221-4A8E-AD6D-3B10A53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321FA-BEA5-4392-A2A5-A2EE6188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92BDE-CE07-4F29-96C2-2D7E4246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E8D7D-C152-471D-B56A-33C42FA4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FBA6-6E99-47F9-AC9F-C19FD8C9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8FFD-1012-458B-9602-7493999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B8CF-B475-4B5B-86D2-6448C03B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D81A-F29D-4449-BD0C-800411F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CB3-FBB9-416E-B1CA-6D49A177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125E-D8C0-4784-BD18-AB67E00D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316A-8A24-4F2E-94F7-E3EDB1C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4FA9-C66A-48AF-A762-D7CB730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27CA-B10E-4D52-BE5C-5A900EC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D3CA-C6D8-43AC-BE94-0E50C85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3FB8-7187-4C03-892A-B2671278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0B5D-1527-4485-A105-74F469BD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453B-0FE6-4F0F-9990-916FAAFF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87C9-7598-436A-8081-FE74309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4640-8E55-4141-B309-814F20C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FB6-04EB-43FF-A662-15190739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30E9-747D-4C0B-BE00-0D7337AF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F6E4-90C4-439E-9D5A-E8EA621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A6E9-1A29-4A89-AFA6-9F43AED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655B-A43C-4299-B042-B999413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3A60-19AF-41C6-A03D-CF5E1E3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8B2B-BDB6-473E-B259-460DF07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442B-B739-4FBE-B82E-6E6CAAE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DC40-A2FD-496F-A162-B54EC7A5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37A9-11D9-4DC5-ACFF-5362479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4A99-FE80-488B-9983-DD675A6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68-350E-4048-B219-D49B0F08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F3C7-BF05-481C-9112-4F0844D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49E8-C443-4667-9D2D-AC74FF4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8741-4B95-4B6D-B40C-38FB1C8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B7A1-A206-468E-A47A-D5B33804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A18A-87C6-4B4F-ADA1-70628D4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1F21-F3FC-4A47-9BED-EF406BD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6F789-1C4B-4B79-8EC1-7B0A04A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3FCB-0EDA-493B-90EA-14D81C19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1A82-F60D-4244-898D-60FAD2D0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A37F5-5895-428D-8273-63DDBE81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FEA-02AC-4877-98F0-84BC4020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9ADB-E85B-4AD8-B6F3-B2346C93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0AA9-FB0D-4681-B618-F40D105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EB6B-ABA4-4CAD-9887-94B5ED8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DE487-539F-446E-BE66-7D8BF41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30B7-7114-45C7-84D9-C544525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C567-0F7D-437C-82FC-EB03723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84EC7-718C-49D7-8628-5F552392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5145-CC47-4B92-B5F9-B5AD5608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80A0-FD1F-4BA8-AAAA-B033B3A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34D6-3858-41EF-AEA9-EC05639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58D-CD14-44CF-8A82-52FA846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4DE5-1794-4F3F-AFA4-D8210CA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81BCB-DBDF-49D1-958D-FEC10EE7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E845-4639-460F-85E4-5B755EEF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E52D-FF79-471A-B984-999587D4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767C-82F5-4AD7-A489-5185B95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B477-F3A8-401B-B8C3-8DC1D73E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B3D8F-BEB9-4D37-80D9-69AEB34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2A7B-099E-4380-8EFB-92966084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A9BF-3CC9-47B9-A56F-61F2196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1039-61A1-445D-8D6A-FFA00012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0E9-3EBB-4C5D-8B55-FCC483A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07984-07CF-4187-B341-37314DC8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AE2D-411A-423F-8E60-979986C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04BE-5F07-4AB6-98E2-0FAC1E2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502B6-A6B9-4AE4-BEC4-5B4F6162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0EBEB-FA64-4D6D-A651-14752F22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5637-0B67-45D7-802D-DF403C38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5C5B-706A-4D16-A438-AF7DE07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6FC5-AC0C-47BB-9622-8B739FF5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63149-392C-45F1-BC44-C23ECDB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7430-4276-4D38-A4B0-24E7E72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6C5-C1DB-4066-A0DA-E193E42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4DC1-2CD7-40D4-ACF4-878D72AD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BEDCF-96F0-4A55-AF32-0312F13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721D-5FE2-457C-BB2C-DBEC71C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820CC-21C7-4D76-9439-750A007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C95D-3742-4B4B-B06D-306B9BC5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AAF3-D320-4833-B195-7701C09C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C7A9-0912-4875-8C60-540E7FB3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0765-05EC-41C5-BACD-AACA113E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9A60C-F195-4D51-B3B3-D30AE763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471FB-9CC1-48C3-9E9F-283708FD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F469-9878-400D-B7BB-1D4B1AD2F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63F0-6CA0-4BE8-9B27-B647F0AD2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67D-30C6-4BB3-9C67-AAF42BEE0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3FF-50A7-43E6-9889-897B80713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CC3-B537-4EE1-897C-0B90E7730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5D2-3044-45F9-8584-0677A1687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632-C2B4-4EAE-953C-373640594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348-4983-4D7A-9DDF-B4822ADC95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6CC-AD07-41F6-A86B-7C05CCE7B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343-0D51-4813-AA52-5CD08E96D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1B5-BF1B-4736-B4B6-9907D08E4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A1A-8159-4976-AA0E-0636FA1A6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7283-5442-46A1-9577-3983F18DEB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771A-2C43-4DDC-8F94-914FCDA79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B64-84EF-4DBD-BFCA-9C8229769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E9D4-01FD-4556-8C47-AA736C02D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C1B6-050A-45C9-AA59-F21CBD4A7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EE43-3210-469E-A40D-B9BEB6128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A11-1E6A-40BB-AA43-3D6ED592F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EE40-E6D3-4C83-A04F-D849CF856E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C1E-5E37-4EF8-88E0-A2E239764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0D75-A2F9-4165-A8B3-99D643E9D8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FA8E-8989-4E95-8481-7865DE4AB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84EC-8BEA-4D84-A038-2CE8117F4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458F-4822-4508-ACCC-CFCCD4219B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AA3-ADC8-4E2B-8D9A-D7C4B9E4D8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601-A3CD-42E7-91F0-7B9225212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95A-388D-4BC7-8069-7A41690AE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DB7-3C4C-403A-8DD2-AA1FC2A2D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29D8-94B2-4023-8F20-FEF791E76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F463-39D1-4212-AE5B-F64D7321E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6B2-3DA9-4775-8366-98B934A4E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4495-1675-417B-9A21-B4D856688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B4D-EE8A-4834-95E9-332FC02A7C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2F3C-668F-432A-BD74-C638BCA16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8848-4219-467E-9CCB-17337CBC6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CCB-EEAC-4DC3-98BF-1F6813F8F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1EB5-6A22-447F-8660-AE20B52A8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F627-FDBE-4AE2-AB9E-1C243A4B6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B957-B377-4CC9-9772-C9F875517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57560" y="3029040"/>
            <a:ext cx="4628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97488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79280" y="66600"/>
            <a:ext cx="3506760" cy="986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71640" y="443700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900000" y="573408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900000" y="6337440"/>
            <a:ext cx="6408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57120" y="195120"/>
            <a:ext cx="8429760" cy="6467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755640" y="355752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669636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00000" y="4824360"/>
            <a:ext cx="66963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971640" y="553068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900000" y="6180120"/>
            <a:ext cx="6696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333360" y="735120"/>
            <a:ext cx="8477280" cy="5933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00000" y="2201760"/>
            <a:ext cx="734400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00000" y="2824200"/>
            <a:ext cx="734400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55640" y="3527280"/>
            <a:ext cx="734364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55640" y="4149720"/>
            <a:ext cx="734364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826920" y="4822920"/>
            <a:ext cx="8066160" cy="506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826920" y="5445000"/>
            <a:ext cx="80661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755640" y="6093000"/>
            <a:ext cx="80661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318960" y="993600"/>
            <a:ext cx="8506080" cy="582012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8374" descr=""/>
          <p:cNvPicPr/>
          <p:nvPr/>
        </p:nvPicPr>
        <p:blipFill>
          <a:blip r:embed="rId2"/>
          <a:stretch/>
        </p:blipFill>
        <p:spPr>
          <a:xfrm>
            <a:off x="223920" y="73080"/>
            <a:ext cx="3195720" cy="879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6481800" cy="506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648180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11280" y="4870440"/>
            <a:ext cx="648180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84360" y="5589720"/>
            <a:ext cx="6481440" cy="506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11280" y="6308640"/>
            <a:ext cx="6481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24000" y="797040"/>
            <a:ext cx="8496000" cy="5800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3889440"/>
            <a:ext cx="655308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55640" y="4595760"/>
            <a:ext cx="655308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5386320"/>
            <a:ext cx="655344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826920" y="6093000"/>
            <a:ext cx="65534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6324" descr=""/>
          <p:cNvPicPr/>
          <p:nvPr/>
        </p:nvPicPr>
        <p:blipFill>
          <a:blip r:embed="rId1"/>
          <a:stretch/>
        </p:blipFill>
        <p:spPr>
          <a:xfrm>
            <a:off x="343080" y="801720"/>
            <a:ext cx="8458200" cy="586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684360" y="320976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464976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826920" y="5373720"/>
            <a:ext cx="4751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6135840"/>
            <a:ext cx="6480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5300" descr=""/>
          <p:cNvPicPr/>
          <p:nvPr/>
        </p:nvPicPr>
        <p:blipFill>
          <a:blip r:embed="rId1"/>
          <a:stretch/>
        </p:blipFill>
        <p:spPr>
          <a:xfrm>
            <a:off x="752400" y="1268280"/>
            <a:ext cx="7639200" cy="200988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5301" descr=""/>
          <p:cNvPicPr/>
          <p:nvPr/>
        </p:nvPicPr>
        <p:blipFill>
          <a:blip r:embed="rId2"/>
          <a:stretch/>
        </p:blipFill>
        <p:spPr>
          <a:xfrm>
            <a:off x="633240" y="3500280"/>
            <a:ext cx="7877520" cy="2114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667640" y="1700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66764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340000" y="3933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5133960" y="3933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7885080" y="39481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1922400" y="4653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5321160" y="465300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927920" y="465300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9:1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