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B3A-20E1-4ACF-8965-D6A69568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28F-6CD4-4EDF-9134-A33CE59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1B326-3498-4578-A790-0A7DA5FA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59863-8D86-401F-9CD3-4B67B02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A2B49-4B72-4DDA-BF4A-F8F2A914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21EFB-C3BC-4606-B1EE-EE064FD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0C6D3-35F8-4D26-B624-405B4C4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60986-9C72-4502-B53D-FFAADBD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7C659-241E-40DD-AB80-B250F9B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FFA4-0ACF-4B58-800E-1A75712A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BEF80-02C5-43EE-B377-FF0EE6E6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D9EEB-BC38-4C95-A661-1EDC6254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33C-245E-4E7E-B3BB-47A2A5E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5CBC-46BA-4799-8513-7AD5A2CB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8640-EF3F-4154-BE06-809C4AF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4320-EF72-4BFB-A5D6-0D82C4CD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FF1D-A24F-4DD9-A701-0A06505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B7131-68D0-4332-8B91-527CDA6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96FC-9E29-4745-A079-20CC8794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C8467-790B-4599-9862-FAA4C17F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AF45D-C13F-47F9-A5CD-B7FB2671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3F36-720E-4A38-BC3D-EC7D7A7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3B6CA-6C52-4176-8BFF-E9CD7DDE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C94-E7ED-42AB-B450-8C6CE23A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C76FE-5C24-415F-9B45-535604F1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3C308-2002-40FC-AA52-BA98EB57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922B6-4E76-4A07-8F7A-93B63E8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21CFE-D659-4117-826E-563263DC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589E8-F46E-4A40-82E6-BB7708C0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1B53C-B99B-4688-8FDA-6C44BAAE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F6627-CDAB-42E8-A051-A6B50F79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A8B4-C7B0-4066-A261-7D97DAB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36DC7-0D3F-42A7-9C05-3BCB1E28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817E-30DB-4EA5-9FE6-BBFE022A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92F-A306-4D7C-8850-38AB7B43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8080C-8DA4-4737-B91E-8AD5ECC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AEE6B-0F92-47EF-824A-9D99545E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01D8F-EFC1-49C4-B61D-C869C9E1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705F6-3928-4BB6-945A-F4027835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DC441-A304-4B54-94A3-4C007B0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3946D-771E-4A3B-8577-AC549598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D8991-265D-48CB-AF49-5C3AE19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A1D92-8834-4874-B524-9B1DC432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EECD7-0E8E-40D8-80C6-9CDFB22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3208F-6C37-4AB8-BA6A-E203DCD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9E9A-E377-4DAC-AC33-D0761B83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329FD-3F44-4CBE-BEA7-B1C3B87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046C4-2FE0-4CDB-A236-C44F733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23BCD-8B1D-473D-8B2C-F9B9D7E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8027E-61A6-4FF1-8029-3C3E3148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08E74-E8EB-4194-B6EC-2CBE967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995AD-A8CD-401D-9252-AB52C785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0A89B-7727-42CE-9725-BB04853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99EBC-27C2-44C0-8A2F-714AF46E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E7AA2-DF00-4463-BC72-02F79D24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93D72-02F1-4AAE-94FA-208438AC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E1E-64CB-4D3A-9F1E-E2395A67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9FF40-65B6-4C92-B0B1-EC90E731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626B7-0C9B-4188-9873-8B12E31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7939D-685C-4B6E-9706-3F0158D0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D158C-B329-4235-A86C-DC61652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C82EE-538B-44E1-AC10-3211D13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CBCAC-F59D-4F22-999F-2B217D94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25C7F-8CE9-47A1-9494-955F9C4A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224E5-0CCC-4419-9CFC-7439EE94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60397-0FD8-4A16-BCC4-889E4773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9D280-BAE3-47DE-96BC-7FFCEAAC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E0F9-22F5-44D1-9936-8FA338B5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36214-9748-4ADC-8899-2860A08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C09F4-9DA0-4A69-948D-CAF853A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DCA29-EBD9-4276-A254-402AE243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9B8EA-B491-41D1-BF24-F3BBA61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B220A-F87E-4AC7-B862-15D0455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206BC-77A9-4488-8F98-BDE2D5E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BBED5-4B9E-4051-8684-3E664FB6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DFA0C-CFED-4A5D-9B0F-009539C9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9C460-AD0B-4BE4-BBFB-061D22C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71201-D377-4B5D-8413-A77D2DD5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C69-FBF3-4CEB-B94F-543542C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6D71C-9DF8-4AB0-83B4-75B1E2D3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5971F-C27E-482B-AB6F-F0E378A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2A43D-041D-46F3-A54D-CE3A758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CDEB2-186F-41B0-B245-091946A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33ECD-26E7-44F6-BB64-D1DFE77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0AD00-1720-40D9-8FF7-84365F57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CD333-3A1A-445C-A36C-1822825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E4BDF-C4C4-4DBA-80EF-06C3125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5EA2C-967E-41FF-8171-B504A3F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E4817-E9B4-4F59-B637-257D4EA1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F996-015F-44A1-9CE8-87A87EDB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5B090-93AA-4677-8A4E-2311CC23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F7992-DCF6-4EF5-AE00-80DEE75D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5CC4B-3735-425E-830A-EDE6A98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C3E2D-8A79-4457-833C-DDB1FE8E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E4A83-5150-4729-8C9F-F4B0A49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31D35-7569-492E-B479-9EC702A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F897A-D9FD-405A-B088-A0FB732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3B8E5-4040-446F-A534-54EDB69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7FE13-A587-465C-8AAC-9262CCE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C0A2F-3F77-498C-8F09-32F90596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062-D88C-4D7B-BCE6-9DF6982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037CA-F706-43D0-991F-784BB19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970D7-5AD7-4043-BA8E-6BCA0468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B0BE3-FF50-4648-A0E8-C439A824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A7F3F-1CAF-4CB6-8D45-983A8FD9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95E84-EE7A-4642-A612-EA4D56C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322D6-D16A-4DFC-B2EF-5DF16BF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BEAC6-7953-42F7-8B87-79DC05F5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65BEF-E7A9-4594-8AD1-1A8923B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DCDA2-A0A8-47AD-A61F-CC268498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39662-C0B1-41A5-B94B-743B2BD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A66-CB21-4C8E-8DFA-2FBA0EDD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286-0F05-4232-B461-AFBC9A3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E0D02-EAFC-498D-930A-B7DF60D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B3C13-9ECE-45C1-A217-027A08F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AF89A-7E5D-439A-8CC4-55A6EE1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73B58-9301-447C-A604-CEECEDF4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28DBA-7861-4B8F-8965-A17B3A03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93C3CF-5A5F-46A1-8348-218953A7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37AE5-1295-491D-95D5-ED8BCBD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959FF-CBFF-4B2C-961D-09698CD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EEDE0-88AA-4553-A7DF-49DCF65E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1E8BF-61FF-4695-8E92-AB726A05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CD1-3044-4DAD-A47B-C9568AA6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791F8-E445-4A01-8D68-90A08C5C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3DB2E-E876-474E-A358-9DC00FF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25D72-0B37-4839-BB64-2D87F4C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B9498-DD10-4132-A114-8A9C1C9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8DD0D-7395-43BD-A69A-AE6B2C4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DE580-FF2C-4CC4-9363-BA5923A1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1F86B-39CC-4B60-BC77-59733063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EE150-D7FE-457C-B52C-85B67819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E0C5B-80E0-4EE4-84FD-FE991FC6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22B9E-AA8B-48C4-8825-6581A0AB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AA6F-A828-4CA6-B35B-F054EE4E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051CB-58D8-4F92-AF1E-93F9602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98FB7-DC5D-4045-B0E0-C8261057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574BE-AC01-4B8D-AAC3-C5AEFAF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2F6EF-03E4-460D-93C8-DB51FEE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705E6-7458-4FE1-B867-7512646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25C2E-D06E-4F92-B0C5-E03FF55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0A62F-7F1A-4AF4-855A-9428CF34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423DF-C1C7-44E9-9276-AF0E3C89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E8E2A-DF68-44B9-AAA1-326F3556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AC8EC-4647-4C73-88F6-02163018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A2B6-B88E-415A-83F8-E5DF6D63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B23C4-B659-44C7-A35C-1D38952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54FA6-810A-4E7B-A777-BD34FD8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2DB41-8BD6-42B7-8034-0514ABA9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CE85E4-4926-4580-9E2F-42C0FA5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1738C-2B36-473B-9E6E-6DB1D07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8292C8-2741-496B-AE38-49D5D9A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9B191-547E-47E7-A746-DDA9717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35ACA-057B-4B07-8FA8-06253FD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CC874-DDEB-4046-AA45-DCFB508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79A63-B98E-438D-8E93-748E4EAD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D04-8D87-4717-837E-BBF07F01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CA06F-4A38-4A24-9E99-0B903625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AAB4F-1D66-444B-A54C-1C664527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E17B5-B88D-4F71-A064-6B5B474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9CED3-D6E1-4548-AB75-D300E6C5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55C9E-B45D-419D-BFE3-FAD91FEE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0E227-05E8-40E4-895B-58C0D30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9A6DE-B9A5-4879-9604-A2670095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EE66C-3DA0-478E-9D0A-F6CC054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4414A-D0B5-45AA-BD17-3E18C44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DC68C-0953-48D1-9F3B-DB0790B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4F19-C40F-45D2-BECB-B7BF0A69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2370F-0BDA-47F9-BDA6-0E567724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6EA9B8-858B-471C-B95F-B42D93B5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99549-245E-4886-AA0E-FE611F3C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B4F7-EE88-498B-8D54-4B475D1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B50A-36D0-478F-B942-89107BE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5DF9-E15C-430D-A6FE-CD5F196A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44B4-2354-4E34-9ECA-6EA8F0E5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1C3-ADAD-4630-8AF3-0C528993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0138-3500-4428-BC43-5B73CE47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4C3A-B23C-4F01-A212-B3D8833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B499-3F05-4DA3-9DCB-A66E4CC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B50D-ECDB-4A58-ABC6-F4AAB43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7A8F-A9A9-4617-84E1-162BB99C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B615-E7B3-4E93-8585-B662CF16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0F6B-2645-4FD4-BC5F-22191B66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3150-A70A-48CA-90D6-442B8823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CEAD-2F3B-4E44-8CD6-B243FE4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9332-CD64-4FE3-8D3F-45783726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B86-1D77-4DB5-B399-4BEA4CF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3D19-2167-40F1-B5CD-CA4A9F4F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2F4D-19C6-4549-A1FF-5605A3C9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698E-9A12-431F-9458-3CDA2E8A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1EED-45BF-4446-84C1-14F97EA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8629-1530-481A-B656-93C3372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566D-A91F-4FB4-9DD1-33D27D9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EED38-B585-430F-805B-3351337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392A-58FE-4DE8-B134-873F7716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3700-56AC-45F9-A87C-855FA7E5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2E1F-05D5-4D90-B6C5-D6415AD5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F31-2DB9-4C9F-8F52-B376B5C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D656F-E0F0-41B9-A42A-9DBA4410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AE4B5-E805-4F3C-AFA3-98BBED44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7DD46-DAEE-4B2B-A110-9D787374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1FDD-1B01-454C-BFB2-2A863DFB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33FD8-8C20-43DA-93A0-A9ED1AA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BE32-6FC0-4B51-A774-CDB9C45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6E09C-171B-4054-AB09-B315956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5BB2A-05CA-4A0E-82B9-C2D74181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0985-48BE-4B5F-BC2F-FE0E70CA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C6E5-15FD-40EF-B383-2B713586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30B-22F1-4C16-BAE2-79C1E35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77FE-BD3F-4D46-A034-2A0E911F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855A8-DA98-4638-B8AD-90FC4A6D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FCE7-0579-411F-8E7F-C25EFFD6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879C-2E62-43FF-8474-54699A9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0634E-918C-4C7F-9261-D74EC1D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3319-FC9F-4B2A-A84A-B5B2F88E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9F3A9-77B7-44C2-9C2C-3480821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450E-D0CC-4374-B244-7E3EAFF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F9C4-2B47-4186-BA5D-5571360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6381-4851-41DC-800B-9D9A607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B7F-CBB7-4ED4-B739-CF1144F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B136-48AD-4F22-ADFF-6EE542D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9CC0-BE49-4345-8592-3E1797BB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8188-B091-4F6C-A60E-17A553C4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5146-3C6F-4E0C-B7B1-FD975C2D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62CE-12DB-4052-A03A-C0680129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EE27-1737-4974-94B7-80CB475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DB151-6A40-4B24-B30C-16BD2744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C29F-A4FA-4CEE-B629-B3F96D55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0651-FEF5-4DAE-9311-458AC6B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0F43D-7B6C-4234-B1C1-296BE27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56C-C1A9-43B7-B78A-80318DF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5E44-134E-49BF-AFB0-41E5CBC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EFCB0-5AFE-4D87-A81B-E219D41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6C1D-1015-4E1E-BAEC-C7E1BD42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1A36-D8D8-4D15-A3C4-FCF2141E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FC14-0DC6-4467-9124-3FB10723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2992-C0E2-43B6-AB95-CB8E8142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78618-8099-4F24-9C0C-9BFA3BA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2F81C-E202-46F9-A29C-17852E6D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2226A-C654-43F1-B5A3-2C45B907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3C795-8CB0-4D79-A55C-E1F687C2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D77-5F6F-4461-A0DB-BA4505B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12DB8-4E62-441D-B090-A2315064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D3C1-B824-41AF-A9CE-FBCA322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6AB3-9C40-4CBE-9007-CEB01C0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0425-A082-4E5C-8196-C10C2CD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C3AC4-4119-4EE8-ADF9-BFE2933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EB30B-BDFE-40D5-9FCE-91A62371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EC6D-6517-4D72-A0CF-457ADC6F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745D6-6F74-4A5E-9E10-6F7E278A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FE33-F78D-4B5C-95FE-533C8CE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B03DE-F846-4CDC-AFBD-E404FCC7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6A81-A2BF-4F87-B601-A1196F668C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3F0-5EB6-45B8-AEB1-4A152F9AA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AC6-C27F-47D8-BB6F-B66814ADA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4A8-06CA-4F11-86D2-0454CE6D97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AF0-F837-46C6-9D45-4745E59BC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A840-8BB7-421D-A797-070389121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78EA-3147-44C8-A47A-31028CACD1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59E6-C332-4BA5-9B70-44B1E567D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A7D3-4FA3-4A79-B6F6-A66AFCC30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4CDD-E6A3-4F32-A987-B44F22FA4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FD9-909D-4E38-BB51-600C718E2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A0FE-B266-41CA-BBB3-65EF92DC5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FD24-14CE-4E7B-B4F6-2D4692903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AFFC-5F1F-4EC8-9E80-69A82B30E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D33-07C8-468D-9AFE-0BAD51B93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AE0F-BE31-4B59-AE0F-A1BD997B7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065B-54C0-4E31-A6DF-B79178B06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578-63FB-42B6-83A7-7B8D65495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46D-617E-49A2-8D79-27922AEAF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F73F-BC4C-45AD-86FD-ACC921044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F44E-5AC2-4D63-89A8-1943540D9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97E7-ECF5-4185-BA07-E51059C7F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B602-6BCC-43BE-85A4-4493762C3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7485-E9E2-4139-A99C-18F88A5E9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30B1-19E7-400C-AE2F-16ACED4C3F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E31-6C98-498A-9E4E-5AAEB49D0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471-B724-45CC-BCCD-A4DFF2D72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697E-8F34-4F5C-88DC-F9B163CA95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6B6-C600-4E5D-80F4-477BBBCD7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CDDE-6C0C-4116-BCEC-FA34908A1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83A-0240-4312-8E2E-62C74BB83A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4AA5-18CD-4440-AD5E-C04116827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9D6-2043-4823-92A3-8EF29FF7D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AC2-A0CF-4AFC-861A-29DE5AE35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B2A1-2861-4A64-88AE-A81A64505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F97-1B8A-4E1B-92B7-869693DA5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6296-2558-4AFA-930D-956BFAB6E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FD31-584D-4398-A54A-A03046AE6B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6F7-EDC2-4A12-94A3-F6BBEA7A8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EF8-0DAB-438D-80FB-983BC84EF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4000" y="1938240"/>
            <a:ext cx="8280360" cy="914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023920" y="3497400"/>
            <a:ext cx="509616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2231" descr=""/>
          <p:cNvPicPr/>
          <p:nvPr/>
        </p:nvPicPr>
        <p:blipFill>
          <a:blip r:embed="rId1"/>
          <a:stretch/>
        </p:blipFill>
        <p:spPr>
          <a:xfrm>
            <a:off x="295200" y="906480"/>
            <a:ext cx="8553600" cy="5762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6408720" cy="506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900000" y="544500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826920" y="6107040"/>
            <a:ext cx="7921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18960" y="1738440"/>
            <a:ext cx="8506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66720" y="1476360"/>
            <a:ext cx="7810560" cy="3905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572000" y="315612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550872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580000" y="309888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5580000" y="40194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516720" y="22194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6588000" y="3156120"/>
            <a:ext cx="648000" cy="506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6588000" y="407664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2556000" y="4941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5580000" y="486900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623880" y="806400"/>
            <a:ext cx="7896240" cy="5791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323120" y="162720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979640" y="255096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174840" y="256536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308720" y="250668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979640" y="347184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3103560" y="342900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1979640" y="436572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3059280" y="4379760"/>
            <a:ext cx="502920" cy="393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4284720" y="436572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7783560" y="436572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2368440" y="530064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3549600" y="530064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3924360" y="607860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6300720" y="6049800"/>
            <a:ext cx="5032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8373" descr=""/>
          <p:cNvPicPr/>
          <p:nvPr/>
        </p:nvPicPr>
        <p:blipFill>
          <a:blip r:embed="rId1"/>
          <a:stretch/>
        </p:blipFill>
        <p:spPr>
          <a:xfrm>
            <a:off x="1638360" y="1562040"/>
            <a:ext cx="5867280" cy="373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476360" y="407664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547640" y="4797360"/>
            <a:ext cx="5256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905040" y="876240"/>
            <a:ext cx="7333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6324" descr=""/>
          <p:cNvPicPr/>
          <p:nvPr/>
        </p:nvPicPr>
        <p:blipFill>
          <a:blip r:embed="rId1"/>
          <a:stretch/>
        </p:blipFill>
        <p:spPr>
          <a:xfrm>
            <a:off x="1681200" y="1523880"/>
            <a:ext cx="5781600" cy="3810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835280" y="2233440"/>
            <a:ext cx="532908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835280" y="2909880"/>
            <a:ext cx="532908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763640" y="3414600"/>
            <a:ext cx="53294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1763640" y="4091040"/>
            <a:ext cx="532944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1908000" y="4738680"/>
            <a:ext cx="5329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5300" descr=""/>
          <p:cNvPicPr/>
          <p:nvPr/>
        </p:nvPicPr>
        <p:blipFill>
          <a:blip r:embed="rId1"/>
          <a:stretch/>
        </p:blipFill>
        <p:spPr>
          <a:xfrm>
            <a:off x="257040" y="866880"/>
            <a:ext cx="8629920" cy="5124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900000" y="2909880"/>
            <a:ext cx="684072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684072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900000" y="4148280"/>
            <a:ext cx="6840720" cy="506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900000" y="4811760"/>
            <a:ext cx="684072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6840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4276" descr=""/>
          <p:cNvPicPr/>
          <p:nvPr/>
        </p:nvPicPr>
        <p:blipFill>
          <a:blip r:embed="rId1"/>
          <a:stretch/>
        </p:blipFill>
        <p:spPr>
          <a:xfrm>
            <a:off x="257040" y="271440"/>
            <a:ext cx="8629920" cy="6315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826920" y="3587760"/>
            <a:ext cx="712980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712944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826920" y="4811760"/>
            <a:ext cx="7129800" cy="506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755640" y="5445000"/>
            <a:ext cx="712944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826920" y="6121440"/>
            <a:ext cx="8137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8:0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