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012-BC60-49A3-B2A4-91AD8EA4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F65-8D4D-4040-BABC-E0059D25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7954E-441B-4247-902E-DFFA096A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15FEE-5F8F-4E44-A82D-2CE5E3F9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35035-D7D1-42A1-A541-437B8A2E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523AB-AE05-4AF0-A9B4-7A0FAD68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0511A-3420-42F4-A734-F41C0527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22A7F-216D-4CBD-970D-58B93A2C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BBE1B-4337-4FBF-9F52-DCD6DB7A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2F6B1-74E9-4283-9F51-36F9E134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E67FB-39BB-49EB-A47E-A5A0FD04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FFBE7-C87E-4C93-A442-321EA983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558-A7D1-4D3F-B7F7-A56DE3AD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81684-2F5E-4853-8C15-190E706B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45F17-A8BC-4847-813D-D3527417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AB3CC-9D08-4C42-9C64-E54035D4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DD469-ADF4-4033-B319-1FEE2CAE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37580-72BF-45DA-8A3C-E3094530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C5BC1-E38F-466B-9DAA-DD85799E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DA181-CBB4-4BEE-8919-F139B36C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96ACD-295B-4A6B-8432-04BCB9EE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F4962-193C-4278-8974-3248EB31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8DE3D-E36C-448F-B65A-E31986F0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A55-B97A-4308-B263-ECD81234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43416-6D90-466A-8A85-1C7E7661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368E5-1C57-42C1-8D52-4BAB9F8D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5F928-F526-47C7-B193-D6022110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135F2-A1F7-45D9-A50A-ADE6FB4E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73416-8BDD-45DC-9975-2212C55D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41664-7B5B-4865-B2AB-416E1085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E9EEF-26DE-47FF-A434-9DB5B2D3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76A3D-9450-42D4-9799-6D848432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EE816-3C69-4E4A-A030-D654FBB3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E46C6-43EA-4650-8587-A1FE3E5D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2ABD-8429-496E-AF7A-14F8B582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A0651-EA7E-482C-B8DE-0640FE7E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162C7-924B-43D8-B2A8-0A1AB8AA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D9978-5C96-4F6A-AE44-D7791971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F17A8-66C1-4706-B997-26C6D656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D04F4-AE5A-4265-A7C7-DEB34953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2346E-494A-418E-A222-F6C9468E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62268-84A0-4D7C-A862-49E39A9F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A9DCE-2ECC-4049-88F3-A54DA97C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00AA9-8A1E-4E7B-B237-79E01AAB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D0B50-21C1-42FD-9E35-60A18BB3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A6E2-FE5C-4D96-9E7D-C011705F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3F87F-F32B-4FB2-ADB6-090C3D2E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27EC6-C751-402F-A17F-AC1230AA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ECEF0-3F6E-48F6-9DB7-B45C5314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CB737-11BA-47BA-885E-8AB1219C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1E11A-94DE-4B94-8728-03B16CB4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F7FCA-A841-4B69-AE92-94EE4EDE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C78521-99B0-4B37-B72B-CC4C191E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3A736-388A-49F1-AA1C-E0DDE995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2EC52-CDA6-4A8F-9680-93EDBA21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E1A6B-3C95-4BD4-8C4C-EF07CA43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25CE-CE37-44F2-84D3-F2AB66C8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726F01-C0A5-43C7-8132-304BEAE5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D5C4F-CC9F-4D29-A2ED-BFF47D8A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AD4F9-6CD8-419C-ADF7-DE79C868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C2780-9D39-42B0-A17E-D6276BD5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7D096-D06B-419A-A372-0D785E0E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760E7-92ED-4832-894A-C6A01EF8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78B6D-AD46-4F9D-A6C9-3CE617BC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AEAFDD-11E1-4F24-A66A-3EB51D60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5B33C3-53A5-4C53-B21A-CAC1DC64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B88F4-5153-42A9-93EC-C077723E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E6D0-4E83-4C1D-B7E2-5B58ED0B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45B67F-ACEE-4E2F-92E3-2CC5A52C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157542-4FF3-4BB4-A7EC-5448CEF3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BDA960-0696-4BE1-9F5C-F4D40A70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87506-E58E-48C6-9618-C97D58CC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F96F4D-187C-4400-9554-8EDC223B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CF394F-1A40-43EC-A834-E3FBBBFF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988DD-BB5C-4C94-B011-6A99EE56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F2E69A-46ED-4968-83F8-EBB0C507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1A9483-7CB5-4B1C-9536-16668F32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2A840D-82BA-4793-B3EF-2B80F01A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D139-BC86-4AD9-851A-349403A9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ABE7F-C243-432B-A89B-77E0346D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C7A88-7DFE-45E7-9EB0-E64FF673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840B3-3EE8-4762-B3A0-02F695AA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986B65-EA4F-49C1-88B5-4BBD2E75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AB4A9-D535-4F70-8054-C2FDA4FC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1F7536-FF52-4007-925F-41894600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81D99E-40DE-4B56-BD1D-C1E08218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942668-6B5C-484E-9119-341BA28F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AEB4E-BB44-42E9-BC61-F49C2034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53CDF-6885-4F24-8E4E-1E319EAF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BD1F-BF78-46FA-9CE9-A3A1FB21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67B8C-2147-47CA-8ADA-DB7AB08E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6F8C4-C3DC-471F-A233-3A9864A6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77A4B2-2A3F-4654-ABC6-9410531C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7F1D71-565C-4647-A894-D7BD4E2C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4CB8AA-B56B-4DC4-9CBA-5096E039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DD7E5-78AC-4E7E-BE0B-B13A64D9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DED530-6307-422D-A8FD-B8B39F1D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476E89-64C3-4ECB-81F0-829F77D4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FEE1A-31E0-4FD2-AD40-A5F7EC7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F2E04A-1E31-4496-B1B9-B5BF31D3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FEA5-C219-4B59-AD78-F5459BB0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E5D6E-2274-4C53-AA73-262363AA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746F16-52B2-4817-963C-39CB6194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77FF34-9BFF-46D9-8C9B-C1E0DCC4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F2A83D-7BDB-4CF7-9534-313C8FE5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E8C404-9905-4DC9-A437-17EEB6FC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2E5EB9-ED6E-436B-8A7A-5298A41C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2479A-9C6D-4AA3-AC2F-EC7AA2A3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E8A1D3-3C26-4E53-B135-E7100743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70530-E3DE-4DC8-B9F7-884346F7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221B6-9D90-4FB0-A51C-BAF04967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B8A-1B5F-43FC-9E96-6D0A36F5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789E-6170-47B1-9008-5816A8F0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5DDBB0-1537-4C17-ABAE-7C45A823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15FA7E-582B-40C7-8CF4-9AC51B1F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DA3238-A6C4-49CF-88A3-B84F8B4B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EA084A-7668-4F28-9D8B-F432395C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DB8E0C-DDCA-4F87-9F75-F4B666C1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8866A-22BA-4493-9D33-2BFE0186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6BF906-2462-4AF5-862A-3C4D4BEB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400A4F-F3C7-4F89-9257-51950D88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B34E84-4270-49A5-AA9A-DCAECC8C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00B655-6988-4F45-A801-82DF2BC6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CA69-723A-4412-B2D1-B18E5D23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DE1DD6-88CC-4A73-B363-0213BFE6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DB42E0-D143-4A78-A660-B6911AC9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279567-E573-4AB3-88D8-EFDE066A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C6C47E-2CDF-40D6-8E21-013A54C4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B6206E-E425-46C6-86E5-D93255D4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C6728-A6C4-4E1E-A2D2-1DCAF094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5F73E7-C4E2-4CE4-8310-5C052366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0CDBBB-257F-4F75-A09B-9A8D8949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B930E4-466E-46B4-BB45-7020D346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27A586-1CDC-4348-BC2E-828B3B86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D85E-E811-4FBE-8526-B7446741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84EB39-2F51-41B3-A96A-1B76357C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08CEE9-A5D6-4A2D-A660-BFCAE9FD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C7AB8E-C9C8-4077-9C7E-B203D884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2B796C-499F-4B7A-9707-B73F0DCA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EFBF9D-7813-4704-87B6-5459D853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EC8ABF-3988-4C3C-9054-BE4B3741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6BFBA2-5C91-4375-8D35-7C5BA6C4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78026B-BB92-4CD5-8B1C-A3E8291F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DF771D-E947-4571-99C7-67D5FF04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1A3AF5-BB50-4394-A3BB-385801F6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E171-A89D-43EB-BA9B-F30C7BB8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373831-646F-4839-BF8B-B2A4882E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7B3618-5AA8-4E84-AA54-209AACCB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1CA77F-7092-4312-ABF0-45973751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F6EB77-FAF8-428B-A8B1-B185C0B1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8E3778-CCA2-4F36-A459-AD95A8D4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A10FA2-EBF0-4BFF-89D0-22775AE7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41EFE2-D83D-4CCA-BCEB-7A6427C3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4ED7E1-28EB-46AA-A2D5-6AA60BC4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DDC776-3593-4EED-B955-50603CD2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E8B8A8-C2BF-4055-809A-558CACEB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2770-A44E-4B5A-BD17-FEFDEFE2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E29801-6E57-4201-A064-E61AFE7A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0DA2F3-BA32-4295-B95D-5C775B9D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AD5E73-66EF-4094-A1D4-D0B218B9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636DFC-8D3A-4D5F-AA31-DA0AA50D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E8A23F-E572-4A87-BD15-385F145A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4D4993-5BE4-4956-93B3-7C314C54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DF94FC-01F1-4FF1-AF5E-C7C96669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89379B-778E-49A3-99CC-DED72DAB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053713-E1B2-41C3-A893-D5A6D19A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925833-DA96-498B-8173-BF0D3559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14EEB-B062-4A02-904A-D6F25D16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75D046-C28B-4EEF-8598-666FB0C7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AC9D91-BFA5-426B-99E6-E53ACE76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BFC591-CAD2-4B0D-9E6F-DB3D3F95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459BC-24E7-45E7-ADC9-C2307AF0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E3E5D-9341-468C-BB52-9C09A269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BF719-759E-4C62-9E0C-B34B4DF5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3310-440C-475C-9028-5B35F8A8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560-91A9-44BD-BB8E-28C64E8B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A3AEC-1938-410B-854F-BC2ACB67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B732A-1C9A-4FED-9936-D30B0E93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374F4-C6CF-427F-AA3B-10164426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5E8C-C164-44C3-9AB3-B96E9FDB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DF55-694B-4E6E-A49A-6D21E8E7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8FE2A-D410-4EEE-AD26-DAFEFC9C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0C4EC-095C-4751-9991-F2A71204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DD1C4-D499-47A2-861A-C71825B6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2396F-2CB8-4F72-8C83-D66AF0D2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6C6A4-2817-42F8-B0DF-7474883C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F67-F830-423B-AA84-F72FD718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CE031-EE74-495E-8C54-281C7E92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8C2B6-BA22-4F7F-BAF2-C10F2077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1ADF6-42B6-4959-BBEA-BE4F6378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CF00D-A33D-4B3A-925E-2BF72E14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E6265-05B3-4FAC-B6D1-3653688F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781BD-19F4-46EF-8422-D6745454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1916E-D47B-4990-A2F7-0A099BC2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B8760-BE9E-498E-B2F8-8234AF0D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FD1DE-E3BE-4B3A-BB70-120FEDFA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EBE07-0210-4D11-9877-C626B7CA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60C-8A03-4026-8F8A-35DD3AD8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0F2E0-8E1E-4B1B-902C-2761DBAC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2A241-E21F-4E8B-B034-F8A6E6ED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E2426-A16A-40FD-AD27-95460C27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15DF3-AC88-4C25-9DF0-77F52058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05674-C87E-49B0-88BF-FA490A89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8678C-D8FF-4B58-911F-F9EBA6B8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2B1CC-63D1-482B-8ACB-392DE2ED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24BAE-C308-4406-8549-016AE3F3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246D6-3082-4BC5-BDE0-B194BE41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7EF43-5A3D-44CF-AC7E-5885DB30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DE0-E485-4F38-AE2B-00B42EC6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C37C3-5103-43E4-B608-1DB12E7DA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0441F-00CB-4516-84AD-C5A5E16E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7340E-DF1D-4F7D-AC74-E7878647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53445-7E6C-4539-9CFC-E4CCA570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9A24F-08BC-46FA-8F8C-321C7232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1EA3F-E18A-4D0F-B127-E7FA0670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AA836-7089-402F-9022-4EF61FB7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5BCA6-8C24-4FD4-9217-A80F897A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78273-4804-474A-8844-62BD73DA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AF78A-F990-4A6E-8239-4CD5BD1F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D26-1792-475C-92FF-9F09CECA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3F5AD-E655-4B96-AFEA-D911FD59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284A9-D497-4673-9DE4-B66C57BD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268D8-94F3-4D81-B5DD-DE6B967B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9693D-A796-48F8-AA8A-90B17646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3B1A2-7E80-4E38-9A53-0D62B04F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7D270-1A44-47B0-9B71-9FC4DF1F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23651-A1F2-4553-A5C1-192D1DE8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ADBF0-51FF-4875-A824-FDA03B81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19A55-0D18-4D78-BE1D-249AE1FF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5EE57-FD7B-41DC-9939-ED3037D2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A65-00B1-4855-9C86-0D4EE682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DCC8C-E07A-4C31-B205-EA012771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13EB7-7968-4FBE-BB2D-9A5A0703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1D4D8-AFA7-4536-B906-8187DED8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5955B-C081-4748-8FA8-8CE6CD80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82A14-70BB-4344-9075-1DEE9C59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95BF3-9369-45D2-B047-12D6D8D9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71D64-7725-494D-8AF8-B38EC46B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097B4-8FF2-4DCF-BB4B-28123D8F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E5EA7-2DD6-4836-ABB9-E7FEBE72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5DAB2-448E-4304-9643-9E8E0BE7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7CF-6052-47E2-B6A6-A5FD92F7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4003A-A027-405C-ACF2-CF13A08C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EB9E0-0A65-40B8-B847-729293FF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44885-C41B-46D8-A932-C7D39490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E50C3-C476-43CD-9BED-AD2FA152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1815F-1A2E-49BD-992A-FC5B1EE1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0EC2A-8849-4B41-AF5C-3A031224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BA59D-6C17-4100-BFF6-F6A1ACD2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2994B-65E7-4AF3-BDC0-6A222AB6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3B264-78CA-4385-97C1-618CB478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3DE45-0FBF-4600-874D-7306615B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343C-F6DC-42C7-BCAB-A03D63847A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F259-FE43-43CC-9983-568AF9E000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C9C8-9389-466F-A551-DD65980C4B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1803-0865-41FD-B2E7-842CF8864E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83EA-8E67-47AB-A1E0-C22394E93B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9962-3299-449B-9E4B-541C114352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83F9-51E2-4DC7-A538-1EB04719BB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143B-E5C9-4C1C-A8C3-8598EB7F77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DE06-31F5-41D0-9B3D-05B82ADB80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F2B7-5222-4A8D-BEC0-6029B8F5EF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4ECA-9791-47ED-96E3-F898806783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14C1-ED9C-4A23-85B6-445241FDD6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841C-BC00-4779-B1C9-24583909EF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E8AC-B28D-47E7-AB79-A4BDBD9466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1E2C-AE39-4EF2-A652-531DFA49A6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021B-A6C3-48DD-8023-D7CB358CE3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81EB-8131-4990-98EB-10DB027119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E560-4BBC-4568-830F-B5D277F2CD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7FCA-61D6-4631-9863-0EF8C638FD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9AF9-228C-4623-ADE3-FF24034C5C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1BD3-FFB1-4118-84A7-AB4E84CA09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7074-153E-48D8-B132-134359E1C3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A1D6-77FA-4F04-841E-00D4B2CB27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D4AE-3733-417D-8086-12938FC254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827B-9D32-457B-92B9-BCDCA3BACC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0E11-44F3-4A43-A86B-F17F7D6829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2D04-C94E-4930-A543-46B7BC15D9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07E4-C45A-4F4D-9F8D-9C1EA61CE0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1847-2549-43DD-BD96-5C4DF1224D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8388-BBB2-4915-918A-D508B7B0FD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5BAF-A305-42AA-8F67-80645E629C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9653-B9B5-486A-B19A-83B7AF69E3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37CA-7A76-451D-92B6-DC69E2AFF0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8014-5866-4F74-9BAA-5FB7D4729A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155F-BC4D-4C73-8B74-F9F49C2897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239F-8DBE-481A-B221-F4DA2E7155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E272-605E-4D76-8BE0-4DAD1BA9FD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EA23-23DC-4416-A5A3-390CB56944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9768-D2D4-4855-AEED-03C85589A3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EE97-DF8F-4373-859A-1E204EAC5A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43000" y="1844640"/>
            <a:ext cx="5058000" cy="10098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3328920" y="3378240"/>
            <a:ext cx="24861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52231" descr=""/>
          <p:cNvPicPr/>
          <p:nvPr/>
        </p:nvPicPr>
        <p:blipFill>
          <a:blip r:embed="rId1"/>
          <a:stretch/>
        </p:blipFill>
        <p:spPr>
          <a:xfrm>
            <a:off x="581040" y="712800"/>
            <a:ext cx="7981920" cy="60292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5257800" cy="506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3"/>
          <a:stretch/>
        </p:blipFill>
        <p:spPr>
          <a:xfrm>
            <a:off x="1042920" y="1844640"/>
            <a:ext cx="5257800" cy="5065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4"/>
          <a:stretch/>
        </p:blipFill>
        <p:spPr>
          <a:xfrm>
            <a:off x="1187280" y="2362320"/>
            <a:ext cx="5257800" cy="5061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5"/>
          <a:stretch/>
        </p:blipFill>
        <p:spPr>
          <a:xfrm>
            <a:off x="1187280" y="2924280"/>
            <a:ext cx="5257800" cy="5061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6"/>
          <a:stretch/>
        </p:blipFill>
        <p:spPr>
          <a:xfrm>
            <a:off x="1042920" y="3486240"/>
            <a:ext cx="6408720" cy="5061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7"/>
          <a:stretch/>
        </p:blipFill>
        <p:spPr>
          <a:xfrm>
            <a:off x="1042920" y="4062240"/>
            <a:ext cx="6408720" cy="5065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8"/>
          <a:stretch/>
        </p:blipFill>
        <p:spPr>
          <a:xfrm>
            <a:off x="971640" y="5734080"/>
            <a:ext cx="7704000" cy="5065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9"/>
          <a:stretch/>
        </p:blipFill>
        <p:spPr>
          <a:xfrm>
            <a:off x="900000" y="6323040"/>
            <a:ext cx="77043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图片 69633" descr=""/>
          <p:cNvPicPr/>
          <p:nvPr/>
        </p:nvPicPr>
        <p:blipFill>
          <a:blip r:embed="rId1"/>
          <a:stretch/>
        </p:blipFill>
        <p:spPr>
          <a:xfrm>
            <a:off x="1019160" y="1197000"/>
            <a:ext cx="7105680" cy="2209680"/>
          </a:xfrm>
          <a:prstGeom prst="rect">
            <a:avLst/>
          </a:prstGeom>
          <a:ln w="0">
            <a:noFill/>
          </a:ln>
        </p:spPr>
      </p:pic>
      <p:pic>
        <p:nvPicPr>
          <p:cNvPr id="987" name="图片 69634" descr=""/>
          <p:cNvPicPr/>
          <p:nvPr/>
        </p:nvPicPr>
        <p:blipFill>
          <a:blip r:embed="rId2"/>
          <a:stretch/>
        </p:blipFill>
        <p:spPr>
          <a:xfrm>
            <a:off x="409680" y="3763800"/>
            <a:ext cx="8324640" cy="225756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3"/>
          <a:stretch/>
        </p:blipFill>
        <p:spPr>
          <a:xfrm>
            <a:off x="4773600" y="177336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4"/>
          <a:stretch/>
        </p:blipFill>
        <p:spPr>
          <a:xfrm>
            <a:off x="7423200" y="177336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5"/>
          <a:stretch/>
        </p:blipFill>
        <p:spPr>
          <a:xfrm>
            <a:off x="4788000" y="227664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6"/>
          <a:stretch/>
        </p:blipFill>
        <p:spPr>
          <a:xfrm>
            <a:off x="7380360" y="227664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7"/>
          <a:stretch/>
        </p:blipFill>
        <p:spPr>
          <a:xfrm>
            <a:off x="2050920" y="4335480"/>
            <a:ext cx="648000" cy="5065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8"/>
          <a:stretch/>
        </p:blipFill>
        <p:spPr>
          <a:xfrm>
            <a:off x="5205240" y="4321080"/>
            <a:ext cx="648000" cy="50652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9"/>
          <a:stretch/>
        </p:blipFill>
        <p:spPr>
          <a:xfrm>
            <a:off x="8158320" y="4336920"/>
            <a:ext cx="647640" cy="50652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10"/>
          <a:stretch/>
        </p:blipFill>
        <p:spPr>
          <a:xfrm>
            <a:off x="1677960" y="4869000"/>
            <a:ext cx="647640" cy="50616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11"/>
          <a:stretch/>
        </p:blipFill>
        <p:spPr>
          <a:xfrm>
            <a:off x="5565600" y="4869000"/>
            <a:ext cx="648000" cy="50616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12"/>
          <a:stretch/>
        </p:blipFill>
        <p:spPr>
          <a:xfrm>
            <a:off x="7812000" y="4869000"/>
            <a:ext cx="6476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18960" y="947880"/>
            <a:ext cx="8506080" cy="49622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5867280" y="3645000"/>
            <a:ext cx="1152720" cy="5061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5003640" y="4249800"/>
            <a:ext cx="64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638280" y="804960"/>
            <a:ext cx="7867440" cy="52480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4184640" y="220500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5651640" y="220500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7178760" y="220500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4170240" y="285264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5637240" y="285264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7164360" y="285264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8"/>
          <a:stretch/>
        </p:blipFill>
        <p:spPr>
          <a:xfrm>
            <a:off x="4184640" y="350028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9"/>
          <a:stretch/>
        </p:blipFill>
        <p:spPr>
          <a:xfrm>
            <a:off x="5651640" y="350028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0"/>
          <a:stretch/>
        </p:blipFill>
        <p:spPr>
          <a:xfrm>
            <a:off x="7178760" y="350028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1"/>
          <a:stretch/>
        </p:blipFill>
        <p:spPr>
          <a:xfrm>
            <a:off x="4184640" y="414972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2"/>
          <a:stretch/>
        </p:blipFill>
        <p:spPr>
          <a:xfrm>
            <a:off x="5651640" y="414972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3"/>
          <a:stretch/>
        </p:blipFill>
        <p:spPr>
          <a:xfrm>
            <a:off x="7178760" y="414972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4"/>
          <a:stretch/>
        </p:blipFill>
        <p:spPr>
          <a:xfrm>
            <a:off x="4184640" y="479736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5"/>
          <a:stretch/>
        </p:blipFill>
        <p:spPr>
          <a:xfrm>
            <a:off x="5651640" y="479736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6"/>
          <a:stretch/>
        </p:blipFill>
        <p:spPr>
          <a:xfrm>
            <a:off x="7178760" y="479736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7"/>
          <a:stretch/>
        </p:blipFill>
        <p:spPr>
          <a:xfrm>
            <a:off x="4170240" y="545940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8"/>
          <a:stretch/>
        </p:blipFill>
        <p:spPr>
          <a:xfrm>
            <a:off x="5637240" y="5459400"/>
            <a:ext cx="1193760" cy="506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9"/>
          <a:stretch/>
        </p:blipFill>
        <p:spPr>
          <a:xfrm>
            <a:off x="7164360" y="5459400"/>
            <a:ext cx="11937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76801" descr=""/>
          <p:cNvPicPr/>
          <p:nvPr/>
        </p:nvPicPr>
        <p:blipFill>
          <a:blip r:embed="rId1"/>
          <a:stretch/>
        </p:blipFill>
        <p:spPr>
          <a:xfrm>
            <a:off x="647640" y="2409840"/>
            <a:ext cx="7848720" cy="20383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4284720" y="2492280"/>
            <a:ext cx="934920" cy="506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5796000" y="2506680"/>
            <a:ext cx="934920" cy="506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7236000" y="2506680"/>
            <a:ext cx="934920" cy="506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4284720" y="3156120"/>
            <a:ext cx="934920" cy="5061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5796000" y="3170160"/>
            <a:ext cx="934920" cy="506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7236000" y="3170160"/>
            <a:ext cx="934920" cy="506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8"/>
          <a:stretch/>
        </p:blipFill>
        <p:spPr>
          <a:xfrm>
            <a:off x="4284720" y="3789360"/>
            <a:ext cx="934920" cy="506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9"/>
          <a:stretch/>
        </p:blipFill>
        <p:spPr>
          <a:xfrm>
            <a:off x="5796000" y="3803760"/>
            <a:ext cx="934920" cy="5061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0"/>
          <a:stretch/>
        </p:blipFill>
        <p:spPr>
          <a:xfrm>
            <a:off x="7236000" y="3803760"/>
            <a:ext cx="93492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8373" descr=""/>
          <p:cNvPicPr/>
          <p:nvPr/>
        </p:nvPicPr>
        <p:blipFill>
          <a:blip r:embed="rId1"/>
          <a:stretch/>
        </p:blipFill>
        <p:spPr>
          <a:xfrm>
            <a:off x="247680" y="1638360"/>
            <a:ext cx="8648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7352" descr=""/>
          <p:cNvPicPr/>
          <p:nvPr/>
        </p:nvPicPr>
        <p:blipFill>
          <a:blip r:embed="rId1"/>
          <a:stretch/>
        </p:blipFill>
        <p:spPr>
          <a:xfrm>
            <a:off x="671400" y="1042920"/>
            <a:ext cx="7801200" cy="47721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3995640" y="234936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3995640" y="301140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3995640" y="371628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3995640" y="437976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3938760" y="5099040"/>
            <a:ext cx="1366560" cy="506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5506920" y="2335320"/>
            <a:ext cx="1224000" cy="5061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5506920" y="2997360"/>
            <a:ext cx="1224000" cy="5061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5506920" y="370188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5506920" y="4365720"/>
            <a:ext cx="1224000" cy="5061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5450040" y="5084640"/>
            <a:ext cx="1366560" cy="506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2"/>
          <a:stretch/>
        </p:blipFill>
        <p:spPr>
          <a:xfrm>
            <a:off x="7005600" y="236376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3"/>
          <a:stretch/>
        </p:blipFill>
        <p:spPr>
          <a:xfrm>
            <a:off x="7005600" y="302580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4"/>
          <a:stretch/>
        </p:blipFill>
        <p:spPr>
          <a:xfrm>
            <a:off x="7005600" y="373068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5"/>
          <a:stretch/>
        </p:blipFill>
        <p:spPr>
          <a:xfrm>
            <a:off x="7005600" y="4394160"/>
            <a:ext cx="1224000" cy="506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6"/>
          <a:stretch/>
        </p:blipFill>
        <p:spPr>
          <a:xfrm>
            <a:off x="6948360" y="5113440"/>
            <a:ext cx="136692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56324" descr=""/>
          <p:cNvPicPr/>
          <p:nvPr/>
        </p:nvPicPr>
        <p:blipFill>
          <a:blip r:embed="rId1"/>
          <a:stretch/>
        </p:blipFill>
        <p:spPr>
          <a:xfrm>
            <a:off x="233280" y="1352520"/>
            <a:ext cx="8677440" cy="4152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826920" y="5013360"/>
            <a:ext cx="59770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55300" descr=""/>
          <p:cNvPicPr/>
          <p:nvPr/>
        </p:nvPicPr>
        <p:blipFill>
          <a:blip r:embed="rId1"/>
          <a:stretch/>
        </p:blipFill>
        <p:spPr>
          <a:xfrm>
            <a:off x="250920" y="669960"/>
            <a:ext cx="85248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4276" descr=""/>
          <p:cNvPicPr/>
          <p:nvPr/>
        </p:nvPicPr>
        <p:blipFill>
          <a:blip r:embed="rId1"/>
          <a:stretch/>
        </p:blipFill>
        <p:spPr>
          <a:xfrm>
            <a:off x="666720" y="1386000"/>
            <a:ext cx="7810560" cy="40860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4277" descr=""/>
          <p:cNvPicPr/>
          <p:nvPr/>
        </p:nvPicPr>
        <p:blipFill>
          <a:blip r:embed="rId2"/>
          <a:stretch/>
        </p:blipFill>
        <p:spPr>
          <a:xfrm>
            <a:off x="652320" y="1866960"/>
            <a:ext cx="78105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57:2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