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C19-27B1-4BBC-92B6-D606DC45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5990-4922-49C5-9C20-DE2B31C9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3442F-3D02-41D1-8A36-E468AC31A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5DD7F-4427-44F4-AA56-EC168EEA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ADD8B-B74B-4A14-801A-AA128971F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DB69E4-E09B-4E5F-8FB2-6570DC7B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627E6-1533-4733-8620-9FFD85C0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442038-A7CE-4D20-8D27-ABF42A6E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31A5B4-50DA-474B-982D-C6B729A3D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9A70FA-8961-4EE3-804F-C6ADDAA0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8A131D-4BFD-4798-8F9A-024DDC60C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80BC2-5288-4518-B93C-7A1E20DC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FF90-1847-46B3-AC92-5E522AC73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161C33-18F0-4904-B0FF-84E132C4E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8E3ECC-B784-4E95-8A61-A7D88941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05C2F-346F-451E-9DF2-184AC8E7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17C831-99B4-48F1-A8F0-553B65EB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6939C9-6ACB-4F8B-B6A8-3AE971FA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6E5C4-3FC7-4AB0-9173-D5FC5DD4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392D9-9EF5-43A2-AA0C-304F8032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D3F49F-BEDF-4FB2-937D-51B12EF5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02BAEA-B966-4957-829B-B7E12B1AC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4A5D0-F64B-4158-ABE6-CF0530125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E187-8D28-40C8-AC97-0E4721FEA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5D9A3-7AB3-49BB-8E74-5F1FBD033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DBB54-85CE-4383-B635-B300535FF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5FCEAA-9D53-4A1B-8D00-3F41415F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9DEF6-4EA5-4851-BBF5-511912E2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FD36C-7466-4C80-AA2A-45F55D05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23FF8D-4581-4CD2-9076-EC82C605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6290EA-035F-44D6-9959-A6E6E6D6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DD1ED-8077-418E-B119-A3D54DC4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C5E063-AD8B-4CE5-977F-D1FD68FC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6F846E-C8CB-40E9-AC1C-4F5F54C8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716C-A045-46B0-862C-E22C87C3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C6A40E-D3D0-44FA-82D0-0079436B3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2EF159-874A-4B68-961D-E854EBBD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86A27-36F8-4C04-A82E-F528E18E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45FCD4-FFC2-4A53-B709-87945379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E5E77-DA4F-40C3-BDF7-635F071D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BA0123-BF9B-45E2-A9C6-825433DA2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B443AD-A340-42AC-A185-92895B47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4E1B80-9D04-4E31-A454-C0A2DAE22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287F51-A89E-468E-A108-04540DBB6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07B3C1-0E15-41C0-A7D4-682F2717D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CA2D1-1C12-4697-A9E2-8294A67FE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EA5B2E-52B7-4487-A17C-3976CFB0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667B4E-5D6E-4174-AB77-FDADEDD5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3CB25B-CC1D-4783-BB7B-FA965C414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5B765-105B-4645-9581-C7E2833FB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4A4437-2AF2-4AB5-815D-CF5A2D3B0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636BD2-4811-4834-B1A9-253FAEC30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EBA91E-C622-41FC-ACBE-C20207A4F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DE6856-6442-4D6B-9DC4-A0989E5FC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B29FC-D08A-48F0-B95C-9BBE4B7A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140DB6-78B3-4D29-903B-8E984F2A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C96D3-B672-4CFB-89B2-0081D3D94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3339A0D-0F02-4517-8061-696B45B19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4C233-2229-40CA-A7DD-D5278925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B1C856-CB73-4905-8CE1-0C60A060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C543DC-50D8-4475-9404-04554869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A31F7-CA47-4BC0-A668-24201D0A0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0E9CB7-0538-40DC-BCF4-C98322ED3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D01296-DEAE-4EBB-B4B1-1A3DBF6C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6D97F-9241-4967-8F79-CB34980D6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EEC6C89-C822-49AE-8CE8-5C3EBFAF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07ADA7-BB3B-4DC5-B1E7-2E403311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5CDA-EC2C-4B88-B0CE-16C056CE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2B67C4-6CE0-4530-A2B9-54BCF6A4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868190-20D7-4438-9CFB-2087C990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0772ED-F8CC-483E-8AE7-4BFE257F4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38886-5AC5-46C6-9EC4-F7B73E080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9CF28B-59E3-43A6-AFA1-E242D405D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31E00E-9C46-44F2-B4AB-98A4A7DC7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F32F18-E6C9-494B-91B3-41A753C1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17A44-38A7-4440-B8A2-E1D4E5A99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5309ED-8A11-473F-8B4F-02C80975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8FFF9D-5406-4564-BB31-F094C8F6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E203F-1A2E-4EA4-9036-0597083B2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9E1437-38B4-4C71-8201-AF37CBA14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B09FA4-3EC2-4FA2-A452-CA7FCC1E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E767B9-9146-4159-B346-FE9EB1DA8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22B932-DAE6-4B06-B105-8878BF90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BFB8D1-8FA6-464D-8AF0-1E8CA210C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14F525-24D9-41AD-BA95-201B5832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2B2751-8765-481A-BD2A-C7F079E3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ED72F2-06FB-4EC9-94C1-6D622468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296872-935B-4AFE-9EF4-5C838DF5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41937-77DD-4E5D-AB7D-5F6DF4FB5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5B44-22A9-4C5A-B04E-5B562EAF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D5F468-60F9-46AB-AB94-B97DDDA73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3949D4-2585-4F31-AE22-A51565E7B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947BB-0EAB-4F76-A08B-0CD928371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CC4AD9-CFF1-4356-BAF3-1E4281827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697FD1-2DE4-4E71-A447-ABA82DE10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8C6BB-975F-439B-B951-A76BEF73C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CB928-B70B-4FA6-9117-80B4FFBD3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423F3-33D8-42AA-89F9-0C80307B2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CD949-0A12-4394-AC78-01D1DEE3B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183D9C-0FC5-403D-9E36-DAFC7B06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81A08-3F90-47A4-A53F-29D17A603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79FBF3-FCA4-430E-96A5-DC8F7D76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30506C-5AF2-4C8D-924F-4CAE76270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B8F07D-25F8-4195-BA86-4B9271A6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D943C3-44EF-4BA8-BD44-B6EDD434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DA58BA-E0DB-4097-93C3-298A1F82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276DD0-62B3-4EE6-9D43-533E5BE32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AD66BE-E550-4F40-AB7A-0EDD9C3E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958295-3656-43F0-B49D-CE7B042AF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7BCB31-DD8B-4820-B666-F8065AD94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675B89-65AB-47AE-BEA3-8C3DFCD09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76CE-603D-447F-AEE6-6A817AB1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2DF62-EAD3-4B00-BC93-29D9C2C3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3F7CA4-D65C-4E82-A0FE-8A902570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4B6729-7033-41B2-9741-A69968496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B9341D-2BB8-488E-9154-1CA61BB7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4809A3-3589-4F65-A5A2-2456A1AC2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A118F5-D651-49D7-9DC2-3F3B79E26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FD7E8B-3FB5-4C60-B902-B7F6E20D4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968E6-C692-4E1F-9C46-415FD501D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BD9D15-0CA5-4EAB-8D64-877B1877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DD0EA0-25A3-4709-987D-3D541CB77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3B69C4-15D1-431E-8013-742EDD2F8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CC01-B202-4279-88BB-700AB308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87A23F-8EDA-4A79-9CDF-F1A0EC899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B40239-59F5-4A26-A4E2-A0953AB5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E29849-3211-4CA1-92F3-0713E45E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B1B394-B2B8-4511-9BF7-9664974B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50C6B3-8556-4ACB-9A0F-CC3B8D2A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23A4E-16E8-4E20-A3F4-4FFF9201B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BA1C91-C61A-469B-8DD0-5835049F3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95FA3F-F679-4A5D-ABFE-A82D470C0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B9B304-F7BB-4B4E-B75E-83A13913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EA36BD-E8BD-41EC-8490-4AC555021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8874-E30E-4ABF-A607-2F8DB26EC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AA74B7-6AEC-4960-B385-90E195DB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20CF32-DCA3-4960-B9E7-A68C2CDF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09EB7-71E3-4E84-8ED4-3EEDFDEC8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1FA9DF-880B-460F-9CE4-8A4AE11F0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C46D77-BC10-4034-B058-22DB2407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E2FB72-6500-4D57-A395-FC063A4B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4B15AC-350F-4C9E-BC73-AA0D9476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17D77E-F0B9-4A27-A165-EF9DA32A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B7F6A-F10E-4E5C-8E56-096290B9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C8BBF2-4221-4D52-B140-AFA33884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CA799-6023-42B1-AF97-719A20E0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3D82EB-DFCB-4395-AF06-39657DFEA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0EB6B9-6F7F-42F5-AA84-24924F76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FE3B21-981F-42A9-A964-452815C57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E6358-8F06-4B50-8C41-04351BA9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5E0D26-42B8-4066-BD45-1358197C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6A02B4-7EDC-4E55-A5E2-85D390B53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2F8E8A-805F-4A50-8FF3-93CF7652C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E61847-DFD2-490C-8D57-0903149B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83B1A-30C1-466F-B62A-1B89911BD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898E8F-65F7-47E6-AB68-6273A76BB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5A2F-2DF0-41C3-B2F4-683E7C92F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D6272A-FFD2-4B42-8F04-BB47CC35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180140-3CF8-44F8-807E-9649FD776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1F347E-03ED-4CB6-980C-25F23580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37A134-0444-47FF-B5AB-9E0AC0C98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EFE157-CA27-45F6-AA78-2C6B64EE3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91B608-2D92-4CFB-B6EC-70804B685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8F5E17-C6C6-4D63-9EDC-605057D0E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8BBF35-49E4-41F7-BA62-ACD9787B7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8FFE9E-C262-4E74-BDAA-DB6C85F9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37077-05DC-4795-8D8C-D7A87D09F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3937A1-4CBF-456C-9AB3-45B60E94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E7FBDC-0DD7-4883-8042-BD65B8010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9F7E5D-325E-4892-86E6-B7BAFBF8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2F5699-03DD-48A0-9F3F-E7756B1F7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73D44-EA2F-4B64-857C-F88AE4F1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87231-7DD5-4B11-9D79-1F037E0E1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50D04-C23D-4FE7-9149-79CC35AA8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08534-C058-44BC-ABD5-452ECE64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C3D21-8CE8-49F6-8172-3FA5C3DD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95A69-ADF5-4DF5-A80D-C1F2B291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A2457-048B-4B10-9B45-21E55A8A8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D8F49-1200-4A46-939F-1081DDAA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B9F3C-5520-4C3E-AEB0-E9A3F966F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A3CAD-6894-4942-968E-C6494E33F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898E1-9090-4AE9-95D8-351EF8301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7D156-E9E3-437D-A5B9-055B6CFE6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0B1D7-1C58-42A6-8BB3-04CE6E780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E93CA-02B1-44AF-A2CE-173F46EA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64E75-0DE2-41DC-ACD1-AD9F8065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FA9-3531-47A0-80C5-08895DF9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4654C-E89A-412A-950B-C366C0F8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094B22-474F-47DF-804F-8C2427673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8395C-DD23-4C14-B42E-5963BD2EC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665E32-A9D8-46B7-987A-E81AC6DFA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5B654-0ABE-470D-BA60-CFDA9BF0B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383FE9-546B-4D71-B736-B26233D7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8F335-DDDA-4825-8074-3EECC8447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C73C8-0B22-4E60-BFBA-291DF2E78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91ADE-B63A-4864-82C3-07D50671D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7BD6F-119E-43DC-8F54-5138D5CA8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06A-6A33-4396-B3E0-E2E36DA7E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03DF0A-BC1D-42AF-A588-D366CA6A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D037F-7EA8-48E9-B61B-E0BBC12D8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1EB57-4297-4936-8A9A-945C091D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79479-86F0-42E8-AEBA-CBB5E16C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9B13B-293E-4839-89B1-B05BDD6A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23C9A-0026-4319-A047-55F956B2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71EC1-D786-45BF-BDE3-1E0796A3F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AF7856-4C32-4C03-810C-259B39E4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842DE-E24D-4789-BBF6-B727DFFE5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CEC94-453E-4A4B-A020-7798A19CB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68E2-7585-4C51-ADB8-A13698CC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E296E-AFC2-49EF-A32D-BDBC49E7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D3D6-D303-4BB2-9F69-AA672104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B96ACF-5FEE-4D9A-B8B0-06BC2F39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622E84-56D4-45A7-8A79-84ABEB2D8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26B2C3-835F-43A6-8F9B-0265C8783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A2E77B-FF4F-4AAD-9732-21A74F664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1A771-F2C1-4F05-AF24-1C77EA408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98C43-A0AE-4BEA-84A6-046F709B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399101-D9AC-4A68-AC73-BE2E6A81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61A8B1-0645-4D7F-87AF-6C81B773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05F-6607-4671-A2B1-005E8A66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0EF06-D76B-4CC8-ACCB-0C09E016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591BAE-4AB2-4DF0-AD94-4D53D691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32878-AC3E-4FF7-9139-838285A31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3AAF43-85FA-491D-AE29-D1CC74EB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31ABD-2DFA-4212-97BD-D7BD97C0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9B9B75-6736-4B14-95B3-4DCBD75B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A1F611-2342-4D2E-8B7B-F3BF776FC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49E343-8725-41DF-91EF-C4452BE59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120EE-F9CC-49D3-8AB0-E4EA2FE82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7D671-3B58-4C9A-84E3-7D71BFF7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7DD0-09F7-4EF1-93E3-16367ED7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59CC2E-6BA3-437B-9C46-BF3061DA6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0CFAB-64E5-4703-93D0-DA83AED68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1A5EC3-F68D-435E-A39E-CE33D9402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7AD1D9-8B60-43E4-85A0-13570EADD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48057-2BDE-4ECE-9B8A-568B0F854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9BE62-52A0-47A9-B272-B95E35BB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F92CE4-DF82-4F48-8923-7379D7DB1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149F9D-D390-43AF-8D59-1A88FA0A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99C62A-91B5-42BC-9878-59B069301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35F928-2764-41CC-9F35-FB5C44CF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12B4-7140-47A2-AA99-36BFD98B1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87D88-F056-4D25-8988-5FDBEB8C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37919A-CC3A-4E45-8686-9FBC1906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240D2-7486-4F49-BA06-3B28B81E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22526-9A76-416C-A3DD-565003CB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A836CB-7461-4E77-B8EA-9DFB32F1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493F5A-5CD3-4351-B7F4-FBF1A1589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7604D-FFED-46C5-AAB5-D4CA62CC1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38EBA-A3AB-4636-841E-61940F2BF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FE784-EFEC-40E3-95F9-E417D9B9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DF4393-F58E-413B-A006-873441CA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7246-DB66-4888-B772-F4E7DDE520B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5DD4A-1415-418D-9A23-2EE538DC2E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C486-0AAF-4DF4-A8CD-E021BB1CAB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0355-C089-470F-A376-623F2A97AC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6C22-D2EA-40ED-AD70-0A7A42F604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EB4AF-48CE-4DC2-82D3-4ED361F52D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93AE-AA3A-44FE-B4E8-23769A2B6A7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2CE1-33D4-462F-BF12-46E72C57A4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FA32-BCBC-4AE1-A647-5A0B8DB999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5888-02E3-4D7D-BF32-2F42ABFEEC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19A9-7C6C-41F6-A143-0E7A11F95C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4533-256C-4941-AAFE-3D32DB3B7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DAE49-9255-47C6-A25F-54B508AD7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A4DEF-E602-4434-98A7-9BB516E242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E9EA9-69EC-4DCA-BA85-A6FC0CD9E3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E6148-FC6F-4AA4-8075-FB1418895F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9EE5B-31AE-41E3-A7CB-A8ACAFCF19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1258-59CF-4C1D-9DEA-6A6AD182D9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D00E4-9855-4601-BA34-CE647EAC07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062C-5984-483B-AA51-C2ECB9FE6F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0FE6-2F3C-4423-92DF-1122A46D74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C295-E578-43E4-8324-3C3B855DC1C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96CA-F80E-411D-94DB-8F1706E54A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4DFF-E12D-434F-93AE-99013CE254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2EE9-79FE-421A-A3BB-2DC728D699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D0056-BC3D-448C-A2BF-C9B8BD6BE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F5E3-AFC1-4679-B301-74B485AC20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D3D1-1AAF-4C10-9356-A769F751A6F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1974600"/>
            <a:ext cx="0" cy="282708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8718-D578-437B-A602-EF71A36642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75BE-745D-42D1-A8AC-1E0A37CFDE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A16A-C843-40E4-81E5-17004EA29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2ABB-7600-41CE-A3B7-A5DC60DD86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EE9E4-4DE7-4434-BCC3-B7D05408481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F3C6-45B9-4847-99DD-A45132A1AB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04BD-C76D-4CFA-B9A1-5E91B05D34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ACCA-B5EA-40CE-AEDC-05CBB66F1D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ECB7C-00C0-4688-8AEA-1F1B066D57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261A-6D59-46F7-843A-0F51B1A586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C63F-5292-4F75-BCE7-61FC890E5AC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ACD1-CFFC-4EBB-B7A3-083D0BA681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195640" y="2986200"/>
            <a:ext cx="4752720" cy="88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2231" descr=""/>
          <p:cNvPicPr/>
          <p:nvPr/>
        </p:nvPicPr>
        <p:blipFill>
          <a:blip r:embed="rId1"/>
          <a:stretch/>
        </p:blipFill>
        <p:spPr>
          <a:xfrm>
            <a:off x="619200" y="1085760"/>
            <a:ext cx="7905600" cy="46864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971640" y="1657440"/>
            <a:ext cx="7777080" cy="50616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900000" y="2205000"/>
            <a:ext cx="7777440" cy="50652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971640" y="2781360"/>
            <a:ext cx="7777080" cy="50652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826920" y="3400560"/>
            <a:ext cx="7777440" cy="5061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900000" y="3948120"/>
            <a:ext cx="7777440" cy="50652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900000" y="4522680"/>
            <a:ext cx="7777440" cy="5065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8"/>
          <a:stretch/>
        </p:blipFill>
        <p:spPr>
          <a:xfrm>
            <a:off x="755640" y="5099040"/>
            <a:ext cx="777708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9880" y="709560"/>
            <a:ext cx="854424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685800" y="779400"/>
            <a:ext cx="7772400" cy="5962680"/>
          </a:xfrm>
          <a:prstGeom prst="rect">
            <a:avLst/>
          </a:prstGeom>
          <a:ln w="0">
            <a:noFill/>
          </a:ln>
        </p:spPr>
      </p:pic>
      <p:pic>
        <p:nvPicPr>
          <p:cNvPr id="924" name="图片 59411" descr=""/>
          <p:cNvPicPr/>
          <p:nvPr/>
        </p:nvPicPr>
        <p:blipFill>
          <a:blip r:embed="rId2"/>
          <a:stretch/>
        </p:blipFill>
        <p:spPr>
          <a:xfrm>
            <a:off x="1033560" y="1380960"/>
            <a:ext cx="74484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5" name="图片 76801" descr=""/>
          <p:cNvPicPr/>
          <p:nvPr/>
        </p:nvPicPr>
        <p:blipFill>
          <a:blip r:embed="rId1"/>
          <a:stretch/>
        </p:blipFill>
        <p:spPr>
          <a:xfrm>
            <a:off x="328680" y="933480"/>
            <a:ext cx="848664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图片 58373" descr=""/>
          <p:cNvPicPr/>
          <p:nvPr/>
        </p:nvPicPr>
        <p:blipFill>
          <a:blip r:embed="rId1"/>
          <a:stretch/>
        </p:blipFill>
        <p:spPr>
          <a:xfrm>
            <a:off x="695160" y="603360"/>
            <a:ext cx="7753680" cy="621036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58374" descr=""/>
          <p:cNvPicPr/>
          <p:nvPr/>
        </p:nvPicPr>
        <p:blipFill>
          <a:blip r:embed="rId2"/>
          <a:stretch/>
        </p:blipFill>
        <p:spPr>
          <a:xfrm>
            <a:off x="1285920" y="1766880"/>
            <a:ext cx="714384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7352" descr=""/>
          <p:cNvPicPr/>
          <p:nvPr/>
        </p:nvPicPr>
        <p:blipFill>
          <a:blip r:embed="rId1"/>
          <a:stretch/>
        </p:blipFill>
        <p:spPr>
          <a:xfrm>
            <a:off x="1047600" y="2852640"/>
            <a:ext cx="7048800" cy="115272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1403280" y="3443400"/>
            <a:ext cx="684072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图片 56324" descr=""/>
          <p:cNvPicPr/>
          <p:nvPr/>
        </p:nvPicPr>
        <p:blipFill>
          <a:blip r:embed="rId1"/>
          <a:stretch/>
        </p:blipFill>
        <p:spPr>
          <a:xfrm>
            <a:off x="304920" y="795240"/>
            <a:ext cx="8534160" cy="52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图片 55300" descr=""/>
          <p:cNvPicPr/>
          <p:nvPr/>
        </p:nvPicPr>
        <p:blipFill>
          <a:blip r:embed="rId1"/>
          <a:stretch/>
        </p:blipFill>
        <p:spPr>
          <a:xfrm>
            <a:off x="714240" y="577800"/>
            <a:ext cx="7715520" cy="622944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5301" descr=""/>
          <p:cNvPicPr/>
          <p:nvPr/>
        </p:nvPicPr>
        <p:blipFill>
          <a:blip r:embed="rId2"/>
          <a:stretch/>
        </p:blipFill>
        <p:spPr>
          <a:xfrm>
            <a:off x="1036800" y="1144440"/>
            <a:ext cx="746748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图片 54276" descr=""/>
          <p:cNvPicPr/>
          <p:nvPr/>
        </p:nvPicPr>
        <p:blipFill>
          <a:blip r:embed="rId1"/>
          <a:stretch/>
        </p:blipFill>
        <p:spPr>
          <a:xfrm>
            <a:off x="628560" y="800280"/>
            <a:ext cx="7886880" cy="572436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7056720" cy="5065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3"/>
          <a:stretch/>
        </p:blipFill>
        <p:spPr>
          <a:xfrm>
            <a:off x="755640" y="3716280"/>
            <a:ext cx="7056360" cy="5065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4"/>
          <a:stretch/>
        </p:blipFill>
        <p:spPr>
          <a:xfrm>
            <a:off x="755640" y="4221000"/>
            <a:ext cx="7056360" cy="5065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5"/>
          <a:stretch/>
        </p:blipFill>
        <p:spPr>
          <a:xfrm>
            <a:off x="826920" y="4811760"/>
            <a:ext cx="7056720" cy="5065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6"/>
          <a:stretch/>
        </p:blipFill>
        <p:spPr>
          <a:xfrm>
            <a:off x="684360" y="5430960"/>
            <a:ext cx="7991280" cy="5061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7"/>
          <a:stretch/>
        </p:blipFill>
        <p:spPr>
          <a:xfrm>
            <a:off x="611280" y="6035760"/>
            <a:ext cx="7991280" cy="50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6T07:56:3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