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F22E-8D45-466C-B11F-3E337361E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78B1-B3BF-4901-9E4B-EC8E3CAC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A9F341-2D7C-4C0D-B7A1-4C1AFD07F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482CCB-E1CD-4D9E-BDC4-5B8B5F2D0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46E608-2B43-4E7E-8E41-F2D3E3DBD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8C840D-8C1A-4531-B4AA-6489463C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ACAB69-3EB5-45A0-BB11-5D857E46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C5EC05-DD8D-4F07-A750-E7C70ECB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4CA954-1D05-4344-927E-A6B283380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1E67CF-ADC2-4527-9050-028FA5D55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E15B92-6DDD-4E5C-B917-5FC049A9B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CAC1CA-59C3-46C6-B811-2DF0D12A1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68F2-1579-48BF-A071-B1AF3E571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F68A4D-0F3B-4B09-956C-D66311E49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3BB3ED-7627-4CF2-8271-7AE34FCB5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435A44-F347-4BEC-AAEF-43C99470A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138F1C-3ADF-4CD1-9EC3-0407E35A8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55C2C5-AC0A-471D-A089-5F8A9D306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EA000E-62F9-418C-B601-52105D7F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53DD58-D7E2-4B54-A7D2-B4CF8A8E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AA5637-AB4D-4B70-83DC-B3D7EBFD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16B9B0-340D-49CB-8AEC-426B1E530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213BB6-C209-4102-A48A-E44C8C875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2547-A8EE-43BE-BE62-6756FA5E0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1A997B-D15A-47F1-958A-BB289735E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B123F8-FBC5-498C-838B-046F2EE68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C0AA19-7B78-4EB8-B884-1DF32B7B1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B6C649-8CFF-42B0-B9BB-A475C25D6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AA7DF8-3937-4824-8D42-73758856B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31A3BB-85A0-40CD-A9A0-D8CD1F0E9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D15C05-BD26-4649-B25B-01866543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CF4663-0CBE-4B6F-BCDB-50F23ABF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D926A1-B2AA-4B7F-A30C-2B709010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9FC96E-D5AD-48CC-A69C-EE4317E8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D05A8-152A-4DCA-8AC8-A931B1306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21C2F9-7D70-457D-BC60-564432BC6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4FD085-82FB-4069-9A40-02A3EAB12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9938FD-5769-4DCC-BAC8-60F16DA24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03645D-25E6-4FC9-9B03-79E126AC4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9E403C-5DAC-483C-9BA5-D6410A206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A319B7-799B-429C-A2EB-74447A894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71A44E-6855-4442-A3AA-D40D813AF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F26228-10BC-4BC1-8751-26A10DAD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4E3769-2235-401A-9009-969C76BAD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2B8826-BD49-403A-88D6-FC8E4368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69064-82C0-4902-B335-E2107D746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9D71AB-E1FD-4EF5-B1E3-0CE5ACB0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1F9BFA-1DE0-4ECD-8655-A25C29CA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ADB52B-9586-44CC-9353-F30B588D7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EF8C0C-6D79-4F08-9850-6892D9EE7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FB50E6-8FBE-470C-B5EE-992D73443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1129C6-02A2-4DDA-A178-E8312C53F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5317F3-12E1-45E6-8A76-B519AE418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3F6028-BF38-4DDC-8556-FBC5AD90F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C10C56-6FA7-4C3A-BB04-E07CDD5CD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B21672-3FC3-4A4F-ADF2-4CEDCF1BE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DB378-3BE9-4B3C-994E-4AA710F30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49065D-8806-4B82-9AC3-01EB19B39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A67D50-05C0-4C31-9BE9-09C1D19B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EA2A91-79E0-4982-A07A-E4CE9FD6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C8CE13-E34F-475A-85A1-B33897B0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C3FD07-CE9D-4385-8DB7-80F91AE99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0E91B3-9FCE-4C83-AB7A-478C9B871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DBE7ED-BA64-4090-BC9E-6491FF6D5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59F333-387D-4EFC-8215-039E952D1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743536-2903-41AB-AC15-361B17FC3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AE20D1-6470-4B65-929F-39DE52104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D3CDE-DD4E-4B45-BB6E-F1902140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5391AB-989B-4CBD-851B-D65142897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7B89E8-8D21-4D27-BCD4-025F59B48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D682CC-0A67-49A6-BDBE-3664A041A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BAED35-127F-45FC-8450-55FFBA4D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4FADC3-8698-4A79-9131-CA23B4F0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237A3F-B734-49F1-A02D-094330BD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0FB4DD-9228-4D1B-A480-464CB1B34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069AAB-69E1-466F-A547-83F476068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33374D-7DA0-4EAE-8FF0-6CE25D6E9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8F08C5-EA1C-471C-9395-3399EDB94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3C963-22C9-45A5-AD6D-89B7F92FE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C40479-7413-4EA0-89AA-48D3CFA0B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EC1C2B-93BA-41A9-9642-5F095B8CF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4F5A54-F856-4FF4-BCC3-F9DBA4578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144A60-1921-481C-B715-23DE9DAA0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39BB74-4C9C-429F-AF58-3671C7567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12DBB1-5D48-45E8-9468-925D67F7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905059-E564-41C0-B2A4-C47B593F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240B58-4EEA-4E5C-8F32-2D1F7C26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DDFF3A-DB28-4BDF-9065-C44D59C3F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2E79B0-097D-48AE-9336-54EC83937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4C57A-48D6-442D-BA03-CD5A3D64A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AEBE67-784A-4956-BBA0-B85AAB586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DC56A3-B945-4AA4-8436-EA433CB48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ABEA30-6A06-461F-A5BD-2F3127B27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7C7A11-253F-4C7F-B90B-6E2AD580F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BA9BF6-C803-4E1A-881A-7790A3826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766E29-C30F-4AEC-BEE1-41B9742F8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6730EA-5853-4A4C-8CD4-D2F3CB2E8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2B5787-AAEC-4F19-BBDE-BA9E5F3D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FBE527-A24F-4EBB-A18B-013F8954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C22253-AA03-404C-92AB-94D2F220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7CE00-F6BB-4797-A6D1-909A2B28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AA61C8-C6B0-4938-A7C3-D07DEEE45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A59184-BCB4-4C16-B699-57CC48B30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6041B3-0EB0-4B05-A035-A105DF195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040B3C-DEA1-42BB-81F5-B62ECF4D0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95E96F-2ABA-4023-A1F6-41E97388D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CEF653-B82D-4DC0-8C19-CF97A8357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F87B21-E111-483C-8017-77E9081E4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D02E92-0872-4FF9-A5D4-357367904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FF9932-3F3E-4295-93F1-EF35C1219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57D5F8-3668-43F3-A7C1-D97C0992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D85A-BBC4-4B50-86C3-47C9645BC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F4C38-D667-4CF4-8E26-FF0BFCC9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A8ECFF-F929-483B-963B-802B3B96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033F87-A986-4B6F-B179-7AB5458D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D0EA2A-9AF6-4BE3-874D-CAD731F16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FA1EE2-42A9-44FC-A3D3-3B1524CB1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694EF5-3ABE-4AAD-BA2F-8090A15C0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4D047F-6BD3-43A5-ADD6-5E70B2361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F3B0E8-ABDE-461B-BE69-8FBCE5766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515226-DD5B-410F-9755-6657387B0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07F33F-4440-4F05-84BD-E2C65B8D0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9B54A2-9E62-40A2-93A4-6BF68ABDC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8C9BC-55C9-4B4A-9B49-E375778A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E0C061-9A48-4DD6-BE05-FE3B3EB32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D6F3B8-48FB-48FC-B652-A529A6D1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6EAFEF-1ED4-44F7-8D2F-C33129E0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07F207-7223-4A7E-BA17-19FA2440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0652B7-A090-4E25-83D6-15FD4B09D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8E0B4F-A918-4B03-8B37-1EC249135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D3FC0F-A027-482A-A2AB-643BA9E6B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EA7541-4036-4E66-AC88-D0B03F217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B1F0A8-A9DF-4FC3-98D3-E45421A8C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AE61E6-4A23-4CFC-9925-D0916A71B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EF7DA-8FC3-46DB-A2F6-DC9F78DB4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3493A2-D4A1-45CD-8E2B-5FA75AB30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5CFCB9-714F-4D29-BE6C-F5F34CAF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1DA9AD-5935-4433-A645-57D312C93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363934-A885-4A2F-B601-D27A08DD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972041-36CA-4521-8D35-449051DE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9C5F76-76CB-4D6F-88E2-B51258A5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D58579-969D-439E-9CDB-91C41FCBF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B7DF63-3260-4CAF-96E6-7FB8A7223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46A0FC-4FB4-4809-90C2-D40CBF3CB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A12293-C4DA-4F5F-8E29-9C85217EA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53CB6-C5D7-405C-AC06-0DF6D7B8E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C45AF6-D2E7-4264-AE0F-0BABE1FE0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94C5AE-4DA3-41A8-8755-E5E92BAFB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D5C2E1-70BD-433B-9233-22F6A3DED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000450-6A33-4254-8C89-4F6F4C1BE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2967D6-B52A-4784-8992-8DC6C96A1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09EBAC-D0B7-48A8-9496-DE56E1FE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9C356B-727C-474F-9031-01701327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78850B-BFDA-48F7-9ED9-B855798D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F5B907-11F1-4EEA-9B18-34F12D60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17737C-0FD7-4894-92B1-8156E87D3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ABE81-368F-48DD-B5DE-B2058EA50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BBE841-7DE4-4D5A-A864-77C447412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920037-9DA5-4E2E-B590-B393000BB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AF7EE1-1650-4D8F-85C6-13A2AFD81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EF0D6B-2CB7-4DB5-B223-66D131A05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8BF7FF-E4A9-4342-A0A6-7C8E5FB27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3E2C09-DC2C-40EE-A7BF-A701FA78B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138D41-FEE3-4DBC-BAF8-A6933EF92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414449-256A-4305-941C-17D88664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4B7FA1-6C6C-46BE-979D-1663AC09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85C0D1-C978-408F-B579-0B53A0AC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810E9-2CA4-42E5-94CD-4889A57CB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D5D130-14A5-4821-8AFB-4F7A94C1C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133617-F6E1-44C6-A286-1011E45D8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BA0F2B-E33C-4316-8565-A42D8F913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BF8A9-6E67-4B61-996F-FE2D906C4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7865E-9AAC-44CE-84CF-8164554E7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2A904-FEB9-4E92-A3CE-43B772B1D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9B990-3567-40CC-8C7D-E1B20CBBA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A3E0-DD35-41EA-B5D6-7D640879C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3A921-666D-409A-BBE4-13025F9AB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0A301-5564-4EE7-87F5-65FE0490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F2C3C-FAA6-46C6-A962-FA185CEB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5DB2B-8D2A-4B54-9F22-622195D4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FA760-4E02-49E3-9F58-23F3EE83F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18AA7-5634-4671-BC9E-FDC139A2B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77E85-77F2-4EBC-889B-BBFC290AC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62964-0E75-438D-AF46-809B77A03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7C47A-1145-44A5-872B-56826A092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74907-8370-4320-96D0-05893882D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197E-B6C2-4003-8DB3-248A0740D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3E589-F99E-4A2A-9CD1-8BD285E90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5CCBF-F70C-4BD5-AD5C-BB6E41977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FCB97-5473-49E4-A737-080511B3E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77A3B-9A4F-4451-BE3B-3D63B6E2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B162A-3258-43EF-92E1-7807E988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A2BFB-FA24-430A-A7AA-5EF9CBAB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40B67-3505-46C5-8171-A18621ADB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041C1-074C-44D9-822E-8C7E2C349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33915-FB1C-40CE-87A7-4310D434E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08783-23F6-4792-A1CA-CE284E2EC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E81C-9983-459E-BFAD-51DC239B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2413D-679F-4E67-A52E-37AC83A50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177D3-6DF0-45EA-873A-EA2EFC176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01BC2-9992-492F-8854-FDF656111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BB4EE-FB6C-4998-90C5-F85694710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D741A-B98F-41AA-9CA1-566881EBA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45DD2-1AB8-46E3-A77B-F1213024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922A0-E8C7-4790-9647-5BBF2BE9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84138-BD2D-4E05-9F11-0850B413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24208-CCC6-42BA-B497-BB83737BC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393D1-499B-4154-8559-84CB660A3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94D3-21F0-4D58-AF8A-8D8DC0F10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9212B-6554-49F8-AD4D-239330C6F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210F4-9D24-49E0-9D8F-E04719120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D4BCB-7A23-4071-A041-273E3281F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8F711-C904-4723-B148-AED51C4AF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FB211E-0A21-4E24-9ED1-8164AF2DF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7BE82-8FCB-4ACB-A9D6-A84969055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37B36-BC22-47DD-9604-93B187F17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720B4-8722-41A6-AD51-0272BA45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625B0-A8C1-4E7D-B96B-1F781905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59D3FF-7992-430A-ADF4-A44AC6CE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87D1-BCDC-4AB6-8A0E-E865D48F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2E82B-C15A-4750-B8B3-8A3DC4566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5FDBA-6F49-4B90-B660-798693284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CD4DC-1989-4682-B033-9658CA0CB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637CF7-CED8-4DAF-BD6A-772471353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A3418D-6031-4FBD-8FCE-9E8B38464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F3B80-D8AC-4E01-AD4E-2E2EE886D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512ED-03EA-4501-B670-D136A8F3C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47DD9-59CB-4900-897B-5EC8E6BBA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C77718-3966-4904-8E16-5BB75789F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63272-13F4-4293-82F4-FF37F043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98BC-0E4C-4288-B270-F3A2AE39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3B01D-6998-4752-85B5-8424A4E3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D0A44A-7B39-40B8-973F-E1180621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B881A-C391-4EF5-A6D3-149F7B13E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8B0F8-9716-4A7C-9F31-0528F6D87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D8634-A754-467A-A768-81312B88F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2262EA-008B-4DE6-A3A6-9F7FA84C2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2E8532-7901-4737-890C-5FEF18C4D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D1AE13-B9FB-4320-B7EA-A0AECD576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BF6C88-5BF2-45E7-9FF3-ADE50F901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5A72A5-0F92-4656-8349-477434E21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1F16-0B98-4E53-931E-A91239E0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0A7117-C852-40C0-B91C-843077953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7BDAE0-8A47-464E-ADC2-06DB3758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D5C966-3071-4BDA-8129-970F044E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9480D5-CB6B-4ECD-98A2-953D135A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797326-9FC6-4253-A29B-C2BB49A1A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1A60D8-8F8B-4B33-9BF6-C09BE3153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A32935-72AC-41E1-B087-524B3B27F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66F92C-84AB-4FD7-9D7B-ABBCB8EB0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ACD7B7-BD02-4E31-84C0-4B55E9BA2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7E863D-A110-4316-A4FD-8B872041D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75D59-1A1F-4EC2-88BE-5FF07CF3D65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DA237-7F83-4B77-AB82-5ECE47A982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C1C3F-EE29-402D-8388-8C114350BD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ECCE8-E399-401E-842D-9BB1E5644A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39B54-F354-49B1-9405-2C157E7252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A8B55-94F0-433B-8E61-A856E96021B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BED9B-EE90-4F9E-9D5C-8BBD049F31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D2032-BBB5-4624-ACB0-109C1D346B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C71A6-6720-432B-BE28-C1E217ED5A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62C5D-276A-4F2C-8BA1-FA59F8CF33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F9823-DEF6-4569-A56B-1D6F2D7A4D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A1DBE-34AB-4B0F-B72D-1E99674C6B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A5667-B07C-4758-9962-F7F7D9D6D1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CB084-DBFE-43EC-988A-8545FB53D3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C1EB-D22E-423B-967E-378B404524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7E989-27F2-4C74-8CD1-D834B4DE54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03E1B-671D-4C08-823D-9EDE4E9CC5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83DAD-529F-46C2-B277-B3EACE8F07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4CC9E-99DC-49D5-9B1B-C749E53A70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8E0A4-F188-4CFC-AA15-E1A6CA711D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CE694-DEB1-4738-8E5B-8BEE3CEB7F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A51C5-AEEF-4C2E-A899-290D299BF5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5FAC5-EDCB-4206-AF99-CE6A760BD9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C48B8-0639-4AD6-8B9D-43DDC5CDDE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C86B6-8DA6-4B19-9007-55EE6CCA27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C73F9-0CE5-42DA-8B08-AF9F8320EA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A1966-4B8D-4E61-8F9A-2C07F27EF1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F1859-631C-448C-B457-5085D9977D8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1974600"/>
            <a:ext cx="0" cy="282708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FC93E-F204-4398-BCBD-AF9F9EC8E5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7F852-7683-48EA-8972-9B6C00878AC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0ABCA-BB8C-4926-9928-051D2C43B8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DBA50-AA1B-424C-92F1-795D785EB7A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92D5E-8874-46E9-B339-52EF5716AF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5693E-5CA6-4A3C-B862-880AEB92BE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40E24-E509-4C9E-9E5E-7E3C37FF48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F41B8-42DB-4927-A8D6-52E7414468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C6BA-2F5D-466C-8582-BE3ACD17F4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FA95E-0CF0-4F0E-8349-E6DC18FE05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D32CC-A077-416F-8A9D-8DAC970371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D4BE9-4F49-4400-8EFF-62938D9AA7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138320" y="3005280"/>
            <a:ext cx="6867360" cy="84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图片 52231" descr=""/>
          <p:cNvPicPr/>
          <p:nvPr/>
        </p:nvPicPr>
        <p:blipFill>
          <a:blip r:embed="rId1"/>
          <a:stretch/>
        </p:blipFill>
        <p:spPr>
          <a:xfrm>
            <a:off x="271440" y="3859200"/>
            <a:ext cx="8601120" cy="2162160"/>
          </a:xfrm>
          <a:prstGeom prst="rect">
            <a:avLst/>
          </a:prstGeom>
          <a:ln w="0">
            <a:noFill/>
          </a:ln>
        </p:spPr>
      </p:pic>
      <p:pic>
        <p:nvPicPr>
          <p:cNvPr id="956" name="图片 52232" descr=""/>
          <p:cNvPicPr/>
          <p:nvPr/>
        </p:nvPicPr>
        <p:blipFill>
          <a:blip r:embed="rId2"/>
          <a:stretch/>
        </p:blipFill>
        <p:spPr>
          <a:xfrm>
            <a:off x="1258920" y="1324080"/>
            <a:ext cx="6581880" cy="210492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3"/>
          <a:stretch/>
        </p:blipFill>
        <p:spPr>
          <a:xfrm>
            <a:off x="4356000" y="1946160"/>
            <a:ext cx="647640" cy="50652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4"/>
          <a:stretch/>
        </p:blipFill>
        <p:spPr>
          <a:xfrm>
            <a:off x="7380360" y="1901880"/>
            <a:ext cx="647640" cy="50652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5"/>
          <a:stretch/>
        </p:blipFill>
        <p:spPr>
          <a:xfrm>
            <a:off x="4356000" y="2478240"/>
            <a:ext cx="647640" cy="50616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6"/>
          <a:stretch/>
        </p:blipFill>
        <p:spPr>
          <a:xfrm>
            <a:off x="7408800" y="2492280"/>
            <a:ext cx="647640" cy="50652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7"/>
          <a:stretch/>
        </p:blipFill>
        <p:spPr>
          <a:xfrm>
            <a:off x="1835280" y="4494240"/>
            <a:ext cx="647640" cy="50652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8"/>
          <a:stretch/>
        </p:blipFill>
        <p:spPr>
          <a:xfrm>
            <a:off x="5076720" y="4451400"/>
            <a:ext cx="647640" cy="50652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9"/>
          <a:stretch/>
        </p:blipFill>
        <p:spPr>
          <a:xfrm>
            <a:off x="8481960" y="4437000"/>
            <a:ext cx="647640" cy="50652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10"/>
          <a:stretch/>
        </p:blipFill>
        <p:spPr>
          <a:xfrm>
            <a:off x="1835280" y="4998960"/>
            <a:ext cx="647640" cy="50652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11"/>
          <a:stretch/>
        </p:blipFill>
        <p:spPr>
          <a:xfrm>
            <a:off x="5062680" y="5013360"/>
            <a:ext cx="647640" cy="50652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12"/>
          <a:stretch/>
        </p:blipFill>
        <p:spPr>
          <a:xfrm>
            <a:off x="8317080" y="4998960"/>
            <a:ext cx="64764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52360" y="1031760"/>
            <a:ext cx="8639280" cy="5781960"/>
          </a:xfrm>
          <a:prstGeom prst="rect">
            <a:avLst/>
          </a:prstGeom>
          <a:ln w="0">
            <a:noFill/>
          </a:ln>
        </p:spPr>
      </p:pic>
      <p:pic>
        <p:nvPicPr>
          <p:cNvPr id="923" name="图片 60429" descr=""/>
          <p:cNvPicPr/>
          <p:nvPr/>
        </p:nvPicPr>
        <p:blipFill>
          <a:blip r:embed="rId2"/>
          <a:stretch/>
        </p:blipFill>
        <p:spPr>
          <a:xfrm>
            <a:off x="250920" y="46080"/>
            <a:ext cx="360036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4" name="图片 59410" descr=""/>
          <p:cNvPicPr/>
          <p:nvPr/>
        </p:nvPicPr>
        <p:blipFill>
          <a:blip r:embed="rId1"/>
          <a:stretch/>
        </p:blipFill>
        <p:spPr>
          <a:xfrm>
            <a:off x="547560" y="1104840"/>
            <a:ext cx="8048880" cy="46483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2"/>
          <a:stretch/>
        </p:blipFill>
        <p:spPr>
          <a:xfrm>
            <a:off x="4226040" y="1685880"/>
            <a:ext cx="1081080" cy="50652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3"/>
          <a:stretch/>
        </p:blipFill>
        <p:spPr>
          <a:xfrm>
            <a:off x="3419640" y="2290680"/>
            <a:ext cx="1081080" cy="50652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4"/>
          <a:stretch/>
        </p:blipFill>
        <p:spPr>
          <a:xfrm>
            <a:off x="4284720" y="2867040"/>
            <a:ext cx="1081080" cy="50652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5"/>
          <a:stretch/>
        </p:blipFill>
        <p:spPr>
          <a:xfrm>
            <a:off x="3348000" y="3443400"/>
            <a:ext cx="1081080" cy="5061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6"/>
          <a:stretch/>
        </p:blipFill>
        <p:spPr>
          <a:xfrm>
            <a:off x="3564000" y="4062240"/>
            <a:ext cx="1081080" cy="5065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7"/>
          <a:stretch/>
        </p:blipFill>
        <p:spPr>
          <a:xfrm>
            <a:off x="1547640" y="4581360"/>
            <a:ext cx="1081440" cy="50652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8"/>
          <a:stretch/>
        </p:blipFill>
        <p:spPr>
          <a:xfrm>
            <a:off x="5940360" y="4638600"/>
            <a:ext cx="1081080" cy="50652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9"/>
          <a:stretch/>
        </p:blipFill>
        <p:spPr>
          <a:xfrm>
            <a:off x="3419640" y="5229360"/>
            <a:ext cx="1081080" cy="50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图片 76801" descr=""/>
          <p:cNvPicPr/>
          <p:nvPr/>
        </p:nvPicPr>
        <p:blipFill>
          <a:blip r:embed="rId1"/>
          <a:stretch/>
        </p:blipFill>
        <p:spPr>
          <a:xfrm>
            <a:off x="276120" y="700200"/>
            <a:ext cx="8591760" cy="54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图片 58373" descr=""/>
          <p:cNvPicPr/>
          <p:nvPr/>
        </p:nvPicPr>
        <p:blipFill>
          <a:blip r:embed="rId1"/>
          <a:stretch/>
        </p:blipFill>
        <p:spPr>
          <a:xfrm>
            <a:off x="685800" y="1195560"/>
            <a:ext cx="7772400" cy="4466880"/>
          </a:xfrm>
          <a:prstGeom prst="rect">
            <a:avLst/>
          </a:prstGeom>
          <a:ln w="0">
            <a:noFill/>
          </a:ln>
        </p:spPr>
      </p:pic>
      <p:pic>
        <p:nvPicPr>
          <p:cNvPr id="935" name="图片 58374" descr=""/>
          <p:cNvPicPr/>
          <p:nvPr/>
        </p:nvPicPr>
        <p:blipFill>
          <a:blip r:embed="rId2"/>
          <a:stretch/>
        </p:blipFill>
        <p:spPr>
          <a:xfrm>
            <a:off x="695160" y="1185840"/>
            <a:ext cx="766764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图片 57352" descr=""/>
          <p:cNvPicPr/>
          <p:nvPr/>
        </p:nvPicPr>
        <p:blipFill>
          <a:blip r:embed="rId1"/>
          <a:stretch/>
        </p:blipFill>
        <p:spPr>
          <a:xfrm>
            <a:off x="295200" y="762120"/>
            <a:ext cx="85536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7" name="图片 56324" descr=""/>
          <p:cNvPicPr/>
          <p:nvPr/>
        </p:nvPicPr>
        <p:blipFill>
          <a:blip r:embed="rId1"/>
          <a:stretch/>
        </p:blipFill>
        <p:spPr>
          <a:xfrm>
            <a:off x="600120" y="797040"/>
            <a:ext cx="7943760" cy="5800680"/>
          </a:xfrm>
          <a:prstGeom prst="rect">
            <a:avLst/>
          </a:prstGeom>
          <a:ln w="0">
            <a:noFill/>
          </a:ln>
        </p:spPr>
      </p:pic>
      <p:pic>
        <p:nvPicPr>
          <p:cNvPr id="938" name="图片 56325" descr=""/>
          <p:cNvPicPr/>
          <p:nvPr/>
        </p:nvPicPr>
        <p:blipFill>
          <a:blip r:embed="rId2"/>
          <a:stretch/>
        </p:blipFill>
        <p:spPr>
          <a:xfrm>
            <a:off x="938160" y="1876320"/>
            <a:ext cx="735336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55300" descr=""/>
          <p:cNvPicPr/>
          <p:nvPr/>
        </p:nvPicPr>
        <p:blipFill>
          <a:blip r:embed="rId1"/>
          <a:stretch/>
        </p:blipFill>
        <p:spPr>
          <a:xfrm>
            <a:off x="552600" y="676440"/>
            <a:ext cx="8038800" cy="550512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2"/>
          <a:stretch/>
        </p:blipFill>
        <p:spPr>
          <a:xfrm>
            <a:off x="2411280" y="649440"/>
            <a:ext cx="1224000" cy="50616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3"/>
          <a:stretch/>
        </p:blipFill>
        <p:spPr>
          <a:xfrm>
            <a:off x="2556000" y="1225440"/>
            <a:ext cx="1224000" cy="50652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4"/>
          <a:stretch/>
        </p:blipFill>
        <p:spPr>
          <a:xfrm>
            <a:off x="2340000" y="1743120"/>
            <a:ext cx="1224000" cy="50652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5"/>
          <a:stretch/>
        </p:blipFill>
        <p:spPr>
          <a:xfrm>
            <a:off x="2484360" y="2319480"/>
            <a:ext cx="1224000" cy="50616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6"/>
          <a:stretch/>
        </p:blipFill>
        <p:spPr>
          <a:xfrm>
            <a:off x="826920" y="3386160"/>
            <a:ext cx="7777440" cy="50652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7"/>
          <a:stretch/>
        </p:blipFill>
        <p:spPr>
          <a:xfrm>
            <a:off x="971640" y="3962520"/>
            <a:ext cx="7777080" cy="50616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8"/>
          <a:stretch/>
        </p:blipFill>
        <p:spPr>
          <a:xfrm>
            <a:off x="900000" y="4567320"/>
            <a:ext cx="7777440" cy="50616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9"/>
          <a:stretch/>
        </p:blipFill>
        <p:spPr>
          <a:xfrm>
            <a:off x="755640" y="5041800"/>
            <a:ext cx="7777080" cy="50652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10"/>
          <a:stretch/>
        </p:blipFill>
        <p:spPr>
          <a:xfrm>
            <a:off x="826920" y="5661000"/>
            <a:ext cx="777744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图片 54276" descr=""/>
          <p:cNvPicPr/>
          <p:nvPr/>
        </p:nvPicPr>
        <p:blipFill>
          <a:blip r:embed="rId1"/>
          <a:stretch/>
        </p:blipFill>
        <p:spPr>
          <a:xfrm>
            <a:off x="600120" y="1714680"/>
            <a:ext cx="7943760" cy="342900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2"/>
          <a:stretch/>
        </p:blipFill>
        <p:spPr>
          <a:xfrm>
            <a:off x="1042920" y="2335320"/>
            <a:ext cx="7632720" cy="50616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3"/>
          <a:stretch/>
        </p:blipFill>
        <p:spPr>
          <a:xfrm>
            <a:off x="900000" y="2924280"/>
            <a:ext cx="7632720" cy="50616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4"/>
          <a:stretch/>
        </p:blipFill>
        <p:spPr>
          <a:xfrm>
            <a:off x="900000" y="3429000"/>
            <a:ext cx="7632720" cy="50652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5"/>
          <a:stretch/>
        </p:blipFill>
        <p:spPr>
          <a:xfrm>
            <a:off x="914400" y="4005360"/>
            <a:ext cx="7632720" cy="50616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6"/>
          <a:stretch/>
        </p:blipFill>
        <p:spPr>
          <a:xfrm>
            <a:off x="900000" y="4581360"/>
            <a:ext cx="763272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6T07:55:57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