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B9A-078C-4962-89BB-B62257C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98D-1329-431B-8DFD-0D7FF4C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5B94-0372-40CD-B52F-E8A85020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2948-52A1-4620-B596-E2EC510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42C3-A6C0-4EC8-B0A0-DA9C2968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4B6A1-E495-4A84-82AB-B8D0032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17F21-05B1-4DEB-AAF8-9A95D1C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B07E9-5C46-4DE1-97B1-FB99DAD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2F778-8511-474C-8905-8311D5F6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2011A-F40C-49E2-93D1-1F9B5706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CFDE7-ADE8-4D6C-A371-A66EB410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9986-4A89-4BE0-A938-B7DD18E6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E9F-D241-473E-8741-F5AA9661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DEED2-946E-479D-AE35-273A9539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3993F-FC7E-47DD-9E8F-FABF760D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EABC1-BC3E-458F-BB76-B98BEF2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3F856-23D2-46BB-A7D1-6F2C28B4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EC45A-D6F6-49B7-BAE1-E828169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909F2-D649-4FD6-8118-7644042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5DFC5-F30C-4CE5-9675-4A81547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55EDD-A721-4F2E-A93F-7698BCE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2ACDA-C94F-4F02-B6D9-390AD4B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F9E20-DD18-4AA1-AE7D-6FF27804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1EF-60B0-4AB2-B318-35B80527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A495D-511D-4389-AF52-9C36CA8E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CD43E-0643-4AC4-A2E5-8FAD14C8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4405D-8B9D-433A-A9D1-1E27C82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4DDDB-257C-4E0C-A04E-80140DA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04318-7E28-4BDE-9405-4C97B36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7D57-8E2F-4C25-B84B-1BD50E78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9B7DE-6050-400D-8195-86B3774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123D1-BED8-416F-A926-1EECD14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22360-4483-4F74-813F-0D3C639A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5751E-8FE4-49AF-B2D5-E42611A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073-3CEA-4EBC-83CF-F0585424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6CC6-7A45-4173-9FBC-F5BEEA8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9E3B5-9A12-472F-A6D9-4ECB7F2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A428-CD98-47CC-BEB6-F8FF4CEC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4F510-62E1-4EC7-A68A-ABA7813A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4E151-35E1-4350-91AE-0B7DE74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FE8D8-CAF7-446A-9BEA-954D27F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DCD55-1B0B-4352-88AC-5EBA6CB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0538E-5BA7-43A2-B02A-05FA3E9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DDCBA-7B34-4A5A-A487-63594CB3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6C9FE-4F75-41C4-A86E-1CB5DC3B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67CC-ED2B-4393-AE64-D5FB736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D4BBD-9720-4D03-8043-4902F5F9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61F5E-9E62-4439-A576-213FE44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8CD2C-C211-4AEF-BF8D-2C883BA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67964-66E2-4F60-8290-369F1FB6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3E2BC-49C2-479A-A806-C6036CFC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B654E-0FA8-4830-9BE3-E25DA8F4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C8D5D-820C-4D52-B7B3-2364D69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54BD2-9829-4273-B6F1-AEAE5BC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01361-08E0-4CDA-922D-83FED15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BE868-B215-4A11-99DD-2DC5891C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427-A05B-435A-B410-536AA5E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E3680-E471-4064-B750-FC29DDB5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81F57-47DE-4CB7-9DE6-8AB39E0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A9EAF-5E5A-45EB-AC02-E87FF2C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CAC25-14E9-4BB4-828C-BD3C45B4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22052-BBFA-44CD-A3E6-8825BB9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512C6-1C43-49C7-B8E0-B24E0930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516BC-F1B1-4EB5-8466-A39E5C49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E108D-F4F9-4DCF-88B4-AD297078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3CFBC-3A2E-414B-B947-7B469E4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21D6E-13BE-47D9-B9C5-F578479B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1C82-D9DD-4E5F-AD64-D355AD9F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0D1655-3F96-40FB-90F2-3501F2F6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A8075-DC0A-4A00-A474-61EC95D1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3FE6C-CCDB-4EF6-BCFB-3EC7D9AC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33832-0ABC-4D85-92C1-497FE4F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5E663-4D83-4CCB-A8C5-4A937AA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EF879-16F6-4C41-942A-C89B147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F5464-77E6-47FD-887A-CE2DC90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121AD-2AD6-4B48-AF16-7671A9E9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98BFD-503E-42C8-9342-332791D9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E57AA-141E-4466-B93F-B15D2C39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6CCB-D9CE-4506-8BBF-E57E6A62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39128-E0B6-4FCC-958F-25A06E0F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2E7C3-3129-451E-9338-E128C61E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6E4E3-631A-4223-A728-DD427FD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44453-D1EA-4FB8-B881-0ED2576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34321-17E0-4604-9A34-F68BFD04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8E1D2-9ED5-405A-8615-ACC366C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527BB-8D83-4245-9FD3-E51E8BD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3FC86-037E-43E9-AFD4-C2F195D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0AAAD-A181-423F-A79E-B98608EA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FC10C-3A6E-44F6-BB27-47D0123A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3574-0104-41F3-B233-2D2A15A6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A3616-63FE-4D18-8183-00C24DFD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3CF28-77C7-411C-81D5-D3F9A125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5684E-7E03-4E12-AFC9-9B55B9C5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AADB1-3F48-4C69-B530-6A36A85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52B9E-0298-4ADD-A606-D3C5BC4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F783A-E7ED-458D-A9BD-7FA549F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9BD51-7BE2-441C-89F0-D79944F8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1508A-4E1D-40EF-A8E3-935DA8F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98347-421D-492D-A2D6-2EA742C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B3CCD-1C59-4178-B937-69DFEEC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088-152E-4411-9D2E-B6BC3B4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42866-3B83-4283-9C3D-866CA389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D39D2-67A2-4AFA-BA71-6B937973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B8DF2-4475-43BA-B75B-E107F058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21CA1-1050-4B94-BD29-00029E1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02E36-5C77-4530-908A-9C73286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421C4-3EE6-4FD0-B3A9-1F65130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7A1EA4-354E-4E9F-9852-C93850B7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86678-6BAC-427E-869F-B808B48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4780A-9F80-4889-8F59-7D99259E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2647A-E8C3-4CFE-9CB3-2E02991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8E7-1C5A-4B9D-9332-28DBCA54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D20-654E-490C-AACF-2135260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7B2AB2-7D7E-4F95-839A-2A05D457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6D5B5-569F-48C7-A75C-CED1366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EC332-B4C9-40FF-825B-6B421D6A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3FEB8-7181-49E1-80AC-3DB6FD96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5754F-565B-41EE-BE87-AEF3314F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F757E-65CE-4EF3-9632-41CA955F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90874-6058-411F-8669-8691F07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1C128-A974-4E08-B7B6-915DE14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FA42D-3DF2-4644-A513-F802248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F5535-A679-4254-93BF-5287B98C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0470-E029-4FFF-9AB3-BDA6D44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F5ABB-DEF6-4AB2-A64E-8D014D1D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1C6945-AE16-493A-BDB6-7E61453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F6023-98BE-45B4-A608-06ADCD6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6D2AA-5875-41A9-B5B6-950386AD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1D24A-B5C7-4BCC-B3F4-2179AFC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7A5DE-8976-4EAF-93CC-E73900B8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E0523-2995-45AA-9694-9FC0C586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2E39E-1044-48A0-AC90-1FFB9CF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E02C5-D427-4BFA-917A-FFAE14D7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310989-F0BF-4C10-B7F3-CD43710C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EB5-13C3-43FA-90EF-9B61BF87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4B5F2-DA70-475F-995B-6A3AED7B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839F9-1314-497B-868E-615214A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D402D-55D0-4A8B-BDCB-758FE345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40EC6-0320-4F0D-948F-F8E16E5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3A4776-AC1D-4DEE-B712-400F479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30E4D-3E54-475C-9C7A-D7429C9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3CF0D-3B35-49E3-971C-D27E3829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4341D-77CE-4016-B1DE-DBD79571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81960-4BD8-48AA-8913-575FE124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6C09F-A721-49B0-9C7A-7D5C42A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82DB-8E25-4F9D-AA7D-BEE44309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6AE18-1069-4305-80A1-CA968042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F06C7-98B9-4D72-B7B2-5447839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88561-C862-4A29-B29E-4BF3EEF7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07215-08AD-49D3-90AF-F8726619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3C9E8-DF5C-402C-9376-2E2F14F7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825F95-1F84-4295-A149-5A4DF3C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16A59-1EE0-453D-BEC4-7BE27F3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554031-0A52-4042-8A1E-B6EADD37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0AD85-B220-4C99-B074-7E38940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003AA-7AD6-4312-9DA8-099F48B8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6AB5-82E5-4A83-8195-95DA8600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A3B67-D044-435A-9E62-B87FB478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C5DE9-7C73-4B9D-98D1-05AC2B43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2EDA1-C0D1-4725-AED0-D6B72820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82AFE3-49F3-4099-9515-677BE5F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87352-80F7-4794-8384-E2BBEB3D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EA7FD9-0928-44F2-B23D-F4CB042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A9079-3CFA-445B-A602-1AE6D058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89A56-67AE-4307-BB9E-59B4187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3FF6E-2C1B-4DFE-B0F1-E4B2A99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CFDBE-44BE-47F4-B7B9-71AE389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B684-BB28-405E-8CDB-C305661E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70762-ABB6-49F7-8D02-86C5F05D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51EF5-65A3-4A08-88F2-EAB6A880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DAB35-BA45-4022-9367-11098DBE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1E8C-8CC6-4AA4-98FD-4763F248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1C0E-8F85-42F0-BD31-3645C06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F1B8-65A7-4141-B60E-44778A92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7241-53C9-4B14-BAA4-503FD2E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168-E659-4863-B63B-15CD271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4129D-28BE-4D28-995F-9A86362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5D22-52E1-4B3C-B185-1F7261BC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0084-63EC-43A3-9372-A27AAE8F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577C-6863-4007-9796-5640432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86666-A4DF-462E-8F9A-10F7199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8398-8377-40D4-A1D7-5268AD73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121B-55AE-4460-B752-92B6CD71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235C-F76B-4F9C-8675-B0257606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325F5-5717-4F63-AF13-CB9775B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64A4-8410-48C8-B4A9-A8B5DA79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A7C-EBD8-486E-A6AE-D22F4E28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7990E-9882-4468-AB4C-24CF0B6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ABAE-390E-4856-BCF8-598F4043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9799-9FD5-4E05-919E-3FE3FE5C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0E3D-5A7C-497B-B225-57852A4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356F-817A-42FA-8528-C0CF7A5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CB1E-44BE-4D16-B430-750E7AC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8049-A34E-45C7-A6C9-15C980E0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D6B7-2422-4AB5-BD17-F9C6C07E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A76B2-D955-4C05-B921-80D9C68D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4AE1-397E-433F-AA67-09039CC0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7FD-71D1-4C19-B723-1344D5B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6A990-FF3C-4325-9F9E-F7303ADC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E796-3997-45E5-BC05-CF6A6CB4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3B644-0618-4533-9C44-5A1B6023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6398F-EF2A-4AAD-9D2E-FE57C79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8003-4AA4-4490-B489-32ACD388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3AA9-02B2-4921-87BE-05E581F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F28B-DD62-4FDA-831C-AC9B1E1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B467-0211-4F17-917E-3712126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3985-0BC3-4753-BFDD-EF7584A8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1836-DC17-427E-9F5C-EDEAB11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E52-EB3B-4D79-9A85-1A2353D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102A-225C-4AE6-8A0C-29D32CD8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BDF13-5864-4A21-84A7-BDCDAA84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E4445-DD15-4225-A1AB-7A3E09A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93EE-F0A7-4E50-933D-E31BB086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ED4A-24E8-4D1F-8C71-1347D5C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3A53-9D5A-4FBE-9D0B-7D1B678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634D6-25A2-4576-A5A5-13E8BBF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B869-F6DD-4669-9853-CD2B276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4AB4-5B73-4DEC-A50C-0ABD6A3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23FA-D5B4-4B9E-A822-85557D5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FD1-E12E-4526-BC76-FE92820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B5ABE-B175-447A-BB0D-F3AB92C7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F01C-EA93-4DB3-B947-A00E507C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F53E7-4A49-42E2-95E8-FF5A9AE2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59A2-EDC4-4972-8C0E-2F303292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3A98-06FE-41EA-9B59-224BFF1E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0B8FE-E272-495F-8752-0512CC9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6A49A-DBAD-4C43-9CEE-DAD25847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7572-15B5-453A-A277-CAFA1B3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9D79-5054-4C1F-A2F2-F7A4838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88AA-C0F9-46C9-B860-0BB2C44F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FA18-DA24-4DE9-92D7-57B9A19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AAE2-8036-4411-ACDF-2B277385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CA31A-C3F9-4D9F-8CE7-8E4517C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48BA-CCF9-45B4-BE0A-1E100463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B713-B4AA-4361-8217-320DCC56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DCD8-27AF-4AD9-8FAF-725A6273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E6DF-BC4C-47B1-BC3F-180B7348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0579E-0F0B-42B5-B31E-647FACB2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04629-CAC8-4AF7-8E8A-AD8C221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6ACBE-72C0-425C-B047-6CE06F8D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AA30-122E-4E6D-81AA-8782013F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E36-86AC-4BEC-B024-D0B34F1D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D04F-08C5-4E16-86A8-DFDD787E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7F61D-1D22-4146-8D55-8617E8D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BC36B-0A86-478F-813F-51EA856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D4D6F-40C5-44DD-9AB3-3519BBD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8155-DF0E-4D73-9475-BA2055D6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F062-5207-48E0-87B1-C06D85A8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4685-7A5B-4E89-AED2-00EDF93A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047D-58D6-4BCF-848E-772398F9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13705-7123-484B-83B0-0BF433B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A6676-33D8-4841-9595-4618222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30C7-C2E4-49E1-9623-3B4A18F067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5D6-9179-4F2C-BB94-B4D4345B4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F8FA-661F-4920-8ED6-3EDEC487C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75C-E0B9-4518-BDD4-8C7163771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E62-ECB7-477E-9FEF-52C16DCF6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C8E-FA70-4FBA-A9CB-7BBAA7C987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88E4-6564-4FEB-BEF9-5B2034A7F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6BFD-C05B-4465-A3B5-4EA47CE5E9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C320-E84D-4B7C-A21D-C020D140C2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1585-E65A-4F61-BAFB-C06F8C6A04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C927-ABE4-40FB-AC3B-ACC33E4D44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736-BAC8-4434-B0E7-AD78F2E25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111-5CE7-48ED-A5CB-8F9727E3A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8EF9-7D5E-4327-8CB4-D5332D982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F60-83CE-4EF4-B53D-F8C8B01390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0DA-BA04-4A38-ACDC-2E31093E2B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9D7-68F6-44BA-B2CD-E64BDFCAFF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5F48-029B-4C49-AB45-12D83C4B27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ED79-1CF8-4F18-B015-9A97F224C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638D-E569-4C6C-8E56-44D5F27A8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6AD-C370-4E4F-B3D6-82B6D635F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6E8D-7748-407E-AE87-EF3BC48E2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9A2-C2A6-458C-AE09-EF89EFDC16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789-C7BF-4641-8B6E-2D966F2952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D9E6-7B76-493F-817B-D63472E07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B07-3DD8-4BF0-AB4C-BE491BB9E4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CE6D-4932-4760-96D4-0EBCE1961F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F47-1B0F-4DD0-8A6A-2CC01BDCCF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D865-DCC3-4A8E-8676-9F6DF4457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F5A2-5D68-4462-B09F-5AE8D0460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488-996C-42ED-BB99-211DA1F69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727C-85FA-4EAA-A2C0-CE881879FF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8FC0-5AF6-49BB-A5E7-07ABAC1B25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9483-F84E-4101-925A-E7D87F8824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2B7-2E2C-433E-9659-7DB32185B8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087E-B199-4472-BC54-32F865FE99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28C-50D3-44BB-B397-299D66A85F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804-0C51-44D0-97A2-AE9C93550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B1B-4160-45BD-864B-C630CA05C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B69-32FF-4230-B138-0BAA6D87E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0400" y="3009960"/>
            <a:ext cx="4543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71440" y="809640"/>
            <a:ext cx="8601120" cy="57150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71640" y="5300640"/>
            <a:ext cx="799308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5950080"/>
            <a:ext cx="79930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9633" descr=""/>
          <p:cNvPicPr/>
          <p:nvPr/>
        </p:nvPicPr>
        <p:blipFill>
          <a:blip r:embed="rId1"/>
          <a:stretch/>
        </p:blipFill>
        <p:spPr>
          <a:xfrm>
            <a:off x="281160" y="790560"/>
            <a:ext cx="8581680" cy="5734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5640" y="338616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84360" y="401940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11280" y="5214960"/>
            <a:ext cx="83534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468360" y="5834160"/>
            <a:ext cx="83534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28720"/>
            <a:ext cx="8601120" cy="5695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96360" y="409104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524720" y="606420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14520" y="2209680"/>
            <a:ext cx="7914960" cy="2438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7308720" y="4076640"/>
            <a:ext cx="64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76801" descr=""/>
          <p:cNvPicPr/>
          <p:nvPr/>
        </p:nvPicPr>
        <p:blipFill>
          <a:blip r:embed="rId1"/>
          <a:stretch/>
        </p:blipFill>
        <p:spPr>
          <a:xfrm>
            <a:off x="237960" y="781200"/>
            <a:ext cx="86680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1738440" y="1019160"/>
            <a:ext cx="5667120" cy="4819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763640" y="1023840"/>
            <a:ext cx="48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48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1763640" y="2247840"/>
            <a:ext cx="48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1763640" y="2852640"/>
            <a:ext cx="489600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1692360" y="3471840"/>
            <a:ext cx="489564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1692360" y="4076640"/>
            <a:ext cx="489564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1547640" y="4710240"/>
            <a:ext cx="489600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1547640" y="5315040"/>
            <a:ext cx="4896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590400" y="890640"/>
            <a:ext cx="7963200" cy="5562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187280" y="4121280"/>
            <a:ext cx="5040360" cy="506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504036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114560" y="5316480"/>
            <a:ext cx="504000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1042920" y="5992920"/>
            <a:ext cx="50403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328680" y="1514520"/>
            <a:ext cx="8486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638280" y="1876320"/>
            <a:ext cx="786744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4276" descr=""/>
          <p:cNvPicPr/>
          <p:nvPr/>
        </p:nvPicPr>
        <p:blipFill>
          <a:blip r:embed="rId1"/>
          <a:stretch/>
        </p:blipFill>
        <p:spPr>
          <a:xfrm>
            <a:off x="1486080" y="1023840"/>
            <a:ext cx="6172200" cy="4810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619280" y="102384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619280" y="162864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692360" y="219060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1692360" y="2795760"/>
            <a:ext cx="5832360" cy="506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332000" y="341460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1332000" y="4019400"/>
            <a:ext cx="583236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1258920" y="4624560"/>
            <a:ext cx="5832360" cy="5061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1258920" y="5229360"/>
            <a:ext cx="583236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5:1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