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B15-DFB0-4BB6-902C-B4FE3716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CF8-0613-41B9-BCEA-375FF0E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3BD70-2D65-47C2-9E6C-BF7989C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E55B-4ED5-40F0-96FE-4251503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72FAB-A8D1-48C0-A355-436EBA74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FFAA-F7B6-4BA3-8B2C-AD0257D3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AD2AE-7C6E-403D-A28E-D5F7CDA6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F82D7-937E-4656-B3F9-550360B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110E-AC8F-450C-9B57-089A16B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70310-657F-41DA-8B99-E7AD66F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10FA-D0CC-4611-B52A-9347817E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A2A5B-2FF8-401D-A6DF-72660DB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860-1410-4A72-AB14-D8F5D7FC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F70F8-F019-4139-9E4C-D096FCE2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9F93-1E1C-4ADB-9722-830778E2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9DF0D-59CD-40EF-9BA7-F075994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0F3F7-50D3-4D01-837E-CB19B7C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C2A3F-D89A-445D-92D2-5A3158BF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DA5B0-1384-4EF2-B262-1113D312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9745C-F992-4960-ADEE-B2454B0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952AB-7A04-4F99-B383-28773DC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D4886-561D-4D4A-A9A4-322B7E38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4A58A-11B7-4BA4-9697-85EC5C61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4F0-F3FA-4074-B814-4875AF70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C783-67AA-4133-9F8C-A3E9EE46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3C925-5C44-40EC-AA3B-EF3E82A7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B11CF-C276-40D0-88AF-4AD4F85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9D146-47C4-4AE9-A924-AF83DAF7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DD9E4-B0A0-478B-877E-41C730C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1B0FA-2CA0-4351-943C-0B9645A8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6F9EB-58BB-4B02-8714-3B3E460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FC29-8D94-4D4F-98AF-A505A05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254B-CBE5-4668-91D8-AEB8EC9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8B37-3CD9-45A5-9992-E49A30E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B53-BA28-400C-B471-F0B61588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C743-F7C9-4017-9986-796826D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9F70A-D0CB-4F48-ADCE-33F4F63D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390A-FF25-4B9B-9B20-78D07819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4CD85-0ABB-4251-BBAD-4E146A24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2ED1E-EAEB-4763-8C73-D53326CF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0BE24-1FB7-4603-9BF8-29AC6FB5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E8765-C06F-45E5-A2EE-494F8249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C07D8-D5AF-463A-AF19-1D7A097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A6C3D-4709-42B7-AA44-CD358B6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0E49-C2E8-4E90-9DAC-294FB15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5CF-B353-41A9-AA53-E48AE96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D3FEA-4F00-405A-9054-848C995C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620E-5243-42CE-8FD7-AA0301C0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E394E-A611-4A73-AF28-37BDBE4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1B96E-AECA-47AF-88A1-83835ABC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98584-476F-4AA3-B3C6-297AA3F6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17BEC-BAAD-4B33-A851-DCAC2C0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ABA62-8FE1-4E46-995E-4516B7E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19814-BE16-4583-B2B5-8BE331E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A25E-FDD9-48E2-80E0-9F75BF0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EE45F-1153-435F-8EFC-5355E78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14FD-1B88-4C60-B1BA-5AF92BF3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BC573-E0CD-4348-B5FA-EB1028BD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09BA5-138A-43DC-85F5-4D092B9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0AE94-58B3-4A97-A14B-CC9419B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55F05-FCB4-4950-B132-318ED28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A3093-FB6A-4440-93CB-CD0EFE00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BE003-16AD-4CC3-B99A-49646827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53812-FCBB-4235-B135-610017CA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ED916-E9AA-439E-BA99-BC35CA6F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F7235-8FC7-41EC-BAEF-63606EB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A9AC5-E50C-4A55-A7F0-FC33598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8907-2AAC-4C7D-88E6-ECCA18F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E7F85-4884-4FB2-A239-5147982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8CD1E-A732-49B0-9FCF-AD8D443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F4D96-280C-45D4-80DE-1EEB8A1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FCD3A-2A84-4DFE-98B4-5EC07BC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AB3B9-06C0-44B2-AC7D-AA11332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B6B63-63B3-46DA-B0ED-D3C46F40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CFBDF-9A2B-4CAE-A63A-C758DF22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5FA9D-D299-4781-8B32-7674614D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70D51-5505-423A-9A5E-C79A03E7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79CD9-FC04-444F-AF4B-FA6B7BCA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150A-6087-40BB-A67E-7F0F8E1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2D0F5-BD19-4C79-BB61-2C374F3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25EF8-0DCE-4B43-9C55-2B2AE804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BE6DF-08D4-43DE-BA47-254993C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D9520-D3AD-4C11-8F7D-2E899307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6B061-E872-43C0-8117-7806249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558C6-A77F-43A8-A041-1E57BBB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BE9EC-4BBA-43C5-B7DF-03E426F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A3707-A5B9-4BF7-B814-DE286C5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E0177-C861-4F15-BB55-28AB7C3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40FC7-8C72-45C6-B837-EB450E6C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07CE-AC0F-4D55-9231-F290134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B520A-BDAA-491D-8CF5-556D48C7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27A65-9677-4F59-92D3-B7D0827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2305F-E473-4786-A7DB-41942718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6F13D-0644-4B46-A1B4-A1BD9BB1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03F84-2378-4868-8438-6B5EEBD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6907C-9AFD-4C19-85CD-3C13D655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7D095-8B29-428B-AF6C-BE08BE61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0521D-902A-410C-B4C2-8BD960C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178DD-B04B-43C2-AF92-273ECE3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399AF-A8D0-449D-9993-9CEBAE9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DE27-F3D4-45AF-A9A4-5FB5AF2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3052D-3E37-423D-AA6E-AD55ACF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F007F-C951-4ED6-BA00-A99C08C6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FF1D8-C8B0-44B5-8837-3E3FFBEF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C9849-F1ED-4BDD-906D-C441EBA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629BC-99D3-48F6-9A00-A28FBCCB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655AB-0CCF-48F3-99CB-BA36C573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C9294-0A9B-453D-9E22-284BCFF7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40437-DB87-49E0-BBEE-8BE2157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9F091-C26A-4148-8663-BBB79E88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E5B5C-6953-4D3F-A259-68A0CA2B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27F-EE52-41CA-AA58-65B1510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A848-5D29-42EE-979D-205209C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3C58B7-3F53-4409-B89A-FB708B33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3F4A0-4B24-46C9-8301-FD87F5C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52A31-B345-4641-9541-7808122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344B9-231A-4047-B62D-DD115401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504DE-BB81-4F82-A5AC-CDA3B1B1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E20DF-0DD9-4866-8F3D-FB0A897F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FE7F0-A0D3-4BD5-94E7-B8BBF893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860B2-5BE0-4AC0-8CF2-68747EA0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4944C-0043-4683-AC72-653AAEA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AB74E-084D-480E-9798-FB6AD12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D70E-3E9F-4E25-8B16-A476652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A8C55-DF5B-4A07-88D7-28D68CC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8604A1-E11C-4C5D-9B3E-35475F9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ED5E0-F30D-4EB0-B2C5-D958D1D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89ECF-4C78-493D-8814-1239C1E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2120D-09E6-4722-94C6-08F4B4D5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D3BC4-EEF2-4820-9183-9CCA36E3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85796-CD23-423E-8799-18866D98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4E4A1-9094-4793-8257-570F1F10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BFF1B-BB0C-478F-959E-F7BF1A8A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4229B-FEE9-4706-BD8A-87A518FB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256A-90FA-4273-A621-F9E060DB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855B0-38B8-4DC3-9769-EC983EB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4C9E3-6445-42B7-B8AB-3092DF77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C34E8-2A10-4FBB-8CCD-B979E7A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59ADA-48B0-4286-988E-56A0AF5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B1AB2-CBE6-41B2-94F5-F57CE03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BAC78-2E59-4840-8B84-EE2BFDEE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69981-392B-42DA-A7AC-C4957717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CE152-628A-4E19-8CC5-B66FCF24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397DC-2CA6-4B50-BE15-D1D631A9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D4172-3B1B-4FBD-9394-5C4A9A6F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24D-8F11-4108-BF31-78DF500C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DFC61-B33B-4C6D-91A3-56B92C0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7A412-5CE3-4401-BDD6-135708A0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80F19-456B-4C2F-9507-ADB4F82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7BF6C-86A0-4944-8F60-A35FBB0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450C4-4BE5-43D0-82FC-6BEC69A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7D00F-58F7-44CC-850A-59C2963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B8F33-0D39-428C-ACEA-36CA698D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21B3D-A58B-4D78-A65D-F2A02E21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F13BB-B3A3-4C32-947B-8FA15DC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42AEF-2EB4-4CE4-A330-BA03AE82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476-27D6-44E8-899A-64B6BAE7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E5B81-FA96-427A-9E14-D70E48DE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7F58E-9A76-4514-B9F5-704FD8AA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ED35A-F91D-4C73-8801-361836C5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84D924-8149-4DD5-832B-BC876ED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5A6FE-3CD9-439A-B1D1-5954CDA7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AB173-4926-4FDE-A93F-37860B0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890C1-D018-4AD4-B989-EF3E88F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55344-1D6D-402B-8428-C96695D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1CD4C-B153-4AE7-AEBF-55FCBD2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7E549-246C-4CF1-8DE7-EF68FBF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AA0D-C7E4-429B-B1E8-A9F80521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70E46-88B9-488B-BB70-B8DE702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C5A61-7719-4D73-84C5-21D60F0A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BF97E-33D3-4393-B144-1D7388B3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A677-1D97-45B0-A83E-0E9D00A2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736F-20EE-4FB7-BB0F-126C644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9932-A75C-4A48-A98D-443E45C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30FB-ABF1-4D41-809D-75AACA9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474-7234-446E-9A44-8F886EB7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E4C9-DA75-48B5-BDAA-8EE94BA5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F050-481B-4B5B-BC03-900DEFE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6779-FBBE-4C95-90AC-5D7D59D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C59C-9340-485F-AFD2-9DD0ED2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8449-DC50-4969-8C73-3DE5CA9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9647-7A94-40FB-A0CB-B77FE5E3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7090-1787-46B5-8B47-B26EE3D8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5422D-4E17-4338-A4B7-5DCFC84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CE25-849B-4FF0-BBC8-6049167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8F1B-CD93-4251-9161-E7704A7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4B5-1929-4404-A64E-D9754B7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7C06-BB95-4F06-811E-2470620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8456-1E8A-4AA0-B916-D409E4E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9CBD-38F0-48B3-821B-B6292C14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3B30-E1A2-4062-8C15-94090B20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DD93-A93C-4C48-995A-7015BA1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237C-6205-4A5A-8980-E5885BA2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CA0C-77CD-4E5B-B31A-954F519E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9601-49D6-4E09-9D27-BB05A508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6FBB-16E6-43F0-AF36-6792F2B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FAFB1-BA91-41EE-A231-DEDB2531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296-1BBF-40C4-A825-F5E862A3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3F13-EE82-4839-8F02-2357CAD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C55F-58D5-42FD-AB8E-2D67BB8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06D5-0392-4A46-881B-468CB8CB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405A-ABE0-4B08-A658-F410AC3C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579A-82AC-4E21-B79A-054256FA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A724-3D8D-4E8A-92BC-FFE75BBF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7EDD-DB90-46DD-B10C-79997D1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1833-A516-4EA0-B81E-9277827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20B90-CE4B-43EF-8944-98BBC7B2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550DD-05D1-4336-8C67-FFCB1D4D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D0F-F949-4A56-87A0-7FEEAB5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E735-2D0D-475C-ABA6-A8B45CEE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365E3-14BD-4B6A-9A11-B4BA93AD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D7647-A2BE-480F-97A1-D9F8447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D029-F0B5-4C80-B466-5BCE1417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016D-B5B7-4068-B8D0-AD3D2D0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4789-2E8C-4016-B5BE-53137E0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5EAA-35E3-4E0D-A4E0-4F984C1F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C0779-E96B-41F2-8B02-1C8AC9B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6A33-7169-4817-85BA-E28EBFD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FAD1-0FBD-43EE-84FF-D5D811C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305-6505-433F-A564-BA913E8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91B0-6163-4B40-96D6-D8D0FA55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9305-9E4B-42EB-A6DB-54BCD076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13DB-04C6-4164-97E3-7CC7455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A79F-54BE-4979-A749-2F0AFBBD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9982-1710-4096-B6CA-B616423A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A6CB-6FC6-4A86-83F3-E996E95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04CD-761C-4F01-8352-74251934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1066B-C3C7-401A-BC2B-A2451373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140F-934B-4D86-B1E6-EBEC059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ED95D-E30D-4B8C-81F2-5371019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B70-E984-4577-9F00-24B451B4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4556-59DB-4574-96A5-EFB5E67B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1B071-04C6-4015-8112-7D6FD6B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16E0-E7BE-4A22-AF8A-F6EEDBA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D094-5ACE-42F5-90EF-97C1C18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B317-69C9-4CC6-84B0-691858C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74827-9806-4171-8125-493682C8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32EB-C2DF-4D82-81BB-EF5BCCDF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26E5-006C-4C25-BE23-143F0163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6C13-C331-4C2F-BF9C-BCE66EF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F7D5-2D2F-45D7-8FE4-2F342174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24B-9A41-4BF0-B22E-0C2CC20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C24D-2288-40BD-B4A2-CF9A7A5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8BD6F-A034-410F-8000-752EB14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37565-05CA-4BF5-8F0B-4FC2001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7CFF-1FED-43AE-B26B-A1AD400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D3B87-62AD-459E-8FD7-AFADAC0D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196B-E5FB-4F03-B8ED-EE40221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E6176-5E7B-496E-A38F-041B7A27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07E34-CA51-4B18-9194-1A0EF9E0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A9739-1D7F-4000-9A57-2AEA2AD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428C-9C15-40CC-8CA9-BDF67E1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8462-B49F-4A5E-B46C-95D7335D70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111-4057-42D9-A8CA-90CA821B38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164B-A1EB-4819-93A2-FC496EBE8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C57-A18A-4767-A501-AA954EE4D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0E9-CF63-4492-A6BE-96BD170F72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A9C1-9878-42C4-80D2-573F49975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949-B7BA-4C4D-8E4E-0B363C6558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6F5-CF7A-4067-B7D3-8F8E3A727A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3C5A-D4B1-4B64-A4EE-4E0373B73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A30-146B-4F7F-BFE0-68313CB5B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3604-5144-473E-9C71-D8CC47A6B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74B-00E2-49AC-8F63-98973489E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658-FB53-4B42-87C1-D395C65A83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A21E-BBF2-4B1E-AAD6-DA0538986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03B-AB2F-4019-B7FA-BA3C91E3E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62B-B0A5-4E2B-A79E-653A90F470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B07-7A16-47B5-9891-29CA96F4E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956C-7895-4DF3-A5EE-5594EF241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2E23-FF1A-42BE-8724-073723F23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5BA8-C6CC-498A-96C4-8E482904E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213-7B31-4378-9121-40A4132BE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411-D21C-4CD1-AB85-509BEA122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3FE-1F3A-489E-974F-29C836BC0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B262-73A8-4449-AE60-BF47B5CE1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F32E-DC6C-4780-9BF7-2F76AA42E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F80-762B-4613-B858-621068B9E1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8CD3-EE12-4954-AD56-149593748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192-EBD6-491C-96ED-13ABF8B99B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321-1EEF-4A0F-A88D-3C0B3F8E1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643-47FD-4669-8F2D-5230F70799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A0C4-2727-42B2-B1D5-4F840B1848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1609-4094-4189-B6BE-C10740A4A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CA1-968D-464D-9A33-0BFBCB786C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C43-D06C-4B77-ABBC-B55BFA3A0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114-CC14-49D6-BFE5-78D7150E4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826-F546-42FA-9189-2918704B6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AF2-B8D2-4754-8538-EBA3D925F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5CF5-0990-48C6-B9F0-46F998C94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318-720E-4E5C-87D5-F90E97729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40C3-6501-4BAF-884E-896C7A8732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9280" y="2104920"/>
            <a:ext cx="8632800" cy="96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190600" y="3691080"/>
            <a:ext cx="47628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933480" y="3743280"/>
            <a:ext cx="7277040" cy="213372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2232" descr=""/>
          <p:cNvPicPr/>
          <p:nvPr/>
        </p:nvPicPr>
        <p:blipFill>
          <a:blip r:embed="rId2"/>
          <a:stretch/>
        </p:blipFill>
        <p:spPr>
          <a:xfrm>
            <a:off x="490680" y="1036800"/>
            <a:ext cx="8162640" cy="22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557600" y="1557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8115480" y="1557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917960" y="2205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815832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3247920" y="422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7581960" y="42642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3780000" y="489744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7178760" y="4869000"/>
            <a:ext cx="792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1440" y="836640"/>
            <a:ext cx="8601120" cy="540072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1233360" y="3067200"/>
            <a:ext cx="76201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62040" y="1114560"/>
            <a:ext cx="7819920" cy="4628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3649680" y="1341360"/>
            <a:ext cx="180036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681520" y="188748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4932360" y="351468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2124000" y="4005360"/>
            <a:ext cx="432000" cy="506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5508720" y="4019400"/>
            <a:ext cx="136836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1763640" y="4565520"/>
            <a:ext cx="136836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6588000" y="4581360"/>
            <a:ext cx="5763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1042920" y="5127480"/>
            <a:ext cx="129708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0"/>
          <a:stretch/>
        </p:blipFill>
        <p:spPr>
          <a:xfrm>
            <a:off x="3521160" y="5084640"/>
            <a:ext cx="57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281160" y="1652760"/>
            <a:ext cx="8581680" cy="3552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195640" y="4581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732720" y="31845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266760" y="689040"/>
            <a:ext cx="8610480" cy="6124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513160" y="576252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419640" y="5805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313160" y="5805360"/>
            <a:ext cx="7923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235480" y="5805360"/>
            <a:ext cx="79236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6156360" y="5805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7050240" y="5805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7942320" y="5805360"/>
            <a:ext cx="792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204840" y="790560"/>
            <a:ext cx="87343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961920" y="669960"/>
            <a:ext cx="7220160" cy="61437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332000" y="135576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6696360" cy="506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1258920" y="275112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189080" y="420840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1044720" y="491328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1116000" y="5603760"/>
            <a:ext cx="669600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1116000" y="6323040"/>
            <a:ext cx="669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266760" y="847800"/>
            <a:ext cx="86104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1833480" y="2028960"/>
            <a:ext cx="5477040" cy="2800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835280" y="2031840"/>
            <a:ext cx="468144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763640" y="2781360"/>
            <a:ext cx="468144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835280" y="3457440"/>
            <a:ext cx="5903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1763640" y="4206960"/>
            <a:ext cx="5904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4:4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