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096-8B4C-471A-A9A2-9DBDF404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202-DB32-402E-A349-A49772FD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8FF3D-D6B1-4DE5-B662-F2A156D3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E0A6F-D358-4E40-AB8C-0EB29E89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A1D24-5652-48A6-8B30-3487220D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0E81F-F394-4471-91E8-56D0663B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849FD-1912-414B-900D-D3C6E8D5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7FD7D-F75A-45CC-B21D-27E54C6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FB9EF-1BC0-4172-93F0-62D14058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CE2DE-15F5-4245-ADCD-904245E5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CFB73-3CC9-44C6-BB1E-D276127C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E0326-059A-46DD-8B6E-255C1332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CE7-7B19-4DDF-80B9-1803263B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8D8ED-5194-48E7-8A6D-F9CD032B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D1FF5-7AA8-4A47-993B-4360E227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024F5-A915-486A-88AC-0E41FA7B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5CC57-3C8D-4164-B394-3DFCCB79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A15E0-BAFA-41C8-A94B-29DB9694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299AE-3418-4245-9BDF-8DDF27E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E9EE6-6E9D-4124-B5EE-A6D4D4B3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0B4F1-EAB1-4E21-9357-B662E3BA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F47CE-D838-437D-844B-15E447D1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89650-0F96-433C-A5E4-C7A598E3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6E4-EC56-4EA4-A630-4310D160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A1625-6C73-474E-9556-76D53F18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AF63D-2D05-492E-A36E-27D36355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187ED-D659-4DEC-833E-74AAE49C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7E7E8-5050-4EB6-A47C-9A2216B0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99F50-F21E-40A1-B3B4-896D79D8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9CA1F-281E-4ABE-9116-38E3F28A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224CB-0A45-449A-BB0F-AC2378C7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8F49E-9BCB-466D-9156-01F3668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497DE-CE55-4AF5-9A69-899621CB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2911-FD90-4280-A8F6-CF219D2F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111D-9381-439A-A728-10C0146A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E0646-7B32-459E-A1DD-B689FC68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FB26D-4957-43B4-8D0E-1F6A3414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1FF3E-7FF3-4B8E-90B4-63F07B8E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35B3F-3A55-4514-A3A3-481755F3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3B0F8-9A1D-4D45-ABF4-2C83AB62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AC39F-B6D2-42BB-AC35-C123052D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6AAE3-1F84-4AFA-B881-FB996127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BA3B5-BFF3-4687-89E6-317E4D53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8D8E5-084F-4753-B5CD-180099F9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D7BFC-A3CC-4BC7-88E5-838A066A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8E74-60DE-4F5C-85EA-EF89F52E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7830F-BFE6-4F47-B94E-8AF382E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BBCAF-8B78-4378-B0B1-2D5632E9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0B218-C7B2-460F-B300-9E49526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1585D-83A3-4EEF-92F3-F672851E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E767F-4B79-4A43-89D9-8FCE1D1F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99CD6-D163-4C37-8F27-684D8CBC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13655-C15A-4C34-841D-2241B78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7A977-B92C-407E-9BF0-75529220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DDAA0-2370-401D-8AE5-F9CC4BD9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16F78-0617-4557-9118-A5856036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9074-A0D5-4F63-9059-8BA8FE35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E7752-8A61-4C73-B526-4334A30E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FC16A-A7B4-4A02-B9D0-B0155D1B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B1EE8-3A2F-4C46-BA50-9199E15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5849D-570F-414C-9D96-6708D196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4CDD7-22B7-4CF9-BE1C-51DF3CB3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9B093-B0E5-4F36-A258-E1AA3A5E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EB53D-CCEF-4C49-B270-50B14148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34371-60B7-45E2-8030-6AC4A31D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76D58-A8A0-4279-9C63-7BCD300A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34CC8-B79E-4625-B961-E7DE523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1D3E-8A1F-46E5-B0AC-F771E13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B5B1C-3851-4727-88D2-AEDDE5BE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25C03-C619-42B9-BE29-A9EC8E20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A2FEA-E886-4466-8801-E654ACB3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6410C-0CF0-4126-84BF-59AB40C4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C95A0-5EDA-4814-B733-18AE664A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F9960-8E17-484C-9131-F564D77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A6C75-0E34-445B-854C-1A9700A9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7FE37-507D-4830-B44C-39FFC637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6A241-A289-4584-A055-ABD7CF96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3ECDD-63CE-4799-BC1E-07BEC9C4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0DA4-00A9-4AE4-98D8-4F5E5359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F7EA0-2FFF-4193-9637-5D4D28CE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6BC2A-1C70-4CE1-9B1B-E3F32AE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82A92-4D02-4A5B-9F4C-ED48308D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C3829-F077-4362-B3F4-F71D0E32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0A09E-5742-49C2-B16A-8ED54DA6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DD7F3-7268-4F2E-BD13-87686962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11D2D-85B2-4D09-A5DB-F57C7C77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3FD4C-F46D-4540-A17E-6132856A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7459A-9CD4-4E59-90B6-ABB5E87D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7DEED-9CE6-49A3-83CE-9B390F8A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56D8-A658-4E48-9EEE-DA7A3926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C060F-610D-454F-805E-B417622D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60C3D-317E-43CC-A64F-7523293C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9F5DC-CF9B-4767-8D8C-65959821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7218F-4150-415D-8431-92B4EE7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41A5B1-437B-46F8-B939-769FCDAA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D76B0-EE19-4F9E-BC9B-6C57846F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EF0C3-4435-47E7-84EA-45222DF1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0B224-5A91-4989-B0EB-33E9579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F4E76-7FA8-47EA-B2F3-9975AEDC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0B1AB-161E-4744-B765-C95D5ECB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3330-7446-42EC-8647-9F7E05D8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C4A78-DBC3-4D90-B7AF-3CD261F7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39A0A-DDAA-4EE8-BE2F-A75043F3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856F8-9EE9-4C9A-ACDA-74D87D76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5ADA6-D83C-4AF2-B4BF-ABA14838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B7659-F49E-4B93-8483-14B89467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EAEDA-ABC8-4811-931F-E239D4F4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385CA-30C9-4DAD-A057-7A0EE1DD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20A56-76E6-4516-B40E-5CCDD271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2097B-47B3-4F8E-9AE8-D1F2F819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4ACC0-401D-4775-A033-4BB82E5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0E4-79B9-46A0-BAD5-52F306F9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6817-FF71-4166-B4A0-2F38CC44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06830-466B-4C3C-8E30-CF01D7E6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E4310-AFDB-451D-AA53-E1C9E3AE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3A385-4E39-4514-81CC-415F377E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A5312-0B94-4FC5-A59D-EED809ED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04C73-1A65-4E15-A99A-8B6BCFDB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9871D-B4F7-4C94-BE09-D707A873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73238-CC7E-408B-90B2-DE2D4DBE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F533F-2B11-4FCE-87A4-A1E26F15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36006-2D20-49C9-AB5D-BF127657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91962-7E53-42E3-BFF9-A740FCA1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FE49-531D-493C-8200-D5AC40D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1126B-2211-4901-8C4C-2F312DC9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A42C84-59DC-4F63-BDF5-AE419EE5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38FBE-AB20-41F1-AD6C-D34326F4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76867-6F07-4AE1-8DBD-8800908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6218C-A35A-405D-87BF-36EE9927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A881C9-5AC0-4EFC-A41B-9749A389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73431-F70E-4B2B-A3CE-4ADD7D9B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64B217-ED22-45C8-B1C6-E7E9C16A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91B88A-7796-4450-8045-10046E3A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798B8-5EFF-46C3-8671-3B124D8D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E6FF-BBE9-4099-8D90-61772B66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4A8E5-D628-4BD3-814F-71046B88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59051-79F1-4169-85B2-B99F691E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AA23A-C879-47DE-A05F-201C0702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EA0F9-2860-4405-97BB-2AB4F18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A3052-6821-4404-9D69-96581AC5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010BA-0FBE-4925-8EF6-9041752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1BCAC-48A1-43CC-BA39-DDEDC286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D3E6B-22FB-4964-BD3D-C2094A4D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4F356-94CD-4A0A-A69D-52D2846A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51000-70F6-446F-939A-6CFA8910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7A7A-0786-4842-A82A-93478CE7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6FBDE-020A-4725-9546-CF758473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2C25D-4BD5-4425-A678-0840A74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33A0D-8290-4598-BAB9-31FB8DC7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68C59F-711B-43CF-98C5-D698D57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30910C-7FFD-4335-B60C-9D281044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DB79F-6440-4646-A905-60E5F02A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FA8B22-6626-4F0C-ACB6-ABE39505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BA6F4-18E3-4533-A679-FEB132AC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C5A74-D041-4941-A861-B7C9546F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DB475-D5D1-497C-8BF7-BD530C37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C770-1676-47E6-AA81-BB27708B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3A4937-5A7B-4174-8408-7238E4D2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2723FC-1984-4094-B31D-102B9393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0EE4B-0EEA-4EA7-9AF3-2DB79D70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F09960-0B79-413D-A216-36EEABE0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54112-73C4-44E1-B185-B9546E44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C5A4B-5E46-47ED-A3BF-E5286326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E07C8-C76B-41D7-B9B7-83E501DE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8E8AA4-AD9A-45CB-8C04-B473407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FAC65D-4D01-4445-AF00-305D58C2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97B13-9096-412F-BC19-6622C2FB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234F-F3B7-4B39-A4B3-7728EE27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8F18D-54A8-42CB-B48E-16799C08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6A776A-60BE-4142-94C8-8B26720A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872AF8-C399-47E6-8FBB-24213580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93931-C8C9-4B2C-B515-D49E3627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839FB1-05A5-43EC-95EB-41AC1AF8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FBA157-2DB3-4E31-8240-76EFC47F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816287-51FA-4CE7-B029-6B56C2C8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604239-2D2E-4119-823F-D179E89F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E4716A-F468-4C45-8BA3-E767420E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88F3B-310C-4139-BE19-92198E7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CB2C-7CC8-4A95-A682-F850EDCD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7FEF59-0673-4DA6-A656-9D0ADDE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0A9854-DBF1-4274-82F3-778BA817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294223-3C8A-4CA8-B231-D11E91C4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41646A-3283-471F-A870-2410AA11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5D4455-7AE5-417C-BEE8-5296355B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18DE41-F7A6-4E9F-AF54-5E502D09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486075-1D31-4EC5-B60F-BBDBB004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369FD8-3B00-46BC-A0A1-7DF551EE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E64539-66DE-47C1-954B-27380BBC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F59FA7-7AC1-4F10-B90B-9B5D7925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B3BE-2983-4A05-B197-460A227E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29C969-5D74-4F8B-A734-6371F5A4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02F920-9A56-4038-9B1B-DF21C528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87669E-CC26-460D-8D6E-3965148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557C1-94DC-4FAE-BF26-64F8ECD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3C4522-E8D6-4212-8308-366A7330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C207E1-74B7-43EA-ADF4-FB6C6BFE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6449D1-A675-48E9-8629-2B1A5A93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2983-36C6-415B-BC43-017E5D80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2A10-4DB1-4C72-9EFC-471131E9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C0B-0C3B-437B-B81C-86E5034D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27AE-2B41-4CA6-97F5-14D752F1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7D92-05A0-419C-8369-28F2226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C335-15A6-40C8-99BA-A5C0F1C5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178B-E113-4804-8A4F-1E190E9E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7F0B-5E72-49C8-A334-E01994F9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90A0-A4BE-4B84-97BD-1C58CB30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B1E0-E9FC-49EE-9D26-7B2EECE1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CEA67-3EDD-47A3-81E2-C7CA09E6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DF48-BE4A-4435-9329-F4015014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D364-B6A1-4A2E-9B3F-90771ED2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20D-E32A-430F-98B9-5E240B3D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4382B-C568-47A3-BE95-9121F53E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38819-6BA8-4924-AB64-38E66432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136C-F8FA-4227-843B-4A77A62C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5F17-B687-4156-BA98-310174C1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892B5-A039-4C5A-A58E-9E6517C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60EA-9878-4E80-8952-74FDEBBC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7EBD-FF27-4EA2-AAA5-C5C02171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DBBA-9DA8-4E4C-94E5-4609D100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FEE8-541A-4414-993B-C986E6D8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92FB-0DCD-4F6F-8729-332D5EB9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EC3-2874-402F-9B54-5916BFCD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0D3B9-94C2-40FA-87F4-A33673F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976C5-AC86-4ABF-865A-41AF2054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BB65-0A04-465D-95F0-5B945244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5997B-BE29-4F4B-9F12-E2D9DE74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A4E0-582D-47EB-9899-AD09B41D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9A67-B038-459D-A65F-58ECA4DF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2C6C4-401E-4FDF-B98A-D8F441E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B51D5-F419-4E3A-A6AA-88336344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E71EF-FD31-4DB0-BF72-7A23FC6D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0DB1-0360-47EA-880D-D7E81794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82D-C43E-449C-BEB4-2D1B2CA6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AF809-CA3F-4D38-B95C-A0110B71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D747-8B8F-4383-8195-08C05D17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1DC05-59BC-4107-94C8-6015CCA0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F1EEA-F52D-4B7C-9BE6-8463B859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C7BC-6E2C-4AF4-B7F9-72DC1751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3242-F5C2-4268-B012-91A568AA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B861F-41C0-4822-AC8F-09E11AF4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55858-F6BD-465E-98EA-397B7F5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1923-5C22-45E9-B836-D9805F6E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F7941-E169-4FC9-9D4A-5AFDE874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255-91AC-450A-A8E7-2CF1A7D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AE83E-EE62-413C-B3B0-B7E40C5F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017AE-384C-4368-88EC-2BF1E386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F5907-BC82-449A-9C9D-5C639CC6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6ECB-A00B-4E22-92B1-E97C0EAC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D3043-BD3B-4477-9944-39208675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D7E6C-3679-4BE2-93E3-1F7A5F35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96F0-190C-44C6-9EC2-23079231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D4B25-715F-4D0E-8E7D-89884D50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E906-BB07-4392-B079-E9CCF4B3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7BC5B-16E0-4C16-96E4-28C6B6E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2A9-5080-4C3C-B35A-E4A562B1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70F48-E03A-4945-B4D9-98A46F25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B9C4-AEF5-488D-AFEB-B1B41CC3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210A0-285E-4D57-BB04-B739093A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1E549-AF40-4B15-985B-6F59170D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132A0-E47B-4A2E-BF72-02CC984D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4F41-6B91-4117-9EF8-2A51A615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A66B4-B2C6-497A-A2D2-847A051A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F5208-4221-483A-B2B9-3F02040F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0722-5C65-4491-AC98-179A2FDE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58396-3A3C-48A8-BA17-574CF6DD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214-3D6C-436D-9846-43651AC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712BA-DF42-4E84-B672-2142B4A4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A5E61-F354-48EB-90F6-0E1A865E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A61B4-69C2-4E77-8E35-EDBFC92C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01441-41C8-47D6-BA19-AEC2ACA8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BFC9D-A70E-4E28-8AA9-357853B1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838D1-C289-4792-B213-C76E4252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CB1FD-CA1D-4592-9190-3AFB8F7B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C83C0-7D4F-4CEF-8A1E-9C7DD8C4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B6E3A-C1F5-4E35-AC60-09ACF195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25428-3F6C-44F9-8346-F433692C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0770-D2E9-4830-8D89-3B742AAC57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DA89-D0F0-4B37-A039-144CC3DC01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C668-74CE-4EF0-A60B-C6090285B4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B5D5-ED80-4D62-91BA-F06521FF3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326-DF03-4681-99FE-38F1868A3F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35F-D92C-4B35-BF4D-DB0D263FF7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22F1-8645-460E-B52F-DEBE9A2EF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F66F-33B1-4D45-870C-34C41C50F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DEC2-082D-4607-9782-7902A66EA7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2343-B4AE-43C4-9BFD-DB3902F5ED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D153-7E1C-4CC6-8683-6DB3E96729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3785-1E0F-4A30-9878-1C0E38A33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B979-256A-482F-A9DF-B63ECDA8F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87A0-B3B1-49EE-B927-C4A012629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424F-97C5-41B9-8275-0280999AE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C600-1FD7-4769-A70E-5DC5AD8E54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B930-2B5B-472B-9647-9B41A5FE9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FB14-A2E4-44D4-8BEE-73E4B8A607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19F2-584A-4C0B-9819-3FB884234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0B2B-4CFC-4ABC-95DC-A38E42682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2A2B-62DA-4FEE-B31F-EA004623D7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A52E-8563-47E3-8F3F-18199F9384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9F2A-2EEE-4CC6-B0AB-279BC8D0C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2A6-CEDC-4629-92B1-D12B3811A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B11A-1F04-4136-A2D0-09D0462F8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B4A-AA24-43AC-8AB9-94FAB03E8B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8A2B-6AB2-4BED-B384-9BD5FFFED0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0623-357D-497D-A5C8-F99AD1102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252F-0B14-4F48-8EB9-60C16CCD8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274E-E9E5-4511-8BD0-FC6D71F21A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CDE1-0428-4651-AA9C-7061998640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7AD6-E21C-46DA-B1F7-D01D30979A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E883-FB13-40E5-B8A7-E8901FA2CB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9003-EC41-455A-8BA0-571D097F8A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D1CE-0286-48A2-A8EE-6F1407C0B5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7B32-3902-4959-9B2A-0239A6323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1160-E4AF-45E8-B77A-4FC748B91F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E652-F785-40D5-89AC-D86BB08F57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BDF6-AD23-4FBA-AD76-F426741F1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1284-5032-4AE8-92E1-30818A624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22FE-1197-4249-B95F-136EE692B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B256-7AA8-4CCF-9A8E-21F7CD2F69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0360" y="2676600"/>
            <a:ext cx="8961480" cy="255276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708360" y="981000"/>
            <a:ext cx="1762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图片 1" descr=""/>
          <p:cNvPicPr/>
          <p:nvPr/>
        </p:nvPicPr>
        <p:blipFill>
          <a:blip r:embed="rId1"/>
          <a:stretch/>
        </p:blipFill>
        <p:spPr>
          <a:xfrm>
            <a:off x="23760" y="1047600"/>
            <a:ext cx="9094680" cy="476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3"/>
          <a:stretch/>
        </p:blipFill>
        <p:spPr>
          <a:xfrm>
            <a:off x="324000" y="227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5"/>
          <a:stretch/>
        </p:blipFill>
        <p:spPr>
          <a:xfrm>
            <a:off x="324000" y="4653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图片 1" descr=""/>
          <p:cNvPicPr/>
          <p:nvPr/>
        </p:nvPicPr>
        <p:blipFill>
          <a:blip r:embed="rId1"/>
          <a:stretch/>
        </p:blipFill>
        <p:spPr>
          <a:xfrm>
            <a:off x="66600" y="852480"/>
            <a:ext cx="90108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图片 1" descr=""/>
          <p:cNvPicPr/>
          <p:nvPr/>
        </p:nvPicPr>
        <p:blipFill>
          <a:blip r:embed="rId1"/>
          <a:stretch/>
        </p:blipFill>
        <p:spPr>
          <a:xfrm>
            <a:off x="366840" y="1428840"/>
            <a:ext cx="8408880" cy="400032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4"/>
          <a:stretch/>
        </p:blipFill>
        <p:spPr>
          <a:xfrm>
            <a:off x="611280" y="220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5"/>
          <a:stretch/>
        </p:blipFill>
        <p:spPr>
          <a:xfrm>
            <a:off x="611280" y="26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6"/>
          <a:stretch/>
        </p:blipFill>
        <p:spPr>
          <a:xfrm>
            <a:off x="611280" y="2997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7"/>
          <a:stretch/>
        </p:blipFill>
        <p:spPr>
          <a:xfrm>
            <a:off x="61128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8"/>
          <a:stretch/>
        </p:blipFill>
        <p:spPr>
          <a:xfrm>
            <a:off x="684360" y="3860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9"/>
          <a:stretch/>
        </p:blipFill>
        <p:spPr>
          <a:xfrm>
            <a:off x="684360" y="4221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10"/>
          <a:stretch/>
        </p:blipFill>
        <p:spPr>
          <a:xfrm>
            <a:off x="611280" y="4581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" descr=""/>
          <p:cNvPicPr/>
          <p:nvPr/>
        </p:nvPicPr>
        <p:blipFill>
          <a:blip r:embed="rId11"/>
          <a:stretch/>
        </p:blipFill>
        <p:spPr>
          <a:xfrm>
            <a:off x="611280" y="501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52560" y="1604880"/>
            <a:ext cx="90374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图片 1" descr=""/>
          <p:cNvPicPr/>
          <p:nvPr/>
        </p:nvPicPr>
        <p:blipFill>
          <a:blip r:embed="rId1"/>
          <a:stretch/>
        </p:blipFill>
        <p:spPr>
          <a:xfrm>
            <a:off x="133200" y="762120"/>
            <a:ext cx="8982360" cy="533376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5"/>
          <a:stretch/>
        </p:blipFill>
        <p:spPr>
          <a:xfrm>
            <a:off x="539640" y="486900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图片 1" descr=""/>
          <p:cNvPicPr/>
          <p:nvPr/>
        </p:nvPicPr>
        <p:blipFill>
          <a:blip r:embed="rId1"/>
          <a:stretch/>
        </p:blipFill>
        <p:spPr>
          <a:xfrm>
            <a:off x="438120" y="3052800"/>
            <a:ext cx="8267760" cy="75240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1" descr=""/>
          <p:cNvPicPr/>
          <p:nvPr/>
        </p:nvPicPr>
        <p:blipFill>
          <a:blip r:embed="rId1"/>
          <a:stretch/>
        </p:blipFill>
        <p:spPr>
          <a:xfrm>
            <a:off x="104760" y="774720"/>
            <a:ext cx="8934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图片 1" descr=""/>
          <p:cNvPicPr/>
          <p:nvPr/>
        </p:nvPicPr>
        <p:blipFill>
          <a:blip r:embed="rId1"/>
          <a:stretch/>
        </p:blipFill>
        <p:spPr>
          <a:xfrm>
            <a:off x="95400" y="306360"/>
            <a:ext cx="8953200" cy="645804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5"/>
          <a:stretch/>
        </p:blipFill>
        <p:spPr>
          <a:xfrm>
            <a:off x="468360" y="4797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图片 1" descr=""/>
          <p:cNvPicPr/>
          <p:nvPr/>
        </p:nvPicPr>
        <p:blipFill>
          <a:blip r:embed="rId1"/>
          <a:stretch/>
        </p:blipFill>
        <p:spPr>
          <a:xfrm>
            <a:off x="612720" y="1762200"/>
            <a:ext cx="6562800" cy="129528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2" descr=""/>
          <p:cNvPicPr/>
          <p:nvPr/>
        </p:nvPicPr>
        <p:blipFill>
          <a:blip r:embed="rId2"/>
          <a:stretch/>
        </p:blipFill>
        <p:spPr>
          <a:xfrm>
            <a:off x="1830240" y="2900520"/>
            <a:ext cx="5276880" cy="82836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1" descr=""/>
          <p:cNvPicPr/>
          <p:nvPr/>
        </p:nvPicPr>
        <p:blipFill>
          <a:blip r:embed="rId3"/>
          <a:stretch/>
        </p:blipFill>
        <p:spPr>
          <a:xfrm>
            <a:off x="826920" y="17733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图片 1" descr=""/>
          <p:cNvPicPr/>
          <p:nvPr/>
        </p:nvPicPr>
        <p:blipFill>
          <a:blip r:embed="rId1"/>
          <a:stretch/>
        </p:blipFill>
        <p:spPr>
          <a:xfrm>
            <a:off x="100080" y="833400"/>
            <a:ext cx="8942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66680" y="776160"/>
            <a:ext cx="2751120" cy="6001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166680" y="1376280"/>
            <a:ext cx="8809200" cy="51530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2484360" y="61070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4211640" y="61070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5796000" y="6110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7596360" y="61070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图片 1" descr=""/>
          <p:cNvPicPr/>
          <p:nvPr/>
        </p:nvPicPr>
        <p:blipFill>
          <a:blip r:embed="rId1"/>
          <a:stretch/>
        </p:blipFill>
        <p:spPr>
          <a:xfrm>
            <a:off x="533520" y="1957320"/>
            <a:ext cx="8076960" cy="294336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3"/>
          <a:stretch/>
        </p:blipFill>
        <p:spPr>
          <a:xfrm>
            <a:off x="2843280" y="44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4"/>
          <a:stretch/>
        </p:blipFill>
        <p:spPr>
          <a:xfrm>
            <a:off x="4356000" y="4437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5"/>
          <a:stretch/>
        </p:blipFill>
        <p:spPr>
          <a:xfrm>
            <a:off x="5940360" y="44798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" descr=""/>
          <p:cNvPicPr/>
          <p:nvPr/>
        </p:nvPicPr>
        <p:blipFill>
          <a:blip r:embed="rId6"/>
          <a:stretch/>
        </p:blipFill>
        <p:spPr>
          <a:xfrm>
            <a:off x="7539120" y="44514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图片 1" descr=""/>
          <p:cNvPicPr/>
          <p:nvPr/>
        </p:nvPicPr>
        <p:blipFill>
          <a:blip r:embed="rId1"/>
          <a:stretch/>
        </p:blipFill>
        <p:spPr>
          <a:xfrm>
            <a:off x="414360" y="2019240"/>
            <a:ext cx="8313840" cy="281952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2"/>
          <a:stretch/>
        </p:blipFill>
        <p:spPr>
          <a:xfrm>
            <a:off x="1908000" y="280980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3"/>
          <a:stretch/>
        </p:blipFill>
        <p:spPr>
          <a:xfrm>
            <a:off x="2873520" y="321300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4"/>
          <a:stretch/>
        </p:blipFill>
        <p:spPr>
          <a:xfrm>
            <a:off x="5508720" y="3616200"/>
            <a:ext cx="1079280" cy="349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5"/>
          <a:stretch/>
        </p:blipFill>
        <p:spPr>
          <a:xfrm>
            <a:off x="2700360" y="400536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" descr=""/>
          <p:cNvPicPr/>
          <p:nvPr/>
        </p:nvPicPr>
        <p:blipFill>
          <a:blip r:embed="rId6"/>
          <a:stretch/>
        </p:blipFill>
        <p:spPr>
          <a:xfrm>
            <a:off x="5033880" y="4422600"/>
            <a:ext cx="115092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图片 1" descr=""/>
          <p:cNvPicPr/>
          <p:nvPr/>
        </p:nvPicPr>
        <p:blipFill>
          <a:blip r:embed="rId1"/>
          <a:stretch/>
        </p:blipFill>
        <p:spPr>
          <a:xfrm>
            <a:off x="466560" y="1214280"/>
            <a:ext cx="8210880" cy="442944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2"/>
          <a:stretch/>
        </p:blipFill>
        <p:spPr>
          <a:xfrm>
            <a:off x="1979640" y="2017800"/>
            <a:ext cx="2016000" cy="3492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" descr=""/>
          <p:cNvPicPr/>
          <p:nvPr/>
        </p:nvPicPr>
        <p:blipFill>
          <a:blip r:embed="rId3"/>
          <a:stretch/>
        </p:blipFill>
        <p:spPr>
          <a:xfrm>
            <a:off x="2627280" y="2836800"/>
            <a:ext cx="3024360" cy="3492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4"/>
          <a:stretch/>
        </p:blipFill>
        <p:spPr>
          <a:xfrm>
            <a:off x="4067280" y="3630600"/>
            <a:ext cx="1944720" cy="3492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5"/>
          <a:stretch/>
        </p:blipFill>
        <p:spPr>
          <a:xfrm>
            <a:off x="1835280" y="4437000"/>
            <a:ext cx="1008000" cy="34920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" descr=""/>
          <p:cNvPicPr/>
          <p:nvPr/>
        </p:nvPicPr>
        <p:blipFill>
          <a:blip r:embed="rId6"/>
          <a:stretch/>
        </p:blipFill>
        <p:spPr>
          <a:xfrm>
            <a:off x="4427640" y="4422600"/>
            <a:ext cx="649080" cy="34956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" descr=""/>
          <p:cNvPicPr/>
          <p:nvPr/>
        </p:nvPicPr>
        <p:blipFill>
          <a:blip r:embed="rId7"/>
          <a:stretch/>
        </p:blipFill>
        <p:spPr>
          <a:xfrm>
            <a:off x="2484360" y="5257800"/>
            <a:ext cx="23749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图片 1" descr=""/>
          <p:cNvPicPr/>
          <p:nvPr/>
        </p:nvPicPr>
        <p:blipFill>
          <a:blip r:embed="rId1"/>
          <a:stretch/>
        </p:blipFill>
        <p:spPr>
          <a:xfrm>
            <a:off x="123840" y="831960"/>
            <a:ext cx="8896320" cy="3228840"/>
          </a:xfrm>
          <a:prstGeom prst="rect">
            <a:avLst/>
          </a:prstGeom>
          <a:ln w="0">
            <a:noFill/>
          </a:ln>
        </p:spPr>
      </p:pic>
      <p:pic>
        <p:nvPicPr>
          <p:cNvPr id="1204" name="图片 2" descr=""/>
          <p:cNvPicPr/>
          <p:nvPr/>
        </p:nvPicPr>
        <p:blipFill>
          <a:blip r:embed="rId2"/>
          <a:stretch/>
        </p:blipFill>
        <p:spPr>
          <a:xfrm>
            <a:off x="254160" y="4060800"/>
            <a:ext cx="6953040" cy="275292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3"/>
          <a:stretch/>
        </p:blipFill>
        <p:spPr>
          <a:xfrm>
            <a:off x="1258920" y="20178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4"/>
          <a:stretch/>
        </p:blipFill>
        <p:spPr>
          <a:xfrm>
            <a:off x="1835280" y="28386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5"/>
          <a:stretch/>
        </p:blipFill>
        <p:spPr>
          <a:xfrm>
            <a:off x="1403280" y="40338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" descr=""/>
          <p:cNvPicPr/>
          <p:nvPr/>
        </p:nvPicPr>
        <p:blipFill>
          <a:blip r:embed="rId6"/>
          <a:stretch/>
        </p:blipFill>
        <p:spPr>
          <a:xfrm>
            <a:off x="2411280" y="48261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7"/>
          <a:stretch/>
        </p:blipFill>
        <p:spPr>
          <a:xfrm>
            <a:off x="2195640" y="56325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图片 1" descr=""/>
          <p:cNvPicPr/>
          <p:nvPr/>
        </p:nvPicPr>
        <p:blipFill>
          <a:blip r:embed="rId1"/>
          <a:stretch/>
        </p:blipFill>
        <p:spPr>
          <a:xfrm>
            <a:off x="652320" y="1762200"/>
            <a:ext cx="78375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图片 1" descr=""/>
          <p:cNvPicPr/>
          <p:nvPr/>
        </p:nvPicPr>
        <p:blipFill>
          <a:blip r:embed="rId1"/>
          <a:stretch/>
        </p:blipFill>
        <p:spPr>
          <a:xfrm>
            <a:off x="123840" y="838080"/>
            <a:ext cx="8896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图片 1" descr=""/>
          <p:cNvPicPr/>
          <p:nvPr/>
        </p:nvPicPr>
        <p:blipFill>
          <a:blip r:embed="rId1"/>
          <a:stretch/>
        </p:blipFill>
        <p:spPr>
          <a:xfrm>
            <a:off x="347760" y="2643120"/>
            <a:ext cx="8447040" cy="157176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2"/>
          <a:stretch/>
        </p:blipFill>
        <p:spPr>
          <a:xfrm>
            <a:off x="1042920" y="2608200"/>
            <a:ext cx="936720" cy="349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3"/>
          <a:stretch/>
        </p:blipFill>
        <p:spPr>
          <a:xfrm>
            <a:off x="3780000" y="260820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" descr=""/>
          <p:cNvPicPr/>
          <p:nvPr/>
        </p:nvPicPr>
        <p:blipFill>
          <a:blip r:embed="rId4"/>
          <a:stretch/>
        </p:blipFill>
        <p:spPr>
          <a:xfrm>
            <a:off x="7020000" y="260820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5"/>
          <a:stretch/>
        </p:blipFill>
        <p:spPr>
          <a:xfrm>
            <a:off x="1116000" y="3011400"/>
            <a:ext cx="93672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6"/>
          <a:stretch/>
        </p:blipFill>
        <p:spPr>
          <a:xfrm>
            <a:off x="3852720" y="3011400"/>
            <a:ext cx="151308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7"/>
          <a:stretch/>
        </p:blipFill>
        <p:spPr>
          <a:xfrm>
            <a:off x="7093080" y="301140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8"/>
          <a:stretch/>
        </p:blipFill>
        <p:spPr>
          <a:xfrm>
            <a:off x="1042920" y="3400560"/>
            <a:ext cx="936720" cy="34920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" descr=""/>
          <p:cNvPicPr/>
          <p:nvPr/>
        </p:nvPicPr>
        <p:blipFill>
          <a:blip r:embed="rId9"/>
          <a:stretch/>
        </p:blipFill>
        <p:spPr>
          <a:xfrm>
            <a:off x="3780000" y="340056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10"/>
          <a:stretch/>
        </p:blipFill>
        <p:spPr>
          <a:xfrm>
            <a:off x="7020000" y="340056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" descr=""/>
          <p:cNvPicPr/>
          <p:nvPr/>
        </p:nvPicPr>
        <p:blipFill>
          <a:blip r:embed="rId11"/>
          <a:stretch/>
        </p:blipFill>
        <p:spPr>
          <a:xfrm>
            <a:off x="1101600" y="3803760"/>
            <a:ext cx="9367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图片 1" descr=""/>
          <p:cNvPicPr/>
          <p:nvPr/>
        </p:nvPicPr>
        <p:blipFill>
          <a:blip r:embed="rId1"/>
          <a:stretch/>
        </p:blipFill>
        <p:spPr>
          <a:xfrm>
            <a:off x="130320" y="219240"/>
            <a:ext cx="8885160" cy="64195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" descr=""/>
          <p:cNvPicPr/>
          <p:nvPr/>
        </p:nvPicPr>
        <p:blipFill>
          <a:blip r:embed="rId2"/>
          <a:stretch/>
        </p:blipFill>
        <p:spPr>
          <a:xfrm>
            <a:off x="57240" y="4595760"/>
            <a:ext cx="8964360" cy="34920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" descr=""/>
          <p:cNvPicPr/>
          <p:nvPr/>
        </p:nvPicPr>
        <p:blipFill>
          <a:blip r:embed="rId3"/>
          <a:stretch/>
        </p:blipFill>
        <p:spPr>
          <a:xfrm>
            <a:off x="71280" y="499752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" descr=""/>
          <p:cNvPicPr/>
          <p:nvPr/>
        </p:nvPicPr>
        <p:blipFill>
          <a:blip r:embed="rId4"/>
          <a:stretch/>
        </p:blipFill>
        <p:spPr>
          <a:xfrm>
            <a:off x="93600" y="540072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" descr=""/>
          <p:cNvPicPr/>
          <p:nvPr/>
        </p:nvPicPr>
        <p:blipFill>
          <a:blip r:embed="rId5"/>
          <a:stretch/>
        </p:blipFill>
        <p:spPr>
          <a:xfrm>
            <a:off x="71280" y="580248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" descr=""/>
          <p:cNvPicPr/>
          <p:nvPr/>
        </p:nvPicPr>
        <p:blipFill>
          <a:blip r:embed="rId6"/>
          <a:stretch/>
        </p:blipFill>
        <p:spPr>
          <a:xfrm>
            <a:off x="93600" y="6192720"/>
            <a:ext cx="89647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423720" y="1728720"/>
            <a:ext cx="8294760" cy="34005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684360" y="21765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684360" y="429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684360" y="47386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33280" y="1095480"/>
            <a:ext cx="8675640" cy="46670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1128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539640" y="50133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452520" y="2604960"/>
            <a:ext cx="8237520" cy="16480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04760" y="1671480"/>
            <a:ext cx="8934480" cy="3515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1835280" y="3138480"/>
            <a:ext cx="1296720" cy="349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6659640" y="3141720"/>
            <a:ext cx="2016000" cy="349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3995640" y="3730680"/>
            <a:ext cx="187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1562040" y="4451400"/>
            <a:ext cx="1728720" cy="3492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6659640" y="4451400"/>
            <a:ext cx="2016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09440" y="536400"/>
            <a:ext cx="8923320" cy="62866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395280" y="5589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171360" y="730080"/>
            <a:ext cx="8801280" cy="60375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539640" y="55166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图片 1" descr=""/>
          <p:cNvPicPr/>
          <p:nvPr/>
        </p:nvPicPr>
        <p:blipFill>
          <a:blip r:embed="rId1"/>
          <a:stretch/>
        </p:blipFill>
        <p:spPr>
          <a:xfrm>
            <a:off x="142920" y="685800"/>
            <a:ext cx="8858160" cy="3676680"/>
          </a:xfrm>
          <a:prstGeom prst="rect">
            <a:avLst/>
          </a:prstGeom>
          <a:ln w="0">
            <a:noFill/>
          </a:ln>
        </p:spPr>
      </p:pic>
      <p:pic>
        <p:nvPicPr>
          <p:cNvPr id="1145" name="图片 3" descr=""/>
          <p:cNvPicPr/>
          <p:nvPr/>
        </p:nvPicPr>
        <p:blipFill>
          <a:blip r:embed="rId2"/>
          <a:stretch/>
        </p:blipFill>
        <p:spPr>
          <a:xfrm>
            <a:off x="142920" y="4300560"/>
            <a:ext cx="8962920" cy="17240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4"/>
          <a:stretch/>
        </p:blipFill>
        <p:spPr>
          <a:xfrm>
            <a:off x="395280" y="2349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5"/>
          <a:stretch/>
        </p:blipFill>
        <p:spPr>
          <a:xfrm>
            <a:off x="380880" y="47973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6:4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