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B1F2-C004-458D-BA24-C21E5949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2A4B-0F54-471A-9E01-242C0614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54153-7F7B-454C-A946-41F4091C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49B86-A500-4FEF-A502-5D877368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4FA36-389E-468D-A75C-AE2BD036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56758-8FF0-4D73-948C-96B0BB14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93D13-0846-474C-801E-33007AD4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FE9E6-0331-451C-9A49-3CE23FD0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ECE4F-F5F4-4E0F-9C3B-006D28F8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64FC9-DF27-4406-B553-9B386529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2C02F-FD5F-4D1A-965B-AF7C2BC5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331D5-F3A5-426B-B319-90F16EA6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13D0-8B6F-41F3-9631-F0E7DB8E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F2545-E3ED-4B0F-B466-05E20492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A1324-A3DB-40EC-8DC9-A2488569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E7456-2B43-49DB-A911-511CF1E3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CC318-47A2-4395-A0E0-A29028F6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4FEC1-2381-4C84-B1E2-D960D9DF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76894-9200-497A-BCD5-B89AAB0B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D269C-E9CA-4BB6-93DC-56E4DE33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6CEAE-B7BA-47E4-AAEB-9358EDF6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817C2-8058-4E1D-9FE1-A2FFCE51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36B83-6492-4734-814A-EAF92CF0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822-E1BD-461C-92AB-FF877EF0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5E251-4BA4-42A5-B61D-192BEA89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1482E-8F8F-4700-B72A-9B0900B1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18311-651E-4339-A0C4-42ADB618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057F5-5D31-4085-84D6-E5B1FAE2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35D8A-B77A-417E-9BB4-AA35235C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2F4B1-1269-4604-9C8C-3BB60660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BEA09-6043-40C6-8C83-7C80995E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4A37F-C088-4C9B-8AA0-2A27E413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4A8C2-71AC-41D5-8F79-631CF3A9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80B27-A4B9-4057-9F5C-9072E922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656D-119B-4FFA-9C21-6F10E9A9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EA63E-5F29-4857-A15D-5EAF9EEB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9CF06-6CCB-4296-A67B-3620A23F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03107-AE48-4A59-ABD2-039D9C23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1235F-A310-4582-B262-4C47EB0C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306B5-5B34-443A-9BE9-40E3BBAC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310DC-D83E-4AC1-AD93-208CFE08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E55B2-831C-4C25-A8D8-C7A68475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E40AA-9186-42E2-9A68-88BC36C7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43099-F4AC-4742-B25E-0A302366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054F3-0F46-4E31-8FA1-6C096E5B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0BB0-1B1A-4FF1-9D2A-3F274155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5DDD5-B032-4506-A2E3-E2563375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021D2-A776-4F11-88C7-E276DA7A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CFCCE-432F-46E4-9569-5628A36F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B5F5C-5697-4F93-B6DC-B180AD46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EEE2D-1236-4887-9E96-29C9B159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5D0EBA-37BF-4B08-A61B-D25F6365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0928E1-E5EF-432C-8C40-A2BFE2ED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88F1CE-73D7-4A8F-8470-F1DA57D4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ED236-F8EC-4377-9D98-A25914EA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78A24-2FAC-4153-AE0A-CB83F9AF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9AE7-A120-4412-89D4-77833F41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CFA95-4A66-419A-A994-DBC1A36D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1D24E0-67C2-437A-B231-D93A59B8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611C07-A4DC-418E-AF01-9996FD06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1382F-A347-4506-A608-A11DA684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B70B18-5409-4725-9194-B8773302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935D96-D56C-43D3-A01F-F8B7796C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BC595-AF11-43E6-9340-2970C2D1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337E14-BA99-4107-BCCC-B72EF267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12D450-BD15-4FE9-8D96-DD18031C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F2D08D-D59F-457E-ACE3-E380DB1E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5EBE-05F2-4015-A5E5-35FC9E62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415FEA-EA81-4733-84B0-79FE19AA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2FEB6-3328-4088-B7BA-82E4CCC4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B140A7-0327-4421-9F2C-91DE3C0F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9EBC9D-D1A6-4659-9671-7907F683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EF03DA-1FE8-4E2C-B362-937457B1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21B7B9-5FBE-4033-8E9F-CFF4DD8B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D64578-4414-4CE7-A175-5A4A7BC3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A1AD86-6870-4EF5-9453-C6D43B31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6A5E9D-A08E-4E92-A9F6-42C8C48C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6ED879-2950-45F6-AB7C-59233104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CF9B-AF54-4D67-95BD-B2893A5C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A47D2A-F9ED-4F6C-84EA-E5CB5BB7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FF3C0F-BCC0-4E6F-914D-561ACC03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ACDEAB-960D-4FFB-8BB9-3DDFE8DA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61E0EF-9847-4336-9DEC-1876232E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777487-C041-4A62-B1C8-033D0526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ADD5EB-4E44-4DFD-892E-F1A95EF4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13E6B9-925B-44F0-9C43-F1E7F7E7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013D01-0433-40FB-8BDD-26F6F9C9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EBEE0E-C8EF-4B1E-AA35-A2EDD7BF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27B5FF-285F-41EE-9169-F551D4C4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FECF-74B2-4567-B50F-D1232421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8AECCD-8B40-487B-8C11-64AD9DE3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D2744E-F797-4659-BB15-25CE22E7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69AED1-2F8A-4FF3-B986-E19DFD7D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149107-0001-48D1-B7C1-85B66B30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5207B6-673A-4A7F-B947-6C0AEC09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9D1D44-864B-4CC9-A46C-115E24EC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842391-87A0-4D60-8C7B-760EC199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E88798-0CD5-4AA9-ABF0-C40785B9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BC581A-E230-4CB2-AE79-9843CAF5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C6C16A-D2E0-41EC-9299-CAEC6365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52D5-3C34-4EDB-890C-8B1867F3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FF4902-C2C1-4DF9-AF1F-10759CBE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F4978C-0EAB-49F7-996D-0D37D138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7F91CB-FD26-47D8-898D-364DB419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8D3DF9-2588-4FD1-B1DF-2574178F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46FD36-37D8-43AE-8B62-58070FE0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22902E-B0AE-45B6-81C7-AA23FA58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E992B7-315A-4EFB-A265-C033925E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82AD2F-6815-4EEB-A28C-8445896E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1625B3-ECA7-465E-B1C0-E805875C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BC4E00-118B-4D5D-A018-2308F84A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9994-B031-4D98-B0AA-619FF25C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B477-BE67-4A82-8B2E-188A0E4F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A1E583-BA1D-40A7-938A-937ED109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AB1711-BBC7-4BA5-9459-16BE5706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1E85D8-E932-4ECD-8BD1-F91BF435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973B94-F967-4620-9AFD-6A6E8F94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8108C8-A6F4-49E3-8036-4EAB5F6B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2C02C0-BA1F-4703-9606-14BA810B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2C3821-AACF-483C-B90E-903E15DA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E3BAD8-F800-4BBE-B767-88F13155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EFB4CF-F890-466D-B93C-30CE1DA5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2EDE95-C1FC-4CCE-9439-C4F7A37F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34B9-5591-4B7F-B80F-9945E1F0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8855D4-87CB-4EAC-B52B-38BA5A50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B46CEA-3E4F-47D4-944C-8006AE7E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C7D37C-1D00-4D5E-8F95-3BE43098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DB171C-7FA1-4F1E-AAF5-0966F492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88645F-55E8-4AB3-A7F6-0DA0540B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456707-265D-4981-947A-B25FE764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412F0F-B790-46FA-8477-FC480459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2D7A7F-E72E-4B8F-BEBC-30BF82A0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99E482-1740-4A20-A4D0-1C517C7D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0056B8-35E9-40AB-A17E-70E66089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D731-BBD4-4E78-987C-F24C6BF4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E0AB69-49DF-4071-ACF6-A854311A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F565CC-229A-4F92-B1A0-41540D72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57456B-C6F0-4978-9A29-74FD2811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BC441D-0E66-4A69-A51F-77A84F9A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2F6A9D-9AC5-4333-AD47-D01EE3A3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D3A936-42CE-4A1C-9DB4-2AEECD01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5DAAE1-F2A7-4FB6-B91A-B1224777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7F9499-F13B-4186-8F92-0D224262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BE138D-FDE1-411F-8658-62C4CE03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B01A24-EBA5-4D85-A5A9-A67CF847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F3EB-9AC4-43D4-A302-2C846E6D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F83EEB-3A1C-433C-95B1-C0A6C68E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9545B9-75EF-49F6-92D5-1D38ED2B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220A17-8579-4148-8899-0B8EA5D7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A85E8D-7385-413E-B4A0-70016EC0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5C2D2C-81F2-47AC-B274-2A5E319C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F081C6-D90D-46C9-A93E-E9BCB47A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2A4F6C-10D9-4427-A53D-6CC29CA4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9A48B2-FB0F-4A88-87C1-450589C8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004D24-0D94-4690-B409-0C8EBF28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BDFDFD-A85D-4441-9EC8-D173402F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4ED0-5F6A-4CDE-BAE7-984D96B3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B2DEDA-A21B-4CE4-8A00-8232070F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37F15A-3B04-40CA-B8B9-5684983E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32AE22-6F53-48B2-AD0E-9EDBE198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835993-20E7-414A-AFB6-D7A5265E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D1E3CA-C3F4-408A-8C8B-F9F41731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509DD0-8B76-4964-A7B5-0D4EAC80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A63C9F-B76A-4B30-AD1F-BD58CBFE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29859F-E23A-425E-B3F1-B81069E9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6DC64A-B2E5-4F96-8B52-4C6BF88F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5ECF12-87EA-4379-9329-67B9A439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1CBD3-F1F1-4AF5-8974-4374A4C4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53CB2D-E00A-420E-8C42-7B8C93F9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7981A5-2275-4185-A1B6-D443892A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A2ED7F-08D0-41AF-90E6-49C55260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1586E-DFD9-4F3C-80DD-833E1E9D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3C12E-DF53-4D2E-9614-42C9B1AE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52224-44D8-4B44-82DA-6636DBC0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A0D4E-F306-45CE-8C47-A2FCEE04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AAE2-C9B5-41E2-A2C4-8AB2521F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13111-4B08-4310-B8A0-F16D3BFD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6731A-4410-4AA7-986F-7C49B1A8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C432D-ED23-4047-B6FC-A32A0234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0D4AF-77D0-4EBB-A0D6-D3C66814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9A0EF-F990-4744-81D4-E5BF10C9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5D872-5EC0-4181-8216-8C24A0D6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62DCD-4B0F-47FF-B855-29BB2254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299CD-10E1-4F18-B835-23F6E5CC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15851-F33C-4DA6-9C80-37C2AA35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2A463-C908-4691-B589-05639325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217B-FEA4-4822-9A44-C43C77D9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9A2AE-87B8-4CA4-B38A-B726EB9B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E516D-3128-4E71-9551-D945209F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311B2-39C4-4E56-80F0-BDB7968F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B534E-11E4-444F-9148-29B2B378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DF995-8B77-48AA-96C9-6C5AEFC7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384E3-297B-45CC-B62C-6F4250F7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DA89D-0574-4D9C-89CA-DF356E23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8D865-45CE-43FB-8727-DE1F92A7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A7216-5910-42FD-B27F-69E83DE9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FFD75-A8D7-41CE-BEE7-2E561449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4C0-3CF3-49F1-87AC-D2A65528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D5711-5785-4215-86F4-AAAE4375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6FA13-51D9-48D7-AB7C-3FCBC676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25921-C8D8-44D1-BA21-CFC840B5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3FD5F-FD4A-446F-9F3A-6F0DD447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ECE2F-A28E-424D-BED2-76D3BE67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75FAE-2544-4190-ABEC-7B3F3182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26602-893D-43FA-A510-DF5D61DF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6DF7A-6F49-429F-9394-245F46AE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33C4B-5CC0-495E-83C0-C8214D1C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CBDD3-F148-4B5E-A1B9-AFE3E144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C0B-EAD0-446B-A170-5CBEC953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95319-6FDA-4E56-BF5A-2F8CE7C2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034EC-66B1-477D-A7A6-0880CDD8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4EE4A-9322-4C0A-96E6-74D55547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1AD4B-D918-4927-B6F7-88B60FC7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F272A-5ED0-44E7-A7C9-7D9B76FA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95DA2-F8B2-4871-95FE-C4261C64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91DEB-7D77-43B0-94C5-C8E8C880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DA893-65BE-42E4-9F7E-1B0D1502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0DF6F-BE3A-444D-9078-7B8DA946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7698B-A688-45F8-8E14-621AA286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AFA8-126C-4A08-B875-D89E6528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D33CC-AF94-4957-A21C-E650D9D3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BEFC2-A868-4A34-A72C-9B5FC50C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917A8-72C8-43D9-8129-B6AD6130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3BAB1-EF66-4553-ACFB-4728ED4E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48209-F773-41BA-8E8D-0D5C357A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4A32C-B1D8-4850-BCA1-D627D997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F452A-190D-4D5A-AF55-A4BE260D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4697C-AF22-4572-8AF2-103CE8DE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6C703-665E-42F1-A609-8D448147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07D4E-A688-455F-B1C0-5E520F5E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ACD6-624A-46B5-A61D-0EF15685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5532B-A8E5-4E76-83A3-A9D85AED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09F71-8C93-40E7-A8A2-EE7D86F7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ECA22-5291-4DF5-B59E-73474D56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2B405-1700-4C33-81E0-B2DD5221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7B725-BBAF-46F6-BA0F-05C9ADED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0F203-4EF3-40F7-B6FC-BB7BB24B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6C046-8801-4573-BD59-7C933F7F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C01BF-BA45-4207-9044-E33F2D2C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FAAA7-FEE2-4DBE-92B8-BF066CDF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EA857-7EBF-4383-8709-50F3FAC5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8656-534F-49F2-BF93-AD771152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B5FFE-0B07-4874-8CCC-D668B402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99735-0C67-47F4-9285-5673213D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F8C60-0C59-45DA-A041-D66C314E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8457D-01F6-41C4-B7A6-C3A57F6F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1A59F-0694-45F3-8CF5-73E616C6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0DC30-A7EA-45F2-B17E-B34370BA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52723-16C0-445E-A7E5-5655E470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F7E27-70A4-44AF-82EC-34E578E1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8E749-8E91-493E-9CAB-95ED4022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395A5-43D7-4155-8392-5AA9BB73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D821-E477-4FBE-AE46-68612C9B4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51A4-9510-4E85-962C-CA6FC967C4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7DC2-1C54-463A-BDE8-DD1B9E94ED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575E-CEBE-4A95-89F8-56BFE16961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01EA-FF7C-49D3-AA39-76987EE82E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29B9-AEC7-4405-9823-8865115641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F241-97C7-4378-ADBA-5997809007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DE26-3E58-4000-8147-390C5B5730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9A6D-7A75-435F-819B-54F1BC9A9C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7320-ABCE-498C-86FA-ABB625009A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6873-F9BC-4661-9E91-3592669884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1039-4C64-40F0-A5A3-746DAF76DD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6C38-BCA3-4D9F-9283-D49780F883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BB91-4437-430B-BD12-4A9B0D7FE0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CBFC-DC0D-41AE-AE5A-3C64C1FA5A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5D47-D364-4963-849A-1A5360F1E0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C22D-EB3B-4BA6-9474-ED1C61EDF5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956F-27E8-4074-B8DF-F3C89CB8FF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82C1-E2AE-46EF-A58D-5B47CC8724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CC61-B87D-407F-8456-5A8441FA52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08C6-020F-4000-AB11-CFFC38181E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A310-B2B9-4226-B5B5-750264BEEF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4176-4D68-49DD-AED8-152DA0B658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8385-7FAD-4ECB-ADFF-DCB7C3EE3A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3778-9F1D-4790-9F3C-A83625090B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93C9-D951-451D-BE32-18514CA4C5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D1C3-46C0-4D6B-9694-ADF90A964C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5564-03E1-48B5-92DD-4DB883C3E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7EC5-C25D-41FF-8EDE-975D4B9AED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7654-83AA-4DCC-B00C-6E1AC51F73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8C68-C364-49F1-9F80-F5C3543FB3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B8AD-F4DF-4E15-A1F4-D536D78EED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239F-8EF9-43B4-B950-FC50204BDD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D5E2-3FA3-41B9-A804-5F622866EC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1CFF-10E9-43D0-B2AC-BD5B70A918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874A-465B-4AF5-B347-A37981933E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FD41-3F82-4381-811E-440C39C972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B1D5-C23D-40E4-B60B-860927EA6D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4D65-B853-471D-A388-4277E1B199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58CE-3566-46AF-9AAA-9A060FD93D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142920" y="2228760"/>
            <a:ext cx="88581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Picture 2" descr=""/>
          <p:cNvPicPr/>
          <p:nvPr/>
        </p:nvPicPr>
        <p:blipFill>
          <a:blip r:embed="rId1"/>
          <a:stretch/>
        </p:blipFill>
        <p:spPr>
          <a:xfrm>
            <a:off x="195120" y="1571760"/>
            <a:ext cx="8753760" cy="3714480"/>
          </a:xfrm>
          <a:prstGeom prst="rect">
            <a:avLst/>
          </a:prstGeom>
          <a:ln w="0">
            <a:noFill/>
          </a:ln>
        </p:spPr>
      </p:pic>
      <p:sp>
        <p:nvSpPr>
          <p:cNvPr id="1067" name="矩形 2"/>
          <p:cNvSpPr/>
          <p:nvPr/>
        </p:nvSpPr>
        <p:spPr>
          <a:xfrm>
            <a:off x="428760" y="1571760"/>
            <a:ext cx="4284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3"/>
          <p:cNvSpPr/>
          <p:nvPr/>
        </p:nvSpPr>
        <p:spPr>
          <a:xfrm>
            <a:off x="428760" y="264312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4"/>
          <p:cNvSpPr/>
          <p:nvPr/>
        </p:nvSpPr>
        <p:spPr>
          <a:xfrm>
            <a:off x="428760" y="4000680"/>
            <a:ext cx="4284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2" descr=""/>
          <p:cNvPicPr/>
          <p:nvPr/>
        </p:nvPicPr>
        <p:blipFill>
          <a:blip r:embed="rId1"/>
          <a:stretch/>
        </p:blipFill>
        <p:spPr>
          <a:xfrm>
            <a:off x="166680" y="1019160"/>
            <a:ext cx="88106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2" descr=""/>
          <p:cNvPicPr/>
          <p:nvPr/>
        </p:nvPicPr>
        <p:blipFill>
          <a:blip r:embed="rId1"/>
          <a:stretch/>
        </p:blipFill>
        <p:spPr>
          <a:xfrm>
            <a:off x="42840" y="1790640"/>
            <a:ext cx="9058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Picture 2" descr=""/>
          <p:cNvPicPr/>
          <p:nvPr/>
        </p:nvPicPr>
        <p:blipFill>
          <a:blip r:embed="rId1"/>
          <a:stretch/>
        </p:blipFill>
        <p:spPr>
          <a:xfrm>
            <a:off x="366840" y="1728720"/>
            <a:ext cx="8410320" cy="3400560"/>
          </a:xfrm>
          <a:prstGeom prst="rect">
            <a:avLst/>
          </a:prstGeom>
          <a:ln w="0">
            <a:noFill/>
          </a:ln>
        </p:spPr>
      </p:pic>
      <p:sp>
        <p:nvSpPr>
          <p:cNvPr id="1073" name="矩形 2"/>
          <p:cNvSpPr/>
          <p:nvPr/>
        </p:nvSpPr>
        <p:spPr>
          <a:xfrm>
            <a:off x="714240" y="178596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3"/>
          <p:cNvSpPr/>
          <p:nvPr/>
        </p:nvSpPr>
        <p:spPr>
          <a:xfrm>
            <a:off x="714240" y="2071800"/>
            <a:ext cx="4287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4"/>
          <p:cNvSpPr/>
          <p:nvPr/>
        </p:nvSpPr>
        <p:spPr>
          <a:xfrm>
            <a:off x="642960" y="242892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5"/>
          <p:cNvSpPr/>
          <p:nvPr/>
        </p:nvSpPr>
        <p:spPr>
          <a:xfrm>
            <a:off x="714240" y="278604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6"/>
          <p:cNvSpPr/>
          <p:nvPr/>
        </p:nvSpPr>
        <p:spPr>
          <a:xfrm>
            <a:off x="714240" y="314316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7"/>
          <p:cNvSpPr/>
          <p:nvPr/>
        </p:nvSpPr>
        <p:spPr>
          <a:xfrm>
            <a:off x="714240" y="342900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矩形 8"/>
          <p:cNvSpPr/>
          <p:nvPr/>
        </p:nvSpPr>
        <p:spPr>
          <a:xfrm>
            <a:off x="714240" y="3857760"/>
            <a:ext cx="4287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矩形 9"/>
          <p:cNvSpPr/>
          <p:nvPr/>
        </p:nvSpPr>
        <p:spPr>
          <a:xfrm>
            <a:off x="642960" y="414324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矩形 10"/>
          <p:cNvSpPr/>
          <p:nvPr/>
        </p:nvSpPr>
        <p:spPr>
          <a:xfrm>
            <a:off x="714240" y="4500720"/>
            <a:ext cx="4287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矩形 11"/>
          <p:cNvSpPr/>
          <p:nvPr/>
        </p:nvSpPr>
        <p:spPr>
          <a:xfrm>
            <a:off x="642960" y="478620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Picture 2" descr=""/>
          <p:cNvPicPr/>
          <p:nvPr/>
        </p:nvPicPr>
        <p:blipFill>
          <a:blip r:embed="rId1"/>
          <a:stretch/>
        </p:blipFill>
        <p:spPr>
          <a:xfrm>
            <a:off x="147600" y="1681200"/>
            <a:ext cx="88488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2" descr=""/>
          <p:cNvPicPr/>
          <p:nvPr/>
        </p:nvPicPr>
        <p:blipFill>
          <a:blip r:embed="rId1"/>
          <a:stretch/>
        </p:blipFill>
        <p:spPr>
          <a:xfrm>
            <a:off x="123840" y="1190520"/>
            <a:ext cx="889632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Picture 2" descr=""/>
          <p:cNvPicPr/>
          <p:nvPr/>
        </p:nvPicPr>
        <p:blipFill>
          <a:blip r:embed="rId1"/>
          <a:stretch/>
        </p:blipFill>
        <p:spPr>
          <a:xfrm>
            <a:off x="299880" y="1957320"/>
            <a:ext cx="8544240" cy="2943360"/>
          </a:xfrm>
          <a:prstGeom prst="rect">
            <a:avLst/>
          </a:prstGeom>
          <a:ln w="0">
            <a:noFill/>
          </a:ln>
        </p:spPr>
      </p:pic>
      <p:sp>
        <p:nvSpPr>
          <p:cNvPr id="1086" name="矩形 2"/>
          <p:cNvSpPr/>
          <p:nvPr/>
        </p:nvSpPr>
        <p:spPr>
          <a:xfrm>
            <a:off x="642960" y="192888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矩形 3"/>
          <p:cNvSpPr/>
          <p:nvPr/>
        </p:nvSpPr>
        <p:spPr>
          <a:xfrm>
            <a:off x="642960" y="292896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矩形 4"/>
          <p:cNvSpPr/>
          <p:nvPr/>
        </p:nvSpPr>
        <p:spPr>
          <a:xfrm>
            <a:off x="642960" y="392904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Picture 2" descr=""/>
          <p:cNvPicPr/>
          <p:nvPr/>
        </p:nvPicPr>
        <p:blipFill>
          <a:blip r:embed="rId1"/>
          <a:stretch/>
        </p:blipFill>
        <p:spPr>
          <a:xfrm>
            <a:off x="495360" y="2095560"/>
            <a:ext cx="8153280" cy="2666880"/>
          </a:xfrm>
          <a:prstGeom prst="rect">
            <a:avLst/>
          </a:prstGeom>
          <a:ln w="0">
            <a:noFill/>
          </a:ln>
        </p:spPr>
      </p:pic>
      <p:sp>
        <p:nvSpPr>
          <p:cNvPr id="1090" name="矩形 2"/>
          <p:cNvSpPr/>
          <p:nvPr/>
        </p:nvSpPr>
        <p:spPr>
          <a:xfrm>
            <a:off x="785880" y="214308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矩形 3"/>
          <p:cNvSpPr/>
          <p:nvPr/>
        </p:nvSpPr>
        <p:spPr>
          <a:xfrm>
            <a:off x="785880" y="371484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Picture 2" descr=""/>
          <p:cNvPicPr/>
          <p:nvPr/>
        </p:nvPicPr>
        <p:blipFill>
          <a:blip r:embed="rId1"/>
          <a:stretch/>
        </p:blipFill>
        <p:spPr>
          <a:xfrm>
            <a:off x="81000" y="1461960"/>
            <a:ext cx="89820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"/>
          <p:cNvPicPr/>
          <p:nvPr/>
        </p:nvPicPr>
        <p:blipFill>
          <a:blip r:embed="rId1"/>
          <a:stretch/>
        </p:blipFill>
        <p:spPr>
          <a:xfrm>
            <a:off x="61920" y="1109520"/>
            <a:ext cx="9020160" cy="4638960"/>
          </a:xfrm>
          <a:prstGeom prst="rect">
            <a:avLst/>
          </a:prstGeom>
          <a:ln w="0">
            <a:noFill/>
          </a:ln>
        </p:spPr>
      </p:pic>
      <p:sp>
        <p:nvSpPr>
          <p:cNvPr id="1094" name="矩形 2"/>
          <p:cNvSpPr/>
          <p:nvPr/>
        </p:nvSpPr>
        <p:spPr>
          <a:xfrm>
            <a:off x="571680" y="278604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矩形 3"/>
          <p:cNvSpPr/>
          <p:nvPr/>
        </p:nvSpPr>
        <p:spPr>
          <a:xfrm>
            <a:off x="500040" y="342900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矩形 4"/>
          <p:cNvSpPr/>
          <p:nvPr/>
        </p:nvSpPr>
        <p:spPr>
          <a:xfrm>
            <a:off x="500040" y="407196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2533680" cy="609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3" descr=""/>
          <p:cNvPicPr/>
          <p:nvPr/>
        </p:nvPicPr>
        <p:blipFill>
          <a:blip r:embed="rId2"/>
          <a:stretch/>
        </p:blipFill>
        <p:spPr>
          <a:xfrm>
            <a:off x="214200" y="1857240"/>
            <a:ext cx="8648640" cy="4105440"/>
          </a:xfrm>
          <a:prstGeom prst="rect">
            <a:avLst/>
          </a:prstGeom>
          <a:ln w="0">
            <a:noFill/>
          </a:ln>
        </p:spPr>
      </p:pic>
      <p:sp>
        <p:nvSpPr>
          <p:cNvPr id="1025" name="矩形 3"/>
          <p:cNvSpPr/>
          <p:nvPr/>
        </p:nvSpPr>
        <p:spPr>
          <a:xfrm>
            <a:off x="571680" y="228600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571680" y="292896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571680" y="364320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"/>
          <p:cNvSpPr/>
          <p:nvPr/>
        </p:nvSpPr>
        <p:spPr>
          <a:xfrm>
            <a:off x="571680" y="464328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7"/>
          <p:cNvSpPr/>
          <p:nvPr/>
        </p:nvSpPr>
        <p:spPr>
          <a:xfrm>
            <a:off x="571680" y="528624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Picture 2" descr=""/>
          <p:cNvPicPr/>
          <p:nvPr/>
        </p:nvPicPr>
        <p:blipFill>
          <a:blip r:embed="rId1"/>
          <a:stretch/>
        </p:blipFill>
        <p:spPr>
          <a:xfrm>
            <a:off x="0" y="1928880"/>
            <a:ext cx="8400960" cy="73332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3" descr=""/>
          <p:cNvPicPr/>
          <p:nvPr/>
        </p:nvPicPr>
        <p:blipFill>
          <a:blip r:embed="rId2"/>
          <a:stretch/>
        </p:blipFill>
        <p:spPr>
          <a:xfrm>
            <a:off x="142920" y="2857680"/>
            <a:ext cx="8763120" cy="1990440"/>
          </a:xfrm>
          <a:prstGeom prst="rect">
            <a:avLst/>
          </a:prstGeom>
          <a:ln w="0">
            <a:noFill/>
          </a:ln>
        </p:spPr>
      </p:pic>
      <p:sp>
        <p:nvSpPr>
          <p:cNvPr id="1099" name="矩形 3"/>
          <p:cNvSpPr/>
          <p:nvPr/>
        </p:nvSpPr>
        <p:spPr>
          <a:xfrm>
            <a:off x="357120" y="192888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矩形 4"/>
          <p:cNvSpPr/>
          <p:nvPr/>
        </p:nvSpPr>
        <p:spPr>
          <a:xfrm>
            <a:off x="428760" y="292896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1" name="Picture 2" descr=""/>
          <p:cNvPicPr/>
          <p:nvPr/>
        </p:nvPicPr>
        <p:blipFill>
          <a:blip r:embed="rId1"/>
          <a:stretch/>
        </p:blipFill>
        <p:spPr>
          <a:xfrm>
            <a:off x="109440" y="966960"/>
            <a:ext cx="892512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Picture 2" descr=""/>
          <p:cNvPicPr/>
          <p:nvPr/>
        </p:nvPicPr>
        <p:blipFill>
          <a:blip r:embed="rId1"/>
          <a:stretch/>
        </p:blipFill>
        <p:spPr>
          <a:xfrm>
            <a:off x="85680" y="1628640"/>
            <a:ext cx="8972640" cy="3600720"/>
          </a:xfrm>
          <a:prstGeom prst="rect">
            <a:avLst/>
          </a:prstGeom>
          <a:ln w="0">
            <a:noFill/>
          </a:ln>
        </p:spPr>
      </p:pic>
      <p:sp>
        <p:nvSpPr>
          <p:cNvPr id="1103" name="矩形 2"/>
          <p:cNvSpPr/>
          <p:nvPr/>
        </p:nvSpPr>
        <p:spPr>
          <a:xfrm>
            <a:off x="857160" y="3903840"/>
            <a:ext cx="62150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矩形 3"/>
          <p:cNvSpPr/>
          <p:nvPr/>
        </p:nvSpPr>
        <p:spPr>
          <a:xfrm>
            <a:off x="714240" y="4543560"/>
            <a:ext cx="820440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矩形 4"/>
          <p:cNvSpPr/>
          <p:nvPr/>
        </p:nvSpPr>
        <p:spPr>
          <a:xfrm>
            <a:off x="714240" y="4915080"/>
            <a:ext cx="3571920" cy="250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Picture 2" descr=""/>
          <p:cNvPicPr/>
          <p:nvPr/>
        </p:nvPicPr>
        <p:blipFill>
          <a:blip r:embed="rId1"/>
          <a:stretch/>
        </p:blipFill>
        <p:spPr>
          <a:xfrm>
            <a:off x="171360" y="1962000"/>
            <a:ext cx="8801280" cy="2934000"/>
          </a:xfrm>
          <a:prstGeom prst="rect">
            <a:avLst/>
          </a:prstGeom>
          <a:ln w="0">
            <a:noFill/>
          </a:ln>
        </p:spPr>
      </p:pic>
      <p:sp>
        <p:nvSpPr>
          <p:cNvPr id="1107" name="矩形 2"/>
          <p:cNvSpPr/>
          <p:nvPr/>
        </p:nvSpPr>
        <p:spPr>
          <a:xfrm>
            <a:off x="500040" y="2286000"/>
            <a:ext cx="5000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3"/>
          <p:cNvSpPr/>
          <p:nvPr/>
        </p:nvSpPr>
        <p:spPr>
          <a:xfrm>
            <a:off x="642960" y="3903840"/>
            <a:ext cx="692928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矩形 4"/>
          <p:cNvSpPr/>
          <p:nvPr/>
        </p:nvSpPr>
        <p:spPr>
          <a:xfrm>
            <a:off x="863640" y="4586400"/>
            <a:ext cx="7016760" cy="260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Picture 2" descr=""/>
          <p:cNvPicPr/>
          <p:nvPr/>
        </p:nvPicPr>
        <p:blipFill>
          <a:blip r:embed="rId1"/>
          <a:stretch/>
        </p:blipFill>
        <p:spPr>
          <a:xfrm>
            <a:off x="147600" y="976320"/>
            <a:ext cx="8848800" cy="4905360"/>
          </a:xfrm>
          <a:prstGeom prst="rect">
            <a:avLst/>
          </a:prstGeom>
          <a:ln w="0">
            <a:noFill/>
          </a:ln>
        </p:spPr>
      </p:pic>
      <p:sp>
        <p:nvSpPr>
          <p:cNvPr id="1111" name="矩形 2"/>
          <p:cNvSpPr/>
          <p:nvPr/>
        </p:nvSpPr>
        <p:spPr>
          <a:xfrm>
            <a:off x="3000240" y="1643040"/>
            <a:ext cx="857520" cy="254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矩形 3"/>
          <p:cNvSpPr/>
          <p:nvPr/>
        </p:nvSpPr>
        <p:spPr>
          <a:xfrm>
            <a:off x="2714760" y="2286000"/>
            <a:ext cx="1071360" cy="254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矩形 4"/>
          <p:cNvSpPr/>
          <p:nvPr/>
        </p:nvSpPr>
        <p:spPr>
          <a:xfrm>
            <a:off x="3857760" y="2643120"/>
            <a:ext cx="1428480" cy="254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矩形 5"/>
          <p:cNvSpPr/>
          <p:nvPr/>
        </p:nvSpPr>
        <p:spPr>
          <a:xfrm>
            <a:off x="2928960" y="3000240"/>
            <a:ext cx="714240" cy="222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矩形 6"/>
          <p:cNvSpPr/>
          <p:nvPr/>
        </p:nvSpPr>
        <p:spPr>
          <a:xfrm>
            <a:off x="4572000" y="3286080"/>
            <a:ext cx="714240" cy="222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矩形 7"/>
          <p:cNvSpPr/>
          <p:nvPr/>
        </p:nvSpPr>
        <p:spPr>
          <a:xfrm>
            <a:off x="3571920" y="3929040"/>
            <a:ext cx="1214280" cy="264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矩形 8"/>
          <p:cNvSpPr/>
          <p:nvPr/>
        </p:nvSpPr>
        <p:spPr>
          <a:xfrm>
            <a:off x="4071960" y="4286160"/>
            <a:ext cx="1071720" cy="250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矩形 9"/>
          <p:cNvSpPr/>
          <p:nvPr/>
        </p:nvSpPr>
        <p:spPr>
          <a:xfrm>
            <a:off x="3606840" y="4618080"/>
            <a:ext cx="1071360" cy="250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矩形 10"/>
          <p:cNvSpPr/>
          <p:nvPr/>
        </p:nvSpPr>
        <p:spPr>
          <a:xfrm>
            <a:off x="6429240" y="4929120"/>
            <a:ext cx="1785960" cy="271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矩形 11"/>
          <p:cNvSpPr/>
          <p:nvPr/>
        </p:nvSpPr>
        <p:spPr>
          <a:xfrm>
            <a:off x="4643280" y="5572080"/>
            <a:ext cx="1285920" cy="250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3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8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3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3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8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3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Picture 2" descr=""/>
          <p:cNvPicPr/>
          <p:nvPr/>
        </p:nvPicPr>
        <p:blipFill>
          <a:blip r:embed="rId1"/>
          <a:stretch/>
        </p:blipFill>
        <p:spPr>
          <a:xfrm>
            <a:off x="333360" y="1285920"/>
            <a:ext cx="8810640" cy="100944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3" descr=""/>
          <p:cNvPicPr/>
          <p:nvPr/>
        </p:nvPicPr>
        <p:blipFill>
          <a:blip r:embed="rId2"/>
          <a:stretch/>
        </p:blipFill>
        <p:spPr>
          <a:xfrm>
            <a:off x="214200" y="2357280"/>
            <a:ext cx="8791560" cy="3962520"/>
          </a:xfrm>
          <a:prstGeom prst="rect">
            <a:avLst/>
          </a:prstGeom>
          <a:ln w="0">
            <a:noFill/>
          </a:ln>
        </p:spPr>
      </p:pic>
      <p:sp>
        <p:nvSpPr>
          <p:cNvPr id="1123" name="矩形 3"/>
          <p:cNvSpPr/>
          <p:nvPr/>
        </p:nvSpPr>
        <p:spPr>
          <a:xfrm>
            <a:off x="8323200" y="1535040"/>
            <a:ext cx="72864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矩形 4"/>
          <p:cNvSpPr/>
          <p:nvPr/>
        </p:nvSpPr>
        <p:spPr>
          <a:xfrm>
            <a:off x="571680" y="1954080"/>
            <a:ext cx="8429400" cy="274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矩形 5"/>
          <p:cNvSpPr/>
          <p:nvPr/>
        </p:nvSpPr>
        <p:spPr>
          <a:xfrm>
            <a:off x="642960" y="2357280"/>
            <a:ext cx="642960" cy="293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矩形 6"/>
          <p:cNvSpPr/>
          <p:nvPr/>
        </p:nvSpPr>
        <p:spPr>
          <a:xfrm>
            <a:off x="1357200" y="3357720"/>
            <a:ext cx="278604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矩形 7"/>
          <p:cNvSpPr/>
          <p:nvPr/>
        </p:nvSpPr>
        <p:spPr>
          <a:xfrm>
            <a:off x="1428840" y="4000680"/>
            <a:ext cx="214308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矩形 8"/>
          <p:cNvSpPr/>
          <p:nvPr/>
        </p:nvSpPr>
        <p:spPr>
          <a:xfrm>
            <a:off x="1500120" y="4643280"/>
            <a:ext cx="3714840" cy="328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矩形 9"/>
          <p:cNvSpPr/>
          <p:nvPr/>
        </p:nvSpPr>
        <p:spPr>
          <a:xfrm>
            <a:off x="2286000" y="5322960"/>
            <a:ext cx="4572000" cy="309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0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5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0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5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Picture 2" descr=""/>
          <p:cNvPicPr/>
          <p:nvPr/>
        </p:nvPicPr>
        <p:blipFill>
          <a:blip r:embed="rId1"/>
          <a:stretch/>
        </p:blipFill>
        <p:spPr>
          <a:xfrm>
            <a:off x="100080" y="1442880"/>
            <a:ext cx="8943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Picture 2" descr=""/>
          <p:cNvPicPr/>
          <p:nvPr/>
        </p:nvPicPr>
        <p:blipFill>
          <a:blip r:embed="rId1"/>
          <a:stretch/>
        </p:blipFill>
        <p:spPr>
          <a:xfrm>
            <a:off x="114480" y="1461960"/>
            <a:ext cx="8915400" cy="3934080"/>
          </a:xfrm>
          <a:prstGeom prst="rect">
            <a:avLst/>
          </a:prstGeom>
          <a:ln w="0">
            <a:noFill/>
          </a:ln>
        </p:spPr>
      </p:pic>
      <p:sp>
        <p:nvSpPr>
          <p:cNvPr id="1132" name="矩形 2"/>
          <p:cNvSpPr/>
          <p:nvPr/>
        </p:nvSpPr>
        <p:spPr>
          <a:xfrm>
            <a:off x="785880" y="4068720"/>
            <a:ext cx="1214280" cy="274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矩形 3"/>
          <p:cNvSpPr/>
          <p:nvPr/>
        </p:nvSpPr>
        <p:spPr>
          <a:xfrm>
            <a:off x="3546360" y="4046400"/>
            <a:ext cx="1214640" cy="297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4"/>
          <p:cNvSpPr/>
          <p:nvPr/>
        </p:nvSpPr>
        <p:spPr>
          <a:xfrm>
            <a:off x="6465960" y="4035600"/>
            <a:ext cx="121428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5"/>
          <p:cNvSpPr/>
          <p:nvPr/>
        </p:nvSpPr>
        <p:spPr>
          <a:xfrm>
            <a:off x="857160" y="4422600"/>
            <a:ext cx="1214640" cy="220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矩形 6"/>
          <p:cNvSpPr/>
          <p:nvPr/>
        </p:nvSpPr>
        <p:spPr>
          <a:xfrm>
            <a:off x="3571920" y="4422600"/>
            <a:ext cx="1214280" cy="220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矩形 7"/>
          <p:cNvSpPr/>
          <p:nvPr/>
        </p:nvSpPr>
        <p:spPr>
          <a:xfrm>
            <a:off x="6500880" y="4429080"/>
            <a:ext cx="1214280" cy="235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矩形 8"/>
          <p:cNvSpPr/>
          <p:nvPr/>
        </p:nvSpPr>
        <p:spPr>
          <a:xfrm>
            <a:off x="957240" y="4737240"/>
            <a:ext cx="1214640" cy="257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矩形 9"/>
          <p:cNvSpPr/>
          <p:nvPr/>
        </p:nvSpPr>
        <p:spPr>
          <a:xfrm>
            <a:off x="3643200" y="4749840"/>
            <a:ext cx="1214640" cy="233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10"/>
          <p:cNvSpPr/>
          <p:nvPr/>
        </p:nvSpPr>
        <p:spPr>
          <a:xfrm>
            <a:off x="6593040" y="4743360"/>
            <a:ext cx="1214280" cy="263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11"/>
          <p:cNvSpPr/>
          <p:nvPr/>
        </p:nvSpPr>
        <p:spPr>
          <a:xfrm>
            <a:off x="857160" y="5072040"/>
            <a:ext cx="1214640" cy="264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2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7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2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7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2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7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2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7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2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7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Picture 2" descr=""/>
          <p:cNvPicPr/>
          <p:nvPr/>
        </p:nvPicPr>
        <p:blipFill>
          <a:blip r:embed="rId1"/>
          <a:stretch/>
        </p:blipFill>
        <p:spPr>
          <a:xfrm>
            <a:off x="195120" y="1666800"/>
            <a:ext cx="87537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128520" y="1623960"/>
            <a:ext cx="8886960" cy="3610080"/>
          </a:xfrm>
          <a:prstGeom prst="rect">
            <a:avLst/>
          </a:prstGeom>
          <a:ln w="0">
            <a:noFill/>
          </a:ln>
        </p:spPr>
      </p:pic>
      <p:sp>
        <p:nvSpPr>
          <p:cNvPr id="1144" name="矩形 2"/>
          <p:cNvSpPr/>
          <p:nvPr/>
        </p:nvSpPr>
        <p:spPr>
          <a:xfrm>
            <a:off x="3786120" y="1954080"/>
            <a:ext cx="52149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矩形 3"/>
          <p:cNvSpPr/>
          <p:nvPr/>
        </p:nvSpPr>
        <p:spPr>
          <a:xfrm>
            <a:off x="214200" y="2308320"/>
            <a:ext cx="8929800" cy="263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矩形 4"/>
          <p:cNvSpPr/>
          <p:nvPr/>
        </p:nvSpPr>
        <p:spPr>
          <a:xfrm>
            <a:off x="196920" y="2639880"/>
            <a:ext cx="8929440" cy="252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矩形 5"/>
          <p:cNvSpPr/>
          <p:nvPr/>
        </p:nvSpPr>
        <p:spPr>
          <a:xfrm>
            <a:off x="225360" y="2975040"/>
            <a:ext cx="8929800" cy="247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矩形 6"/>
          <p:cNvSpPr/>
          <p:nvPr/>
        </p:nvSpPr>
        <p:spPr>
          <a:xfrm>
            <a:off x="214200" y="3286080"/>
            <a:ext cx="8929800" cy="268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矩形 7"/>
          <p:cNvSpPr/>
          <p:nvPr/>
        </p:nvSpPr>
        <p:spPr>
          <a:xfrm>
            <a:off x="214200" y="3643200"/>
            <a:ext cx="8929800" cy="243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矩形 8"/>
          <p:cNvSpPr/>
          <p:nvPr/>
        </p:nvSpPr>
        <p:spPr>
          <a:xfrm>
            <a:off x="214200" y="3954600"/>
            <a:ext cx="8929800" cy="252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矩形 9"/>
          <p:cNvSpPr/>
          <p:nvPr/>
        </p:nvSpPr>
        <p:spPr>
          <a:xfrm>
            <a:off x="0" y="4286160"/>
            <a:ext cx="8929800" cy="263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4" dur="1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9" dur="1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4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9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4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9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4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9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210520" cy="5467320"/>
          </a:xfrm>
          <a:prstGeom prst="rect">
            <a:avLst/>
          </a:prstGeom>
          <a:ln w="0">
            <a:noFill/>
          </a:ln>
        </p:spPr>
      </p:pic>
      <p:sp>
        <p:nvSpPr>
          <p:cNvPr id="1031" name="矩形 2"/>
          <p:cNvSpPr/>
          <p:nvPr/>
        </p:nvSpPr>
        <p:spPr>
          <a:xfrm>
            <a:off x="785880" y="114300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3"/>
          <p:cNvSpPr/>
          <p:nvPr/>
        </p:nvSpPr>
        <p:spPr>
          <a:xfrm>
            <a:off x="714240" y="214308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4"/>
          <p:cNvSpPr/>
          <p:nvPr/>
        </p:nvSpPr>
        <p:spPr>
          <a:xfrm>
            <a:off x="714240" y="2857680"/>
            <a:ext cx="4287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5"/>
          <p:cNvSpPr/>
          <p:nvPr/>
        </p:nvSpPr>
        <p:spPr>
          <a:xfrm>
            <a:off x="785880" y="421488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"/>
          <p:cNvSpPr/>
          <p:nvPr/>
        </p:nvSpPr>
        <p:spPr>
          <a:xfrm>
            <a:off x="714240" y="557208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2" descr=""/>
          <p:cNvPicPr/>
          <p:nvPr/>
        </p:nvPicPr>
        <p:blipFill>
          <a:blip r:embed="rId1"/>
          <a:stretch/>
        </p:blipFill>
        <p:spPr>
          <a:xfrm>
            <a:off x="719280" y="1886040"/>
            <a:ext cx="7705440" cy="3085920"/>
          </a:xfrm>
          <a:prstGeom prst="rect">
            <a:avLst/>
          </a:prstGeom>
          <a:ln w="0">
            <a:noFill/>
          </a:ln>
        </p:spPr>
      </p:pic>
      <p:sp>
        <p:nvSpPr>
          <p:cNvPr id="1037" name="矩形 2"/>
          <p:cNvSpPr/>
          <p:nvPr/>
        </p:nvSpPr>
        <p:spPr>
          <a:xfrm>
            <a:off x="1000080" y="264312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3"/>
          <p:cNvSpPr/>
          <p:nvPr/>
        </p:nvSpPr>
        <p:spPr>
          <a:xfrm>
            <a:off x="1000080" y="364320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2" descr=""/>
          <p:cNvPicPr/>
          <p:nvPr/>
        </p:nvPicPr>
        <p:blipFill>
          <a:blip r:embed="rId1"/>
          <a:stretch/>
        </p:blipFill>
        <p:spPr>
          <a:xfrm>
            <a:off x="571680" y="1714680"/>
            <a:ext cx="8219880" cy="2438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2"/>
          <a:stretch/>
        </p:blipFill>
        <p:spPr>
          <a:xfrm>
            <a:off x="1714680" y="4286160"/>
            <a:ext cx="6771960" cy="333360"/>
          </a:xfrm>
          <a:prstGeom prst="rect">
            <a:avLst/>
          </a:prstGeom>
          <a:ln w="0">
            <a:noFill/>
          </a:ln>
        </p:spPr>
      </p:pic>
      <p:sp>
        <p:nvSpPr>
          <p:cNvPr id="1041" name="矩形 3"/>
          <p:cNvSpPr/>
          <p:nvPr/>
        </p:nvSpPr>
        <p:spPr>
          <a:xfrm>
            <a:off x="857160" y="214308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4"/>
          <p:cNvSpPr/>
          <p:nvPr/>
        </p:nvSpPr>
        <p:spPr>
          <a:xfrm>
            <a:off x="928800" y="307188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5"/>
          <p:cNvSpPr/>
          <p:nvPr/>
        </p:nvSpPr>
        <p:spPr>
          <a:xfrm>
            <a:off x="928800" y="378612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2" descr=""/>
          <p:cNvPicPr/>
          <p:nvPr/>
        </p:nvPicPr>
        <p:blipFill>
          <a:blip r:embed="rId1"/>
          <a:stretch/>
        </p:blipFill>
        <p:spPr>
          <a:xfrm>
            <a:off x="642960" y="743040"/>
            <a:ext cx="7810560" cy="6114960"/>
          </a:xfrm>
          <a:prstGeom prst="rect">
            <a:avLst/>
          </a:prstGeom>
          <a:ln w="0">
            <a:noFill/>
          </a:ln>
        </p:spPr>
      </p:pic>
      <p:sp>
        <p:nvSpPr>
          <p:cNvPr id="1045" name="矩形 2"/>
          <p:cNvSpPr/>
          <p:nvPr/>
        </p:nvSpPr>
        <p:spPr>
          <a:xfrm>
            <a:off x="928800" y="1071720"/>
            <a:ext cx="4284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3"/>
          <p:cNvSpPr/>
          <p:nvPr/>
        </p:nvSpPr>
        <p:spPr>
          <a:xfrm>
            <a:off x="928800" y="2071800"/>
            <a:ext cx="4284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4"/>
          <p:cNvSpPr/>
          <p:nvPr/>
        </p:nvSpPr>
        <p:spPr>
          <a:xfrm>
            <a:off x="928800" y="350028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5"/>
          <p:cNvSpPr/>
          <p:nvPr/>
        </p:nvSpPr>
        <p:spPr>
          <a:xfrm>
            <a:off x="928800" y="45007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6"/>
          <p:cNvSpPr/>
          <p:nvPr/>
        </p:nvSpPr>
        <p:spPr>
          <a:xfrm>
            <a:off x="928800" y="550080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2" descr=""/>
          <p:cNvPicPr/>
          <p:nvPr/>
        </p:nvPicPr>
        <p:blipFill>
          <a:blip r:embed="rId1"/>
          <a:stretch/>
        </p:blipFill>
        <p:spPr>
          <a:xfrm>
            <a:off x="299880" y="1109520"/>
            <a:ext cx="8544240" cy="4676760"/>
          </a:xfrm>
          <a:prstGeom prst="rect">
            <a:avLst/>
          </a:prstGeom>
          <a:ln w="0">
            <a:noFill/>
          </a:ln>
        </p:spPr>
      </p:pic>
      <p:sp>
        <p:nvSpPr>
          <p:cNvPr id="1051" name="矩形 2"/>
          <p:cNvSpPr/>
          <p:nvPr/>
        </p:nvSpPr>
        <p:spPr>
          <a:xfrm>
            <a:off x="571680" y="2071800"/>
            <a:ext cx="4284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3"/>
          <p:cNvSpPr/>
          <p:nvPr/>
        </p:nvSpPr>
        <p:spPr>
          <a:xfrm>
            <a:off x="642960" y="307188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"/>
          <p:cNvSpPr/>
          <p:nvPr/>
        </p:nvSpPr>
        <p:spPr>
          <a:xfrm>
            <a:off x="642960" y="407196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5"/>
          <p:cNvSpPr/>
          <p:nvPr/>
        </p:nvSpPr>
        <p:spPr>
          <a:xfrm>
            <a:off x="571680" y="478620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3" descr=""/>
          <p:cNvPicPr/>
          <p:nvPr/>
        </p:nvPicPr>
        <p:blipFill>
          <a:blip r:embed="rId1"/>
          <a:stretch/>
        </p:blipFill>
        <p:spPr>
          <a:xfrm>
            <a:off x="176040" y="1028880"/>
            <a:ext cx="8791920" cy="4800600"/>
          </a:xfrm>
          <a:prstGeom prst="rect">
            <a:avLst/>
          </a:prstGeom>
          <a:ln w="0">
            <a:noFill/>
          </a:ln>
        </p:spPr>
      </p:pic>
      <p:sp>
        <p:nvSpPr>
          <p:cNvPr id="1056" name="矩形 2"/>
          <p:cNvSpPr/>
          <p:nvPr/>
        </p:nvSpPr>
        <p:spPr>
          <a:xfrm>
            <a:off x="500040" y="100008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3"/>
          <p:cNvSpPr/>
          <p:nvPr/>
        </p:nvSpPr>
        <p:spPr>
          <a:xfrm>
            <a:off x="428760" y="20001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4"/>
          <p:cNvSpPr/>
          <p:nvPr/>
        </p:nvSpPr>
        <p:spPr>
          <a:xfrm>
            <a:off x="500040" y="278604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5"/>
          <p:cNvSpPr/>
          <p:nvPr/>
        </p:nvSpPr>
        <p:spPr>
          <a:xfrm>
            <a:off x="500040" y="442908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4" descr=""/>
          <p:cNvPicPr/>
          <p:nvPr/>
        </p:nvPicPr>
        <p:blipFill>
          <a:blip r:embed="rId1"/>
          <a:stretch/>
        </p:blipFill>
        <p:spPr>
          <a:xfrm>
            <a:off x="314280" y="1214280"/>
            <a:ext cx="8829720" cy="34862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5" descr=""/>
          <p:cNvPicPr/>
          <p:nvPr/>
        </p:nvPicPr>
        <p:blipFill>
          <a:blip r:embed="rId2"/>
          <a:stretch/>
        </p:blipFill>
        <p:spPr>
          <a:xfrm>
            <a:off x="1500120" y="4857840"/>
            <a:ext cx="7381800" cy="609480"/>
          </a:xfrm>
          <a:prstGeom prst="rect">
            <a:avLst/>
          </a:prstGeom>
          <a:ln w="0">
            <a:noFill/>
          </a:ln>
        </p:spPr>
      </p:pic>
      <p:sp>
        <p:nvSpPr>
          <p:cNvPr id="1062" name="矩形 3"/>
          <p:cNvSpPr/>
          <p:nvPr/>
        </p:nvSpPr>
        <p:spPr>
          <a:xfrm>
            <a:off x="571680" y="121428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4"/>
          <p:cNvSpPr/>
          <p:nvPr/>
        </p:nvSpPr>
        <p:spPr>
          <a:xfrm>
            <a:off x="571680" y="228600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5"/>
          <p:cNvSpPr/>
          <p:nvPr/>
        </p:nvSpPr>
        <p:spPr>
          <a:xfrm>
            <a:off x="642960" y="328608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6"/>
          <p:cNvSpPr/>
          <p:nvPr/>
        </p:nvSpPr>
        <p:spPr>
          <a:xfrm>
            <a:off x="571680" y="4357800"/>
            <a:ext cx="4284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3:5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