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78B-4880-486C-B5AA-3485991B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3B4-84B5-46E1-8FE0-3879B2FB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127A7-6EA1-4494-BAF0-B16230B0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DA37-31BD-4186-9AA6-EEF81FD0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DBF2B-85F8-4DD3-BBAF-21AD514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080D0-8B3A-48FD-A4F0-C89424D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5154B-2B17-456A-B982-083824C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3326-23A4-40E7-9E59-0476EC3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A81FA-3A9D-429D-A792-A8B22C6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FC93-58B9-4D02-9E37-6252A1BD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0EF81-2D4D-4CCA-A625-9B405290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F3BED-1C41-4FCD-8A2F-CA7EE462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D12-1BC7-4D50-909F-1167BDBF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BE293-422A-4829-9EC8-C1EA1D8F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0CEC-FAF5-4AF7-A4D4-C4E1876A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CCC0D-703B-4084-BD52-8F06232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93BD-B74E-4790-9C19-F963A7A2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EA570-489D-4865-A2DA-B03B480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87CE4-67C6-4DE6-863D-47FE0AA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CBF5C-CD5E-4E2F-A95E-FD6B56B5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54A18-0D43-4343-81E4-0C6A5A00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D203A-0A47-4B64-8DA4-7E63EFB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C5C34-4B9D-4FF6-8F51-D0B444CD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547-F571-4055-8DDC-B2C0E9D1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33A8C-710B-4F1A-8617-CBB411A0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8CE0B-3FA2-4D56-9169-BC325D0B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96FB8-98A7-4872-A4A2-70864A25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16188-B9B7-4A73-93A2-4E798A9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3B06B-F727-42BC-AB37-1A44ACB2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A2C0-04A8-4937-936F-1FDE89CF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F9AE-41A7-4D12-999C-44B0DA1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A1CE-3701-4F56-99F9-8060D81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9C305-6D26-49B7-B908-C36B34F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232E-66C2-46BA-9CE4-4A750DF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7E26-3BDB-48EF-868E-5A423B95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E87F-6E93-4463-A83D-974221C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E3A38-D43C-45C6-8206-60CAEF1B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BDDB9-7899-4662-899B-52DAD9A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DD8C4-3168-499E-9E5C-3337047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01B8C-F2A2-40BA-908E-39F6DFA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C2BEA-55C6-419D-A896-4160368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9FDD6-64E3-4D40-823D-C1D78379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60CF6-7656-44E0-8694-B9EBD4E6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340DF-E6D8-46AD-8281-8A83102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42E9C-7924-4236-AD44-F891E91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085-0493-487C-82FE-9B9C469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9F3C7-C70A-43BE-8B60-8E5293C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666D1-BFD2-4E2D-AA44-D9BE774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CF3B7-2578-42E0-9143-7112DDD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563F6-B1AC-48F5-B6CB-A2D542E6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A055E-1B0F-41D8-85CE-23364773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2004C-7F06-4D2C-9B88-C8DF3C0E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262E7-54C2-4BC3-AB90-5B6FC1B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22732-9E99-4F92-9BCE-92DA95B2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F5802-6B29-4675-A199-501BDB4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D34FA-595C-49E1-A1AB-CC71455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8AC7-AF13-4105-A96A-E7921006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8EB50-C41B-41A4-B034-DDBE28C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9188B-D039-4606-B5A7-3C467EC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8A367-2A23-4D26-873F-62DEE65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371EB-A93C-447A-8679-65D28E5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F8F06-18D0-4636-AF12-13F98CA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6806A-D0A5-440C-BB8E-1C19E04D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DA083-9ADE-400D-9E05-984CA84F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6CFD7-C279-498F-A0AC-1367CC04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FE8EC-9D44-4AD8-BA46-BEE5941C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A63A5-650A-4ADD-B87C-9CED0EED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D6BD-A78E-4A3A-8BA2-F7964B4E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C2280-FECB-49F8-AD43-FAF2F97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2584E-50B9-4227-8B20-B270CC28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47264-A14B-4AAE-9ABD-DD72CC2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25FE7-D5F3-45C7-99F8-9B43389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A2AF3-0F8F-4961-B8DD-E3BF39C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D6785-3245-4423-8686-2A62C0B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C9706-6BCC-41FA-8CB9-A4669500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86BB3-52F6-4ED4-B345-C7BD5CE6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CD22B-A142-4511-ACFF-2522F7EF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4626E-EC73-4673-AB28-B00391A7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5E4F-BD6C-492E-A7DD-834BAB4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EF77C-434B-4C9C-B53D-0664D43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BFB46-D53E-4F1F-9AEA-E8D88E40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8A002-0A21-4FE2-9FEC-ACEFB423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1ED63-4114-40DF-8781-3D9A4EE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6874D-F800-4EE8-BCB6-5F72C64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57AA7-3C13-4463-8D16-95D5766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07864-6493-45AD-8D32-A5239E5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4E44A-63AA-4B4C-8BF7-3B79A55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00DF6-D1DC-469F-AC2D-33A73320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D504A-366C-4D3B-AAFF-4775B92B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8A0-5088-42D6-88E2-F2E8FCA9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19E4C-B3FD-43EA-929D-D3978A1C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E993D-F3EB-40DD-A4CF-3D13A796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C22D0-7933-405E-9F2E-E15EF1A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F9052-C3D2-44D3-BA09-8D91A76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A04E3-1619-4ACE-A567-E7725FD5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8291D-1DEB-4B7F-A07B-02DBB685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1C937-D6DD-48EE-867F-543B160C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91F34-9C12-4F3C-95FD-217C98D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A2E8B-63BC-413E-B578-EC6DE0E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12708-2CAF-4321-974D-B6DA420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8FA7-8210-40E6-9296-038379E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B5B4D-51C2-4B9E-A035-A3F1B445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6C998-8DBC-4A6D-AC3D-2F4569A9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9C9EA-D784-42CD-BA15-65BF1817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40CE4-C546-450C-B452-C4F670F3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A7231-4C9C-4D2A-85E3-8763D6D3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60EA1-9919-43E9-9652-F79F637F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16FAE-7D00-4670-B467-71B1AEE7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ECEEC-19DD-4C3A-AE1F-1DC08E6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87AAC-EA94-4B19-AA52-2301376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B9E7B-4BDE-4CD9-A9DA-3260903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1F7-EDF9-48E8-AB60-D571368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3EC2-A0B7-45BC-A2B3-5973717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77D4C-6B5D-46A4-B901-759ED33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F0F23-C1B9-4BBC-A6DD-980E94C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95D57-0C46-4109-ACDF-5662C6DC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8BAC5-AA18-42E1-A13E-F7D1771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B9581-8BC8-46B1-9404-81A71D2C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CA647-E90F-4E3C-9D70-27EB85EE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A1B16-B670-4E7A-A432-E63803B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54A53-D9F2-4CE2-97C8-103A0F2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95CFD-5F3A-4944-AE0C-13BE89F5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0F0F7-A186-4C9B-A640-62D42B9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36A2-5846-4417-8975-769C1D2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B1A64-E396-4D25-B951-405F3CBA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F21B4-0530-4803-BAB3-0D046DD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26E56-16E7-4B58-AB16-144CFFA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80F47-7445-4FBD-B39B-1653806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237F5-F439-49C7-9A56-00C2154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8617E-E9AF-4BBF-9749-84C5232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8FC72-BD46-475A-90CE-2031967A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43E79-EDC9-4115-94CD-0FD57CB5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46B59-27AC-4F0D-8E73-4B41BE66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96C64-9836-4545-BAE6-3711C7E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C2A0-DEF3-4D56-9AAE-ADFE0C2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04338-AD4F-4DFD-8D3F-083ED074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C7BAE-9C65-4A45-8C08-7A30848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8F61F-8BD2-43E0-95C1-6F94F22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40862-57CD-4881-A6F2-51CC8AF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2E26F-C761-4B25-A8D9-93289B7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D81E7-5D61-4C60-B482-DF34FED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2DF3E-9D30-4A6D-BD1E-2B0088C2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60CFE-DD7B-48D5-B182-09FBFFA1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C5BD4-FBE3-4269-AB67-229882F4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6293D-08CB-4866-B193-C7E3F4D1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3324-7DAA-4B8F-AE50-68084C87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8AD42-6861-4323-B991-4FC6C932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09F00-8CD9-4E1E-8384-406AF13A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6182B-3535-40CE-898C-D3B8CB17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8612C-45D6-4417-861F-C407878B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00783-1E9F-4456-BC1E-388F4E6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8387D-7FAC-48A7-B8A5-792BC9E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E35BD-93CC-4CC1-8DC9-2F0D7BB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F7E24-CF7A-4E72-870E-3EC492B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E2C80-D9B4-4327-9267-83D8E0B0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7524E-4708-4A0B-928D-79F89D6B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04BB-2D8E-42AD-8F5C-D6EA3B02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A7AC0-3631-4146-9D0A-5D24C45E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D76D1-00BC-4C37-A3D3-15C7504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269A0-8699-4C42-9696-527EF21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B7C64-F7AD-40A0-8458-265EC5C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5A5B9-9454-4822-B6D0-BF62A0A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500D2-87AF-40C1-8266-627955B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895FD-FBB6-425B-A35A-580B8EC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B025E-E26A-45E2-A310-9D275E5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62B8B-DE34-4E2A-B5FF-3DAFA9E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FDB04-B2F1-42DD-AA98-DD1DF83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DE6A-C805-4251-BEA4-50A9ECEB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5C049-E587-43E2-8BBE-43A2AA8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40E78-6E94-4F54-A599-87BF7EB0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FF79E-0978-40F2-802A-B8665790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F702-6E6E-4380-9D3C-17D8757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C59B-9B33-49F6-9B72-DE19E95E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110F-F72D-42FF-9F09-46FA78A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144B-582D-4451-AB20-3D4BA8B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6A3-4637-4B8A-840A-0B15DB6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8D7F-367C-4AC0-AE15-3185AB2C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F9E9-8A7B-4326-8800-D6CDCF0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7596-9B03-4916-9D99-B82AD21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153E-FDD5-4DD2-B620-084FD27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A647-F338-4CAA-89F9-F50B414B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D886-2AEB-4812-82C4-5AD8D88A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F10D-B660-4418-A8CD-9DC0D821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4E25-857C-405F-8AD3-94FB0A4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44A4-F571-4995-8527-70E0FCA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BBD4-9558-4EA2-BE99-5B4B1B3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6D7-9680-46D1-B934-E23ED8C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B8B1-4AF7-4590-BF62-28DE6246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E4DD-B2E6-4018-AABC-A2698B16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D8FB-12E2-424A-80BE-583A35D0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6B59-1633-446D-89F4-D09D5E4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3D10-A45C-43A0-9000-C1289FC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0A53-D668-4D99-975F-DA920C9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0E1D-B3CA-42FF-AA1C-89B1C99F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F67F-FCDD-48CB-98BD-43141BB6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15B8-9017-4536-A098-0E4EAAAE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9151-2E8F-4F2C-9B9D-507A4591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60C-D329-4133-8E50-F2690C8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E02A-AC02-4F53-ADC4-B39775D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8FF8-13AD-40D0-A2E9-F2553C2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08F7-36B5-4806-92D9-7610DA8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671D-981E-49CB-A645-E774E25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0E68-66B8-4A63-A0FD-4E1F261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548A-1060-4002-97F4-4801643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A06D5-FA55-4FC1-AD98-744FA3A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A5CD-2B72-45C6-8CBD-E846781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E4BD-1FDB-4424-906A-EAC5A71C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CBF8-8463-411B-8389-A8396365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965-A564-47C7-9F80-314FC4E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0D00-BFA7-4FBF-BF83-1EDB32F6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2C075-C7DC-4F46-9359-B0959F46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DF45-AD7C-44EF-B837-B957080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8FDD-3706-48AB-885A-FA5DAE9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95B8-29A2-4C47-8DB8-1C31276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6A90-0ADD-47A4-8B29-FD67DEC4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999B-4618-4E88-B31D-3B62884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9FB9-C00E-40AA-AE9C-A3AEE09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78A9-3CC0-4FF0-8C84-2C696DA5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82CA-76C1-47E8-AC71-30171890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034-2BCA-498F-8E8B-CDAFE05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7990-0FD9-4D4E-9982-014BA25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11C66-7FAC-4B6A-B8A6-8481317E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28A39-A365-425C-BC72-5FE3F57C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25AA-D4C7-4383-8225-D3891B20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02B4-4647-4B0F-A9DC-C7E319A6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CA0B-0096-49CC-9ADD-533603A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80DBB-43CC-44AA-8DD5-17FD820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4AD2-C65E-4B26-A6EF-13BBEE3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C8B1-3F15-47BF-8888-EDB9ED9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3DE9-FF60-4850-88F2-AE76697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37A-5135-4B0A-8C3F-7FE207F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2D16-F7A0-4CF4-87AA-AD02383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B9DD-4E43-4430-A4A9-DE17CC1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4310F-8EB9-4FBA-A00A-FD5DD149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F6A3-F29A-44D4-9DBA-8A3645E3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4FE4-EEAB-4B50-BC5D-7596E677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6A139-7E9D-4A81-A7EF-560A9E73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7D2CC-BF2B-40B4-9798-1209E0AA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64DC2-37EC-43F3-B11D-56AC397B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0CFE-0583-42BC-94E2-5687949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5796A-AF3B-4D8C-9B29-F6C471D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88E-78D3-4D63-ADD9-3A0D56E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8083-7948-4561-B20D-6A95DCB9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02D38-D1C0-479C-A4FA-739256E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8DB40-360E-4CB9-B968-2C088B3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E1A93-9E25-403E-AF0E-104071A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55794-A3EB-456C-9512-2651BA4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F8B9-578D-4417-A551-740BB069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471C-1229-4DA3-80D4-621C530C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CA12C-8636-4CA3-BA8F-5186F0CD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29E16-3EE2-4942-8566-77D68BF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D5E55-097A-4CDF-AEC2-5A24135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C25-6076-4D1A-8FD8-ECFCFC65E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774B-C530-45A0-8277-485E93333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052-B16B-4CA9-B74E-ADF3E83D4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2F3-5E79-4158-9654-5A5F8762B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9C86-8EE9-4DB3-BC78-BE61C9301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316-5968-4DC0-BE7C-314B51692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DB76-8F3C-4693-8D4B-B7F7FC0812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A535-A427-432C-B162-75F6D7DDC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EDC-8796-45D4-93CB-8A463969E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5CC-0A13-4117-A64A-CA00D4115F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DA6-8B5A-4FDF-80A5-026BFBB8E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270-F639-4F13-B17B-849B5FF9A3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326-7FFF-4B39-B647-A85293EE2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404-2B32-4B1C-A2FF-24534D8E6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C15-78F3-48D9-AB94-FEDA2FF05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A1E-B082-49F0-815B-C330EDACD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B48-C8A4-46BD-BC69-7000AD26A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DA1-AAD5-4544-ACC5-B1B482DFC2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844-1B25-4330-8F54-D406BAE75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CB4-32C7-4803-B527-2468752A7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72FE-0B78-40AA-984B-09459889A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7E0-F6A2-40FA-9E42-7C7FFD8C2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F85-5229-4F08-BFE7-25C9B0B2C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CB7-C226-49E5-A992-6AB97F904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A66-C113-457E-877E-733E6FE73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202-10D1-4C3F-A427-BF9D70179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404-0CAF-47FD-BE92-BE92E81B7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8376-F52D-457F-9727-275E31F7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D08-9706-450C-A6D1-40EDEB914E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822-1B40-47F4-B696-5478F608B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77F-A25E-4486-906F-7F8766CC5A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2A79-9561-4FD2-A161-A425ACB39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5ECF-961C-47EB-85AF-BB9BDDBA6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E475-3F20-429D-8939-AB57153D9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AFFA-86B3-4A91-A025-AEAE342606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1F5-A7D4-4EF1-821C-4A833E996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6E0-E036-45B0-B418-A75FF5D5F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583-9291-440B-9D7C-71B95460F7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749-7650-4DCA-B90D-34915507E5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143-74E8-472F-98B4-61CAB42C2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95120" y="2238480"/>
            <a:ext cx="8753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991200" cy="762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0" y="2214720"/>
            <a:ext cx="8867880" cy="3228840"/>
          </a:xfrm>
          <a:prstGeom prst="rect">
            <a:avLst/>
          </a:prstGeom>
          <a:ln w="0">
            <a:noFill/>
          </a:ln>
        </p:spPr>
      </p:pic>
      <p:sp>
        <p:nvSpPr>
          <p:cNvPr id="1066" name="矩形 3"/>
          <p:cNvSpPr/>
          <p:nvPr/>
        </p:nvSpPr>
        <p:spPr>
          <a:xfrm>
            <a:off x="285840" y="13572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4"/>
          <p:cNvSpPr/>
          <p:nvPr/>
        </p:nvSpPr>
        <p:spPr>
          <a:xfrm>
            <a:off x="428760" y="25718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"/>
          <p:cNvSpPr/>
          <p:nvPr/>
        </p:nvSpPr>
        <p:spPr>
          <a:xfrm>
            <a:off x="428760" y="36432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133200" y="1486080"/>
            <a:ext cx="887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104760" y="1476360"/>
            <a:ext cx="8934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276120" y="1643040"/>
            <a:ext cx="8591760" cy="3571920"/>
          </a:xfrm>
          <a:prstGeom prst="rect">
            <a:avLst/>
          </a:prstGeom>
          <a:ln w="0">
            <a:noFill/>
          </a:ln>
        </p:spPr>
      </p:pic>
      <p:sp>
        <p:nvSpPr>
          <p:cNvPr id="1072" name="矩形 2"/>
          <p:cNvSpPr/>
          <p:nvPr/>
        </p:nvSpPr>
        <p:spPr>
          <a:xfrm>
            <a:off x="642960" y="16398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"/>
          <p:cNvSpPr/>
          <p:nvPr/>
        </p:nvSpPr>
        <p:spPr>
          <a:xfrm>
            <a:off x="642960" y="2000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4"/>
          <p:cNvSpPr/>
          <p:nvPr/>
        </p:nvSpPr>
        <p:spPr>
          <a:xfrm>
            <a:off x="642960" y="23572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5"/>
          <p:cNvSpPr/>
          <p:nvPr/>
        </p:nvSpPr>
        <p:spPr>
          <a:xfrm>
            <a:off x="642960" y="2714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6"/>
          <p:cNvSpPr/>
          <p:nvPr/>
        </p:nvSpPr>
        <p:spPr>
          <a:xfrm>
            <a:off x="642960" y="3071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7"/>
          <p:cNvSpPr/>
          <p:nvPr/>
        </p:nvSpPr>
        <p:spPr>
          <a:xfrm>
            <a:off x="642960" y="34290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8"/>
          <p:cNvSpPr/>
          <p:nvPr/>
        </p:nvSpPr>
        <p:spPr>
          <a:xfrm>
            <a:off x="642960" y="3857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"/>
          <p:cNvSpPr/>
          <p:nvPr/>
        </p:nvSpPr>
        <p:spPr>
          <a:xfrm>
            <a:off x="571680" y="42148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0"/>
          <p:cNvSpPr/>
          <p:nvPr/>
        </p:nvSpPr>
        <p:spPr>
          <a:xfrm>
            <a:off x="571680" y="45720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11"/>
          <p:cNvSpPr/>
          <p:nvPr/>
        </p:nvSpPr>
        <p:spPr>
          <a:xfrm>
            <a:off x="571680" y="4929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14400" y="1071720"/>
            <a:ext cx="9115200" cy="47145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2"/>
          <a:stretch/>
        </p:blipFill>
        <p:spPr>
          <a:xfrm>
            <a:off x="142920" y="5786280"/>
            <a:ext cx="669600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3" descr=""/>
          <p:cNvPicPr/>
          <p:nvPr/>
        </p:nvPicPr>
        <p:blipFill>
          <a:blip r:embed="rId1"/>
          <a:stretch/>
        </p:blipFill>
        <p:spPr>
          <a:xfrm>
            <a:off x="66600" y="1461960"/>
            <a:ext cx="9010800" cy="3934080"/>
          </a:xfrm>
          <a:prstGeom prst="rect">
            <a:avLst/>
          </a:prstGeom>
          <a:ln w="0">
            <a:noFill/>
          </a:ln>
        </p:spPr>
      </p:pic>
      <p:sp>
        <p:nvSpPr>
          <p:cNvPr id="1085" name="矩形 2"/>
          <p:cNvSpPr/>
          <p:nvPr/>
        </p:nvSpPr>
        <p:spPr>
          <a:xfrm>
            <a:off x="428760" y="15001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"/>
          <p:cNvSpPr/>
          <p:nvPr/>
        </p:nvSpPr>
        <p:spPr>
          <a:xfrm>
            <a:off x="428760" y="292896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4"/>
          <p:cNvSpPr/>
          <p:nvPr/>
        </p:nvSpPr>
        <p:spPr>
          <a:xfrm>
            <a:off x="500040" y="400068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2" descr=""/>
          <p:cNvPicPr/>
          <p:nvPr/>
        </p:nvPicPr>
        <p:blipFill>
          <a:blip r:embed="rId1"/>
          <a:stretch/>
        </p:blipFill>
        <p:spPr>
          <a:xfrm>
            <a:off x="700200" y="1633680"/>
            <a:ext cx="7743600" cy="3590640"/>
          </a:xfrm>
          <a:prstGeom prst="rect">
            <a:avLst/>
          </a:prstGeom>
          <a:ln w="0">
            <a:noFill/>
          </a:ln>
        </p:spPr>
      </p:pic>
      <p:sp>
        <p:nvSpPr>
          <p:cNvPr id="1089" name="矩形 2"/>
          <p:cNvSpPr/>
          <p:nvPr/>
        </p:nvSpPr>
        <p:spPr>
          <a:xfrm>
            <a:off x="1071720" y="16430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3"/>
          <p:cNvSpPr/>
          <p:nvPr/>
        </p:nvSpPr>
        <p:spPr>
          <a:xfrm>
            <a:off x="1057320" y="3463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2" descr=""/>
          <p:cNvPicPr/>
          <p:nvPr/>
        </p:nvPicPr>
        <p:blipFill>
          <a:blip r:embed="rId1"/>
          <a:stretch/>
        </p:blipFill>
        <p:spPr>
          <a:xfrm>
            <a:off x="85680" y="1438200"/>
            <a:ext cx="89726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23760" y="752400"/>
            <a:ext cx="9096480" cy="5353200"/>
          </a:xfrm>
          <a:prstGeom prst="rect">
            <a:avLst/>
          </a:prstGeom>
          <a:ln w="0">
            <a:noFill/>
          </a:ln>
        </p:spPr>
      </p:pic>
      <p:sp>
        <p:nvSpPr>
          <p:cNvPr id="1093" name="矩形 2"/>
          <p:cNvSpPr/>
          <p:nvPr/>
        </p:nvSpPr>
        <p:spPr>
          <a:xfrm>
            <a:off x="525600" y="78912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3"/>
          <p:cNvSpPr/>
          <p:nvPr/>
        </p:nvSpPr>
        <p:spPr>
          <a:xfrm>
            <a:off x="571680" y="18572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4"/>
          <p:cNvSpPr/>
          <p:nvPr/>
        </p:nvSpPr>
        <p:spPr>
          <a:xfrm>
            <a:off x="500040" y="25718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5"/>
          <p:cNvSpPr/>
          <p:nvPr/>
        </p:nvSpPr>
        <p:spPr>
          <a:xfrm>
            <a:off x="500040" y="3643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6"/>
          <p:cNvSpPr/>
          <p:nvPr/>
        </p:nvSpPr>
        <p:spPr>
          <a:xfrm>
            <a:off x="428760" y="47149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2" descr=""/>
          <p:cNvPicPr/>
          <p:nvPr/>
        </p:nvPicPr>
        <p:blipFill>
          <a:blip r:embed="rId1"/>
          <a:stretch/>
        </p:blipFill>
        <p:spPr>
          <a:xfrm>
            <a:off x="160200" y="1414440"/>
            <a:ext cx="8915400" cy="21718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" descr=""/>
          <p:cNvPicPr/>
          <p:nvPr/>
        </p:nvPicPr>
        <p:blipFill>
          <a:blip r:embed="rId2"/>
          <a:stretch/>
        </p:blipFill>
        <p:spPr>
          <a:xfrm>
            <a:off x="276120" y="3714840"/>
            <a:ext cx="8867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2628720" cy="5907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8705880" cy="29905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642960" y="2071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571680" y="250020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571680" y="3214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606600" y="3925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571680" y="44290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"/>
          <p:cNvPicPr/>
          <p:nvPr/>
        </p:nvPicPr>
        <p:blipFill>
          <a:blip r:embed="rId1"/>
          <a:stretch/>
        </p:blipFill>
        <p:spPr>
          <a:xfrm>
            <a:off x="104760" y="1628640"/>
            <a:ext cx="8934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2" descr=""/>
          <p:cNvPicPr/>
          <p:nvPr/>
        </p:nvPicPr>
        <p:blipFill>
          <a:blip r:embed="rId1"/>
          <a:stretch/>
        </p:blipFill>
        <p:spPr>
          <a:xfrm>
            <a:off x="352440" y="1495440"/>
            <a:ext cx="8439120" cy="3867120"/>
          </a:xfrm>
          <a:prstGeom prst="rect">
            <a:avLst/>
          </a:prstGeom>
          <a:ln w="0">
            <a:noFill/>
          </a:ln>
        </p:spPr>
      </p:pic>
      <p:sp>
        <p:nvSpPr>
          <p:cNvPr id="1102" name="矩形 2"/>
          <p:cNvSpPr/>
          <p:nvPr/>
        </p:nvSpPr>
        <p:spPr>
          <a:xfrm>
            <a:off x="1000080" y="4286160"/>
            <a:ext cx="2500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3"/>
          <p:cNvSpPr/>
          <p:nvPr/>
        </p:nvSpPr>
        <p:spPr>
          <a:xfrm>
            <a:off x="4572000" y="4286160"/>
            <a:ext cx="3714840" cy="274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4"/>
          <p:cNvSpPr/>
          <p:nvPr/>
        </p:nvSpPr>
        <p:spPr>
          <a:xfrm>
            <a:off x="1071720" y="4643280"/>
            <a:ext cx="2500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5"/>
          <p:cNvSpPr/>
          <p:nvPr/>
        </p:nvSpPr>
        <p:spPr>
          <a:xfrm>
            <a:off x="4357800" y="4643280"/>
            <a:ext cx="37144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1000080" y="5000760"/>
            <a:ext cx="5500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2" descr=""/>
          <p:cNvPicPr/>
          <p:nvPr/>
        </p:nvPicPr>
        <p:blipFill>
          <a:blip r:embed="rId1"/>
          <a:stretch/>
        </p:blipFill>
        <p:spPr>
          <a:xfrm>
            <a:off x="142920" y="900000"/>
            <a:ext cx="8858160" cy="5058000"/>
          </a:xfrm>
          <a:prstGeom prst="rect">
            <a:avLst/>
          </a:prstGeom>
          <a:ln w="0">
            <a:noFill/>
          </a:ln>
        </p:spPr>
      </p:pic>
      <p:sp>
        <p:nvSpPr>
          <p:cNvPr id="1108" name="矩形 2"/>
          <p:cNvSpPr/>
          <p:nvPr/>
        </p:nvSpPr>
        <p:spPr>
          <a:xfrm>
            <a:off x="2143080" y="1628640"/>
            <a:ext cx="1071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3"/>
          <p:cNvSpPr/>
          <p:nvPr/>
        </p:nvSpPr>
        <p:spPr>
          <a:xfrm>
            <a:off x="6765840" y="1963800"/>
            <a:ext cx="1071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4"/>
          <p:cNvSpPr/>
          <p:nvPr/>
        </p:nvSpPr>
        <p:spPr>
          <a:xfrm>
            <a:off x="3511440" y="2343240"/>
            <a:ext cx="785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5"/>
          <p:cNvSpPr/>
          <p:nvPr/>
        </p:nvSpPr>
        <p:spPr>
          <a:xfrm>
            <a:off x="4286160" y="2714760"/>
            <a:ext cx="928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6"/>
          <p:cNvSpPr/>
          <p:nvPr/>
        </p:nvSpPr>
        <p:spPr>
          <a:xfrm>
            <a:off x="5500800" y="3068640"/>
            <a:ext cx="14284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"/>
          <p:cNvSpPr/>
          <p:nvPr/>
        </p:nvSpPr>
        <p:spPr>
          <a:xfrm>
            <a:off x="3357720" y="378612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8"/>
          <p:cNvSpPr/>
          <p:nvPr/>
        </p:nvSpPr>
        <p:spPr>
          <a:xfrm>
            <a:off x="4714920" y="4143240"/>
            <a:ext cx="1071360" cy="30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9"/>
          <p:cNvSpPr/>
          <p:nvPr/>
        </p:nvSpPr>
        <p:spPr>
          <a:xfrm>
            <a:off x="3286080" y="4500720"/>
            <a:ext cx="2071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0"/>
          <p:cNvSpPr/>
          <p:nvPr/>
        </p:nvSpPr>
        <p:spPr>
          <a:xfrm>
            <a:off x="4071960" y="5214960"/>
            <a:ext cx="135720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1"/>
          <p:cNvSpPr/>
          <p:nvPr/>
        </p:nvSpPr>
        <p:spPr>
          <a:xfrm>
            <a:off x="4011480" y="5618160"/>
            <a:ext cx="1214640" cy="257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304920" y="785880"/>
            <a:ext cx="8839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885960" y="2071800"/>
            <a:ext cx="7372080" cy="2714400"/>
          </a:xfrm>
          <a:prstGeom prst="rect">
            <a:avLst/>
          </a:prstGeom>
          <a:ln w="0">
            <a:noFill/>
          </a:ln>
        </p:spPr>
      </p:pic>
      <p:sp>
        <p:nvSpPr>
          <p:cNvPr id="1120" name="矩形 2"/>
          <p:cNvSpPr/>
          <p:nvPr/>
        </p:nvSpPr>
        <p:spPr>
          <a:xfrm>
            <a:off x="1549440" y="43830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3"/>
          <p:cNvSpPr/>
          <p:nvPr/>
        </p:nvSpPr>
        <p:spPr>
          <a:xfrm>
            <a:off x="3071880" y="435780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4"/>
          <p:cNvSpPr/>
          <p:nvPr/>
        </p:nvSpPr>
        <p:spPr>
          <a:xfrm>
            <a:off x="4575240" y="439272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5"/>
          <p:cNvSpPr/>
          <p:nvPr/>
        </p:nvSpPr>
        <p:spPr>
          <a:xfrm>
            <a:off x="6143760" y="435780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6"/>
          <p:cNvSpPr/>
          <p:nvPr/>
        </p:nvSpPr>
        <p:spPr>
          <a:xfrm>
            <a:off x="7597800" y="43797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47520" y="1166760"/>
            <a:ext cx="9048960" cy="4524480"/>
          </a:xfrm>
          <a:prstGeom prst="rect">
            <a:avLst/>
          </a:prstGeom>
          <a:ln w="0">
            <a:noFill/>
          </a:ln>
        </p:spPr>
      </p:pic>
      <p:sp>
        <p:nvSpPr>
          <p:cNvPr id="1126" name="矩形 2"/>
          <p:cNvSpPr/>
          <p:nvPr/>
        </p:nvSpPr>
        <p:spPr>
          <a:xfrm>
            <a:off x="857160" y="3571920"/>
            <a:ext cx="1000080" cy="291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3"/>
          <p:cNvSpPr/>
          <p:nvPr/>
        </p:nvSpPr>
        <p:spPr>
          <a:xfrm>
            <a:off x="4500720" y="3929040"/>
            <a:ext cx="928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4"/>
          <p:cNvSpPr/>
          <p:nvPr/>
        </p:nvSpPr>
        <p:spPr>
          <a:xfrm>
            <a:off x="7858080" y="464328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"/>
          <p:cNvPicPr/>
          <p:nvPr/>
        </p:nvPicPr>
        <p:blipFill>
          <a:blip r:embed="rId1"/>
          <a:stretch/>
        </p:blipFill>
        <p:spPr>
          <a:xfrm>
            <a:off x="42840" y="1461960"/>
            <a:ext cx="9058320" cy="3934080"/>
          </a:xfrm>
          <a:prstGeom prst="rect">
            <a:avLst/>
          </a:prstGeom>
          <a:ln w="0">
            <a:noFill/>
          </a:ln>
        </p:spPr>
      </p:pic>
      <p:sp>
        <p:nvSpPr>
          <p:cNvPr id="1130" name="矩形 2"/>
          <p:cNvSpPr/>
          <p:nvPr/>
        </p:nvSpPr>
        <p:spPr>
          <a:xfrm>
            <a:off x="7786800" y="1500120"/>
            <a:ext cx="10713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3"/>
          <p:cNvSpPr/>
          <p:nvPr/>
        </p:nvSpPr>
        <p:spPr>
          <a:xfrm>
            <a:off x="8001000" y="185724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4"/>
          <p:cNvSpPr/>
          <p:nvPr/>
        </p:nvSpPr>
        <p:spPr>
          <a:xfrm>
            <a:off x="6143760" y="221472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5"/>
          <p:cNvSpPr/>
          <p:nvPr/>
        </p:nvSpPr>
        <p:spPr>
          <a:xfrm>
            <a:off x="2786040" y="2928960"/>
            <a:ext cx="14288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6"/>
          <p:cNvSpPr/>
          <p:nvPr/>
        </p:nvSpPr>
        <p:spPr>
          <a:xfrm>
            <a:off x="4335480" y="367812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7"/>
          <p:cNvSpPr/>
          <p:nvPr/>
        </p:nvSpPr>
        <p:spPr>
          <a:xfrm>
            <a:off x="6215040" y="4000680"/>
            <a:ext cx="7142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8"/>
          <p:cNvSpPr/>
          <p:nvPr/>
        </p:nvSpPr>
        <p:spPr>
          <a:xfrm>
            <a:off x="7715160" y="471492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"/>
          <p:cNvPicPr/>
          <p:nvPr/>
        </p:nvPicPr>
        <p:blipFill>
          <a:blip r:embed="rId1"/>
          <a:stretch/>
        </p:blipFill>
        <p:spPr>
          <a:xfrm>
            <a:off x="33480" y="1076400"/>
            <a:ext cx="90770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22320" y="1920960"/>
            <a:ext cx="9029520" cy="3038400"/>
          </a:xfrm>
          <a:prstGeom prst="rect">
            <a:avLst/>
          </a:prstGeom>
          <a:ln w="0">
            <a:noFill/>
          </a:ln>
        </p:spPr>
      </p:pic>
      <p:sp>
        <p:nvSpPr>
          <p:cNvPr id="1139" name="矩形 2"/>
          <p:cNvSpPr/>
          <p:nvPr/>
        </p:nvSpPr>
        <p:spPr>
          <a:xfrm>
            <a:off x="1820880" y="2320920"/>
            <a:ext cx="7215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3"/>
          <p:cNvSpPr/>
          <p:nvPr/>
        </p:nvSpPr>
        <p:spPr>
          <a:xfrm>
            <a:off x="289080" y="2668680"/>
            <a:ext cx="871200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4"/>
          <p:cNvSpPr/>
          <p:nvPr/>
        </p:nvSpPr>
        <p:spPr>
          <a:xfrm>
            <a:off x="336600" y="3017880"/>
            <a:ext cx="8713800" cy="318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5"/>
          <p:cNvSpPr/>
          <p:nvPr/>
        </p:nvSpPr>
        <p:spPr>
          <a:xfrm>
            <a:off x="249120" y="3392640"/>
            <a:ext cx="8712360" cy="299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331920" y="3765600"/>
            <a:ext cx="8712000" cy="280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7"/>
          <p:cNvSpPr/>
          <p:nvPr/>
        </p:nvSpPr>
        <p:spPr>
          <a:xfrm>
            <a:off x="260280" y="4106880"/>
            <a:ext cx="8712360" cy="304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8"/>
          <p:cNvSpPr/>
          <p:nvPr/>
        </p:nvSpPr>
        <p:spPr>
          <a:xfrm>
            <a:off x="357120" y="4514760"/>
            <a:ext cx="1925640" cy="263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7819920" cy="56102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1000080" y="11430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857160" y="1928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1000080" y="30718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1000080" y="4143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1000080" y="53578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3" descr=""/>
          <p:cNvPicPr/>
          <p:nvPr/>
        </p:nvPicPr>
        <p:blipFill>
          <a:blip r:embed="rId1"/>
          <a:stretch/>
        </p:blipFill>
        <p:spPr>
          <a:xfrm>
            <a:off x="352440" y="1357200"/>
            <a:ext cx="8439120" cy="41436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642960" y="20718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714240" y="2928960"/>
            <a:ext cx="357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714240" y="4000680"/>
            <a:ext cx="357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181080" y="2295360"/>
            <a:ext cx="8781840" cy="226728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571680" y="2357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571680" y="37861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133200" y="1795320"/>
            <a:ext cx="8877600" cy="32673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5786280" y="2720880"/>
            <a:ext cx="1357560" cy="279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4286160" y="3214800"/>
            <a:ext cx="11430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6207120" y="3678120"/>
            <a:ext cx="11430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5054760" y="4143240"/>
            <a:ext cx="1143000" cy="314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6"/>
          <p:cNvSpPr/>
          <p:nvPr/>
        </p:nvSpPr>
        <p:spPr>
          <a:xfrm>
            <a:off x="4289400" y="4613400"/>
            <a:ext cx="11430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5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357120" y="1785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357120" y="2786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357120" y="3929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357120" y="5000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3" descr=""/>
          <p:cNvPicPr/>
          <p:nvPr/>
        </p:nvPicPr>
        <p:blipFill>
          <a:blip r:embed="rId1"/>
          <a:stretch/>
        </p:blipFill>
        <p:spPr>
          <a:xfrm>
            <a:off x="-14400" y="1085760"/>
            <a:ext cx="9172800" cy="468648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263520" y="10922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214200" y="21430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214200" y="3643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225360" y="43545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19080" y="690480"/>
            <a:ext cx="9105840" cy="547704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285840" y="7858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357120" y="221472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214200" y="3571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285840" y="507204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5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