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8D9-01F9-4CB5-B631-ABD3736F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15A-F213-409D-9542-00597219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93FCC-F794-45B0-A40D-752EBD9A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5108A-BF42-4BD3-9AC8-1E279988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EFA18-EE78-4D0B-AC18-1199F47A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CE29F-0806-4CEA-9C6C-9750173A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8B421-DFB5-439C-A591-3D961C1F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DB8E8-651C-4FD4-87B7-C9EB47E5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6095F-3516-4630-BD28-C98FF99E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B737F-0F83-4C7A-9A23-A4A68E72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79AFE-5860-4AD1-B10A-7CD80391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28AEA-2AF7-4F65-A3ED-C7063CF4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9B7-E424-4A42-A951-C4485318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A00F5-5435-47EE-9908-69A0BFF6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6936D-3336-4251-9906-9FE3427E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19061-284C-4AC9-ADC4-BF52DA0B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0139B-3C45-4ED6-A2B9-772D3218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68B25-4164-4376-AD7E-E1450A19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17517-C66C-4419-81F8-41D6A219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73754-3B20-48EB-B51D-ABA27121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E1439-8BF2-47F8-9E3C-99E75D2D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427FD-B5EC-45A8-AABE-1D298394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6F595-9376-4092-AF45-F709A4D4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379-3ADE-4C44-9E16-3E21DE29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97AE1-1042-4016-893B-AFD508CB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27FB3-7AE5-497A-8483-49E0EEB7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7B31D-A660-4D3E-A73C-A0E70A15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6411B-2878-46DD-AD67-D4D9AB6F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F0625-95C2-452F-A23C-485AA1AB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6FFF6-11B4-4416-A0DC-0D33ED87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1EDC4-D72F-4F8A-8BCD-408733EE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1D609-9730-441D-8D48-DA79CB6B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8D8E3-B2D5-4262-A7C7-8F8D86BC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8CCC2-FB87-4E3B-BD61-CBD39281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5475-80CA-43D1-90E8-785FFAFD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8BF35-F7F9-4061-91A8-62C33303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EDCA7-FC86-4AAE-82FB-5022BA81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73889-3FA1-45F9-A225-2B63DCD2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662A2-D5D9-4E82-9A0E-D0BF14BA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BF022-C0EE-4764-88AB-B5904744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D4216-76F4-4A3C-B4F9-CB48776A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E1A8E-DEA8-49B1-AECD-04A7570B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04A23-5CED-43AC-A4B4-0AE69366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3E2C5-B494-4976-9B50-28216787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C8DEE-024B-43EA-89DC-4F1064FB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EC4D-9007-4C02-96A6-4CAE47C7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3A627-774E-4EBC-96DF-A2A60D4F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D08EA-69B8-4A30-A495-44F1A033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86074-BA0E-444B-AAA2-1927724C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A807F-0834-4E19-B045-49136F33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539F6-CACF-408D-B667-E70B6B2B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2D024-60FF-47CF-B2DB-D73FD2B5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65376-C01D-43A6-A292-001A1B9F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A73DA-220E-40EE-BA11-A908803C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96BA7-746A-4146-BEBE-67F99D26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DA5F38-3725-4E9D-B8AD-08C5BA48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011E-ED15-44C4-8F09-0F90CD98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66492-5113-41A3-AA50-32542212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58A29-7F1B-45F2-9E84-DA923A95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24D13-2703-4C9C-9387-A351BE56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4F622-DCDC-4B9E-9E7D-2A9FFC4B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F89D0-65D5-4B48-9F05-DD485BBE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4CBFB-F368-4192-A37F-2A480EDE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D71D2-946E-4440-9BEE-C4095EBA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180B5E-C7BA-46E2-A1D1-82E89150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44E624-CBB0-40E9-933A-BDB9301B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8A6D7-663C-4AE2-9EB9-823CF974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664B-013F-4251-8D4C-7840E37B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C6BC7-C365-42EB-8157-F9E79C96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43F281-718B-48CF-9639-E76406FB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F093F1-E83B-4CE0-A991-E5E48AD0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87933E-E43F-4C7D-9202-3E17ECF7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EB6C6-E5A8-46C7-A67C-A707629A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CB3A8-8825-42D8-AB21-A70D133D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81ADA2-AAEA-4E01-9069-B4E2B8AC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431F0-EF71-4E39-B8F8-D8BA9A97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94D8C-70CE-44B7-8B64-87F846EE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2F778E-EF0A-46FA-8216-4B11E1CA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25A6-B80B-414F-A242-AB4DE199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8BAECC-D12F-425F-BECE-BB8CEEBB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0E86C0-AA1F-4182-B2B8-2FA3D4F1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D9DE3F-96D6-4027-AE9A-3DB38AAB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0B96EB-B70A-4924-8ACB-990E7626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6E267-9D5C-45D8-AF86-D56509DE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91EC2B-EE62-41ED-B998-97723897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222B43-FE11-4090-9A8E-42ECCEB0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817F1D-195D-47F0-A73C-62BBEDDB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B6636E-C507-4114-BD40-2872807B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4870C-63BE-4A2B-928F-C384C049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ADCB-7DF9-4730-9863-BC383BA6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82D6A-DD29-4859-8AB7-BBB36D0A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D1A80A-AF56-480D-9F0F-F1943C69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1E14D1-E7C3-4F4B-92E3-77E7BE15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05D4BD-38A5-4B08-B0F7-232F0566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D14CD-02D2-4675-BEFC-9239D025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C064E-E652-48EB-A5B1-23302A77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3417A1-C10A-403A-841C-82927DBB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B428D0-68C8-436F-BECF-51689606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DEBFBA-DEDC-4688-84BD-8E621529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5D1F1F-80F2-4563-B441-AC1FF73A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DCEA-0222-48B4-A32F-89B24793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49FFD-173A-4A8E-8EC6-7B445F5E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B59B4-ADD4-45DE-A7E9-9301EF37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7E9FA6-E545-4358-892E-E6AFE335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2C8B35-1F83-434E-84E5-B3536863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53497-6335-4B19-82CB-10F8A913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52B61F-02A3-4F51-8F75-39FE101E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3EF33F-EAA1-4696-A079-5329C3F2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43A12B-2DED-40DA-AC11-A3EF16E0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65709A-7173-48F0-BC1F-A230B1A0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F50427-3421-4502-AF1F-50325A74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62D1-F4A1-44AA-BD3D-1A6EC90F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DE57-EDAB-4E8D-8BD5-4511FC16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4281A8-6EE8-48D0-B284-A243981C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978A1B-0802-40BA-9A3B-96A51385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74C14-4D42-4AF0-A900-666993B0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617DBC-F20F-4498-BB5A-BA5F5CDC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312DD8-C3CC-4AD9-B4E9-C6BF2289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0F3D23-9830-4299-A445-8CDA46D0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803F66-7DBC-4F1D-8653-7781DA22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2F9329-A807-4111-8DD3-78807A8C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AD971C-DAD9-4075-96AE-CCA52107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11DDA1-739C-4A42-A9E5-F9296E14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E319-D3B0-4BFD-A029-6F231361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1BD0A0-8A73-4B34-9C9A-EDE2C3C4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D6B2AE-A052-470A-A0F8-FB74BF80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659590-C2EC-4020-B988-A067AEB0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B7990-88B5-4BD5-9E23-CE3889AB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DCABD7-3FFD-4D5B-9CBF-396B8697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E8CFCA-1468-4C4B-ACBA-2776B3C6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D7ADA9-DB96-4B03-A25E-8E85BDB0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DA0525-F495-479D-9B7B-A8F7367A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52295B-9413-42E0-BE39-EC082958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FB7769-D9E3-4FA8-BE24-3FD168F6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C50A-CCA9-4525-9B63-ADCD2EC2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6359B9-0537-4C98-8618-276C9A1B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FD9A97-E199-4D2F-9210-426F23E8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4CF7A3-BC46-429C-86AC-4A7BCAA1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D0B31A-BCD9-4485-8508-1A65EEB1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96608A-A10A-44EB-B0F1-72228B1D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F20951-2D04-4A21-B5C6-77F3AB1B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EF7BD4-00F0-4F36-AE1E-ECD06D09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52EF75-5342-4274-8B5F-28862CA8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C8ED9F-E8E1-4342-9005-D8D35FDB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E26176-CE00-4849-A6D4-516EBC82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2631-E8B3-4AD4-B581-5ED87099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B31174-DA11-4245-B1C8-A49662FB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53CD0E-D491-48C5-BD58-D12EA945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F02F77-3A53-44BD-A620-71E2EA1A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DF9C51-31DC-4FAA-A680-D0F1E9B4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282232-7B4E-40B8-901B-28AD653F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269E62-1259-4988-9EDC-3F077FA3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02C5BF-58A0-4794-8988-E5E882D8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AE7DA1-4FF0-41BA-AEAB-B7DFC710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9B29FB-556A-478D-BB05-B3BAE9FB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A0D909-C786-4A5F-96AF-209A399E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A0D1-4BDC-4765-AC49-384EA684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018ED7-725A-4F52-82B1-9BD86B9A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0542C4-CCBC-4E6B-8761-703B1E38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634B37-25FD-4AFA-9832-5E055F0C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C57C40-320B-45EA-B894-AAF2BCC2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B09C4F-FF0B-4392-AF4F-B9C7CEB2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EEDBDE-6B8E-4755-B413-EC6060A9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06231A-5E9F-4FA2-A06A-19CC2248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7E41D4-C222-4563-AC14-70DE724E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7ADF85-973A-4C2A-96BB-ED7F8C25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BC47BC-AD0D-4BCE-B9D2-042B76B9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36D3-5C69-4B59-ABAC-3560E830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9A8C72-12C6-4FCA-A883-4BCE250B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26C833-E160-4693-8A53-39C5137E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75AFA2-AB23-4BBC-8630-876B9544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4DB5A-5559-4E1A-80D7-8016669B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D0702-6555-4CBC-8FC3-24AAFA4E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C41BC-21EB-48DC-A5A9-2944F940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F98AC-5478-4EA2-B9FE-285CC04D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68D0-1566-480A-A1B6-2AA5B5C8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529D6-E963-4C5C-B091-DF7C3F52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B704-D0E0-4E13-912E-AAD3B4D9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33041-A541-4167-AFC8-9BAE7BDB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E780-A039-4F33-AD4F-2B7FDFA4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5CF9B-E911-41CB-9C13-678A2375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9481-E4AF-4312-A3D4-F3EF826E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4B45E-27AE-45CA-AE82-7C32603B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09D8F-B82F-49DD-99D6-7E9E1ED3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A4424-4CEC-407D-A866-2B445AE3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90229-6541-4812-8F83-70DEE978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0B4-AEC4-4E25-9F98-8B4DF2FD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4C663-3E71-45E9-8AB7-04931398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AA995-53E8-4241-B1B1-48C07AA1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241A4-CE12-4479-8AC4-00FD5773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A9B13-15DE-4E52-9895-42C13E85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670FE-9C7A-48E0-9E47-32B9B52E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E73B5-C1EF-4D00-9C05-9A04DE82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9C444-BD6B-4565-A3B9-1DA9A9CA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FCCE3-E8E2-467B-9272-13FE2970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DCDCA-1D55-44B2-96D2-F04F849A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95A14-91E5-4D8A-AC88-0D81E59C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B36-E483-415D-92DE-6EC73145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2B72F-B88E-42F2-8F49-72C8B761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6781F-B70A-4F32-9824-16307114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DCF0B-D815-42B7-8B76-90968C52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13303-888A-4859-8117-3FD97967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A0318-152E-410B-8AA2-A4382D34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25C4E-0BE5-4A08-A5EA-A0C37BE3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7C87E-35E4-43C4-A35F-ADAEC759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5431A-A2E0-499B-A7BB-8400D97D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49C95-995A-4775-B805-93FB153F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E94CC-6725-4412-BC8E-9165B06D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51D-6EA9-4742-A008-92DEAEA6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CAA88-78E1-495E-B9C4-56D8C7CA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1F966-D316-4B45-9BA8-1EFFB45C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64DA5-ACB1-44C3-8B64-1790575E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00F62-FFBA-4112-AF43-5180510A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C35FB-B8A0-482D-96B5-AD8204ED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77B1E-6C57-4A1C-BE82-3D6FF04A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BE997-9D53-4AF8-9494-8212652B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0E40C-B2D3-4A87-BDBE-406F3D4C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2F282-D80F-4950-A1DD-5BB90B5B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5BB04-0DA3-47F6-8C17-FE1B67AA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5CC-C665-4592-906D-D6BBFB8F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603EB-FEB8-4B8A-8623-6BB72C6B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D336B-46A7-4B32-97FA-1234F34F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9EFBE-616F-4DAF-AC02-51E9CF5F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9A1B8-0829-4DB6-A092-D147A397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2F20C-8A28-4459-A270-34C91182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91C09-9EB9-456A-88CC-5289347A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B3AB3-581F-429A-BD97-6FD084FE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F8198-6600-4814-A84E-E65B43C9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B7269-153E-4D86-B32F-AEDBFDF9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1200C-3C2F-4ACB-B46F-8D842BB0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A31-CFE4-47A4-8ECD-E0745FC7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480EF-8E94-4B01-BBC2-5B116EF5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0DFB9-BC7F-49B8-8963-FA6B2F29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EC1BC-08B6-4950-BA2D-43A65BDE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AB84C-F2EA-4F79-ADEE-529E394A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8AF2B-F578-4FDC-8909-220D4573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F6876-83D9-4684-8511-40DAA0B1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29E48-A17F-4339-9F4C-32E46F21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B9B55-00D8-4D96-8938-8ADE6582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FE700-50B1-4A9D-8543-1767A30C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EAD0D-9EF5-43BB-B257-66CB6A7F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3B7-E473-4F3F-82EA-67C5D67D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6EB29-C0C1-4344-A2A2-054377FF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F1346-40EA-45E5-AB89-3211744E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78FB7-63A6-4FC6-871D-85A18B62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DC415-88DD-4C98-9DAC-08D99BF9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BAAB8-6658-4184-9F61-290FFEB5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C0C32-4410-43B2-8A57-DF4ACB32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F6B04-C75B-4374-96ED-6CD21CA1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0D8CC-34FB-4936-B126-CE2CC7FB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06D31-47DF-46A5-873C-0E232D53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D5D38-6AC5-44ED-9D0F-6D8C021A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A868-55A3-4ABE-886B-708B80A8E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670B-8A35-49E9-A675-F069DC94B8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3E2B-45F7-42A4-8746-A166F062BE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FE89-21FC-49E7-B749-BDA6A4FA5F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63C6-A246-454F-8A46-D1F9CF96C2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B061-47FC-4916-9B80-9523D9CEF1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F8FF-2DC5-40D3-B7E1-3B4B710E8B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7753-3570-4895-A3EA-E94E9EC25B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CC0C-B2AD-4E78-BF89-7B36C9953C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BB54-06F3-49E7-9184-C1403E6182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8393-1FC6-4354-89D9-DBFC9BE5CA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44E0-BF2A-45D9-A96D-F65FFCE74B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36B5-DD56-452D-BE67-359AC8CB7B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794D-1FF1-4E9F-8DA5-F2CA66695A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35FB-343D-4743-90BA-7C8C008292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3995-11EA-4F0A-92FC-5683243EB0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7BF2-6B4A-47F3-8012-46B8E40E27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3505-56F2-4940-918B-7A818B495E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36EC-597C-4760-B676-F71A379C95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E568-8B0D-4756-A36D-80EAC91FDA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A68A-82AB-4DFA-BD06-150E5A1DBD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AC7D-C552-4112-9D28-7AB87FAEA1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3D87-1D19-4326-BFB0-F125B812AE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D653-9438-4037-88A8-4B578C21F5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6B28-0B35-4E21-8DEA-2FDB612376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A3C5-E70B-4E65-AF60-0DB2A06EC3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EE47-0124-404E-9C6D-8901AB6DE4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0B93-FC71-47DD-A8CB-8FF8AA053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4D83-57FA-419A-AA1A-8755BC71C5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715C-30C0-4B48-92C6-FB2F0F4C36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1F83-59B4-4978-9318-7178C5724A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B94B-2F36-46D1-93F5-09692BB624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7D66-DDA8-4A52-BEAA-3EE4B6C059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3D74-DF18-48EF-84C9-E114940AEC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29AF-DE76-4BDE-B9D2-348CE64939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E0B4-A307-4A73-86FD-710BAAF82F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6BC1-5226-40C6-A8D6-32279613AE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1116-73FC-4790-AC65-53F7E89CF7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D76E-D34A-4680-AF95-A4B1B8F7FE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3BA8-B050-4343-B02D-C813B8EF06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190440" y="2252520"/>
            <a:ext cx="87631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2" descr=""/>
          <p:cNvPicPr/>
          <p:nvPr/>
        </p:nvPicPr>
        <p:blipFill>
          <a:blip r:embed="rId1"/>
          <a:stretch/>
        </p:blipFill>
        <p:spPr>
          <a:xfrm>
            <a:off x="128520" y="1481040"/>
            <a:ext cx="8886960" cy="3895920"/>
          </a:xfrm>
          <a:prstGeom prst="rect">
            <a:avLst/>
          </a:prstGeom>
          <a:ln w="0">
            <a:noFill/>
          </a:ln>
        </p:spPr>
      </p:pic>
      <p:sp>
        <p:nvSpPr>
          <p:cNvPr id="1069" name="矩形 2"/>
          <p:cNvSpPr/>
          <p:nvPr/>
        </p:nvSpPr>
        <p:spPr>
          <a:xfrm>
            <a:off x="571680" y="1571760"/>
            <a:ext cx="37908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3"/>
          <p:cNvSpPr/>
          <p:nvPr/>
        </p:nvSpPr>
        <p:spPr>
          <a:xfrm>
            <a:off x="500040" y="264312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4"/>
          <p:cNvSpPr/>
          <p:nvPr/>
        </p:nvSpPr>
        <p:spPr>
          <a:xfrm>
            <a:off x="571680" y="4000680"/>
            <a:ext cx="37908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2" descr=""/>
          <p:cNvPicPr/>
          <p:nvPr/>
        </p:nvPicPr>
        <p:blipFill>
          <a:blip r:embed="rId1"/>
          <a:stretch/>
        </p:blipFill>
        <p:spPr>
          <a:xfrm>
            <a:off x="147600" y="1181160"/>
            <a:ext cx="88488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2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8505720" cy="5629320"/>
          </a:xfrm>
          <a:prstGeom prst="rect">
            <a:avLst/>
          </a:prstGeom>
          <a:ln w="0">
            <a:noFill/>
          </a:ln>
        </p:spPr>
      </p:pic>
      <p:sp>
        <p:nvSpPr>
          <p:cNvPr id="1074" name="矩形 2"/>
          <p:cNvSpPr/>
          <p:nvPr/>
        </p:nvSpPr>
        <p:spPr>
          <a:xfrm>
            <a:off x="642960" y="2214720"/>
            <a:ext cx="379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3"/>
          <p:cNvSpPr/>
          <p:nvPr/>
        </p:nvSpPr>
        <p:spPr>
          <a:xfrm>
            <a:off x="725400" y="2579760"/>
            <a:ext cx="3812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4"/>
          <p:cNvSpPr/>
          <p:nvPr/>
        </p:nvSpPr>
        <p:spPr>
          <a:xfrm>
            <a:off x="714240" y="292896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5"/>
          <p:cNvSpPr/>
          <p:nvPr/>
        </p:nvSpPr>
        <p:spPr>
          <a:xfrm>
            <a:off x="714240" y="3214800"/>
            <a:ext cx="379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6"/>
          <p:cNvSpPr/>
          <p:nvPr/>
        </p:nvSpPr>
        <p:spPr>
          <a:xfrm>
            <a:off x="714240" y="357192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7"/>
          <p:cNvSpPr/>
          <p:nvPr/>
        </p:nvSpPr>
        <p:spPr>
          <a:xfrm>
            <a:off x="642960" y="4000680"/>
            <a:ext cx="379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8"/>
          <p:cNvSpPr/>
          <p:nvPr/>
        </p:nvSpPr>
        <p:spPr>
          <a:xfrm>
            <a:off x="642960" y="464328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矩形 9"/>
          <p:cNvSpPr/>
          <p:nvPr/>
        </p:nvSpPr>
        <p:spPr>
          <a:xfrm>
            <a:off x="714240" y="507204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10"/>
          <p:cNvSpPr/>
          <p:nvPr/>
        </p:nvSpPr>
        <p:spPr>
          <a:xfrm>
            <a:off x="642960" y="571500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11"/>
          <p:cNvSpPr/>
          <p:nvPr/>
        </p:nvSpPr>
        <p:spPr>
          <a:xfrm>
            <a:off x="642960" y="607212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020160" cy="21049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3" descr=""/>
          <p:cNvPicPr/>
          <p:nvPr/>
        </p:nvPicPr>
        <p:blipFill>
          <a:blip r:embed="rId2"/>
          <a:stretch/>
        </p:blipFill>
        <p:spPr>
          <a:xfrm>
            <a:off x="92160" y="3139920"/>
            <a:ext cx="8915400" cy="3486240"/>
          </a:xfrm>
          <a:prstGeom prst="rect">
            <a:avLst/>
          </a:prstGeom>
          <a:ln w="0">
            <a:noFill/>
          </a:ln>
        </p:spPr>
      </p:pic>
      <p:sp>
        <p:nvSpPr>
          <p:cNvPr id="1086" name="矩形 3"/>
          <p:cNvSpPr/>
          <p:nvPr/>
        </p:nvSpPr>
        <p:spPr>
          <a:xfrm>
            <a:off x="571680" y="6000840"/>
            <a:ext cx="3790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2" descr=""/>
          <p:cNvPicPr/>
          <p:nvPr/>
        </p:nvPicPr>
        <p:blipFill>
          <a:blip r:embed="rId1"/>
          <a:stretch/>
        </p:blipFill>
        <p:spPr>
          <a:xfrm>
            <a:off x="314280" y="828720"/>
            <a:ext cx="8829720" cy="6029280"/>
          </a:xfrm>
          <a:prstGeom prst="rect">
            <a:avLst/>
          </a:prstGeom>
          <a:ln w="0">
            <a:noFill/>
          </a:ln>
        </p:spPr>
      </p:pic>
      <p:sp>
        <p:nvSpPr>
          <p:cNvPr id="1088" name="矩形 2"/>
          <p:cNvSpPr/>
          <p:nvPr/>
        </p:nvSpPr>
        <p:spPr>
          <a:xfrm>
            <a:off x="714240" y="85716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3"/>
          <p:cNvSpPr/>
          <p:nvPr/>
        </p:nvSpPr>
        <p:spPr>
          <a:xfrm>
            <a:off x="714240" y="1500120"/>
            <a:ext cx="3794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4"/>
          <p:cNvSpPr/>
          <p:nvPr/>
        </p:nvSpPr>
        <p:spPr>
          <a:xfrm>
            <a:off x="642960" y="3357720"/>
            <a:ext cx="379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5"/>
          <p:cNvSpPr/>
          <p:nvPr/>
        </p:nvSpPr>
        <p:spPr>
          <a:xfrm>
            <a:off x="714240" y="585792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Picture 2" descr=""/>
          <p:cNvPicPr/>
          <p:nvPr/>
        </p:nvPicPr>
        <p:blipFill>
          <a:blip r:embed="rId1"/>
          <a:stretch/>
        </p:blipFill>
        <p:spPr>
          <a:xfrm>
            <a:off x="104760" y="857160"/>
            <a:ext cx="903924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"/>
          <p:cNvPicPr/>
          <p:nvPr/>
        </p:nvPicPr>
        <p:blipFill>
          <a:blip r:embed="rId1"/>
          <a:stretch/>
        </p:blipFill>
        <p:spPr>
          <a:xfrm>
            <a:off x="219240" y="1571760"/>
            <a:ext cx="8924760" cy="38862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3" descr=""/>
          <p:cNvPicPr/>
          <p:nvPr/>
        </p:nvPicPr>
        <p:blipFill>
          <a:blip r:embed="rId2"/>
          <a:stretch/>
        </p:blipFill>
        <p:spPr>
          <a:xfrm>
            <a:off x="1285920" y="5500800"/>
            <a:ext cx="3591000" cy="371520"/>
          </a:xfrm>
          <a:prstGeom prst="rect">
            <a:avLst/>
          </a:prstGeom>
          <a:ln w="0">
            <a:noFill/>
          </a:ln>
        </p:spPr>
      </p:pic>
      <p:sp>
        <p:nvSpPr>
          <p:cNvPr id="1095" name="矩形 3"/>
          <p:cNvSpPr/>
          <p:nvPr/>
        </p:nvSpPr>
        <p:spPr>
          <a:xfrm>
            <a:off x="571680" y="1571760"/>
            <a:ext cx="37908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矩形 4"/>
          <p:cNvSpPr/>
          <p:nvPr/>
        </p:nvSpPr>
        <p:spPr>
          <a:xfrm>
            <a:off x="642960" y="3357720"/>
            <a:ext cx="379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矩形 5"/>
          <p:cNvSpPr/>
          <p:nvPr/>
        </p:nvSpPr>
        <p:spPr>
          <a:xfrm>
            <a:off x="642960" y="407196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Picture 2" descr=""/>
          <p:cNvPicPr/>
          <p:nvPr/>
        </p:nvPicPr>
        <p:blipFill>
          <a:blip r:embed="rId1"/>
          <a:stretch/>
        </p:blipFill>
        <p:spPr>
          <a:xfrm>
            <a:off x="166680" y="1486080"/>
            <a:ext cx="8810640" cy="3886200"/>
          </a:xfrm>
          <a:prstGeom prst="rect">
            <a:avLst/>
          </a:prstGeom>
          <a:ln w="0">
            <a:noFill/>
          </a:ln>
        </p:spPr>
      </p:pic>
      <p:sp>
        <p:nvSpPr>
          <p:cNvPr id="1099" name="矩形 2"/>
          <p:cNvSpPr/>
          <p:nvPr/>
        </p:nvSpPr>
        <p:spPr>
          <a:xfrm>
            <a:off x="571680" y="1500120"/>
            <a:ext cx="3790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矩形 3"/>
          <p:cNvSpPr/>
          <p:nvPr/>
        </p:nvSpPr>
        <p:spPr>
          <a:xfrm>
            <a:off x="571680" y="2571840"/>
            <a:ext cx="3790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Picture 2" descr=""/>
          <p:cNvPicPr/>
          <p:nvPr/>
        </p:nvPicPr>
        <p:blipFill>
          <a:blip r:embed="rId1"/>
          <a:stretch/>
        </p:blipFill>
        <p:spPr>
          <a:xfrm>
            <a:off x="85680" y="776160"/>
            <a:ext cx="89726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2" descr=""/>
          <p:cNvPicPr/>
          <p:nvPr/>
        </p:nvPicPr>
        <p:blipFill>
          <a:blip r:embed="rId1"/>
          <a:stretch/>
        </p:blipFill>
        <p:spPr>
          <a:xfrm>
            <a:off x="81000" y="771480"/>
            <a:ext cx="8982000" cy="5315040"/>
          </a:xfrm>
          <a:prstGeom prst="rect">
            <a:avLst/>
          </a:prstGeom>
          <a:ln w="0">
            <a:noFill/>
          </a:ln>
        </p:spPr>
      </p:pic>
      <p:sp>
        <p:nvSpPr>
          <p:cNvPr id="1103" name="矩形 2"/>
          <p:cNvSpPr/>
          <p:nvPr/>
        </p:nvSpPr>
        <p:spPr>
          <a:xfrm>
            <a:off x="785880" y="2894040"/>
            <a:ext cx="32148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矩形 3"/>
          <p:cNvSpPr/>
          <p:nvPr/>
        </p:nvSpPr>
        <p:spPr>
          <a:xfrm>
            <a:off x="917640" y="3618000"/>
            <a:ext cx="28573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矩形 4"/>
          <p:cNvSpPr/>
          <p:nvPr/>
        </p:nvSpPr>
        <p:spPr>
          <a:xfrm>
            <a:off x="936720" y="4314960"/>
            <a:ext cx="428616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矩形 5"/>
          <p:cNvSpPr/>
          <p:nvPr/>
        </p:nvSpPr>
        <p:spPr>
          <a:xfrm>
            <a:off x="857160" y="5000760"/>
            <a:ext cx="514368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6"/>
          <p:cNvSpPr/>
          <p:nvPr/>
        </p:nvSpPr>
        <p:spPr>
          <a:xfrm>
            <a:off x="816120" y="5724360"/>
            <a:ext cx="688788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2504880" cy="609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8601120" cy="4962240"/>
          </a:xfrm>
          <a:prstGeom prst="rect">
            <a:avLst/>
          </a:prstGeom>
          <a:ln w="0">
            <a:noFill/>
          </a:ln>
        </p:spPr>
      </p:pic>
      <p:sp>
        <p:nvSpPr>
          <p:cNvPr id="1025" name="矩形 3"/>
          <p:cNvSpPr/>
          <p:nvPr/>
        </p:nvSpPr>
        <p:spPr>
          <a:xfrm>
            <a:off x="763560" y="6192720"/>
            <a:ext cx="5716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2406600" y="6178680"/>
            <a:ext cx="57168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4025880" y="6168960"/>
            <a:ext cx="5716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5694480" y="6186600"/>
            <a:ext cx="57132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7283520" y="6197760"/>
            <a:ext cx="57132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2" descr=""/>
          <p:cNvPicPr/>
          <p:nvPr/>
        </p:nvPicPr>
        <p:blipFill>
          <a:blip r:embed="rId1"/>
          <a:stretch/>
        </p:blipFill>
        <p:spPr>
          <a:xfrm>
            <a:off x="0" y="714240"/>
            <a:ext cx="8858160" cy="43578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3" descr=""/>
          <p:cNvPicPr/>
          <p:nvPr/>
        </p:nvPicPr>
        <p:blipFill>
          <a:blip r:embed="rId2"/>
          <a:stretch/>
        </p:blipFill>
        <p:spPr>
          <a:xfrm>
            <a:off x="0" y="5072040"/>
            <a:ext cx="8867880" cy="1785960"/>
          </a:xfrm>
          <a:prstGeom prst="rect">
            <a:avLst/>
          </a:prstGeom>
          <a:ln w="0">
            <a:noFill/>
          </a:ln>
        </p:spPr>
      </p:pic>
      <p:sp>
        <p:nvSpPr>
          <p:cNvPr id="1110" name="矩形 3"/>
          <p:cNvSpPr/>
          <p:nvPr/>
        </p:nvSpPr>
        <p:spPr>
          <a:xfrm>
            <a:off x="5500800" y="2214720"/>
            <a:ext cx="128592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4"/>
          <p:cNvSpPr/>
          <p:nvPr/>
        </p:nvSpPr>
        <p:spPr>
          <a:xfrm>
            <a:off x="2063880" y="2600280"/>
            <a:ext cx="128592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5"/>
          <p:cNvSpPr/>
          <p:nvPr/>
        </p:nvSpPr>
        <p:spPr>
          <a:xfrm>
            <a:off x="2849400" y="2994120"/>
            <a:ext cx="1285920" cy="257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6"/>
          <p:cNvSpPr/>
          <p:nvPr/>
        </p:nvSpPr>
        <p:spPr>
          <a:xfrm>
            <a:off x="6083280" y="3643200"/>
            <a:ext cx="128592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8"/>
          <p:cNvSpPr/>
          <p:nvPr/>
        </p:nvSpPr>
        <p:spPr>
          <a:xfrm>
            <a:off x="2343240" y="3951360"/>
            <a:ext cx="108576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9"/>
          <p:cNvSpPr/>
          <p:nvPr/>
        </p:nvSpPr>
        <p:spPr>
          <a:xfrm>
            <a:off x="2736720" y="4678200"/>
            <a:ext cx="928800" cy="301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10"/>
          <p:cNvSpPr/>
          <p:nvPr/>
        </p:nvSpPr>
        <p:spPr>
          <a:xfrm>
            <a:off x="3571920" y="5108400"/>
            <a:ext cx="92880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矩形 11"/>
          <p:cNvSpPr/>
          <p:nvPr/>
        </p:nvSpPr>
        <p:spPr>
          <a:xfrm>
            <a:off x="6215040" y="5464080"/>
            <a:ext cx="1143000" cy="330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矩形 12"/>
          <p:cNvSpPr/>
          <p:nvPr/>
        </p:nvSpPr>
        <p:spPr>
          <a:xfrm>
            <a:off x="1440000" y="5811840"/>
            <a:ext cx="114300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矩形 13"/>
          <p:cNvSpPr/>
          <p:nvPr/>
        </p:nvSpPr>
        <p:spPr>
          <a:xfrm>
            <a:off x="1643040" y="6215040"/>
            <a:ext cx="2000160" cy="289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Picture 2" descr=""/>
          <p:cNvPicPr/>
          <p:nvPr/>
        </p:nvPicPr>
        <p:blipFill>
          <a:blip r:embed="rId1"/>
          <a:stretch/>
        </p:blipFill>
        <p:spPr>
          <a:xfrm>
            <a:off x="162000" y="1133640"/>
            <a:ext cx="8820000" cy="4590720"/>
          </a:xfrm>
          <a:prstGeom prst="rect">
            <a:avLst/>
          </a:prstGeom>
          <a:ln w="0">
            <a:noFill/>
          </a:ln>
        </p:spPr>
      </p:pic>
      <p:sp>
        <p:nvSpPr>
          <p:cNvPr id="1121" name="矩形 2"/>
          <p:cNvSpPr/>
          <p:nvPr/>
        </p:nvSpPr>
        <p:spPr>
          <a:xfrm>
            <a:off x="3214800" y="1857240"/>
            <a:ext cx="62064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矩形 3"/>
          <p:cNvSpPr/>
          <p:nvPr/>
        </p:nvSpPr>
        <p:spPr>
          <a:xfrm>
            <a:off x="4143240" y="1857240"/>
            <a:ext cx="135756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矩形 4"/>
          <p:cNvSpPr/>
          <p:nvPr/>
        </p:nvSpPr>
        <p:spPr>
          <a:xfrm>
            <a:off x="5929200" y="1857240"/>
            <a:ext cx="92880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5"/>
          <p:cNvSpPr/>
          <p:nvPr/>
        </p:nvSpPr>
        <p:spPr>
          <a:xfrm>
            <a:off x="857160" y="2571840"/>
            <a:ext cx="57168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6"/>
          <p:cNvSpPr/>
          <p:nvPr/>
        </p:nvSpPr>
        <p:spPr>
          <a:xfrm>
            <a:off x="1857240" y="2571840"/>
            <a:ext cx="78588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矩形 7"/>
          <p:cNvSpPr/>
          <p:nvPr/>
        </p:nvSpPr>
        <p:spPr>
          <a:xfrm>
            <a:off x="4429080" y="3286080"/>
            <a:ext cx="100008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矩形 8"/>
          <p:cNvSpPr/>
          <p:nvPr/>
        </p:nvSpPr>
        <p:spPr>
          <a:xfrm>
            <a:off x="5715000" y="3286080"/>
            <a:ext cx="92880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9"/>
          <p:cNvSpPr/>
          <p:nvPr/>
        </p:nvSpPr>
        <p:spPr>
          <a:xfrm>
            <a:off x="6775560" y="3251160"/>
            <a:ext cx="92844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矩形 10"/>
          <p:cNvSpPr/>
          <p:nvPr/>
        </p:nvSpPr>
        <p:spPr>
          <a:xfrm>
            <a:off x="7929720" y="3260880"/>
            <a:ext cx="92844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矩形 11"/>
          <p:cNvSpPr/>
          <p:nvPr/>
        </p:nvSpPr>
        <p:spPr>
          <a:xfrm>
            <a:off x="1500120" y="4343400"/>
            <a:ext cx="135756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矩形 12"/>
          <p:cNvSpPr/>
          <p:nvPr/>
        </p:nvSpPr>
        <p:spPr>
          <a:xfrm>
            <a:off x="3268800" y="4307040"/>
            <a:ext cx="620640" cy="301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13"/>
          <p:cNvSpPr/>
          <p:nvPr/>
        </p:nvSpPr>
        <p:spPr>
          <a:xfrm>
            <a:off x="4786200" y="4357800"/>
            <a:ext cx="621000" cy="271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矩形 14"/>
          <p:cNvSpPr/>
          <p:nvPr/>
        </p:nvSpPr>
        <p:spPr>
          <a:xfrm>
            <a:off x="1785960" y="5000760"/>
            <a:ext cx="62064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15"/>
          <p:cNvSpPr/>
          <p:nvPr/>
        </p:nvSpPr>
        <p:spPr>
          <a:xfrm>
            <a:off x="3857760" y="5035680"/>
            <a:ext cx="1071360" cy="301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16"/>
          <p:cNvSpPr/>
          <p:nvPr/>
        </p:nvSpPr>
        <p:spPr>
          <a:xfrm>
            <a:off x="5429160" y="5000760"/>
            <a:ext cx="62064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3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8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3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8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3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8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3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8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Picture 3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9067680" cy="58672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4" descr=""/>
          <p:cNvPicPr/>
          <p:nvPr/>
        </p:nvPicPr>
        <p:blipFill>
          <a:blip r:embed="rId2"/>
          <a:stretch/>
        </p:blipFill>
        <p:spPr>
          <a:xfrm>
            <a:off x="428760" y="714240"/>
            <a:ext cx="3247920" cy="343080"/>
          </a:xfrm>
          <a:prstGeom prst="rect">
            <a:avLst/>
          </a:prstGeom>
          <a:ln w="0">
            <a:noFill/>
          </a:ln>
        </p:spPr>
      </p:pic>
      <p:sp>
        <p:nvSpPr>
          <p:cNvPr id="1138" name="矩形 3"/>
          <p:cNvSpPr/>
          <p:nvPr/>
        </p:nvSpPr>
        <p:spPr>
          <a:xfrm>
            <a:off x="1000080" y="5429160"/>
            <a:ext cx="92880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4"/>
          <p:cNvSpPr/>
          <p:nvPr/>
        </p:nvSpPr>
        <p:spPr>
          <a:xfrm>
            <a:off x="3571920" y="5500800"/>
            <a:ext cx="906480" cy="231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5"/>
          <p:cNvSpPr/>
          <p:nvPr/>
        </p:nvSpPr>
        <p:spPr>
          <a:xfrm>
            <a:off x="7072200" y="5500800"/>
            <a:ext cx="906480" cy="231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6"/>
          <p:cNvSpPr/>
          <p:nvPr/>
        </p:nvSpPr>
        <p:spPr>
          <a:xfrm>
            <a:off x="903240" y="5832360"/>
            <a:ext cx="905040" cy="271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7"/>
          <p:cNvSpPr/>
          <p:nvPr/>
        </p:nvSpPr>
        <p:spPr>
          <a:xfrm>
            <a:off x="3571920" y="5857920"/>
            <a:ext cx="2000160" cy="231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8"/>
          <p:cNvSpPr/>
          <p:nvPr/>
        </p:nvSpPr>
        <p:spPr>
          <a:xfrm>
            <a:off x="6846840" y="5850000"/>
            <a:ext cx="905040" cy="230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矩形 9"/>
          <p:cNvSpPr/>
          <p:nvPr/>
        </p:nvSpPr>
        <p:spPr>
          <a:xfrm>
            <a:off x="928800" y="6215040"/>
            <a:ext cx="1143000" cy="231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矩形 10"/>
          <p:cNvSpPr/>
          <p:nvPr/>
        </p:nvSpPr>
        <p:spPr>
          <a:xfrm>
            <a:off x="3571920" y="6215040"/>
            <a:ext cx="1357200" cy="231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11"/>
          <p:cNvSpPr/>
          <p:nvPr/>
        </p:nvSpPr>
        <p:spPr>
          <a:xfrm>
            <a:off x="7000920" y="6183360"/>
            <a:ext cx="1049400" cy="274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矩形 12"/>
          <p:cNvSpPr/>
          <p:nvPr/>
        </p:nvSpPr>
        <p:spPr>
          <a:xfrm>
            <a:off x="984240" y="6515280"/>
            <a:ext cx="1087560" cy="245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5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0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5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0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5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0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5" dur="1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0" dur="1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5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0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Picture 3" descr=""/>
          <p:cNvPicPr/>
          <p:nvPr/>
        </p:nvPicPr>
        <p:blipFill>
          <a:blip r:embed="rId1"/>
          <a:stretch/>
        </p:blipFill>
        <p:spPr>
          <a:xfrm>
            <a:off x="228600" y="1862280"/>
            <a:ext cx="868680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Picture 2" descr=""/>
          <p:cNvPicPr/>
          <p:nvPr/>
        </p:nvPicPr>
        <p:blipFill>
          <a:blip r:embed="rId1"/>
          <a:stretch/>
        </p:blipFill>
        <p:spPr>
          <a:xfrm>
            <a:off x="162000" y="1771560"/>
            <a:ext cx="8820000" cy="3314880"/>
          </a:xfrm>
          <a:prstGeom prst="rect">
            <a:avLst/>
          </a:prstGeom>
          <a:ln w="0">
            <a:noFill/>
          </a:ln>
        </p:spPr>
      </p:pic>
      <p:sp>
        <p:nvSpPr>
          <p:cNvPr id="1150" name="矩形 2"/>
          <p:cNvSpPr/>
          <p:nvPr/>
        </p:nvSpPr>
        <p:spPr>
          <a:xfrm>
            <a:off x="642960" y="1785960"/>
            <a:ext cx="850104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矩形 3"/>
          <p:cNvSpPr/>
          <p:nvPr/>
        </p:nvSpPr>
        <p:spPr>
          <a:xfrm>
            <a:off x="214200" y="2193840"/>
            <a:ext cx="8715600" cy="274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4"/>
          <p:cNvSpPr/>
          <p:nvPr/>
        </p:nvSpPr>
        <p:spPr>
          <a:xfrm>
            <a:off x="168120" y="2522520"/>
            <a:ext cx="871560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矩形 5"/>
          <p:cNvSpPr/>
          <p:nvPr/>
        </p:nvSpPr>
        <p:spPr>
          <a:xfrm>
            <a:off x="171360" y="2886120"/>
            <a:ext cx="8715600" cy="291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矩形 6"/>
          <p:cNvSpPr/>
          <p:nvPr/>
        </p:nvSpPr>
        <p:spPr>
          <a:xfrm>
            <a:off x="165240" y="3228840"/>
            <a:ext cx="871524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矩形 7"/>
          <p:cNvSpPr/>
          <p:nvPr/>
        </p:nvSpPr>
        <p:spPr>
          <a:xfrm>
            <a:off x="163440" y="3606840"/>
            <a:ext cx="8715600" cy="279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矩形 8"/>
          <p:cNvSpPr/>
          <p:nvPr/>
        </p:nvSpPr>
        <p:spPr>
          <a:xfrm>
            <a:off x="214200" y="3940200"/>
            <a:ext cx="871560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9"/>
          <p:cNvSpPr/>
          <p:nvPr/>
        </p:nvSpPr>
        <p:spPr>
          <a:xfrm>
            <a:off x="214200" y="4286160"/>
            <a:ext cx="871560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0"/>
          <p:cNvSpPr/>
          <p:nvPr/>
        </p:nvSpPr>
        <p:spPr>
          <a:xfrm>
            <a:off x="0" y="4643280"/>
            <a:ext cx="5929200" cy="293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7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2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2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7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2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7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2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7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157320" y="1523880"/>
            <a:ext cx="8829360" cy="381024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500040" y="185724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"/>
          <p:cNvSpPr/>
          <p:nvPr/>
        </p:nvSpPr>
        <p:spPr>
          <a:xfrm>
            <a:off x="571680" y="2214720"/>
            <a:ext cx="37908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500040" y="328608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500040" y="364320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500040" y="4000680"/>
            <a:ext cx="379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4" descr=""/>
          <p:cNvPicPr/>
          <p:nvPr/>
        </p:nvPicPr>
        <p:blipFill>
          <a:blip r:embed="rId1"/>
          <a:stretch/>
        </p:blipFill>
        <p:spPr>
          <a:xfrm>
            <a:off x="528480" y="1300320"/>
            <a:ext cx="8087040" cy="4257360"/>
          </a:xfrm>
          <a:prstGeom prst="rect">
            <a:avLst/>
          </a:prstGeom>
          <a:ln w="0">
            <a:noFill/>
          </a:ln>
        </p:spPr>
      </p:pic>
      <p:sp>
        <p:nvSpPr>
          <p:cNvPr id="1037" name="矩形 2"/>
          <p:cNvSpPr/>
          <p:nvPr/>
        </p:nvSpPr>
        <p:spPr>
          <a:xfrm>
            <a:off x="785880" y="2071800"/>
            <a:ext cx="379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"/>
          <p:cNvSpPr/>
          <p:nvPr/>
        </p:nvSpPr>
        <p:spPr>
          <a:xfrm>
            <a:off x="857160" y="307188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4"/>
          <p:cNvSpPr/>
          <p:nvPr/>
        </p:nvSpPr>
        <p:spPr>
          <a:xfrm>
            <a:off x="785880" y="4500720"/>
            <a:ext cx="379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714240" y="2214720"/>
            <a:ext cx="7648560" cy="17143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2000160" y="4000680"/>
            <a:ext cx="3915000" cy="657000"/>
          </a:xfrm>
          <a:prstGeom prst="rect">
            <a:avLst/>
          </a:prstGeom>
          <a:ln w="0">
            <a:noFill/>
          </a:ln>
        </p:spPr>
      </p:pic>
      <p:sp>
        <p:nvSpPr>
          <p:cNvPr id="1042" name="矩形 3"/>
          <p:cNvSpPr/>
          <p:nvPr/>
        </p:nvSpPr>
        <p:spPr>
          <a:xfrm>
            <a:off x="1071720" y="2214720"/>
            <a:ext cx="37908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4"/>
          <p:cNvSpPr/>
          <p:nvPr/>
        </p:nvSpPr>
        <p:spPr>
          <a:xfrm>
            <a:off x="1000080" y="328608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209520" y="714240"/>
            <a:ext cx="8934480" cy="597240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642960" y="1071720"/>
            <a:ext cx="379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714240" y="214308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4"/>
          <p:cNvSpPr/>
          <p:nvPr/>
        </p:nvSpPr>
        <p:spPr>
          <a:xfrm>
            <a:off x="714240" y="2857680"/>
            <a:ext cx="379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"/>
          <p:cNvSpPr/>
          <p:nvPr/>
        </p:nvSpPr>
        <p:spPr>
          <a:xfrm>
            <a:off x="714240" y="3857760"/>
            <a:ext cx="379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6"/>
          <p:cNvSpPr/>
          <p:nvPr/>
        </p:nvSpPr>
        <p:spPr>
          <a:xfrm>
            <a:off x="642960" y="5643720"/>
            <a:ext cx="379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8591400" cy="5486400"/>
          </a:xfrm>
          <a:prstGeom prst="rect">
            <a:avLst/>
          </a:prstGeom>
          <a:ln w="0">
            <a:noFill/>
          </a:ln>
        </p:spPr>
      </p:pic>
      <p:sp>
        <p:nvSpPr>
          <p:cNvPr id="1051" name="矩形 2"/>
          <p:cNvSpPr/>
          <p:nvPr/>
        </p:nvSpPr>
        <p:spPr>
          <a:xfrm>
            <a:off x="714240" y="200016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3"/>
          <p:cNvSpPr/>
          <p:nvPr/>
        </p:nvSpPr>
        <p:spPr>
          <a:xfrm>
            <a:off x="714240" y="300024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"/>
          <p:cNvSpPr/>
          <p:nvPr/>
        </p:nvSpPr>
        <p:spPr>
          <a:xfrm>
            <a:off x="642960" y="407196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"/>
          <p:cNvSpPr/>
          <p:nvPr/>
        </p:nvSpPr>
        <p:spPr>
          <a:xfrm>
            <a:off x="714240" y="5143680"/>
            <a:ext cx="379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8934480" cy="46004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2"/>
          <a:stretch/>
        </p:blipFill>
        <p:spPr>
          <a:xfrm>
            <a:off x="214200" y="5500800"/>
            <a:ext cx="6562800" cy="647640"/>
          </a:xfrm>
          <a:prstGeom prst="rect">
            <a:avLst/>
          </a:prstGeom>
          <a:ln w="0">
            <a:noFill/>
          </a:ln>
        </p:spPr>
      </p:pic>
      <p:sp>
        <p:nvSpPr>
          <p:cNvPr id="1057" name="矩形 3"/>
          <p:cNvSpPr/>
          <p:nvPr/>
        </p:nvSpPr>
        <p:spPr>
          <a:xfrm>
            <a:off x="428760" y="85716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4"/>
          <p:cNvSpPr/>
          <p:nvPr/>
        </p:nvSpPr>
        <p:spPr>
          <a:xfrm>
            <a:off x="500040" y="2214720"/>
            <a:ext cx="379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"/>
          <p:cNvSpPr/>
          <p:nvPr/>
        </p:nvSpPr>
        <p:spPr>
          <a:xfrm>
            <a:off x="428760" y="3643200"/>
            <a:ext cx="3794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6"/>
          <p:cNvSpPr/>
          <p:nvPr/>
        </p:nvSpPr>
        <p:spPr>
          <a:xfrm>
            <a:off x="428760" y="4714920"/>
            <a:ext cx="379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2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7086600" cy="18288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7410600" y="928800"/>
            <a:ext cx="1733400" cy="18381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"/>
          <p:cNvPicPr/>
          <p:nvPr/>
        </p:nvPicPr>
        <p:blipFill>
          <a:blip r:embed="rId3"/>
          <a:stretch/>
        </p:blipFill>
        <p:spPr>
          <a:xfrm>
            <a:off x="114480" y="2868480"/>
            <a:ext cx="8962920" cy="3248280"/>
          </a:xfrm>
          <a:prstGeom prst="rect">
            <a:avLst/>
          </a:prstGeom>
          <a:ln w="0">
            <a:noFill/>
          </a:ln>
        </p:spPr>
      </p:pic>
      <p:sp>
        <p:nvSpPr>
          <p:cNvPr id="1064" name="矩形 4"/>
          <p:cNvSpPr/>
          <p:nvPr/>
        </p:nvSpPr>
        <p:spPr>
          <a:xfrm>
            <a:off x="571680" y="1000080"/>
            <a:ext cx="3790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5"/>
          <p:cNvSpPr/>
          <p:nvPr/>
        </p:nvSpPr>
        <p:spPr>
          <a:xfrm>
            <a:off x="571680" y="2428920"/>
            <a:ext cx="3790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6"/>
          <p:cNvSpPr/>
          <p:nvPr/>
        </p:nvSpPr>
        <p:spPr>
          <a:xfrm>
            <a:off x="571680" y="4071960"/>
            <a:ext cx="3790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7"/>
          <p:cNvSpPr/>
          <p:nvPr/>
        </p:nvSpPr>
        <p:spPr>
          <a:xfrm>
            <a:off x="571680" y="5072040"/>
            <a:ext cx="3790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5:0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