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9D85-16AE-468E-AFBB-33E36845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3CEE-B93F-41D8-9A4A-9CE879AB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7D99C-095A-4E65-8E6F-2DCCAA45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DCC13-6A3F-43FE-A1CA-F734E1EF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C0E67-8309-45C3-9EA1-1EC720E4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E20D6-4635-4CED-B26E-4B135782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EB0F2-4045-4678-AC30-31A329E7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2DA53-681E-4E6D-ACEC-7501B47F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1AEA8-8B7E-437D-BA4B-997CAE72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822DE-FB72-44A5-9B15-9EA060B2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A2942-5185-4D02-B604-BD5B2249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689A2-3C40-41EC-B410-F4275E79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1C07-FFDB-4C2E-987B-AC237345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56079-E861-4005-A782-23FD0547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93826-D3C4-4153-B13B-598CB539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0AA66-C5A9-4705-BA15-8EA2262C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BDA43-51CE-4516-BBEB-CBF6C47A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D11E6-9B1B-40DB-BB05-D834FAEF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63547-BA26-4330-8A57-81513CB5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211D5-7BA0-433D-83C4-C4F6432C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BBF5E-9DBA-43EB-BDCB-50A3B592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714F6-7047-4875-8A72-17C05CD4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ACFA5-4ADD-469E-BD3D-5637057C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A2DB-3BA6-48FD-949C-9CD4CF68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455B1-BFFF-4D5C-BA7D-0268937E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AEC08-0C86-47C6-BF7A-9570AC77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5ABA2-D173-49C5-B679-633F71BF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B9DA9-D166-4CF4-BE2E-4CD40099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3290D-3926-457E-8B05-24AC630E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CA2CB-301D-44CE-94B0-4EB8543A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86718-1507-4944-99FD-0796F7E3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6CB53-723F-41C5-A8E4-3BCAC384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86C66-6BDF-4FE2-9EDA-65B4989D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91F51-E2BD-4D8E-B0CE-62CCE167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4B99-E7E6-4EF5-A8F9-DDD78957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D0C53-5444-421C-8B99-5885243A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7855C-61A7-49EB-B53F-AA745CBC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1175B-B707-4F21-9F80-DE6B9657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F9021-0084-4081-B628-1067EFB5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1CEB3-8D81-4E13-BD59-A56CFEF5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9CD2D-3FEB-49C9-B190-7D7556A1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97304-66A5-4E7D-B995-048F0E01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E208E-8ED1-4C79-BD8A-2FC6139A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F1569-2639-4FE3-9D9B-4A1B696E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D4B5F-4899-4257-ABA1-36164B34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02A0-A81D-4C33-9C3E-BCFA356D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372C4-7CBC-4D12-A52F-767CFA61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794DB-23F9-404B-90CF-71BF63C1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DF58E-66DE-4C6F-B25B-ECE8B05E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73ED3-64BF-4C91-A558-800C0C18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013B0-B859-4A1A-BEB9-03F4E41A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54224-B5E5-4AD8-8116-08EB83EB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0577F-6A75-45B8-ACC8-C62C4E40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5BE2A-6A69-47CE-982B-88C604FD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A9595-27D2-4C45-AF51-E68A796C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58914-746F-4868-92EB-965A3498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132B-E544-4319-A06E-B69C6B86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BF617B-5E7D-4E0B-B169-E3888623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325EE7-D10F-4E2D-8DCE-0E307004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E943E-18ED-4BE5-BBCB-ACC160D7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D0CA4-7C2E-4940-8B89-0B2208DF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EFF866-DD40-4098-A8F4-F4639395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C32B8-0AD1-46D9-839A-FBEC6996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E206B-D273-4D07-BAE5-0E582904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2CBA73-FC0D-4495-B28F-A4CF886B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0C0DB3-B815-4207-AE91-65457C86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603EE-A5A7-4211-BE83-62F12471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86E6-BF18-4968-B856-A7D0A2AB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98DD4D-43A5-4EF9-B03B-12E5E602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1C798-C9B0-404F-9732-1044A147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F7895C-14F2-43DA-A4B6-F5DDECF7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1340B-6F1C-4D4F-BAEA-7A95CADE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CD7214-5F87-44CF-A1EC-AD0DC7C2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D0C4C9-B862-408C-9E9D-83B1851B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343E3F-865F-4A74-B114-36418306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38CA82-D11D-4CBC-BD12-E6DCE100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4293E3-2306-4CED-9AD5-367A7947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5DF05-0463-4B61-9CA4-03EEEAD0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B3B0-2500-4836-A2BF-4EC8B2D2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7F5646-962C-424C-AA3C-1D5A7C27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8B4F88-661C-435B-9734-7FE52154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D70F1E-9DCF-410F-B4B3-66FD1B86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63E791-AC19-4374-93F2-7D208D02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62CCF3-1A79-4CAE-9583-757175F3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0982C4-1412-4CD9-9555-134AB420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68830B-EEC9-4C13-9BD5-FD85D368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91525C-7402-4ED5-AB7C-080F5F76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C62C3F-2F0F-409E-B75D-63A84D76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A791A0-E2B0-4C16-8270-C835B3F4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B81F-9879-4E55-93C8-3DD1B52F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30B699-FE4B-436C-B402-CD98170D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82446B-BF1C-4904-88C8-5E948041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55FA39-8A27-41D6-AA0D-7B657FA4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4C8AA0-FA86-449A-B290-60F8D310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27D403-3955-4844-A93A-E0B666BD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BD853A-4A59-44C5-A979-4D860E76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937360-893D-41FA-A342-5B742C93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9D3B7A-55D3-4386-B33B-3B2DDEA6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97A466-A380-4618-9E9B-0E760C53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C3DD94-BE0F-4C84-9F59-432BEE02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26D2-837D-43C7-A33F-A2F7B12D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FB5CEC-C675-444F-8113-1F6D3518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311A8D-B9DE-4AA4-B10D-A123E628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05315B-5690-4BCA-AABF-4409E33C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7F7582-9B9E-4EA4-A0EF-144BF6CB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42C849-4364-473B-B69E-AE8C94F5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B7DC83-F13E-4439-A479-EE9CEE10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56D08-AF24-49D4-9103-FA028DB7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13500F-71FB-4F6F-AB54-06BAF855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8059F2-9B9A-4682-B11E-43ECBA90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2E6F24-DF0D-42E1-B047-B66718B5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978-657C-4ADE-AA08-D3F7DDF2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D3D5-FC0D-4542-BF5B-744F1958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A6137D-28D2-44DD-B1DC-504F6B29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AB0495-326B-4BFB-BC33-6AFDEACF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832194-9C96-4FA9-A78C-E5D32E43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9DC128-AF88-4326-AAF5-DC4BAECE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27B7E5-671F-4EBF-99B3-71D9341A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9596A9-BF74-4DD7-BC96-F5304535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0678B9-5738-4E70-8C9C-127E5213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28A3FE-7D8E-42DD-B12F-E5A11A20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A09696-B277-412C-83D7-E639DE41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262F51-1BDF-4C3B-808A-BC9EE92E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2A0B-B105-4B6B-AF2A-B7F27AE1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16C233-9DCA-4FD7-98D9-3E9CE28B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19F823-655C-437E-86D8-F4144D58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17126F-37DD-4BCF-B8AE-AE1FF258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4AA16C-8C4C-4C02-BCFD-8851BA2D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FD25A0-2633-4ACA-9AD8-97693356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4BB09C-AC76-4F95-A22D-B41202FF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4B92D3-BF30-4E21-9772-3B9C62A3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9702A6-D2BF-43BF-BD08-B1904C4F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5FD09D-0F49-41A8-9E5F-D2B8F5C9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45EAA7-380F-456C-981A-F47A7E67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963A-5760-4FB6-A36B-783F6C1C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BD6402-4D00-43B7-A450-EFF9F4E7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2CBFE8-A835-496B-94D1-83A267EC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20437C-BDB0-4DFC-8055-F17DD1EF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5C0264-F163-4B48-8506-04CD4DF5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B794C8-F576-451E-A2BD-3E89D231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57BF12-7779-4CAE-937D-991C2C54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BA1A94-CC81-41BF-8BD6-2278422F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5BB11C-FF53-47F9-8DA3-78821054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FEABBE-289C-4A4E-BD9E-EFCC04A2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E5845D-A350-4321-9A89-60AAC3A7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3DB2-4C25-41A7-B581-B2827C49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E8C6F9-AFC3-4245-9A1C-00728FE5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0E453B-8C13-4F04-837F-4ABEE05E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6A32B7-549E-441E-8496-FC7E8BC0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EB262B-65A3-4F0D-9164-45713209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E32180-8A1F-4CF1-8DCB-C223245C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F959D8-2CA9-4C5B-BA5A-63E76141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2DCC13-39C4-4B95-ABAD-64204332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CD2311-95E1-4C01-8C16-0B9B93DF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2C17CD-FB92-42A6-B8D0-9E241389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FC66C2-2729-4B0F-9F62-1E111209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F681-C383-4363-B837-C136BD05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F6C700-B553-4EFC-B6E5-A4A8F99D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BC4E7E-5320-4774-9A86-A9C433B6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8BA028-26BD-46B1-915C-11166533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A46083-4761-4F94-8A10-BE46F4CE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337147-C4B7-4272-B691-6D300AB8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AA4C46-815D-4CAC-A159-3BA16390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A0BFF8-1F41-43A7-B89B-9DB1B1DD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EFDD40-011C-473A-89BF-CC7EE24D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31D183-970A-48C8-B3C2-A3BAD67C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CF6ADF-5A48-4D79-B4D9-CD575E07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0F801-31E6-405B-9585-A68A17C9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85777B-A27A-483E-B505-35A41CFC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FD7A07-6904-49EA-9FDB-66242D14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E6C992-60CE-41FB-A78A-A976D5A5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B07D3-498A-4A2C-AD4B-C068E6EA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251FB-D511-474D-8F9E-FAE41CC2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460B0-D555-4730-B6B3-905430D8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1E7ED-D300-4668-ADDF-BE1768F3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48E-1051-4D5B-B3A6-885EF1D8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89172-0C3B-4C72-92A9-639B2218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B6BE-A26C-42C0-9A31-27DA6A63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7F425-D4A7-40F5-8730-CD793C00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2CC80-EE01-4297-895E-DE63611D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45670-6A38-49F6-B9AA-A576643E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1A6AB-B82F-48F8-9D60-72060F90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BD3CF-3333-4302-833C-2692D07E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CE8E0-0845-47D2-9809-A03404D5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42155-2DEB-4E5E-9E82-A9A0B985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C2273-D76A-43EA-97C9-723F796F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979-3608-46DA-92FF-D40370B1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97663-34A4-42AF-8357-790E28DD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FCEBF-456B-4770-84E1-142FD589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BFB13-2580-40E1-BF92-69879442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FAEC1-E402-47BF-A98A-3180049C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0B311-AA43-4743-8E7B-457598AE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11F16-3058-45CC-9EBF-D6770BCA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AFB7F-481F-436F-BE26-0665F945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3A3F1-1D92-40AC-B2E8-D9426F4D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E6F21-69DC-457C-9677-08EAF898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CB140-8D56-48F3-9736-F5CB99D4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EC3-FB44-4B3B-B5AE-3DCA2C43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F2EF9-A563-4726-82BE-7599B7EF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F25CE-0969-416D-AAA0-94FC5EDA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75DCA-5786-4CCE-9E49-FC9E6711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AA4C8-7CB3-4638-A56A-763AEBE1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5B444-0AFD-43DF-B9A9-379ECCAE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67B1D-025D-429E-B7EE-A850713A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AB20C-1238-40E0-93B9-F801046B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6724F-8EC1-4255-8B6C-66429080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E5AA4-9749-47B8-A052-4AE30ADD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2BF90-50AA-4681-AF31-B263D21E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CDE-E114-416E-B002-9AA90FCC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71A21-DC2D-47EC-895E-BCF1DFD6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1EAD0-FE25-4DB9-A19D-16FAD73B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DC86F-0D8F-4273-9FF8-707B3BD6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FB31E-3602-41D1-AAA2-95D46BAD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0296F-0DAB-4A53-946A-A4CEEC2A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905EE-DBBE-4DA4-BC63-99DB662B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50847-E57A-4DE6-9557-ACDA53DA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5F380-730F-4F58-8D14-C457F32F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4669B-863A-4C69-BD58-D965E6A6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CE654-437D-4C75-BF32-F3102533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88A-F17D-42E7-AAE9-174175D0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77989-1D30-486B-8FB3-F39499F2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7CECF-3ABD-415B-AA45-94FE0039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5A087-8C91-449D-95F8-5D0767B5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1C93E-E82E-4C92-84A8-503A38DF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20D8A-AE18-4590-B227-C680F80B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173B6-1E97-4E29-A8ED-4C5C5CF1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8E28F-CCFC-4EF2-9DAB-21B2B56B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36869-2E34-414A-A073-02B0C3E2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CB713-31F2-4F21-AA03-C618CD51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D2DC4-C891-4664-9D9F-351421C5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FA93-7015-4F8B-9575-8EAEC757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EAC69-5072-4DE3-B3B4-27A18AA8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70A44-0C49-4214-A9C1-30599F71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412C7-0EBD-463B-AB1C-2DC22E6A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B51B9-24C9-4C95-B51A-31A0784F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4B461-EFE4-4217-8EBE-F8347551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9175A-B5A2-48AD-A5A6-93C144CA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4E034-CF15-4E4F-A45C-36C8FCCF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EB533-7F72-4A7B-B54E-1A78BBAA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04075-334A-4FA7-A76F-4085657E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A1631-5BF7-42B7-9AAD-4E86A6F3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CC70-94C0-4A03-9259-920C8D4E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695D2-0439-418B-8CEB-C0026EBB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EA327-904C-4084-9DDA-36CFFAA1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EABF4-98C1-4055-B41A-087F2208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E442E-C514-4FC5-9E7F-3DCECB53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F7009-4619-4B42-9DF1-D2C2C4F8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88FE9-2560-4F14-9712-A43F383A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A6F34-8EB4-46A4-B214-1987B00F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C85FC-532D-498F-9B7F-943376F8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8D00D-6511-40CF-822B-7FD4AD75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B805F-BCDE-4B9C-86D3-9E5799FD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9D59-F993-400A-9477-CE28C1A7C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FFE9-1B86-44B5-AF1C-BA35BD4EE0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F4FD-B383-40F7-9E97-742441C9FE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0878-0461-4CC9-86ED-0E89EEBA5A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CCF7-B455-4D26-ABBC-E347596019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E153-B913-441D-83FC-43A567C6EB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FD76-25FD-4891-B114-6AEE773C50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07AF-991C-4732-B219-1C378146CB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B728-7D0F-4F63-86CA-142CF67869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3538-CD06-4A99-9E13-A73DE4751B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7D14-F73A-4D63-911F-419BF9EE42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7D53-4D0D-4430-B4EC-3922BEA316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3F5E-8680-43F3-94B1-273B243A75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2A11-9056-4042-AF21-AB370F9FD0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E894-14EC-41AA-AB11-70E1C81E49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A0A6-02A1-4CC9-B8C6-00A0D916AC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23F8-3EC1-4E0C-AE2C-06D1FD7584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034E-892F-4E72-A1BB-F0FF91FB16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A9CF-6802-4E60-B023-807ECA1092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90EF-8173-4A63-8F09-5B93F526D3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A75F-8C92-4BBE-9EB6-AE4E1B6A1D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BB9F-E721-4C24-A7AC-BC84CD2099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26A2-7B56-45F3-85E8-EBC5AD6750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A605-747D-462E-A7E2-E6063441CA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B38A-2DAD-4284-8873-9A972180DC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5B4D-A653-496D-ABFA-62889E8EAE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FDC6-556C-42E6-8289-CED8611D5B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6383-E1B3-4F50-9420-E56D7698C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145B-10A4-4A93-B861-6237EC9736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0D14-B49B-4BA5-890C-001E0BE99C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BB57-EE9D-4E97-9777-569C2C8C08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672A-AD7B-4FC0-922E-F038AF0BD0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F63D-8A3D-4CFF-B1F5-7CFECFBF5A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CFEC-EB46-4CF5-96DE-1119C418DB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8A73-D742-4F60-A54E-9F01DC22F7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60C6-3D17-4F83-8DA0-EFA65D6481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B532-A7F9-420B-BB34-4979FF4B66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F771-E905-4D8F-86B8-34E70E0B4B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8A15-D310-4155-B1B5-5A65735321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0637-9B04-4479-B07C-BB520F339E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166680" y="2219400"/>
            <a:ext cx="88106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2" descr=""/>
          <p:cNvPicPr/>
          <p:nvPr/>
        </p:nvPicPr>
        <p:blipFill>
          <a:blip r:embed="rId1"/>
          <a:stretch/>
        </p:blipFill>
        <p:spPr>
          <a:xfrm>
            <a:off x="147600" y="1119240"/>
            <a:ext cx="88488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2" descr=""/>
          <p:cNvPicPr/>
          <p:nvPr/>
        </p:nvPicPr>
        <p:blipFill>
          <a:blip r:embed="rId1"/>
          <a:stretch/>
        </p:blipFill>
        <p:spPr>
          <a:xfrm>
            <a:off x="90360" y="800280"/>
            <a:ext cx="8963280" cy="5257800"/>
          </a:xfrm>
          <a:prstGeom prst="rect">
            <a:avLst/>
          </a:prstGeom>
          <a:ln w="0">
            <a:noFill/>
          </a:ln>
        </p:spPr>
      </p:pic>
      <p:sp>
        <p:nvSpPr>
          <p:cNvPr id="1071" name="矩形 2"/>
          <p:cNvSpPr/>
          <p:nvPr/>
        </p:nvSpPr>
        <p:spPr>
          <a:xfrm>
            <a:off x="428760" y="2571840"/>
            <a:ext cx="428400" cy="236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3"/>
          <p:cNvSpPr/>
          <p:nvPr/>
        </p:nvSpPr>
        <p:spPr>
          <a:xfrm>
            <a:off x="428760" y="2928960"/>
            <a:ext cx="428400" cy="236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4"/>
          <p:cNvSpPr/>
          <p:nvPr/>
        </p:nvSpPr>
        <p:spPr>
          <a:xfrm>
            <a:off x="428760" y="3286080"/>
            <a:ext cx="428400" cy="236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5"/>
          <p:cNvSpPr/>
          <p:nvPr/>
        </p:nvSpPr>
        <p:spPr>
          <a:xfrm>
            <a:off x="428760" y="3643200"/>
            <a:ext cx="428400" cy="236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6"/>
          <p:cNvSpPr/>
          <p:nvPr/>
        </p:nvSpPr>
        <p:spPr>
          <a:xfrm>
            <a:off x="450720" y="4008600"/>
            <a:ext cx="428760" cy="237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7"/>
          <p:cNvSpPr/>
          <p:nvPr/>
        </p:nvSpPr>
        <p:spPr>
          <a:xfrm>
            <a:off x="428760" y="4357800"/>
            <a:ext cx="428400" cy="236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8"/>
          <p:cNvSpPr/>
          <p:nvPr/>
        </p:nvSpPr>
        <p:spPr>
          <a:xfrm>
            <a:off x="428760" y="4714920"/>
            <a:ext cx="428400" cy="236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9"/>
          <p:cNvSpPr/>
          <p:nvPr/>
        </p:nvSpPr>
        <p:spPr>
          <a:xfrm>
            <a:off x="428760" y="5072040"/>
            <a:ext cx="428400" cy="236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矩形 10"/>
          <p:cNvSpPr/>
          <p:nvPr/>
        </p:nvSpPr>
        <p:spPr>
          <a:xfrm>
            <a:off x="357120" y="5429160"/>
            <a:ext cx="428760" cy="236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矩形 11"/>
          <p:cNvSpPr/>
          <p:nvPr/>
        </p:nvSpPr>
        <p:spPr>
          <a:xfrm>
            <a:off x="500040" y="5786280"/>
            <a:ext cx="428760" cy="236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Picture 3" descr=""/>
          <p:cNvPicPr/>
          <p:nvPr/>
        </p:nvPicPr>
        <p:blipFill>
          <a:blip r:embed="rId1"/>
          <a:stretch/>
        </p:blipFill>
        <p:spPr>
          <a:xfrm>
            <a:off x="142920" y="852480"/>
            <a:ext cx="88581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Picture 2" descr=""/>
          <p:cNvPicPr/>
          <p:nvPr/>
        </p:nvPicPr>
        <p:blipFill>
          <a:blip r:embed="rId1"/>
          <a:stretch/>
        </p:blipFill>
        <p:spPr>
          <a:xfrm>
            <a:off x="208080" y="977760"/>
            <a:ext cx="8867520" cy="22669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2"/>
          <a:stretch/>
        </p:blipFill>
        <p:spPr>
          <a:xfrm>
            <a:off x="217440" y="3286080"/>
            <a:ext cx="8896320" cy="3257640"/>
          </a:xfrm>
          <a:prstGeom prst="rect">
            <a:avLst/>
          </a:prstGeom>
          <a:ln w="0">
            <a:noFill/>
          </a:ln>
        </p:spPr>
      </p:pic>
      <p:sp>
        <p:nvSpPr>
          <p:cNvPr id="1084" name="矩形 3"/>
          <p:cNvSpPr/>
          <p:nvPr/>
        </p:nvSpPr>
        <p:spPr>
          <a:xfrm>
            <a:off x="571680" y="2928960"/>
            <a:ext cx="428400" cy="236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矩形 4"/>
          <p:cNvSpPr/>
          <p:nvPr/>
        </p:nvSpPr>
        <p:spPr>
          <a:xfrm>
            <a:off x="642960" y="4071960"/>
            <a:ext cx="428760" cy="236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5"/>
          <p:cNvSpPr/>
          <p:nvPr/>
        </p:nvSpPr>
        <p:spPr>
          <a:xfrm>
            <a:off x="642960" y="5857920"/>
            <a:ext cx="428760" cy="236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2" descr=""/>
          <p:cNvPicPr/>
          <p:nvPr/>
        </p:nvPicPr>
        <p:blipFill>
          <a:blip r:embed="rId1"/>
          <a:stretch/>
        </p:blipFill>
        <p:spPr>
          <a:xfrm>
            <a:off x="104760" y="2190600"/>
            <a:ext cx="8934480" cy="2476800"/>
          </a:xfrm>
          <a:prstGeom prst="rect">
            <a:avLst/>
          </a:prstGeom>
          <a:ln w="0">
            <a:noFill/>
          </a:ln>
        </p:spPr>
      </p:pic>
      <p:sp>
        <p:nvSpPr>
          <p:cNvPr id="1088" name="矩形 2"/>
          <p:cNvSpPr/>
          <p:nvPr/>
        </p:nvSpPr>
        <p:spPr>
          <a:xfrm>
            <a:off x="642960" y="2214720"/>
            <a:ext cx="428760" cy="236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3"/>
          <p:cNvSpPr/>
          <p:nvPr/>
        </p:nvSpPr>
        <p:spPr>
          <a:xfrm>
            <a:off x="571680" y="2928960"/>
            <a:ext cx="428400" cy="236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Picture 2" descr=""/>
          <p:cNvPicPr/>
          <p:nvPr/>
        </p:nvPicPr>
        <p:blipFill>
          <a:blip r:embed="rId1"/>
          <a:stretch/>
        </p:blipFill>
        <p:spPr>
          <a:xfrm>
            <a:off x="71280" y="723960"/>
            <a:ext cx="9001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Picture 3" descr=""/>
          <p:cNvPicPr/>
          <p:nvPr/>
        </p:nvPicPr>
        <p:blipFill>
          <a:blip r:embed="rId1"/>
          <a:stretch/>
        </p:blipFill>
        <p:spPr>
          <a:xfrm>
            <a:off x="38160" y="785880"/>
            <a:ext cx="9105840" cy="5705280"/>
          </a:xfrm>
          <a:prstGeom prst="rect">
            <a:avLst/>
          </a:prstGeom>
          <a:ln w="0">
            <a:noFill/>
          </a:ln>
        </p:spPr>
      </p:pic>
      <p:sp>
        <p:nvSpPr>
          <p:cNvPr id="1092" name="矩形 2"/>
          <p:cNvSpPr/>
          <p:nvPr/>
        </p:nvSpPr>
        <p:spPr>
          <a:xfrm>
            <a:off x="500040" y="2286000"/>
            <a:ext cx="428760" cy="236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矩形 3"/>
          <p:cNvSpPr/>
          <p:nvPr/>
        </p:nvSpPr>
        <p:spPr>
          <a:xfrm>
            <a:off x="500040" y="2928960"/>
            <a:ext cx="42876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矩形 4"/>
          <p:cNvSpPr/>
          <p:nvPr/>
        </p:nvSpPr>
        <p:spPr>
          <a:xfrm>
            <a:off x="500040" y="4786200"/>
            <a:ext cx="428760" cy="236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Picture 2" descr=""/>
          <p:cNvPicPr/>
          <p:nvPr/>
        </p:nvPicPr>
        <p:blipFill>
          <a:blip r:embed="rId1"/>
          <a:stretch/>
        </p:blipFill>
        <p:spPr>
          <a:xfrm>
            <a:off x="142920" y="1428840"/>
            <a:ext cx="8772480" cy="25430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3" descr=""/>
          <p:cNvPicPr/>
          <p:nvPr/>
        </p:nvPicPr>
        <p:blipFill>
          <a:blip r:embed="rId2"/>
          <a:stretch/>
        </p:blipFill>
        <p:spPr>
          <a:xfrm>
            <a:off x="1220760" y="3868560"/>
            <a:ext cx="7705800" cy="1114560"/>
          </a:xfrm>
          <a:prstGeom prst="rect">
            <a:avLst/>
          </a:prstGeom>
          <a:ln w="0">
            <a:noFill/>
          </a:ln>
        </p:spPr>
      </p:pic>
      <p:sp>
        <p:nvSpPr>
          <p:cNvPr id="1097" name="矩形 3"/>
          <p:cNvSpPr/>
          <p:nvPr/>
        </p:nvSpPr>
        <p:spPr>
          <a:xfrm>
            <a:off x="571680" y="1500120"/>
            <a:ext cx="428400" cy="236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矩形 4"/>
          <p:cNvSpPr/>
          <p:nvPr/>
        </p:nvSpPr>
        <p:spPr>
          <a:xfrm>
            <a:off x="642960" y="3286080"/>
            <a:ext cx="428760" cy="236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2" descr=""/>
          <p:cNvPicPr/>
          <p:nvPr/>
        </p:nvPicPr>
        <p:blipFill>
          <a:blip r:embed="rId1"/>
          <a:stretch/>
        </p:blipFill>
        <p:spPr>
          <a:xfrm>
            <a:off x="100080" y="952560"/>
            <a:ext cx="8943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Picture 2" descr=""/>
          <p:cNvPicPr/>
          <p:nvPr/>
        </p:nvPicPr>
        <p:blipFill>
          <a:blip r:embed="rId1"/>
          <a:stretch/>
        </p:blipFill>
        <p:spPr>
          <a:xfrm>
            <a:off x="4680" y="1614600"/>
            <a:ext cx="9134640" cy="3628800"/>
          </a:xfrm>
          <a:prstGeom prst="rect">
            <a:avLst/>
          </a:prstGeom>
          <a:ln w="0">
            <a:noFill/>
          </a:ln>
        </p:spPr>
      </p:pic>
      <p:sp>
        <p:nvSpPr>
          <p:cNvPr id="1101" name="矩形 2"/>
          <p:cNvSpPr/>
          <p:nvPr/>
        </p:nvSpPr>
        <p:spPr>
          <a:xfrm>
            <a:off x="2286000" y="2000160"/>
            <a:ext cx="7142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矩形 3"/>
          <p:cNvSpPr/>
          <p:nvPr/>
        </p:nvSpPr>
        <p:spPr>
          <a:xfrm>
            <a:off x="7512120" y="2354400"/>
            <a:ext cx="1071360" cy="309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矩形 4"/>
          <p:cNvSpPr/>
          <p:nvPr/>
        </p:nvSpPr>
        <p:spPr>
          <a:xfrm>
            <a:off x="7286760" y="3071880"/>
            <a:ext cx="107136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矩形 5"/>
          <p:cNvSpPr/>
          <p:nvPr/>
        </p:nvSpPr>
        <p:spPr>
          <a:xfrm>
            <a:off x="2631960" y="3382920"/>
            <a:ext cx="1571760" cy="331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矩形 6"/>
          <p:cNvSpPr/>
          <p:nvPr/>
        </p:nvSpPr>
        <p:spPr>
          <a:xfrm>
            <a:off x="714240" y="4143240"/>
            <a:ext cx="457200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矩形 7"/>
          <p:cNvSpPr/>
          <p:nvPr/>
        </p:nvSpPr>
        <p:spPr>
          <a:xfrm>
            <a:off x="857160" y="4857840"/>
            <a:ext cx="771552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2600280" cy="5716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318960" y="2200320"/>
            <a:ext cx="8506080" cy="2457360"/>
          </a:xfrm>
          <a:prstGeom prst="rect">
            <a:avLst/>
          </a:prstGeom>
          <a:ln w="0">
            <a:noFill/>
          </a:ln>
        </p:spPr>
      </p:pic>
      <p:sp>
        <p:nvSpPr>
          <p:cNvPr id="1025" name="矩形 3"/>
          <p:cNvSpPr/>
          <p:nvPr/>
        </p:nvSpPr>
        <p:spPr>
          <a:xfrm>
            <a:off x="714240" y="2571840"/>
            <a:ext cx="42876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714240" y="2928960"/>
            <a:ext cx="42876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714240" y="3286080"/>
            <a:ext cx="42876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714240" y="3643200"/>
            <a:ext cx="42876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7"/>
          <p:cNvSpPr/>
          <p:nvPr/>
        </p:nvSpPr>
        <p:spPr>
          <a:xfrm>
            <a:off x="714240" y="4071960"/>
            <a:ext cx="42876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Picture 2" descr=""/>
          <p:cNvPicPr/>
          <p:nvPr/>
        </p:nvPicPr>
        <p:blipFill>
          <a:blip r:embed="rId1"/>
          <a:stretch/>
        </p:blipFill>
        <p:spPr>
          <a:xfrm>
            <a:off x="123840" y="743040"/>
            <a:ext cx="8896320" cy="5371920"/>
          </a:xfrm>
          <a:prstGeom prst="rect">
            <a:avLst/>
          </a:prstGeom>
          <a:ln w="0">
            <a:noFill/>
          </a:ln>
        </p:spPr>
      </p:pic>
      <p:sp>
        <p:nvSpPr>
          <p:cNvPr id="1108" name="矩形 2"/>
          <p:cNvSpPr/>
          <p:nvPr/>
        </p:nvSpPr>
        <p:spPr>
          <a:xfrm>
            <a:off x="5572080" y="1428840"/>
            <a:ext cx="107172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矩形 3"/>
          <p:cNvSpPr/>
          <p:nvPr/>
        </p:nvSpPr>
        <p:spPr>
          <a:xfrm>
            <a:off x="1643040" y="1785960"/>
            <a:ext cx="107172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矩形 4"/>
          <p:cNvSpPr/>
          <p:nvPr/>
        </p:nvSpPr>
        <p:spPr>
          <a:xfrm>
            <a:off x="6715080" y="2143080"/>
            <a:ext cx="107172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矩形 5"/>
          <p:cNvSpPr/>
          <p:nvPr/>
        </p:nvSpPr>
        <p:spPr>
          <a:xfrm>
            <a:off x="3571920" y="2500200"/>
            <a:ext cx="107136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矩形 6"/>
          <p:cNvSpPr/>
          <p:nvPr/>
        </p:nvSpPr>
        <p:spPr>
          <a:xfrm>
            <a:off x="6143760" y="3214800"/>
            <a:ext cx="1214280" cy="317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7"/>
          <p:cNvSpPr/>
          <p:nvPr/>
        </p:nvSpPr>
        <p:spPr>
          <a:xfrm>
            <a:off x="5572080" y="3929040"/>
            <a:ext cx="92880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矩形 8"/>
          <p:cNvSpPr/>
          <p:nvPr/>
        </p:nvSpPr>
        <p:spPr>
          <a:xfrm>
            <a:off x="8140680" y="4264200"/>
            <a:ext cx="86040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矩形 9"/>
          <p:cNvSpPr/>
          <p:nvPr/>
        </p:nvSpPr>
        <p:spPr>
          <a:xfrm>
            <a:off x="717480" y="4654440"/>
            <a:ext cx="571680" cy="309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矩形 10"/>
          <p:cNvSpPr/>
          <p:nvPr/>
        </p:nvSpPr>
        <p:spPr>
          <a:xfrm>
            <a:off x="2000160" y="5000760"/>
            <a:ext cx="71460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矩形 11"/>
          <p:cNvSpPr/>
          <p:nvPr/>
        </p:nvSpPr>
        <p:spPr>
          <a:xfrm>
            <a:off x="4357800" y="5357880"/>
            <a:ext cx="107136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矩形 12"/>
          <p:cNvSpPr/>
          <p:nvPr/>
        </p:nvSpPr>
        <p:spPr>
          <a:xfrm>
            <a:off x="5143680" y="5786280"/>
            <a:ext cx="1071360" cy="236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Picture 2" descr=""/>
          <p:cNvPicPr/>
          <p:nvPr/>
        </p:nvPicPr>
        <p:blipFill>
          <a:blip r:embed="rId1"/>
          <a:stretch/>
        </p:blipFill>
        <p:spPr>
          <a:xfrm>
            <a:off x="71280" y="1285920"/>
            <a:ext cx="9001440" cy="4286160"/>
          </a:xfrm>
          <a:prstGeom prst="rect">
            <a:avLst/>
          </a:prstGeom>
          <a:ln w="0">
            <a:noFill/>
          </a:ln>
        </p:spPr>
      </p:pic>
      <p:sp>
        <p:nvSpPr>
          <p:cNvPr id="1120" name="矩形 2"/>
          <p:cNvSpPr/>
          <p:nvPr/>
        </p:nvSpPr>
        <p:spPr>
          <a:xfrm>
            <a:off x="3106800" y="1965240"/>
            <a:ext cx="558720" cy="309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矩形 3"/>
          <p:cNvSpPr/>
          <p:nvPr/>
        </p:nvSpPr>
        <p:spPr>
          <a:xfrm>
            <a:off x="2394000" y="2692440"/>
            <a:ext cx="41760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矩形 4"/>
          <p:cNvSpPr/>
          <p:nvPr/>
        </p:nvSpPr>
        <p:spPr>
          <a:xfrm>
            <a:off x="1335240" y="3751200"/>
            <a:ext cx="487080" cy="309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矩形 5"/>
          <p:cNvSpPr/>
          <p:nvPr/>
        </p:nvSpPr>
        <p:spPr>
          <a:xfrm>
            <a:off x="1428840" y="4500720"/>
            <a:ext cx="50004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矩形 6"/>
          <p:cNvSpPr/>
          <p:nvPr/>
        </p:nvSpPr>
        <p:spPr>
          <a:xfrm>
            <a:off x="4978440" y="5203800"/>
            <a:ext cx="4874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6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"/>
          <p:cNvPicPr/>
          <p:nvPr/>
        </p:nvPicPr>
        <p:blipFill>
          <a:blip r:embed="rId1"/>
          <a:stretch/>
        </p:blipFill>
        <p:spPr>
          <a:xfrm>
            <a:off x="181080" y="1552680"/>
            <a:ext cx="87818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2" descr=""/>
          <p:cNvPicPr/>
          <p:nvPr/>
        </p:nvPicPr>
        <p:blipFill>
          <a:blip r:embed="rId1"/>
          <a:stretch/>
        </p:blipFill>
        <p:spPr>
          <a:xfrm>
            <a:off x="123840" y="790560"/>
            <a:ext cx="8896320" cy="5276880"/>
          </a:xfrm>
          <a:prstGeom prst="rect">
            <a:avLst/>
          </a:prstGeom>
          <a:ln w="0">
            <a:noFill/>
          </a:ln>
        </p:spPr>
      </p:pic>
      <p:sp>
        <p:nvSpPr>
          <p:cNvPr id="1127" name="矩形 2"/>
          <p:cNvSpPr/>
          <p:nvPr/>
        </p:nvSpPr>
        <p:spPr>
          <a:xfrm>
            <a:off x="3786120" y="2500200"/>
            <a:ext cx="107172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矩形 3"/>
          <p:cNvSpPr/>
          <p:nvPr/>
        </p:nvSpPr>
        <p:spPr>
          <a:xfrm>
            <a:off x="3429000" y="3929040"/>
            <a:ext cx="100008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矩形 4"/>
          <p:cNvSpPr/>
          <p:nvPr/>
        </p:nvSpPr>
        <p:spPr>
          <a:xfrm>
            <a:off x="6072120" y="4643280"/>
            <a:ext cx="1643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矩形 5"/>
          <p:cNvSpPr/>
          <p:nvPr/>
        </p:nvSpPr>
        <p:spPr>
          <a:xfrm>
            <a:off x="7715160" y="5357880"/>
            <a:ext cx="107172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3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8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3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8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Picture 2" descr=""/>
          <p:cNvPicPr/>
          <p:nvPr/>
        </p:nvPicPr>
        <p:blipFill>
          <a:blip r:embed="rId1"/>
          <a:stretch/>
        </p:blipFill>
        <p:spPr>
          <a:xfrm>
            <a:off x="123840" y="1100160"/>
            <a:ext cx="8896320" cy="4657680"/>
          </a:xfrm>
          <a:prstGeom prst="rect">
            <a:avLst/>
          </a:prstGeom>
          <a:ln w="0">
            <a:noFill/>
          </a:ln>
        </p:spPr>
      </p:pic>
      <p:sp>
        <p:nvSpPr>
          <p:cNvPr id="1132" name="矩形 2"/>
          <p:cNvSpPr/>
          <p:nvPr/>
        </p:nvSpPr>
        <p:spPr>
          <a:xfrm>
            <a:off x="2743200" y="1463760"/>
            <a:ext cx="78588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矩形 3"/>
          <p:cNvSpPr/>
          <p:nvPr/>
        </p:nvSpPr>
        <p:spPr>
          <a:xfrm>
            <a:off x="5429160" y="1785960"/>
            <a:ext cx="107172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4"/>
          <p:cNvSpPr/>
          <p:nvPr/>
        </p:nvSpPr>
        <p:spPr>
          <a:xfrm>
            <a:off x="3357720" y="2500200"/>
            <a:ext cx="7142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5"/>
          <p:cNvSpPr/>
          <p:nvPr/>
        </p:nvSpPr>
        <p:spPr>
          <a:xfrm>
            <a:off x="1571760" y="3214800"/>
            <a:ext cx="71424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矩形 6"/>
          <p:cNvSpPr/>
          <p:nvPr/>
        </p:nvSpPr>
        <p:spPr>
          <a:xfrm>
            <a:off x="3897360" y="4635360"/>
            <a:ext cx="78588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矩形 7"/>
          <p:cNvSpPr/>
          <p:nvPr/>
        </p:nvSpPr>
        <p:spPr>
          <a:xfrm>
            <a:off x="4214880" y="5357880"/>
            <a:ext cx="78588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5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0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5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0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5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0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Picture 2" descr=""/>
          <p:cNvPicPr/>
          <p:nvPr/>
        </p:nvPicPr>
        <p:blipFill>
          <a:blip r:embed="rId1"/>
          <a:stretch/>
        </p:blipFill>
        <p:spPr>
          <a:xfrm>
            <a:off x="158760" y="782640"/>
            <a:ext cx="8848800" cy="5791320"/>
          </a:xfrm>
          <a:prstGeom prst="rect">
            <a:avLst/>
          </a:prstGeom>
          <a:ln w="0">
            <a:noFill/>
          </a:ln>
        </p:spPr>
      </p:pic>
      <p:sp>
        <p:nvSpPr>
          <p:cNvPr id="1139" name="矩形 2"/>
          <p:cNvSpPr/>
          <p:nvPr/>
        </p:nvSpPr>
        <p:spPr>
          <a:xfrm>
            <a:off x="714240" y="3214800"/>
            <a:ext cx="8286840" cy="339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3"/>
          <p:cNvSpPr/>
          <p:nvPr/>
        </p:nvSpPr>
        <p:spPr>
          <a:xfrm>
            <a:off x="214200" y="3611520"/>
            <a:ext cx="8786880" cy="317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5"/>
          <p:cNvSpPr/>
          <p:nvPr/>
        </p:nvSpPr>
        <p:spPr>
          <a:xfrm>
            <a:off x="214200" y="4000680"/>
            <a:ext cx="8786880" cy="271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6"/>
          <p:cNvSpPr/>
          <p:nvPr/>
        </p:nvSpPr>
        <p:spPr>
          <a:xfrm>
            <a:off x="214200" y="4343400"/>
            <a:ext cx="87868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矩形 7"/>
          <p:cNvSpPr/>
          <p:nvPr/>
        </p:nvSpPr>
        <p:spPr>
          <a:xfrm>
            <a:off x="142920" y="4714920"/>
            <a:ext cx="8858160" cy="268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矩形 8"/>
          <p:cNvSpPr/>
          <p:nvPr/>
        </p:nvSpPr>
        <p:spPr>
          <a:xfrm>
            <a:off x="68400" y="5072040"/>
            <a:ext cx="8858160" cy="268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矩形 9"/>
          <p:cNvSpPr/>
          <p:nvPr/>
        </p:nvSpPr>
        <p:spPr>
          <a:xfrm>
            <a:off x="136440" y="5407200"/>
            <a:ext cx="88581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矩形 10"/>
          <p:cNvSpPr/>
          <p:nvPr/>
        </p:nvSpPr>
        <p:spPr>
          <a:xfrm>
            <a:off x="79200" y="5764320"/>
            <a:ext cx="885852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矩形 11"/>
          <p:cNvSpPr/>
          <p:nvPr/>
        </p:nvSpPr>
        <p:spPr>
          <a:xfrm>
            <a:off x="142920" y="6143760"/>
            <a:ext cx="1214280" cy="234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7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7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2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7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2" dur="1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7" dur="1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2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7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"/>
          <p:cNvPicPr/>
          <p:nvPr/>
        </p:nvPicPr>
        <p:blipFill>
          <a:blip r:embed="rId1"/>
          <a:stretch/>
        </p:blipFill>
        <p:spPr>
          <a:xfrm>
            <a:off x="509760" y="1109520"/>
            <a:ext cx="8124480" cy="4638960"/>
          </a:xfrm>
          <a:prstGeom prst="rect">
            <a:avLst/>
          </a:prstGeom>
          <a:ln w="0">
            <a:noFill/>
          </a:ln>
        </p:spPr>
      </p:pic>
      <p:sp>
        <p:nvSpPr>
          <p:cNvPr id="1031" name="矩形 2"/>
          <p:cNvSpPr/>
          <p:nvPr/>
        </p:nvSpPr>
        <p:spPr>
          <a:xfrm>
            <a:off x="857160" y="1500120"/>
            <a:ext cx="42876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3"/>
          <p:cNvSpPr/>
          <p:nvPr/>
        </p:nvSpPr>
        <p:spPr>
          <a:xfrm>
            <a:off x="857160" y="2571840"/>
            <a:ext cx="42876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857160" y="3571920"/>
            <a:ext cx="42876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5"/>
          <p:cNvSpPr/>
          <p:nvPr/>
        </p:nvSpPr>
        <p:spPr>
          <a:xfrm>
            <a:off x="857160" y="4357800"/>
            <a:ext cx="42876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857160" y="5072040"/>
            <a:ext cx="42876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2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8715600" cy="5715000"/>
          </a:xfrm>
          <a:prstGeom prst="rect">
            <a:avLst/>
          </a:prstGeom>
          <a:ln w="0">
            <a:noFill/>
          </a:ln>
        </p:spPr>
      </p:pic>
      <p:sp>
        <p:nvSpPr>
          <p:cNvPr id="1037" name="矩形 2"/>
          <p:cNvSpPr/>
          <p:nvPr/>
        </p:nvSpPr>
        <p:spPr>
          <a:xfrm>
            <a:off x="571680" y="1500120"/>
            <a:ext cx="42840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3"/>
          <p:cNvSpPr/>
          <p:nvPr/>
        </p:nvSpPr>
        <p:spPr>
          <a:xfrm>
            <a:off x="571680" y="2571840"/>
            <a:ext cx="42840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4"/>
          <p:cNvSpPr/>
          <p:nvPr/>
        </p:nvSpPr>
        <p:spPr>
          <a:xfrm>
            <a:off x="571680" y="3571920"/>
            <a:ext cx="42840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5"/>
          <p:cNvSpPr/>
          <p:nvPr/>
        </p:nvSpPr>
        <p:spPr>
          <a:xfrm>
            <a:off x="500040" y="4643280"/>
            <a:ext cx="42876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6"/>
          <p:cNvSpPr/>
          <p:nvPr/>
        </p:nvSpPr>
        <p:spPr>
          <a:xfrm>
            <a:off x="571680" y="5715000"/>
            <a:ext cx="42840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8458200" cy="21909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2"/>
          <a:stretch/>
        </p:blipFill>
        <p:spPr>
          <a:xfrm>
            <a:off x="120600" y="3214800"/>
            <a:ext cx="8782200" cy="2085840"/>
          </a:xfrm>
          <a:prstGeom prst="rect">
            <a:avLst/>
          </a:prstGeom>
          <a:ln w="0">
            <a:noFill/>
          </a:ln>
        </p:spPr>
      </p:pic>
      <p:sp>
        <p:nvSpPr>
          <p:cNvPr id="1044" name="矩形 3"/>
          <p:cNvSpPr/>
          <p:nvPr/>
        </p:nvSpPr>
        <p:spPr>
          <a:xfrm>
            <a:off x="571680" y="1428840"/>
            <a:ext cx="42840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4"/>
          <p:cNvSpPr/>
          <p:nvPr/>
        </p:nvSpPr>
        <p:spPr>
          <a:xfrm>
            <a:off x="571680" y="2071800"/>
            <a:ext cx="42840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5"/>
          <p:cNvSpPr/>
          <p:nvPr/>
        </p:nvSpPr>
        <p:spPr>
          <a:xfrm>
            <a:off x="500040" y="2786040"/>
            <a:ext cx="42876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6"/>
          <p:cNvSpPr/>
          <p:nvPr/>
        </p:nvSpPr>
        <p:spPr>
          <a:xfrm>
            <a:off x="500040" y="3571920"/>
            <a:ext cx="42876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7"/>
          <p:cNvSpPr/>
          <p:nvPr/>
        </p:nvSpPr>
        <p:spPr>
          <a:xfrm>
            <a:off x="500040" y="4286160"/>
            <a:ext cx="42876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5" descr=""/>
          <p:cNvPicPr/>
          <p:nvPr/>
        </p:nvPicPr>
        <p:blipFill>
          <a:blip r:embed="rId1"/>
          <a:stretch/>
        </p:blipFill>
        <p:spPr>
          <a:xfrm>
            <a:off x="176040" y="1009800"/>
            <a:ext cx="8791920" cy="4838400"/>
          </a:xfrm>
          <a:prstGeom prst="rect">
            <a:avLst/>
          </a:prstGeom>
          <a:ln w="0">
            <a:noFill/>
          </a:ln>
        </p:spPr>
      </p:pic>
      <p:sp>
        <p:nvSpPr>
          <p:cNvPr id="1050" name="矩形 2"/>
          <p:cNvSpPr/>
          <p:nvPr/>
        </p:nvSpPr>
        <p:spPr>
          <a:xfrm>
            <a:off x="500040" y="1928880"/>
            <a:ext cx="42876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3"/>
          <p:cNvSpPr/>
          <p:nvPr/>
        </p:nvSpPr>
        <p:spPr>
          <a:xfrm>
            <a:off x="500040" y="3357720"/>
            <a:ext cx="42876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4"/>
          <p:cNvSpPr/>
          <p:nvPr/>
        </p:nvSpPr>
        <p:spPr>
          <a:xfrm>
            <a:off x="500040" y="4786200"/>
            <a:ext cx="42876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2" descr=""/>
          <p:cNvPicPr/>
          <p:nvPr/>
        </p:nvPicPr>
        <p:blipFill>
          <a:blip r:embed="rId1"/>
          <a:stretch/>
        </p:blipFill>
        <p:spPr>
          <a:xfrm>
            <a:off x="0" y="828720"/>
            <a:ext cx="8991720" cy="6029280"/>
          </a:xfrm>
          <a:prstGeom prst="rect">
            <a:avLst/>
          </a:prstGeom>
          <a:ln w="0">
            <a:noFill/>
          </a:ln>
        </p:spPr>
      </p:pic>
      <p:sp>
        <p:nvSpPr>
          <p:cNvPr id="1054" name="矩形 2"/>
          <p:cNvSpPr/>
          <p:nvPr/>
        </p:nvSpPr>
        <p:spPr>
          <a:xfrm>
            <a:off x="285840" y="785880"/>
            <a:ext cx="42840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3"/>
          <p:cNvSpPr/>
          <p:nvPr/>
        </p:nvSpPr>
        <p:spPr>
          <a:xfrm>
            <a:off x="285840" y="2214720"/>
            <a:ext cx="42840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4"/>
          <p:cNvSpPr/>
          <p:nvPr/>
        </p:nvSpPr>
        <p:spPr>
          <a:xfrm>
            <a:off x="285840" y="3643200"/>
            <a:ext cx="42840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5"/>
          <p:cNvSpPr/>
          <p:nvPr/>
        </p:nvSpPr>
        <p:spPr>
          <a:xfrm>
            <a:off x="285840" y="5429160"/>
            <a:ext cx="42840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6"/>
          <p:cNvSpPr/>
          <p:nvPr/>
        </p:nvSpPr>
        <p:spPr>
          <a:xfrm>
            <a:off x="357120" y="6143760"/>
            <a:ext cx="42876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2" descr=""/>
          <p:cNvPicPr/>
          <p:nvPr/>
        </p:nvPicPr>
        <p:blipFill>
          <a:blip r:embed="rId1"/>
          <a:stretch/>
        </p:blipFill>
        <p:spPr>
          <a:xfrm>
            <a:off x="142920" y="1104840"/>
            <a:ext cx="8858160" cy="4648320"/>
          </a:xfrm>
          <a:prstGeom prst="rect">
            <a:avLst/>
          </a:prstGeom>
          <a:ln w="0">
            <a:noFill/>
          </a:ln>
        </p:spPr>
      </p:pic>
      <p:sp>
        <p:nvSpPr>
          <p:cNvPr id="1060" name="矩形 2"/>
          <p:cNvSpPr/>
          <p:nvPr/>
        </p:nvSpPr>
        <p:spPr>
          <a:xfrm>
            <a:off x="500040" y="1143000"/>
            <a:ext cx="42876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3"/>
          <p:cNvSpPr/>
          <p:nvPr/>
        </p:nvSpPr>
        <p:spPr>
          <a:xfrm>
            <a:off x="428760" y="2571840"/>
            <a:ext cx="42840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4"/>
          <p:cNvSpPr/>
          <p:nvPr/>
        </p:nvSpPr>
        <p:spPr>
          <a:xfrm>
            <a:off x="428760" y="3643200"/>
            <a:ext cx="42840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5"/>
          <p:cNvSpPr/>
          <p:nvPr/>
        </p:nvSpPr>
        <p:spPr>
          <a:xfrm>
            <a:off x="500040" y="4643280"/>
            <a:ext cx="42876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2" descr=""/>
          <p:cNvPicPr/>
          <p:nvPr/>
        </p:nvPicPr>
        <p:blipFill>
          <a:blip r:embed="rId1"/>
          <a:stretch/>
        </p:blipFill>
        <p:spPr>
          <a:xfrm>
            <a:off x="201600" y="1620720"/>
            <a:ext cx="8839080" cy="17528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2"/>
          <a:stretch/>
        </p:blipFill>
        <p:spPr>
          <a:xfrm>
            <a:off x="314280" y="3571920"/>
            <a:ext cx="8829720" cy="2200320"/>
          </a:xfrm>
          <a:prstGeom prst="rect">
            <a:avLst/>
          </a:prstGeom>
          <a:ln w="0">
            <a:noFill/>
          </a:ln>
        </p:spPr>
      </p:pic>
      <p:sp>
        <p:nvSpPr>
          <p:cNvPr id="1066" name="矩形 3"/>
          <p:cNvSpPr/>
          <p:nvPr/>
        </p:nvSpPr>
        <p:spPr>
          <a:xfrm>
            <a:off x="500040" y="1643040"/>
            <a:ext cx="42876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4"/>
          <p:cNvSpPr/>
          <p:nvPr/>
        </p:nvSpPr>
        <p:spPr>
          <a:xfrm>
            <a:off x="571680" y="3714840"/>
            <a:ext cx="42840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5"/>
          <p:cNvSpPr/>
          <p:nvPr/>
        </p:nvSpPr>
        <p:spPr>
          <a:xfrm>
            <a:off x="642960" y="4714920"/>
            <a:ext cx="42876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4:5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