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750-BC79-4D91-8E3F-9DED67A6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789-0992-4792-BCED-3DA8C5C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56532-B8A1-4518-82AD-64EEB578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1B8D-316C-4496-8EF2-621AB21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12330-ECD3-4CA7-9DC5-59580A1E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623F-6947-4495-8A2A-A8448B0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E562-EC2B-49FC-AF99-E39EECF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24461-028C-424D-993D-8A76660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5092-28C8-4F78-9836-90F26E6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4A01-B125-4573-AE55-C7699B2F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F2C9D-9034-4005-82AA-F8554514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736FC-C285-4643-81AE-F614E211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5D9-DC64-47C9-A56B-C582CC2B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68122-FA27-47BB-A7C2-4BE0989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95847-DE1B-40CE-95EA-985E6211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6AB38-011B-4398-A6A2-9F2E7CC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97A8-BA4C-49BD-B09E-A4D9246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96F8A-8F3E-43FE-8E26-072DC5FB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061B-66E0-41B0-8386-BC528B5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B821D-4C7E-41C7-A513-36FB5BA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4DED-3834-44BA-A50D-C30F6A2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31FBD-7434-4AE1-BE8F-B0335DD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73F7-AE24-48D9-B920-3321CCA3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A87-91FC-4F27-8CFC-F4A78127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843FE-3E87-4D4A-8B89-CA9F2747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8AD7-C2A6-4390-82EE-B9B43A8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C92F0-5350-4377-8B7B-A874B837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6A55-9DF4-4F90-917D-AA5C286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C13F1-7348-4374-9795-ED28EC8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4188-A572-4E90-AF78-AFD01F5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DBCDD-3A62-4594-BBA3-DA05C5F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68695-873E-44BB-B26E-1CD5FEC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A1280-F5BE-4FF4-8D8B-E1FF601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88F94-D091-45F3-B40F-E265AA00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21F-EADC-4AE2-A1F5-1EB515A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2321-3410-435E-BD09-BEDB9AA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7FD8A-5756-46B6-AB59-CC341AB1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5F67E-9F08-4D3A-9449-0A4251F0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974D3-3D50-412D-AEFE-638DE1F1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AF368-522B-4980-A42A-63BED0AD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AD81C-0D4B-4EE3-BF08-93125D4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2C6B6-C3FC-435E-ADE9-92E61143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A2E75-8675-4214-AF46-BA112CB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A15A4-2C7F-4D28-BD97-27879976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CE508-D301-4F68-BF80-C5FE2F0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846-63F0-4320-A11E-243EC28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3E4AD-CB6B-48AA-8E08-830FA08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292C9-6A76-45C2-BB5F-C694E95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E1D3-0851-42BF-A0B2-97BA96CF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026A3-52CB-432C-BFA6-20CB770C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2668B-7230-4F16-9507-32B12680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85367-5352-4814-92FA-097AC41D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A6D3C-8B6B-4568-8EBD-FE833EC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27E0E-4E6B-4361-97A9-D02F7F00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7BA2E-3C11-45EF-85FB-A5FE616F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89AA3-74D7-4311-810F-5746252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44CD-DDF3-41A5-A0EC-CAC807BC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649C9-48CD-4034-9EDA-FCCBE20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B8678-1879-47C8-9CF7-10FED55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45217-CFCB-45FD-B6A7-E04471F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89703-69E3-434E-9A1B-244677E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61034-AF10-4AD5-880F-DCCD8C3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3B8DD-7863-4645-BE42-B5EBF4D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EFCB5-EEB3-48BF-AADD-77553D71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3FA3B-929A-4E40-8589-4A385B98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0E7F3-0F53-4476-9DCE-B29595E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F1363-D7F8-4F35-915F-DE1CBDD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FCFF-782F-4E27-AD05-89CE328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52C16-928E-4983-8082-0654552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45D8F-AE7F-41CF-8D2C-B1EA336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50285-320A-4ECA-8773-1D1A6EC1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1D209-47A2-40E5-9C96-77305BC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1C6A9-FE49-41DB-81C5-A477286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F001E-19AA-4385-95CE-9203A0B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FC8D7-BDB3-4B98-BA69-9FCF58A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7DE00-A717-4C51-98B3-9736C246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13D1-ECE0-4C1F-927A-348B4703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A228D-8832-4615-BCCF-28ABF610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7CEA-117A-4B89-8204-64F94474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D51FB-AB26-43C8-BC33-DD20842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639DD-E186-478A-B01D-5FAD4F5B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E9E2A-670A-4691-85B4-A47374B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66A5E-1765-4EEB-B919-89DFB737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686C6-86CA-483D-A399-226FB833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B5D89-08BD-4E47-A41F-149D4F0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C2396-008A-4676-AABD-C552D54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4E7CF-936D-475A-ACF8-6A63FC5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9998F-3CE2-4C41-90DE-7EFCC89D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3CD39-BB47-4344-B737-5D32F833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420-005E-462B-97CA-82F5DD63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A4EB9-42A5-4203-B037-E8D6965E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D11CC-C3B4-4945-AE3B-B2C9A4FD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F304B-B001-4ACB-8B69-897863C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15799-80D4-4D22-AC2C-6687E18F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F2366-A2C8-4D82-A215-1E66A36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17559-80F5-46B3-8357-DDA405D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F000C-A5B7-4AA9-B2CD-0B485BE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47D68-97D5-47D3-82EF-CD0118DF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27DBE-1E99-41D4-A531-07690F9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1BB1B-67C1-428A-AD28-83E8FCB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127-8BB6-46F4-8D86-CE52C6B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442B8-4D83-4979-BE8B-7D90363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150FC-CFDC-4EC3-8E7F-D45F6AD1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FE0CE-759F-4E75-926E-6421A635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37AAD-E8E2-4780-B8BB-23FA00D4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765E8-AB17-4AF0-9DBC-371D797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CBB88-DE12-4634-8A54-F066A44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25B42-B294-4BF7-81FF-7C5A0FD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BAA4D-7963-43CD-A1FC-33A2CFE7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8470C-1F43-4777-83F5-F1A64E9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5DDE8-BE02-46FC-8CB9-AA58A94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4E4-81C0-4473-9B4E-8D1FFB59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FF0-B4BD-46CF-8C7E-8876D52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74A34-7AF7-4172-B233-4D80FCB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F0364-9710-42B0-A121-39B4B6B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8DD01-C223-4FD9-9ED4-FA66BEC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EC918-CB46-4005-B7DA-D8BEBEDA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AE224-E2F1-416E-83CA-A16D3114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39612-4B2F-4682-853B-FE8AAEFF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48E48-6DB5-4E21-B63C-D9CB036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E6915-D5C6-4B14-85DA-EA0D8DD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B5740-EF94-4472-9F98-01ED826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85D25-CA55-41CA-B576-39AA2C3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DEC-6ABA-40F9-9D42-EDAAC37E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93120-FEAB-41DC-8347-941C669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00C35-E4DF-4A2C-BCA0-969BBA9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6B04A-131D-4D7F-AA71-E4A7322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210FF-07A5-4F41-BFB7-F952633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2D6FE-3C09-431E-8340-0A97FF0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F4FFE-8905-47D4-8DD7-D0025648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B7849-CEBC-44F6-AD8D-CFCAF020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15F32-AD6D-4BA2-89C5-FFB0F867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D22B46-6D48-4B66-98AD-BD4B31A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B600D-E947-43FA-82C3-CA88BD8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AA1C-7055-4331-8CA3-D727572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375D8-5A5A-4B77-857E-655B553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D75AF-B414-4351-BCC4-F4F4614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76362-9B8A-44C7-A193-DD58353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16015-F5FA-4EEE-8F1F-3418EBE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55697-8E14-43CE-ACB8-3608B0E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12D3D-E889-4CB3-8104-4EC90CA4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50F54-4ECD-49C6-9A80-00DE1FA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6F291-6003-4179-A529-7599B061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DB50A-8AC7-4DCB-9FE3-0B100322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83DB8-79CC-429E-A7E8-0CD693E7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146-3CE7-486A-8367-7F0DD395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6C22D-A874-4ABC-969E-07794AD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549A3-6E9D-4F7C-85F8-0AF91B4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EFA54-9F18-4081-AFD8-594DFDB6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2B600-8281-43B1-9502-EA18FF1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88CAD-8F4C-4A8E-995A-70F702E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76CA4-60AD-4504-8EEE-1C91857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D162A-CAC0-4202-BA14-CD3C1AC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7F4F1-DF6F-4854-AF09-8C94D1F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9EDB0-D262-48B0-A571-BCEF3653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9EBCF-64AF-4E6C-B3DB-6F1C66E1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23F-9010-4763-80BC-B7F47DC3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BB16E-DF9B-4225-BFD8-98CA4863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EC1CB-FFE0-4743-86AE-76CACEDF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1DAAB-9CAD-4A3B-BAA5-68822DB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31A48-8F3C-4835-9A8A-BB40FE5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79B90F-12B5-436B-B2AF-59D9ACB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6C9D4-07CE-4298-9F9C-20524C2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0D495-05AA-45CD-81BE-55BEB96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D9D80-F447-4B38-80B0-458E459B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BA19D-18A0-4462-AD6C-88DCA00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C7D06-89B3-4296-AAD1-6CACEBF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0E7F-EF39-4C0B-B6B3-51EFE0A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C10AA-FFDC-4931-B5F9-1AA98CA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6ACAB-99A2-4FB3-BD67-53D67795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54AAA-A281-41BB-9EAA-D421C51E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C1EC-6F0C-4285-9A52-375554C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BE75-D50A-43A5-965D-6F49C4F0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1B5E-739C-4B4A-8402-79916427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D728-DF8B-497C-8C5E-02A7BF6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5A6-15F7-426D-B545-3350D0D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2272-6965-48F1-B603-DFAFEB04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2D55-0BF3-4861-A076-6802B04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6120-1285-4630-A2D5-87A3464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DB82-D1FE-4108-BA64-3AC5E16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3320-193D-40D3-8D4B-31ED0C74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9629-865E-4B41-ABA7-447BF38C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F71D-485C-4F82-99D1-90A1ED0F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EB03-DD34-4688-8D29-26B2885D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1732-5DF2-4DCF-BB95-588A930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F132-7C8D-4CAD-ACFB-E508F5D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D40-D66D-4154-A7E6-440830D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7C12-014D-4705-AE70-49068D47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2382-6D94-452C-8684-AC1A804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7973-3239-4723-AEB9-3627D87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0CC9-D8A1-4B17-A395-E99BA54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D237-B0F8-4F6D-B83E-459B42B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058D-BAD3-4A13-89C5-FAB3D600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C36C-1492-423C-8D5A-5044152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3967-6580-442A-B664-8DE2AA2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DD18-FD42-40B8-A161-7CB96C93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20B8-470F-454B-B872-E7C866C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CAD-A4C6-47C4-A9DA-877F2BD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B015-130A-4698-8DF4-C1187A7B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7D2F6-3EE8-4797-A96F-F418930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C9EB-7A5B-41E4-A8BB-40523DE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9EB7-782F-48EA-AFDA-E8E3B118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389F-F959-4CF7-A0CF-157FB8A4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DFE1C-5117-466F-95C5-28EE04A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5FF7-E71F-4C04-889C-1BACD32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D7C4-D6E8-450F-81B1-BF1EFF5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92D8-A9DE-4787-B6A8-C71EE62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A1E4-404A-443B-9D2E-4D97BDAA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E86-4611-4A0C-862F-26A52DD9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5048-E182-4768-89A9-3495A612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0077-42B9-4BEE-BEA9-DFA20C0A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1436-770C-4EB3-A4B9-580B7984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72345-3F3A-4247-BE1A-74693117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7F5D-D5F3-4DDC-907E-CF90895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EBA5-3411-48A3-A3F2-99018819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C434-F63A-4EF9-BBDB-CBD6AD3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D2782-6345-407A-B37A-7A8F032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86833-1C98-4825-8377-51FBA5D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8433-7A03-42B8-A989-1966AC6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AAD-CB59-45E8-8D9F-43CB504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CD14-19DC-4738-BEA9-FF90332C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1FEC-89C8-4BB9-B527-DD6EC040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E877-975E-4BF0-9DC1-5BFAD39F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7A75-4E46-446E-89BA-2FCD4972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B72B-BD1A-421E-A28D-BB89CAB6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B016-4D91-4D8D-8DD5-764AB318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F42D-A47D-493A-B523-96AB3FD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C137-E66A-4868-A76D-6E33CD38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D71B7-968F-4234-9C4F-A48EFAB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DDE0-89BD-41F3-9A6C-C8E3DD9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99E-228A-4CBA-8FBF-48B7077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77426-5C8B-4CC7-AA82-4D3D3D9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4CB80-39F2-4913-A86A-1BDA43D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9FD0-9909-4663-904E-39D1A99C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8962-A660-4016-B22E-E574577E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A612-F708-474B-BE2D-073F1879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76D19-54A3-4327-8321-76D374DC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ADAC0-B986-4E45-9AA1-7D6000A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3DE8-EA53-47C7-B1F7-E8A0AD5D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D412-A8F4-4F3C-9E85-F1B5734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33F8-EE6B-4654-832B-7B8CDA8B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BB9-658D-49A2-9C96-4C7765E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1427-B43D-41AA-8309-BC574BE7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F4880-374E-410B-B581-328DE63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AB35-63D1-4887-9BCB-DEFD0B6D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CB49A-2A92-462B-9214-819787C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D54D-3F9B-4F4E-BD59-5B769D51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869D-5A9A-4A81-BC62-6A56DDC6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55F3-E1E0-4E56-8F26-4E9EE843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E5643-4880-4D3B-BE43-F37B953B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D3E2-6FC7-4265-8D12-F37524B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F63F4-8AE4-43B8-913E-F67A298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F62-09F8-4A7D-B70E-0E7EB502B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BB2-1DB9-4E76-9BE8-D8AB5E5AC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63F0-390B-4905-9911-71DF88869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3C05-E532-4E81-BA0A-64C6F762C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687-B158-4E67-AC30-19F14DCFA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324F-FC86-4D48-8A5E-1391266A6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4CC-8C05-4283-845C-4E05D3143C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F04C-D85E-46EE-9CB1-1AE515BF9D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636-3F1B-4269-9177-7E4B81C95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570-FC49-4D51-88C5-F8384E9EF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00B-60F4-413D-8178-9BCFC2FD5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2BE-5AB6-4EA3-9F87-14521EB8B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F5E-AF53-4571-8189-E11837F51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DE6F-4E94-43F9-9958-FF6596C2C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3EC-CD64-49BF-AA71-ED4C23753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ED5-E057-47FD-BABD-0620FA2E1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DDA-CD96-4EA2-9C1C-F4FAAB865E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E99-38E3-48E3-B415-02062594E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445-C66B-4B7B-8469-AC6965C3B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B970-C319-46E7-B9AA-EBFFEC39D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785A-5391-469C-BFDC-0F53D50FD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5C47-79B5-44D4-9949-55A29EC38E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274-587A-4A26-ACA5-91829F4F3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B96D-A64F-46AE-99DB-7479D698E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405-A780-41FF-86A1-F3BF1EC51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F74-1130-4CDB-A32B-4399CD88C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CB4-68A7-4666-A29A-9A45809C9C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2F0-0817-4424-B91F-14E73C96B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F187-B641-4A79-A794-01C0DD44E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368-9F68-4B8E-86B8-91635F521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3507-C76D-46AF-9F83-8ED1EB9A3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E2A9-27DE-43C7-8688-37CEBB2EE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368-8CF8-4303-B1E8-B9D01861E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D4D-1AC3-4BC6-A22E-EE9A095DE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BFF-569D-4A9C-88E4-6FC7C5C94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3C3-AD07-4A05-AE15-7EB7064F8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B4EF-70B0-479F-AFF4-F97A5BB96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06B-69A9-46D3-9373-5AFAA363C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905-2EA1-41DB-B4CC-971F31D78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D9D2-4946-4842-B899-FBC2E12C7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0" y="199548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171360" y="1871640"/>
            <a:ext cx="8801280" cy="3114720"/>
          </a:xfrm>
          <a:prstGeom prst="rect">
            <a:avLst/>
          </a:prstGeom>
          <a:ln w="0">
            <a:noFill/>
          </a:ln>
        </p:spPr>
      </p:pic>
      <p:sp>
        <p:nvSpPr>
          <p:cNvPr id="1068" name="矩形 2"/>
          <p:cNvSpPr/>
          <p:nvPr/>
        </p:nvSpPr>
        <p:spPr>
          <a:xfrm>
            <a:off x="42876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3"/>
          <p:cNvSpPr/>
          <p:nvPr/>
        </p:nvSpPr>
        <p:spPr>
          <a:xfrm>
            <a:off x="428760" y="3286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92160" y="892080"/>
            <a:ext cx="884880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171360" y="1528920"/>
            <a:ext cx="8801280" cy="3800160"/>
          </a:xfrm>
          <a:prstGeom prst="rect">
            <a:avLst/>
          </a:prstGeom>
          <a:ln w="0">
            <a:noFill/>
          </a:ln>
        </p:spPr>
      </p:pic>
      <p:sp>
        <p:nvSpPr>
          <p:cNvPr id="1072" name="矩形 2"/>
          <p:cNvSpPr/>
          <p:nvPr/>
        </p:nvSpPr>
        <p:spPr>
          <a:xfrm>
            <a:off x="428760" y="1500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"/>
          <p:cNvSpPr/>
          <p:nvPr/>
        </p:nvSpPr>
        <p:spPr>
          <a:xfrm>
            <a:off x="428760" y="18572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4"/>
          <p:cNvSpPr/>
          <p:nvPr/>
        </p:nvSpPr>
        <p:spPr>
          <a:xfrm>
            <a:off x="500040" y="2214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5"/>
          <p:cNvSpPr/>
          <p:nvPr/>
        </p:nvSpPr>
        <p:spPr>
          <a:xfrm>
            <a:off x="500040" y="2928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6"/>
          <p:cNvSpPr/>
          <p:nvPr/>
        </p:nvSpPr>
        <p:spPr>
          <a:xfrm>
            <a:off x="500040" y="3286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7"/>
          <p:cNvSpPr/>
          <p:nvPr/>
        </p:nvSpPr>
        <p:spPr>
          <a:xfrm>
            <a:off x="500040" y="3571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8"/>
          <p:cNvSpPr/>
          <p:nvPr/>
        </p:nvSpPr>
        <p:spPr>
          <a:xfrm>
            <a:off x="428760" y="39290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"/>
          <p:cNvSpPr/>
          <p:nvPr/>
        </p:nvSpPr>
        <p:spPr>
          <a:xfrm>
            <a:off x="500040" y="4286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0"/>
          <p:cNvSpPr/>
          <p:nvPr/>
        </p:nvSpPr>
        <p:spPr>
          <a:xfrm>
            <a:off x="500040" y="46432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11"/>
          <p:cNvSpPr/>
          <p:nvPr/>
        </p:nvSpPr>
        <p:spPr>
          <a:xfrm>
            <a:off x="428760" y="500076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8934480" cy="30765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2"/>
          <a:stretch/>
        </p:blipFill>
        <p:spPr>
          <a:xfrm>
            <a:off x="0" y="4286160"/>
            <a:ext cx="8867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5720" cy="5514840"/>
          </a:xfrm>
          <a:prstGeom prst="rect">
            <a:avLst/>
          </a:prstGeom>
          <a:ln w="0">
            <a:noFill/>
          </a:ln>
        </p:spPr>
      </p:pic>
      <p:sp>
        <p:nvSpPr>
          <p:cNvPr id="1085" name="矩形 2"/>
          <p:cNvSpPr/>
          <p:nvPr/>
        </p:nvSpPr>
        <p:spPr>
          <a:xfrm>
            <a:off x="714240" y="785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"/>
          <p:cNvSpPr/>
          <p:nvPr/>
        </p:nvSpPr>
        <p:spPr>
          <a:xfrm>
            <a:off x="714240" y="2500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4"/>
          <p:cNvSpPr/>
          <p:nvPr/>
        </p:nvSpPr>
        <p:spPr>
          <a:xfrm>
            <a:off x="642960" y="3143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5"/>
          <p:cNvSpPr/>
          <p:nvPr/>
        </p:nvSpPr>
        <p:spPr>
          <a:xfrm>
            <a:off x="642960" y="3929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"/>
          <p:cNvSpPr/>
          <p:nvPr/>
        </p:nvSpPr>
        <p:spPr>
          <a:xfrm>
            <a:off x="642960" y="45720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3" descr=""/>
          <p:cNvPicPr/>
          <p:nvPr/>
        </p:nvPicPr>
        <p:blipFill>
          <a:blip r:embed="rId1"/>
          <a:stretch/>
        </p:blipFill>
        <p:spPr>
          <a:xfrm>
            <a:off x="85680" y="1181160"/>
            <a:ext cx="8972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14400" y="1547640"/>
            <a:ext cx="9115200" cy="3762720"/>
          </a:xfrm>
          <a:prstGeom prst="rect">
            <a:avLst/>
          </a:prstGeom>
          <a:ln w="0">
            <a:noFill/>
          </a:ln>
        </p:spPr>
      </p:pic>
      <p:sp>
        <p:nvSpPr>
          <p:cNvPr id="1092" name="矩形 2"/>
          <p:cNvSpPr/>
          <p:nvPr/>
        </p:nvSpPr>
        <p:spPr>
          <a:xfrm>
            <a:off x="500040" y="3286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3"/>
          <p:cNvSpPr/>
          <p:nvPr/>
        </p:nvSpPr>
        <p:spPr>
          <a:xfrm>
            <a:off x="500040" y="4286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61920" y="1700280"/>
            <a:ext cx="9020160" cy="3457440"/>
          </a:xfrm>
          <a:prstGeom prst="rect">
            <a:avLst/>
          </a:prstGeom>
          <a:ln w="0">
            <a:noFill/>
          </a:ln>
        </p:spPr>
      </p:pic>
      <p:sp>
        <p:nvSpPr>
          <p:cNvPr id="1095" name="矩形 2"/>
          <p:cNvSpPr/>
          <p:nvPr/>
        </p:nvSpPr>
        <p:spPr>
          <a:xfrm>
            <a:off x="500040" y="171468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3"/>
          <p:cNvSpPr/>
          <p:nvPr/>
        </p:nvSpPr>
        <p:spPr>
          <a:xfrm>
            <a:off x="500040" y="2786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4"/>
          <p:cNvSpPr/>
          <p:nvPr/>
        </p:nvSpPr>
        <p:spPr>
          <a:xfrm>
            <a:off x="500040" y="37861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7048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2"/>
          <a:stretch/>
        </p:blipFill>
        <p:spPr>
          <a:xfrm>
            <a:off x="0" y="1371600"/>
            <a:ext cx="8867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"/>
          <p:cNvPicPr/>
          <p:nvPr/>
        </p:nvPicPr>
        <p:blipFill>
          <a:blip r:embed="rId1"/>
          <a:stretch/>
        </p:blipFill>
        <p:spPr>
          <a:xfrm>
            <a:off x="42840" y="843120"/>
            <a:ext cx="9058320" cy="5171760"/>
          </a:xfrm>
          <a:prstGeom prst="rect">
            <a:avLst/>
          </a:prstGeom>
          <a:ln w="0">
            <a:noFill/>
          </a:ln>
        </p:spPr>
      </p:pic>
      <p:sp>
        <p:nvSpPr>
          <p:cNvPr id="1101" name="矩形 2"/>
          <p:cNvSpPr/>
          <p:nvPr/>
        </p:nvSpPr>
        <p:spPr>
          <a:xfrm>
            <a:off x="6429240" y="1143000"/>
            <a:ext cx="214344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3"/>
          <p:cNvSpPr/>
          <p:nvPr/>
        </p:nvSpPr>
        <p:spPr>
          <a:xfrm>
            <a:off x="428760" y="1500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4"/>
          <p:cNvSpPr/>
          <p:nvPr/>
        </p:nvSpPr>
        <p:spPr>
          <a:xfrm>
            <a:off x="879480" y="2882880"/>
            <a:ext cx="407196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5"/>
          <p:cNvSpPr/>
          <p:nvPr/>
        </p:nvSpPr>
        <p:spPr>
          <a:xfrm>
            <a:off x="988920" y="3540240"/>
            <a:ext cx="47260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6"/>
          <p:cNvSpPr/>
          <p:nvPr/>
        </p:nvSpPr>
        <p:spPr>
          <a:xfrm>
            <a:off x="1297080" y="4606920"/>
            <a:ext cx="4071960" cy="316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7"/>
          <p:cNvSpPr/>
          <p:nvPr/>
        </p:nvSpPr>
        <p:spPr>
          <a:xfrm>
            <a:off x="1357200" y="5286240"/>
            <a:ext cx="778680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8"/>
          <p:cNvSpPr/>
          <p:nvPr/>
        </p:nvSpPr>
        <p:spPr>
          <a:xfrm>
            <a:off x="1100160" y="5715000"/>
            <a:ext cx="2357280" cy="24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2533680" cy="647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785880" y="2000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71424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750960" y="495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3" descr=""/>
          <p:cNvPicPr/>
          <p:nvPr/>
        </p:nvPicPr>
        <p:blipFill>
          <a:blip r:embed="rId1"/>
          <a:stretch/>
        </p:blipFill>
        <p:spPr>
          <a:xfrm>
            <a:off x="162000" y="2052720"/>
            <a:ext cx="8820000" cy="2752560"/>
          </a:xfrm>
          <a:prstGeom prst="rect">
            <a:avLst/>
          </a:prstGeom>
          <a:ln w="0">
            <a:noFill/>
          </a:ln>
        </p:spPr>
      </p:pic>
      <p:sp>
        <p:nvSpPr>
          <p:cNvPr id="1109" name="矩形 2"/>
          <p:cNvSpPr/>
          <p:nvPr/>
        </p:nvSpPr>
        <p:spPr>
          <a:xfrm>
            <a:off x="2454120" y="2711520"/>
            <a:ext cx="7858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3"/>
          <p:cNvSpPr/>
          <p:nvPr/>
        </p:nvSpPr>
        <p:spPr>
          <a:xfrm>
            <a:off x="2654280" y="3121200"/>
            <a:ext cx="1560600" cy="233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4"/>
          <p:cNvSpPr/>
          <p:nvPr/>
        </p:nvSpPr>
        <p:spPr>
          <a:xfrm>
            <a:off x="3071880" y="3714840"/>
            <a:ext cx="100008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5"/>
          <p:cNvSpPr/>
          <p:nvPr/>
        </p:nvSpPr>
        <p:spPr>
          <a:xfrm>
            <a:off x="4500720" y="4092480"/>
            <a:ext cx="1785960" cy="319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6"/>
          <p:cNvSpPr/>
          <p:nvPr/>
        </p:nvSpPr>
        <p:spPr>
          <a:xfrm>
            <a:off x="3143160" y="4429080"/>
            <a:ext cx="11430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2" descr=""/>
          <p:cNvPicPr/>
          <p:nvPr/>
        </p:nvPicPr>
        <p:blipFill>
          <a:blip r:embed="rId1"/>
          <a:stretch/>
        </p:blipFill>
        <p:spPr>
          <a:xfrm>
            <a:off x="171360" y="1357200"/>
            <a:ext cx="8801280" cy="4143600"/>
          </a:xfrm>
          <a:prstGeom prst="rect">
            <a:avLst/>
          </a:prstGeom>
          <a:ln w="0">
            <a:noFill/>
          </a:ln>
        </p:spPr>
      </p:pic>
      <p:sp>
        <p:nvSpPr>
          <p:cNvPr id="1115" name="矩形 2"/>
          <p:cNvSpPr/>
          <p:nvPr/>
        </p:nvSpPr>
        <p:spPr>
          <a:xfrm>
            <a:off x="714240" y="2000160"/>
            <a:ext cx="15004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3"/>
          <p:cNvSpPr/>
          <p:nvPr/>
        </p:nvSpPr>
        <p:spPr>
          <a:xfrm>
            <a:off x="2500200" y="1986120"/>
            <a:ext cx="7858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4"/>
          <p:cNvSpPr/>
          <p:nvPr/>
        </p:nvSpPr>
        <p:spPr>
          <a:xfrm>
            <a:off x="2228760" y="3063960"/>
            <a:ext cx="7858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5"/>
          <p:cNvSpPr/>
          <p:nvPr/>
        </p:nvSpPr>
        <p:spPr>
          <a:xfrm>
            <a:off x="3751200" y="3022560"/>
            <a:ext cx="78588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6"/>
          <p:cNvSpPr/>
          <p:nvPr/>
        </p:nvSpPr>
        <p:spPr>
          <a:xfrm>
            <a:off x="1500120" y="3714840"/>
            <a:ext cx="12859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7"/>
          <p:cNvSpPr/>
          <p:nvPr/>
        </p:nvSpPr>
        <p:spPr>
          <a:xfrm>
            <a:off x="2786040" y="3714840"/>
            <a:ext cx="7858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8"/>
          <p:cNvSpPr/>
          <p:nvPr/>
        </p:nvSpPr>
        <p:spPr>
          <a:xfrm>
            <a:off x="1000080" y="4429080"/>
            <a:ext cx="7858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9"/>
          <p:cNvSpPr/>
          <p:nvPr/>
        </p:nvSpPr>
        <p:spPr>
          <a:xfrm>
            <a:off x="2143080" y="4429080"/>
            <a:ext cx="7858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10"/>
          <p:cNvSpPr/>
          <p:nvPr/>
        </p:nvSpPr>
        <p:spPr>
          <a:xfrm>
            <a:off x="2500200" y="5118120"/>
            <a:ext cx="12859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11"/>
          <p:cNvSpPr/>
          <p:nvPr/>
        </p:nvSpPr>
        <p:spPr>
          <a:xfrm>
            <a:off x="4208400" y="5118120"/>
            <a:ext cx="1577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135000" y="1028880"/>
            <a:ext cx="8858160" cy="1714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61920" y="2751120"/>
            <a:ext cx="8953560" cy="3809880"/>
          </a:xfrm>
          <a:prstGeom prst="rect">
            <a:avLst/>
          </a:prstGeom>
          <a:ln w="0">
            <a:noFill/>
          </a:ln>
        </p:spPr>
      </p:pic>
      <p:sp>
        <p:nvSpPr>
          <p:cNvPr id="1127" name="矩形 3"/>
          <p:cNvSpPr/>
          <p:nvPr/>
        </p:nvSpPr>
        <p:spPr>
          <a:xfrm>
            <a:off x="7858080" y="3143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4"/>
          <p:cNvSpPr/>
          <p:nvPr/>
        </p:nvSpPr>
        <p:spPr>
          <a:xfrm>
            <a:off x="928800" y="3786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5"/>
          <p:cNvSpPr/>
          <p:nvPr/>
        </p:nvSpPr>
        <p:spPr>
          <a:xfrm>
            <a:off x="7786800" y="41432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6"/>
          <p:cNvSpPr/>
          <p:nvPr/>
        </p:nvSpPr>
        <p:spPr>
          <a:xfrm>
            <a:off x="5643720" y="58579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6457680" cy="3981240"/>
          </a:xfrm>
          <a:prstGeom prst="rect">
            <a:avLst/>
          </a:prstGeom>
          <a:ln w="0">
            <a:noFill/>
          </a:ln>
        </p:spPr>
      </p:pic>
      <p:sp>
        <p:nvSpPr>
          <p:cNvPr id="1132" name="矩形 2"/>
          <p:cNvSpPr/>
          <p:nvPr/>
        </p:nvSpPr>
        <p:spPr>
          <a:xfrm>
            <a:off x="1285920" y="107172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"/>
          <p:cNvPicPr/>
          <p:nvPr/>
        </p:nvPicPr>
        <p:blipFill>
          <a:blip r:embed="rId1"/>
          <a:stretch/>
        </p:blipFill>
        <p:spPr>
          <a:xfrm>
            <a:off x="3240" y="1374840"/>
            <a:ext cx="9067680" cy="4038480"/>
          </a:xfrm>
          <a:prstGeom prst="rect">
            <a:avLst/>
          </a:prstGeom>
          <a:ln w="0">
            <a:noFill/>
          </a:ln>
        </p:spPr>
      </p:pic>
      <p:sp>
        <p:nvSpPr>
          <p:cNvPr id="1134" name="矩形 2"/>
          <p:cNvSpPr/>
          <p:nvPr/>
        </p:nvSpPr>
        <p:spPr>
          <a:xfrm>
            <a:off x="1714680" y="264312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3"/>
          <p:cNvSpPr/>
          <p:nvPr/>
        </p:nvSpPr>
        <p:spPr>
          <a:xfrm>
            <a:off x="3429000" y="300024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4"/>
          <p:cNvSpPr/>
          <p:nvPr/>
        </p:nvSpPr>
        <p:spPr>
          <a:xfrm>
            <a:off x="928800" y="3357720"/>
            <a:ext cx="857160" cy="277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5"/>
          <p:cNvSpPr/>
          <p:nvPr/>
        </p:nvSpPr>
        <p:spPr>
          <a:xfrm>
            <a:off x="6012000" y="3332160"/>
            <a:ext cx="11318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6"/>
          <p:cNvSpPr/>
          <p:nvPr/>
        </p:nvSpPr>
        <p:spPr>
          <a:xfrm>
            <a:off x="1428840" y="4000680"/>
            <a:ext cx="7858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7"/>
          <p:cNvSpPr/>
          <p:nvPr/>
        </p:nvSpPr>
        <p:spPr>
          <a:xfrm>
            <a:off x="6215040" y="4000680"/>
            <a:ext cx="13572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8"/>
          <p:cNvSpPr/>
          <p:nvPr/>
        </p:nvSpPr>
        <p:spPr>
          <a:xfrm>
            <a:off x="2428920" y="4357800"/>
            <a:ext cx="15001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9"/>
          <p:cNvSpPr/>
          <p:nvPr/>
        </p:nvSpPr>
        <p:spPr>
          <a:xfrm>
            <a:off x="857160" y="4714920"/>
            <a:ext cx="11430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0"/>
          <p:cNvSpPr/>
          <p:nvPr/>
        </p:nvSpPr>
        <p:spPr>
          <a:xfrm>
            <a:off x="1500120" y="5072040"/>
            <a:ext cx="12146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1"/>
          <p:cNvSpPr/>
          <p:nvPr/>
        </p:nvSpPr>
        <p:spPr>
          <a:xfrm>
            <a:off x="5286240" y="507204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2" descr=""/>
          <p:cNvPicPr/>
          <p:nvPr/>
        </p:nvPicPr>
        <p:blipFill>
          <a:blip r:embed="rId1"/>
          <a:stretch/>
        </p:blipFill>
        <p:spPr>
          <a:xfrm>
            <a:off x="52560" y="1533600"/>
            <a:ext cx="90388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"/>
          <p:cNvPicPr/>
          <p:nvPr/>
        </p:nvPicPr>
        <p:blipFill>
          <a:blip r:embed="rId1"/>
          <a:stretch/>
        </p:blipFill>
        <p:spPr>
          <a:xfrm>
            <a:off x="123840" y="1833480"/>
            <a:ext cx="8896320" cy="3191040"/>
          </a:xfrm>
          <a:prstGeom prst="rect">
            <a:avLst/>
          </a:prstGeom>
          <a:ln w="0">
            <a:noFill/>
          </a:ln>
        </p:spPr>
      </p:pic>
      <p:sp>
        <p:nvSpPr>
          <p:cNvPr id="1146" name="矩形 2"/>
          <p:cNvSpPr/>
          <p:nvPr/>
        </p:nvSpPr>
        <p:spPr>
          <a:xfrm>
            <a:off x="2000160" y="2214720"/>
            <a:ext cx="69944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3"/>
          <p:cNvSpPr/>
          <p:nvPr/>
        </p:nvSpPr>
        <p:spPr>
          <a:xfrm>
            <a:off x="285840" y="2571840"/>
            <a:ext cx="8715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矩形 4"/>
          <p:cNvSpPr/>
          <p:nvPr/>
        </p:nvSpPr>
        <p:spPr>
          <a:xfrm>
            <a:off x="254160" y="2946240"/>
            <a:ext cx="8804160" cy="254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矩形 5"/>
          <p:cNvSpPr/>
          <p:nvPr/>
        </p:nvSpPr>
        <p:spPr>
          <a:xfrm>
            <a:off x="214200" y="3286080"/>
            <a:ext cx="8786880" cy="279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6"/>
          <p:cNvSpPr/>
          <p:nvPr/>
        </p:nvSpPr>
        <p:spPr>
          <a:xfrm>
            <a:off x="214200" y="3643200"/>
            <a:ext cx="8786880" cy="254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7"/>
          <p:cNvSpPr/>
          <p:nvPr/>
        </p:nvSpPr>
        <p:spPr>
          <a:xfrm>
            <a:off x="0" y="3978360"/>
            <a:ext cx="9001080" cy="250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8"/>
          <p:cNvSpPr/>
          <p:nvPr/>
        </p:nvSpPr>
        <p:spPr>
          <a:xfrm>
            <a:off x="214200" y="4286160"/>
            <a:ext cx="892980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9"/>
          <p:cNvSpPr/>
          <p:nvPr/>
        </p:nvSpPr>
        <p:spPr>
          <a:xfrm>
            <a:off x="214200" y="4643280"/>
            <a:ext cx="821556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9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9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4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9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4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9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600120" y="1919160"/>
            <a:ext cx="7943760" cy="301968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3357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29720" cy="582912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571680" y="1143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571680" y="1785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571680" y="3143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571680" y="3786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500040" y="5214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334360" cy="1419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214200" y="2928960"/>
            <a:ext cx="8591760" cy="240984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582480" y="1882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571680" y="2500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57168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500040" y="4000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571680" y="4643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142920" y="1390680"/>
            <a:ext cx="8858160" cy="40766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2786040" y="3389400"/>
            <a:ext cx="785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5632560" y="338292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7072200" y="4000680"/>
            <a:ext cx="12859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3500280" y="4786200"/>
            <a:ext cx="785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6715080" y="4643280"/>
            <a:ext cx="9288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171360" y="714240"/>
            <a:ext cx="8972640" cy="59914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500040" y="1643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571680" y="3286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571680" y="4286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571680" y="5643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20000" cy="552456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428760" y="857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428760" y="1571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42876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428760" y="3571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428760" y="4643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8839080" cy="12855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142920" y="2357280"/>
            <a:ext cx="9001080" cy="3810240"/>
          </a:xfrm>
          <a:prstGeom prst="rect">
            <a:avLst/>
          </a:prstGeom>
          <a:ln w="0">
            <a:noFill/>
          </a:ln>
        </p:spPr>
      </p:pic>
      <p:sp>
        <p:nvSpPr>
          <p:cNvPr id="1063" name="矩形 3"/>
          <p:cNvSpPr/>
          <p:nvPr/>
        </p:nvSpPr>
        <p:spPr>
          <a:xfrm>
            <a:off x="42876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4"/>
          <p:cNvSpPr/>
          <p:nvPr/>
        </p:nvSpPr>
        <p:spPr>
          <a:xfrm>
            <a:off x="428760" y="171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"/>
          <p:cNvSpPr/>
          <p:nvPr/>
        </p:nvSpPr>
        <p:spPr>
          <a:xfrm>
            <a:off x="500040" y="3071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500040" y="4786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4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