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A4BE-C643-47C4-968F-CEF6DA69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FDC6-BAE3-4E23-B7AA-A21B7739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C68EE-D39A-4C8F-BDFE-94BA35E9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CBA7D-996F-407D-AF2F-29D2758E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11B45-3BAD-48CC-815D-97FD36C4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7CE77-37F0-47ED-B35B-D924B318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F15EF-8F5A-42FB-9A3A-03B33C27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D9E77-A970-4F8B-9906-BF04BC16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A9691-32C7-4726-A441-42A7C058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4D301-B40B-4876-A101-6B5B46A9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57EE9-B051-4C86-9BF9-D240BBAE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EA721-FC31-4B0E-BFCF-121DFD27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97A5-29B1-4922-AA71-95D70653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8C47B-F1A5-451E-BEC0-5CAF8446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CE4D5-82B8-4507-BD75-AABA95EA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8ACA6-3BB4-4ECB-BD3D-C1CC189A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E32BE-2F0D-49C0-A0BE-6F1187E5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0EDEE-3E69-450A-9C9C-FFBEB767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F7384-BB83-44E5-8A8F-34839737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E8BFA-7489-4C1A-A58E-61F03833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5872A-E8C0-43CE-B2C5-406179B3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E2CBC-F9F3-489C-A03F-298A27FF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2F78A-D51D-4DBB-B2EA-2FC2FB88C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D762-B286-44AC-8F49-64B0327D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96BCC-A2EF-4FB5-B9DA-C9B330DB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A3217-E771-4B87-AA57-9A19BF5B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578F9-48E7-4153-AA65-8A92F5B2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A9D62-6FEA-4121-8BDD-B11BA5F8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B1342-AE62-4D5E-B896-AB8274B3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EA18D-4560-4BAF-9F64-A6BA71EF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5D3DC-6650-41AF-A757-629F3425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10AA5-2E00-42D3-A730-976D088B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A96D3-6B88-40FC-AA4D-F9CA5C40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D29F0-0E2E-4C64-8D8E-185D6B9E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66B8-664B-49D9-808B-A17126AB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230EF-A3BA-4BFC-86F1-832DF03E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A291F-371F-42FB-811E-ADB40287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4F814-A751-4000-92F1-940E7297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A20EB-FB1E-4976-9694-D9BD6DED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07F29-F741-4D8B-950C-7F9C9553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1D14F-0FB3-48C7-8073-7C2245B5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0B170-8B8C-4342-9891-7CAE6C63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3D09B-8ADE-47A2-A151-89907FAB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466E8-5EF6-49AA-9300-A1C36055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81A67-DEFA-42BC-B3F5-948068AF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A0A9-85AA-4823-834A-3552864A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FEBF5-4FC6-4023-A78B-18BC9CAC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F40A2-6755-47AE-90BB-6897B892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55686-4841-4C37-9968-0672C001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44D21-F195-4FA1-846C-F66AE19A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E9FF8-21F7-4138-A994-BC329065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959B18-AF1E-4A30-A26C-8516C214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8507FD-D4ED-4452-994F-ED194C62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A49902-42D7-427A-88A7-588F21A5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EA375B-113D-4D42-9968-05E35AAB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E55B2F-BAEE-482D-BF17-C1F98C1C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CC4F-88A5-415B-87C9-B5572C88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DA11DB-FD9C-4C55-A90B-D17D211A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2D728E-564A-4029-9406-509945B6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6839DD-FCDC-4D2A-B47A-A87AE122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400A53-185B-467C-AE97-C1802A2A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EC32CB-99A4-4CAD-8D5C-D4B3BC00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658C7C-288D-40F5-8C52-E477573A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884715-24E7-400B-B26A-B441AAE3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BEAA3C-B3F2-4D26-99F5-74F45618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61E10C-024C-4324-BEDB-F325C26C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2A1B98-8EE8-44B7-8361-D9DD0089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1036-E491-4D95-948A-4CE4038A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346902-3BF7-4A38-BDB8-63A5229D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6271F1-BD37-4111-A4A6-8E49268F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3CF8A1-E3E7-4C2A-B2AA-0F595E2A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7BFE0F-BA53-4FD8-A780-88240593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68AC92-7EE2-4559-AC80-EDDC2457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A9A127-AA6E-4F52-B0BC-ED94A94C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527A72-A4F2-4CD3-AFF0-0B580D1F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46FCE7-6B8A-49D9-873C-8060497C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D7837B-C428-46AD-91AE-FAB72E88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F324D8-B95E-4340-95CC-AC35020C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B38D-8AF7-4FE6-B412-CCE2463C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B659B6-970B-4FC6-8EE3-19302577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2BEE0C-9A77-4530-90DA-74E2BAEB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2D0A87-C1D3-4FDA-BF3A-F83D76E3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74B770-0583-4A20-90A4-A411690E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A5D638-E142-4DC0-95BB-8283418E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4B3E4D-616B-4400-9B79-02B15AA5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580094-0FFB-4577-895C-4B8ABBCB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88ECBE-D780-4C93-91C1-CDA1F37C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78E4B6-3ED2-4BD3-BF86-5E02B675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F7AB1A-21D0-440D-9403-236DF8DA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6FB0-F278-4D37-B1E8-451679F6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E6A6AF-C3DE-4E4C-ACD8-EB549779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204D30-0E8E-434B-9E32-5E85F55B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88DEE0-E148-428F-A8A0-B61540E7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B166CE-FDCB-40A0-A88E-A1474F7C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041211-4775-4C38-9E6B-496653FD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5FEAB2-4733-48CE-8A9B-8E7AD654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F875D7-2043-4017-B2D3-A122B24B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514ECE-7B7C-4A44-8334-9620E685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CE3BE6-67B4-4292-9248-CA7AAAA3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D9AA39-9617-4F70-98B2-D30A9110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2EAF-CA86-444C-86BA-B1A95985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9E794F-F5F8-41A0-B828-03C0DE47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2C1252-1F91-4BCA-8A77-10BEABF4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1F66E7-DE92-43C4-A0BA-EB5D8004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2C8C67-7496-4266-B713-8E4ED735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7A3132-0FE5-4AD3-9BC1-7FA6CD6A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49C208-6B14-4E80-AACF-954D6AE6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92E75F-D3B4-4650-81C4-00F7B8F4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3F979B-8018-4D11-BD4C-FB934A57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AD46C7-8577-4390-ACEB-98AC13B6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B65F3F-3FF0-43A6-B786-AB94D5EE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04E0-A70E-4F1A-A719-F4CE8C19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CCED-1F47-41B7-8676-4D169C05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21B083-1C6E-4F8B-8CD5-17BF0F85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336886-9898-44A2-831F-0D58CFB6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9E5021-EFA3-4F22-B543-8EA88D2E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CD6CFC-2B1E-4C03-AE65-27B022AF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C5B917-7116-4257-8331-42B674E1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6CB3EE-FCB7-4FC4-BB34-3FA2892A2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2F5999-4CF0-4CDB-859E-429F65D2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24C8DB-A80F-465A-9B32-36BEE30C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FAFECD-C39A-4D7A-9F71-2E2D4DE8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6FB8D1-7CB1-4ADA-AFA8-9BCEE3AE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3F63-E338-4D17-941B-A8832369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0ADEF7-8506-44D5-9672-2C71F8CF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B21103-4A81-4126-BED6-172148D9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6F9BD0-2C11-4305-81C0-85E789A1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67F100-66F9-4006-AAF2-B2EAF365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3E6767-B5B3-469D-9372-34C16C47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95FD19-46C3-49E8-8C54-5CF9C4F0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B661BA-D09D-40A6-9D15-D0BCF6A6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E7D087-0FF0-44E9-BB3D-416568CC4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CB6F44-C2AF-4F81-AC7D-A75C4B4B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C209F4-AB2D-4D36-A939-608E22DC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AF02-76A7-4703-9C1A-F76E7F8E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D344A9-9C61-4D38-869F-2B49EA7C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C29AA0-394D-43C0-AA83-E174817E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9B6851-633F-489A-A50A-01FDF0A1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1041FD-AC26-4A54-8634-9ED1141B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755F5F-37A5-4027-BDC3-849A6AFB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48AA1A-F04C-4C6A-AE86-DB0120F6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8F5787-87B5-4CA4-A944-DAC59283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6FD483-F609-45FC-A721-200C4D72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5CBE0D-EF8F-488C-9F14-F1C304BD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EC95B2-62B6-4EAB-B079-542B42F2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F080-76FA-4A73-A5CC-E6F0665D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09960F-418D-446C-87EF-94EB2FC8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AE00C5-8956-4384-B2F7-CD2D8996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F931FA-ECAF-4939-87C1-7470666D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1D03A7-E114-4719-A02B-9CD25A38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02B82B-C2E8-4396-B672-6AF305FE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A8E1B0-71DA-47AC-878F-01401E6B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42FC26-8596-4ED0-ACD4-A1F0A4B1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261B8B-9730-44D6-99BB-0B527665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DFFF83-7E46-4059-A70A-9433777D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F9F43E-0713-4B17-A658-01AD4F46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281F-C235-4507-A3E4-775CE248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B24F7E-3D93-41FC-A356-0275E9D6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1D7F4E-05FE-422B-AB85-8C581709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F442D6-5F08-4577-83ED-FADA5A27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2A3475-AD86-4D60-B823-F8A8C155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FC27B7-DD16-41EB-82CF-915DFC6E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97246D-CFDB-437E-99C4-746E645E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B52CE8-1C5B-4303-B5F5-AE0EC9B4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CDAC22-31B0-480F-A859-5FA7E921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3FE0F2-A38E-4F63-B480-CA584AED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06E69B-24EE-4B03-8C0F-EDF176DE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FF8E5-474F-4AEB-A996-DC08E6E2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E950C4-D96B-4419-BB02-92CD6414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6E39F6-884E-4652-9C5A-03D429F3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A6F4F6-916C-4CBE-8856-884F2D3A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EBBBF-D904-4631-8A04-11859216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C2640-3330-46A4-9B2B-6AB8A25A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7312C-CDBF-4A88-8F39-632D1119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72600-039A-4B5A-AE4A-B7221BD9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5781-84CF-4EC7-BE9B-F74F28CE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65795-9D62-423B-8682-375303D1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DAB19-FA8F-4D2F-920B-8238D50A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88C7F-5CC4-4D0A-ADE8-222D272E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B37B1-F91A-4871-87D6-30CD34A8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CB956-F133-40F7-A8B0-6A54DE63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12B48-7D44-4053-9E7E-52124F59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F22FD-FA1F-4F48-BF09-2915CDF4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DEEE7-42EF-42BD-981E-8AE6ED10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436FC-BCAA-48F4-96FA-D669D0EC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8F776-84B8-41EA-8B98-24001E02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DE9D-1DB8-41A8-A62E-89EDC0BB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4CB79-BDAD-4145-A7CE-346BA914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95DD0-9EC4-4685-8329-34FACFD1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86206-B604-4D46-9E51-4EE39672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1D787-76B0-4A4D-8AD2-D4E3C3D7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5DE8D-A538-4470-9C22-BB66A6E5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69B4A-C873-4B23-A952-1F6E8821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5B98D-CBFE-48F1-9329-63D8A551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82C11-F78E-4AFC-8575-8D12229F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D2EEF-7A31-4A35-AD58-173ECE4E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FCD35-81A5-407E-B726-67777B5A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E720-B171-42E2-B2DE-19F9B921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7F05B-5DB8-4A74-BB5B-9016D608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3EB70-76D1-4BDA-BC51-094E5A12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6AD8A-E1AF-472C-AED4-B0FB537E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E2776-2623-40EF-B076-6AA62B8B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F3FC0-7DC9-416C-B25C-DA14AC26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F1126-C191-4D22-A9BA-DA059871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DF76B-E17C-400D-919E-9CECE9AA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5851E-41FE-497E-A064-2485215F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C5494-E3B5-499C-9A03-5973D13F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45B13-A8DA-483C-9BC9-A8B4A516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6A82-4D2D-4691-923E-44288673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4D36C-2668-46E0-B782-8928960F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AB53B-1E14-4ABC-9B64-83303E36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D7FAF-B9F8-4526-A8EA-34C2EB02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D007B-FF82-48DA-9365-38A16B16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28E86-8FB5-48DD-876D-F5B461DA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C540F-0825-42DC-B4EF-5ACF4796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C5999-3DAF-4A04-93F0-D48EEA0A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F50B0-FEA6-4C2D-82EA-9D8EF6E5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9DE2F-0AB4-4DDE-A9FD-7A1C4075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86732-85B3-4937-91B4-BDD1302C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0FC9-3456-4CAA-B24C-12BA952A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D9B59-2299-4DEC-8941-62739C5E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12E2C-387C-4C25-A1B9-7EB308CF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ED02A-666D-49E3-9BE7-AA5A4843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500F5-13B7-4739-8E61-EE9B15F9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197CE-6795-420C-8911-AF9E2DD1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1D806-9512-4E34-9E05-E4C29A4E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35802-729C-4FC1-AC96-8E159B75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CE93D-1C26-4F4E-AF64-64241FF6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EB703-B7A3-4455-A4D2-18174A8C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16E7F-121F-4466-B4AE-5DE5986F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A7D3-CA02-460C-B65E-A1603BEA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FBE03-6189-4C4A-B18D-3E4BB75C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BE71F-1882-4914-B00C-388A628F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EE19E-1009-4E73-9D2C-1FB93C50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D6AE0-5770-48CB-829D-96D09EDA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FD1AC-6C3C-48F0-BA5D-45B845C72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8BB33-F8CA-44CC-A365-F812651B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6AB6E-F6DF-4AD9-BFCD-0579409A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E0F1B-65AB-4366-B4E1-E8DFDBA2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2B5F0-E1D4-4994-B41A-79FE85C5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A0FE4-D9FC-4E08-B7A6-A4284C26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A1E2-6A44-42BD-8EA5-B6A7CE69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DC76A-39E9-4CB8-B5C5-94D8F06B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D4300-AA55-4AC5-AD07-29CAD7AE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AC817-92BC-46B7-A7B2-FCC06F6F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C83C6-25F6-4C1E-B9DB-0AEA659F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32ABC-4723-4DA8-9B9C-98A5AB5C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F18E8-484E-4F0A-BF67-B698DBE8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505E6-F932-4B53-8DC4-EF71C4C3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541D5-3E90-41E3-8FA5-5C90A379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3CBA9-F693-478E-87CA-20043F06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A852F-62BE-4056-BCBD-896E48F9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E9AC-882C-4DC4-AC02-734F6B8FB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5EAC-BC4A-4BA0-9368-1C964B482A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EA56-DA6C-4534-9ED2-5659CF4A61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B7E9-E794-452A-A36A-71830B8C17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4DB0-EEC6-4AC5-823A-D02166A5ED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3289-0D8C-47D5-B0AA-B4E35BA700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C042-854D-4A2C-AA73-D510683C85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9452-6CDD-4B57-B1FE-8A38F7EF34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2950-BF61-4A6D-988E-24B906E3A6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BF54-A11A-4878-A8F0-0E2826BFB1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C7FD-8EEB-4E44-8FB7-D7621CC94E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84E8-1019-406C-BBC7-861AB66782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0EAB-8909-47DA-AF23-D759E93E21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7C27-86F6-4A1F-BA30-14EF016659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9A58-F631-4468-9E6B-5C39B67358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E0CD-78C8-4E3D-8423-0931CFF3E4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6A20-A771-4DD7-B73D-97F4794F9C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2C7B-D8B5-46BD-9BB0-3CA1A57AE1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175C-749E-4BA4-A2A7-3CE6CC877D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662F-8824-4063-A225-98EF4F1C84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288C-0BC0-4FF3-9D05-D4444D3EC3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141D-B35E-4CD0-9266-6DEC1A7553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15BD-5A00-4EAB-8BBA-CDAC3AE102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FE12-3D18-43CE-80A4-6A2A995229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DE7E-0D8F-4160-BB8D-F8A12348CB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E484-DC0C-4A1E-8947-E5B0132A5F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85A6-A8DA-497F-A08E-BBDC67E9BD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EF32-9DF7-4306-BE14-98BFB2A8E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59B0-4CFB-4616-99FC-F9ABCC1C71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D310-0287-4C07-9445-477223FC1C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110A-0246-4B28-9A60-F20FA1EBDE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2E9B-46AE-4235-80A0-B80FE7483B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0914-38ED-4023-BE04-9D46BA9A1C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5B43-5067-4F66-9DA6-4DE283A16F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F1DF-CF52-41D9-8F72-2AFA033078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521F-3C1F-48B8-8313-B36E8F860A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61C3-1D61-4C6B-877A-C866D9F99A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DCF2-FC3F-46A9-B9CB-3E0C133611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0DB6-89DC-4D46-9730-2095E1A648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DDCB-9CF0-429B-A18C-7917AF290D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181080" y="2247840"/>
            <a:ext cx="8781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Picture 1" descr=""/>
          <p:cNvPicPr/>
          <p:nvPr/>
        </p:nvPicPr>
        <p:blipFill>
          <a:blip r:embed="rId1"/>
          <a:srcRect l="0" t="409" r="0" b="0"/>
          <a:stretch/>
        </p:blipFill>
        <p:spPr>
          <a:xfrm>
            <a:off x="219240" y="955800"/>
            <a:ext cx="8705520" cy="561636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2"/>
          <a:stretch/>
        </p:blipFill>
        <p:spPr>
          <a:xfrm>
            <a:off x="488880" y="3954600"/>
            <a:ext cx="341280" cy="2919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3"/>
          <a:stretch/>
        </p:blipFill>
        <p:spPr>
          <a:xfrm>
            <a:off x="488880" y="4933800"/>
            <a:ext cx="34128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Picture 1" descr=""/>
          <p:cNvPicPr/>
          <p:nvPr/>
        </p:nvPicPr>
        <p:blipFill>
          <a:blip r:embed="rId1"/>
          <a:stretch/>
        </p:blipFill>
        <p:spPr>
          <a:xfrm>
            <a:off x="233280" y="941400"/>
            <a:ext cx="8677440" cy="16574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2" descr=""/>
          <p:cNvPicPr/>
          <p:nvPr/>
        </p:nvPicPr>
        <p:blipFill>
          <a:blip r:embed="rId2"/>
          <a:stretch/>
        </p:blipFill>
        <p:spPr>
          <a:xfrm>
            <a:off x="246240" y="2624040"/>
            <a:ext cx="8429400" cy="330516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"/>
          <p:cNvPicPr/>
          <p:nvPr/>
        </p:nvPicPr>
        <p:blipFill>
          <a:blip r:embed="rId3"/>
          <a:stretch/>
        </p:blipFill>
        <p:spPr>
          <a:xfrm>
            <a:off x="488880" y="939960"/>
            <a:ext cx="341280" cy="29196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4"/>
          <a:stretch/>
        </p:blipFill>
        <p:spPr>
          <a:xfrm>
            <a:off x="488880" y="2286000"/>
            <a:ext cx="341280" cy="29196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5"/>
          <a:stretch/>
        </p:blipFill>
        <p:spPr>
          <a:xfrm>
            <a:off x="488880" y="4280040"/>
            <a:ext cx="34128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Picture 1" descr=""/>
          <p:cNvPicPr/>
          <p:nvPr/>
        </p:nvPicPr>
        <p:blipFill>
          <a:blip r:embed="rId1"/>
          <a:stretch/>
        </p:blipFill>
        <p:spPr>
          <a:xfrm>
            <a:off x="214200" y="871560"/>
            <a:ext cx="87156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Picture 1" descr=""/>
          <p:cNvPicPr/>
          <p:nvPr/>
        </p:nvPicPr>
        <p:blipFill>
          <a:blip r:embed="rId1"/>
          <a:stretch/>
        </p:blipFill>
        <p:spPr>
          <a:xfrm>
            <a:off x="219240" y="880920"/>
            <a:ext cx="8705520" cy="561996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"/>
          <p:cNvPicPr/>
          <p:nvPr/>
        </p:nvPicPr>
        <p:blipFill>
          <a:blip r:embed="rId2"/>
          <a:stretch/>
        </p:blipFill>
        <p:spPr>
          <a:xfrm>
            <a:off x="488880" y="857160"/>
            <a:ext cx="341280" cy="29232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3"/>
          <a:stretch/>
        </p:blipFill>
        <p:spPr>
          <a:xfrm>
            <a:off x="488880" y="1857240"/>
            <a:ext cx="341280" cy="29232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4" descr=""/>
          <p:cNvPicPr/>
          <p:nvPr/>
        </p:nvPicPr>
        <p:blipFill>
          <a:blip r:embed="rId4"/>
          <a:stretch/>
        </p:blipFill>
        <p:spPr>
          <a:xfrm>
            <a:off x="488880" y="3525840"/>
            <a:ext cx="341280" cy="29196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4" descr=""/>
          <p:cNvPicPr/>
          <p:nvPr/>
        </p:nvPicPr>
        <p:blipFill>
          <a:blip r:embed="rId5"/>
          <a:stretch/>
        </p:blipFill>
        <p:spPr>
          <a:xfrm>
            <a:off x="488880" y="4532400"/>
            <a:ext cx="34128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Picture 1" descr=""/>
          <p:cNvPicPr/>
          <p:nvPr/>
        </p:nvPicPr>
        <p:blipFill>
          <a:blip r:embed="rId1"/>
          <a:stretch/>
        </p:blipFill>
        <p:spPr>
          <a:xfrm>
            <a:off x="209520" y="785880"/>
            <a:ext cx="8724960" cy="465768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2" descr=""/>
          <p:cNvPicPr/>
          <p:nvPr/>
        </p:nvPicPr>
        <p:blipFill>
          <a:blip r:embed="rId2"/>
          <a:stretch/>
        </p:blipFill>
        <p:spPr>
          <a:xfrm>
            <a:off x="214200" y="5429160"/>
            <a:ext cx="8715600" cy="98100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3" descr=""/>
          <p:cNvPicPr/>
          <p:nvPr/>
        </p:nvPicPr>
        <p:blipFill>
          <a:blip r:embed="rId3"/>
          <a:stretch/>
        </p:blipFill>
        <p:spPr>
          <a:xfrm>
            <a:off x="223920" y="6470640"/>
            <a:ext cx="8696160" cy="28584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4" descr=""/>
          <p:cNvPicPr/>
          <p:nvPr/>
        </p:nvPicPr>
        <p:blipFill>
          <a:blip r:embed="rId4"/>
          <a:stretch/>
        </p:blipFill>
        <p:spPr>
          <a:xfrm>
            <a:off x="488880" y="785880"/>
            <a:ext cx="34128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1" name="Picture 1" descr=""/>
          <p:cNvPicPr/>
          <p:nvPr/>
        </p:nvPicPr>
        <p:blipFill>
          <a:blip r:embed="rId1"/>
          <a:stretch/>
        </p:blipFill>
        <p:spPr>
          <a:xfrm>
            <a:off x="228600" y="814320"/>
            <a:ext cx="8686800" cy="597240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4" descr=""/>
          <p:cNvPicPr/>
          <p:nvPr/>
        </p:nvPicPr>
        <p:blipFill>
          <a:blip r:embed="rId2"/>
          <a:stretch/>
        </p:blipFill>
        <p:spPr>
          <a:xfrm>
            <a:off x="6572160" y="3184560"/>
            <a:ext cx="1928880" cy="28260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4" descr=""/>
          <p:cNvPicPr/>
          <p:nvPr/>
        </p:nvPicPr>
        <p:blipFill>
          <a:blip r:embed="rId3"/>
          <a:stretch/>
        </p:blipFill>
        <p:spPr>
          <a:xfrm>
            <a:off x="6429240" y="3500280"/>
            <a:ext cx="1785960" cy="28260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4" descr=""/>
          <p:cNvPicPr/>
          <p:nvPr/>
        </p:nvPicPr>
        <p:blipFill>
          <a:blip r:embed="rId4"/>
          <a:stretch/>
        </p:blipFill>
        <p:spPr>
          <a:xfrm>
            <a:off x="3214800" y="4184640"/>
            <a:ext cx="3000240" cy="28260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4" descr=""/>
          <p:cNvPicPr/>
          <p:nvPr/>
        </p:nvPicPr>
        <p:blipFill>
          <a:blip r:embed="rId5"/>
          <a:stretch/>
        </p:blipFill>
        <p:spPr>
          <a:xfrm>
            <a:off x="6429240" y="4521240"/>
            <a:ext cx="2286000" cy="2826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4" descr=""/>
          <p:cNvPicPr/>
          <p:nvPr/>
        </p:nvPicPr>
        <p:blipFill>
          <a:blip r:embed="rId6"/>
          <a:stretch/>
        </p:blipFill>
        <p:spPr>
          <a:xfrm>
            <a:off x="3357720" y="4857840"/>
            <a:ext cx="2143080" cy="28260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4" descr=""/>
          <p:cNvPicPr/>
          <p:nvPr/>
        </p:nvPicPr>
        <p:blipFill>
          <a:blip r:embed="rId7"/>
          <a:stretch/>
        </p:blipFill>
        <p:spPr>
          <a:xfrm>
            <a:off x="5000760" y="5857920"/>
            <a:ext cx="785520" cy="28260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4" descr=""/>
          <p:cNvPicPr/>
          <p:nvPr/>
        </p:nvPicPr>
        <p:blipFill>
          <a:blip r:embed="rId8"/>
          <a:stretch/>
        </p:blipFill>
        <p:spPr>
          <a:xfrm>
            <a:off x="5897520" y="6197760"/>
            <a:ext cx="1000080" cy="2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Picture 1" descr=""/>
          <p:cNvPicPr/>
          <p:nvPr/>
        </p:nvPicPr>
        <p:blipFill>
          <a:blip r:embed="rId1"/>
          <a:stretch/>
        </p:blipFill>
        <p:spPr>
          <a:xfrm>
            <a:off x="209520" y="765000"/>
            <a:ext cx="8724960" cy="401004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2" descr=""/>
          <p:cNvPicPr/>
          <p:nvPr/>
        </p:nvPicPr>
        <p:blipFill>
          <a:blip r:embed="rId2"/>
          <a:stretch/>
        </p:blipFill>
        <p:spPr>
          <a:xfrm>
            <a:off x="174600" y="4786200"/>
            <a:ext cx="6191280" cy="200988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4" descr=""/>
          <p:cNvPicPr/>
          <p:nvPr/>
        </p:nvPicPr>
        <p:blipFill>
          <a:blip r:embed="rId3"/>
          <a:stretch/>
        </p:blipFill>
        <p:spPr>
          <a:xfrm>
            <a:off x="6402240" y="4521240"/>
            <a:ext cx="2476800" cy="230508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4" descr=""/>
          <p:cNvPicPr/>
          <p:nvPr/>
        </p:nvPicPr>
        <p:blipFill>
          <a:blip r:embed="rId4"/>
          <a:stretch/>
        </p:blipFill>
        <p:spPr>
          <a:xfrm>
            <a:off x="5756400" y="806400"/>
            <a:ext cx="785520" cy="28260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4" descr=""/>
          <p:cNvPicPr/>
          <p:nvPr/>
        </p:nvPicPr>
        <p:blipFill>
          <a:blip r:embed="rId5"/>
          <a:stretch/>
        </p:blipFill>
        <p:spPr>
          <a:xfrm>
            <a:off x="4000680" y="1143000"/>
            <a:ext cx="1110960" cy="28260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4" descr=""/>
          <p:cNvPicPr/>
          <p:nvPr/>
        </p:nvPicPr>
        <p:blipFill>
          <a:blip r:embed="rId6"/>
          <a:stretch/>
        </p:blipFill>
        <p:spPr>
          <a:xfrm>
            <a:off x="4357800" y="1479600"/>
            <a:ext cx="785880" cy="28260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4" descr=""/>
          <p:cNvPicPr/>
          <p:nvPr/>
        </p:nvPicPr>
        <p:blipFill>
          <a:blip r:embed="rId7"/>
          <a:stretch/>
        </p:blipFill>
        <p:spPr>
          <a:xfrm>
            <a:off x="3571920" y="2135160"/>
            <a:ext cx="1643040" cy="28260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4" descr=""/>
          <p:cNvPicPr/>
          <p:nvPr/>
        </p:nvPicPr>
        <p:blipFill>
          <a:blip r:embed="rId8"/>
          <a:stretch/>
        </p:blipFill>
        <p:spPr>
          <a:xfrm>
            <a:off x="4071960" y="2481120"/>
            <a:ext cx="1285920" cy="28260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4" descr=""/>
          <p:cNvPicPr/>
          <p:nvPr/>
        </p:nvPicPr>
        <p:blipFill>
          <a:blip r:embed="rId9"/>
          <a:stretch/>
        </p:blipFill>
        <p:spPr>
          <a:xfrm>
            <a:off x="5000760" y="2817720"/>
            <a:ext cx="1285920" cy="28260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4" descr=""/>
          <p:cNvPicPr/>
          <p:nvPr/>
        </p:nvPicPr>
        <p:blipFill>
          <a:blip r:embed="rId10"/>
          <a:stretch/>
        </p:blipFill>
        <p:spPr>
          <a:xfrm>
            <a:off x="3071880" y="3481560"/>
            <a:ext cx="1214280" cy="28224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4" descr=""/>
          <p:cNvPicPr/>
          <p:nvPr/>
        </p:nvPicPr>
        <p:blipFill>
          <a:blip r:embed="rId11"/>
          <a:stretch/>
        </p:blipFill>
        <p:spPr>
          <a:xfrm>
            <a:off x="7643880" y="4143240"/>
            <a:ext cx="1000080" cy="28260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4" descr=""/>
          <p:cNvPicPr/>
          <p:nvPr/>
        </p:nvPicPr>
        <p:blipFill>
          <a:blip r:embed="rId12"/>
          <a:stretch/>
        </p:blipFill>
        <p:spPr>
          <a:xfrm>
            <a:off x="682560" y="5481720"/>
            <a:ext cx="785880" cy="28260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4" descr=""/>
          <p:cNvPicPr/>
          <p:nvPr/>
        </p:nvPicPr>
        <p:blipFill>
          <a:blip r:embed="rId13"/>
          <a:stretch/>
        </p:blipFill>
        <p:spPr>
          <a:xfrm>
            <a:off x="2357280" y="5481720"/>
            <a:ext cx="785880" cy="28260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4" descr=""/>
          <p:cNvPicPr/>
          <p:nvPr/>
        </p:nvPicPr>
        <p:blipFill>
          <a:blip r:embed="rId14"/>
          <a:stretch/>
        </p:blipFill>
        <p:spPr>
          <a:xfrm>
            <a:off x="5286240" y="5481720"/>
            <a:ext cx="785880" cy="28260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4" descr=""/>
          <p:cNvPicPr/>
          <p:nvPr/>
        </p:nvPicPr>
        <p:blipFill>
          <a:blip r:embed="rId15"/>
          <a:stretch/>
        </p:blipFill>
        <p:spPr>
          <a:xfrm>
            <a:off x="907920" y="5818320"/>
            <a:ext cx="785880" cy="28260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4" descr=""/>
          <p:cNvPicPr/>
          <p:nvPr/>
        </p:nvPicPr>
        <p:blipFill>
          <a:blip r:embed="rId16"/>
          <a:stretch/>
        </p:blipFill>
        <p:spPr>
          <a:xfrm>
            <a:off x="896760" y="6492960"/>
            <a:ext cx="785880" cy="28260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4" descr=""/>
          <p:cNvPicPr/>
          <p:nvPr/>
        </p:nvPicPr>
        <p:blipFill>
          <a:blip r:embed="rId17"/>
          <a:stretch/>
        </p:blipFill>
        <p:spPr>
          <a:xfrm>
            <a:off x="2714760" y="6492960"/>
            <a:ext cx="78552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2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7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2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7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2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7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2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7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2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Picture 1" descr=""/>
          <p:cNvPicPr/>
          <p:nvPr/>
        </p:nvPicPr>
        <p:blipFill>
          <a:blip r:embed="rId1"/>
          <a:srcRect l="0" t="35773" r="0" b="0"/>
          <a:stretch/>
        </p:blipFill>
        <p:spPr>
          <a:xfrm>
            <a:off x="200160" y="809640"/>
            <a:ext cx="8743680" cy="365760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2" descr=""/>
          <p:cNvPicPr/>
          <p:nvPr/>
        </p:nvPicPr>
        <p:blipFill>
          <a:blip r:embed="rId2"/>
          <a:stretch/>
        </p:blipFill>
        <p:spPr>
          <a:xfrm>
            <a:off x="6572160" y="785880"/>
            <a:ext cx="2357640" cy="9586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3"/>
          <a:stretch/>
        </p:blipFill>
        <p:spPr>
          <a:xfrm>
            <a:off x="223920" y="4491000"/>
            <a:ext cx="8696160" cy="22957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4" descr=""/>
          <p:cNvPicPr/>
          <p:nvPr/>
        </p:nvPicPr>
        <p:blipFill>
          <a:blip r:embed="rId4"/>
          <a:stretch/>
        </p:blipFill>
        <p:spPr>
          <a:xfrm>
            <a:off x="825480" y="1154160"/>
            <a:ext cx="785880" cy="28260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4" descr=""/>
          <p:cNvPicPr/>
          <p:nvPr/>
        </p:nvPicPr>
        <p:blipFill>
          <a:blip r:embed="rId5"/>
          <a:stretch/>
        </p:blipFill>
        <p:spPr>
          <a:xfrm>
            <a:off x="2265480" y="1154160"/>
            <a:ext cx="785520" cy="28260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4" descr=""/>
          <p:cNvPicPr/>
          <p:nvPr/>
        </p:nvPicPr>
        <p:blipFill>
          <a:blip r:embed="rId6"/>
          <a:stretch/>
        </p:blipFill>
        <p:spPr>
          <a:xfrm>
            <a:off x="2746440" y="2154240"/>
            <a:ext cx="785880" cy="28260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4" descr=""/>
          <p:cNvPicPr/>
          <p:nvPr/>
        </p:nvPicPr>
        <p:blipFill>
          <a:blip r:embed="rId7"/>
          <a:stretch/>
        </p:blipFill>
        <p:spPr>
          <a:xfrm>
            <a:off x="7143840" y="2154240"/>
            <a:ext cx="785880" cy="28260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4" descr=""/>
          <p:cNvPicPr/>
          <p:nvPr/>
        </p:nvPicPr>
        <p:blipFill>
          <a:blip r:embed="rId8"/>
          <a:stretch/>
        </p:blipFill>
        <p:spPr>
          <a:xfrm>
            <a:off x="2571840" y="2817720"/>
            <a:ext cx="1571400" cy="28260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4" descr=""/>
          <p:cNvPicPr/>
          <p:nvPr/>
        </p:nvPicPr>
        <p:blipFill>
          <a:blip r:embed="rId9"/>
          <a:stretch/>
        </p:blipFill>
        <p:spPr>
          <a:xfrm>
            <a:off x="4786200" y="2817720"/>
            <a:ext cx="107172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9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9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4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9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4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8715600" cy="133344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3" descr=""/>
          <p:cNvPicPr/>
          <p:nvPr/>
        </p:nvPicPr>
        <p:blipFill>
          <a:blip r:embed="rId2"/>
          <a:stretch/>
        </p:blipFill>
        <p:spPr>
          <a:xfrm>
            <a:off x="262080" y="2214720"/>
            <a:ext cx="8619840" cy="352404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4" descr=""/>
          <p:cNvPicPr/>
          <p:nvPr/>
        </p:nvPicPr>
        <p:blipFill>
          <a:blip r:embed="rId3"/>
          <a:stretch/>
        </p:blipFill>
        <p:spPr>
          <a:xfrm>
            <a:off x="785880" y="5416560"/>
            <a:ext cx="571320" cy="28404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4" descr=""/>
          <p:cNvPicPr/>
          <p:nvPr/>
        </p:nvPicPr>
        <p:blipFill>
          <a:blip r:embed="rId4"/>
          <a:stretch/>
        </p:blipFill>
        <p:spPr>
          <a:xfrm>
            <a:off x="2500200" y="5415120"/>
            <a:ext cx="642960" cy="2822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4" descr=""/>
          <p:cNvPicPr/>
          <p:nvPr/>
        </p:nvPicPr>
        <p:blipFill>
          <a:blip r:embed="rId5"/>
          <a:stretch/>
        </p:blipFill>
        <p:spPr>
          <a:xfrm>
            <a:off x="4357800" y="5415120"/>
            <a:ext cx="642960" cy="28224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4" descr=""/>
          <p:cNvPicPr/>
          <p:nvPr/>
        </p:nvPicPr>
        <p:blipFill>
          <a:blip r:embed="rId6"/>
          <a:stretch/>
        </p:blipFill>
        <p:spPr>
          <a:xfrm>
            <a:off x="6143760" y="5425920"/>
            <a:ext cx="571320" cy="28260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4" descr=""/>
          <p:cNvPicPr/>
          <p:nvPr/>
        </p:nvPicPr>
        <p:blipFill>
          <a:blip r:embed="rId7"/>
          <a:stretch/>
        </p:blipFill>
        <p:spPr>
          <a:xfrm>
            <a:off x="8001000" y="5433840"/>
            <a:ext cx="50004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1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6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1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6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1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1" descr=""/>
          <p:cNvPicPr/>
          <p:nvPr/>
        </p:nvPicPr>
        <p:blipFill>
          <a:blip r:embed="rId1"/>
          <a:stretch/>
        </p:blipFill>
        <p:spPr>
          <a:xfrm>
            <a:off x="219240" y="785880"/>
            <a:ext cx="870552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190440" y="828720"/>
            <a:ext cx="8763120" cy="58863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2" descr=""/>
          <p:cNvPicPr/>
          <p:nvPr/>
        </p:nvPicPr>
        <p:blipFill>
          <a:blip r:embed="rId2"/>
          <a:stretch/>
        </p:blipFill>
        <p:spPr>
          <a:xfrm>
            <a:off x="7562880" y="785880"/>
            <a:ext cx="1581120" cy="2570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755640" y="3768840"/>
            <a:ext cx="331920" cy="2840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4"/>
          <a:stretch/>
        </p:blipFill>
        <p:spPr>
          <a:xfrm>
            <a:off x="2387520" y="3757680"/>
            <a:ext cx="330120" cy="2826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5"/>
          <a:stretch/>
        </p:blipFill>
        <p:spPr>
          <a:xfrm>
            <a:off x="4173480" y="3757680"/>
            <a:ext cx="330120" cy="2826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6"/>
          <a:stretch/>
        </p:blipFill>
        <p:spPr>
          <a:xfrm>
            <a:off x="5929200" y="3768840"/>
            <a:ext cx="331920" cy="2826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7"/>
          <a:stretch/>
        </p:blipFill>
        <p:spPr>
          <a:xfrm>
            <a:off x="7745400" y="3776760"/>
            <a:ext cx="330120" cy="2826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8"/>
          <a:stretch/>
        </p:blipFill>
        <p:spPr>
          <a:xfrm>
            <a:off x="520560" y="4422600"/>
            <a:ext cx="341280" cy="2923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9"/>
          <a:stretch/>
        </p:blipFill>
        <p:spPr>
          <a:xfrm>
            <a:off x="509760" y="5065560"/>
            <a:ext cx="34128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Picture 1" descr=""/>
          <p:cNvPicPr/>
          <p:nvPr/>
        </p:nvPicPr>
        <p:blipFill>
          <a:blip r:embed="rId1"/>
          <a:stretch/>
        </p:blipFill>
        <p:spPr>
          <a:xfrm>
            <a:off x="209520" y="914400"/>
            <a:ext cx="8724960" cy="502920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"/>
          <p:cNvPicPr/>
          <p:nvPr/>
        </p:nvPicPr>
        <p:blipFill>
          <a:blip r:embed="rId2"/>
          <a:stretch/>
        </p:blipFill>
        <p:spPr>
          <a:xfrm>
            <a:off x="785880" y="928800"/>
            <a:ext cx="1357200" cy="2826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4" descr=""/>
          <p:cNvPicPr/>
          <p:nvPr/>
        </p:nvPicPr>
        <p:blipFill>
          <a:blip r:embed="rId3"/>
          <a:stretch/>
        </p:blipFill>
        <p:spPr>
          <a:xfrm>
            <a:off x="2857680" y="930240"/>
            <a:ext cx="1357200" cy="2826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4" descr=""/>
          <p:cNvPicPr/>
          <p:nvPr/>
        </p:nvPicPr>
        <p:blipFill>
          <a:blip r:embed="rId4"/>
          <a:stretch/>
        </p:blipFill>
        <p:spPr>
          <a:xfrm>
            <a:off x="4968720" y="928800"/>
            <a:ext cx="1675080" cy="28260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4" descr=""/>
          <p:cNvPicPr/>
          <p:nvPr/>
        </p:nvPicPr>
        <p:blipFill>
          <a:blip r:embed="rId5"/>
          <a:stretch/>
        </p:blipFill>
        <p:spPr>
          <a:xfrm>
            <a:off x="7358040" y="930240"/>
            <a:ext cx="1357200" cy="28260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4" descr=""/>
          <p:cNvPicPr/>
          <p:nvPr/>
        </p:nvPicPr>
        <p:blipFill>
          <a:blip r:embed="rId6"/>
          <a:stretch/>
        </p:blipFill>
        <p:spPr>
          <a:xfrm>
            <a:off x="785880" y="1268280"/>
            <a:ext cx="1357200" cy="282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4" descr=""/>
          <p:cNvPicPr/>
          <p:nvPr/>
        </p:nvPicPr>
        <p:blipFill>
          <a:blip r:embed="rId7"/>
          <a:stretch/>
        </p:blipFill>
        <p:spPr>
          <a:xfrm>
            <a:off x="2857680" y="1270080"/>
            <a:ext cx="1357200" cy="28260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4" descr=""/>
          <p:cNvPicPr/>
          <p:nvPr/>
        </p:nvPicPr>
        <p:blipFill>
          <a:blip r:embed="rId8"/>
          <a:stretch/>
        </p:blipFill>
        <p:spPr>
          <a:xfrm>
            <a:off x="4968720" y="1268280"/>
            <a:ext cx="1675080" cy="28260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4" descr=""/>
          <p:cNvPicPr/>
          <p:nvPr/>
        </p:nvPicPr>
        <p:blipFill>
          <a:blip r:embed="rId9"/>
          <a:stretch/>
        </p:blipFill>
        <p:spPr>
          <a:xfrm>
            <a:off x="7358040" y="1270080"/>
            <a:ext cx="1357200" cy="28260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4" descr=""/>
          <p:cNvPicPr/>
          <p:nvPr/>
        </p:nvPicPr>
        <p:blipFill>
          <a:blip r:embed="rId10"/>
          <a:stretch/>
        </p:blipFill>
        <p:spPr>
          <a:xfrm>
            <a:off x="785880" y="1593720"/>
            <a:ext cx="1357200" cy="28260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4" descr=""/>
          <p:cNvPicPr/>
          <p:nvPr/>
        </p:nvPicPr>
        <p:blipFill>
          <a:blip r:embed="rId11"/>
          <a:stretch/>
        </p:blipFill>
        <p:spPr>
          <a:xfrm>
            <a:off x="2857680" y="1595520"/>
            <a:ext cx="135720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8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3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8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3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8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3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8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3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8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3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4" name="Picture 1" descr=""/>
          <p:cNvPicPr/>
          <p:nvPr/>
        </p:nvPicPr>
        <p:blipFill>
          <a:blip r:embed="rId1"/>
          <a:stretch/>
        </p:blipFill>
        <p:spPr>
          <a:xfrm>
            <a:off x="237960" y="2076480"/>
            <a:ext cx="8668080" cy="270504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4" descr=""/>
          <p:cNvPicPr/>
          <p:nvPr/>
        </p:nvPicPr>
        <p:blipFill>
          <a:blip r:embed="rId2"/>
          <a:stretch/>
        </p:blipFill>
        <p:spPr>
          <a:xfrm>
            <a:off x="214200" y="2459160"/>
            <a:ext cx="8786880" cy="26640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4" descr=""/>
          <p:cNvPicPr/>
          <p:nvPr/>
        </p:nvPicPr>
        <p:blipFill>
          <a:blip r:embed="rId3"/>
          <a:stretch/>
        </p:blipFill>
        <p:spPr>
          <a:xfrm>
            <a:off x="214200" y="2797200"/>
            <a:ext cx="8786880" cy="26676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4" descr=""/>
          <p:cNvPicPr/>
          <p:nvPr/>
        </p:nvPicPr>
        <p:blipFill>
          <a:blip r:embed="rId4"/>
          <a:stretch/>
        </p:blipFill>
        <p:spPr>
          <a:xfrm>
            <a:off x="214200" y="3132000"/>
            <a:ext cx="8786880" cy="26676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4" descr=""/>
          <p:cNvPicPr/>
          <p:nvPr/>
        </p:nvPicPr>
        <p:blipFill>
          <a:blip r:embed="rId5"/>
          <a:stretch/>
        </p:blipFill>
        <p:spPr>
          <a:xfrm>
            <a:off x="214200" y="3448080"/>
            <a:ext cx="8786880" cy="26676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4" descr=""/>
          <p:cNvPicPr/>
          <p:nvPr/>
        </p:nvPicPr>
        <p:blipFill>
          <a:blip r:embed="rId6"/>
          <a:stretch/>
        </p:blipFill>
        <p:spPr>
          <a:xfrm>
            <a:off x="214200" y="3774960"/>
            <a:ext cx="8786880" cy="26676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4" descr=""/>
          <p:cNvPicPr/>
          <p:nvPr/>
        </p:nvPicPr>
        <p:blipFill>
          <a:blip r:embed="rId7"/>
          <a:stretch/>
        </p:blipFill>
        <p:spPr>
          <a:xfrm>
            <a:off x="214200" y="4122720"/>
            <a:ext cx="8786880" cy="26676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4" descr=""/>
          <p:cNvPicPr/>
          <p:nvPr/>
        </p:nvPicPr>
        <p:blipFill>
          <a:blip r:embed="rId8"/>
          <a:stretch/>
        </p:blipFill>
        <p:spPr>
          <a:xfrm>
            <a:off x="214200" y="4459320"/>
            <a:ext cx="878688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0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5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0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5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0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5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233280" y="776160"/>
            <a:ext cx="8677440" cy="60105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2"/>
          <a:stretch/>
        </p:blipFill>
        <p:spPr>
          <a:xfrm>
            <a:off x="488880" y="785880"/>
            <a:ext cx="341280" cy="2919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3"/>
          <a:stretch/>
        </p:blipFill>
        <p:spPr>
          <a:xfrm>
            <a:off x="488880" y="1479600"/>
            <a:ext cx="341280" cy="2919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4"/>
          <a:stretch/>
        </p:blipFill>
        <p:spPr>
          <a:xfrm>
            <a:off x="488880" y="2143080"/>
            <a:ext cx="341280" cy="2923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5"/>
          <a:stretch/>
        </p:blipFill>
        <p:spPr>
          <a:xfrm>
            <a:off x="488880" y="3816360"/>
            <a:ext cx="341280" cy="2919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6"/>
          <a:stretch/>
        </p:blipFill>
        <p:spPr>
          <a:xfrm>
            <a:off x="488880" y="4494240"/>
            <a:ext cx="341280" cy="2919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7"/>
          <a:stretch/>
        </p:blipFill>
        <p:spPr>
          <a:xfrm>
            <a:off x="488880" y="5494320"/>
            <a:ext cx="34128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268200" y="938160"/>
            <a:ext cx="8543880" cy="36673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2" descr=""/>
          <p:cNvPicPr/>
          <p:nvPr/>
        </p:nvPicPr>
        <p:blipFill>
          <a:blip r:embed="rId2"/>
          <a:stretch/>
        </p:blipFill>
        <p:spPr>
          <a:xfrm>
            <a:off x="285840" y="4581360"/>
            <a:ext cx="7810560" cy="19908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3"/>
          <a:stretch/>
        </p:blipFill>
        <p:spPr>
          <a:xfrm>
            <a:off x="555480" y="928800"/>
            <a:ext cx="341280" cy="2919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4"/>
          <a:stretch/>
        </p:blipFill>
        <p:spPr>
          <a:xfrm>
            <a:off x="555480" y="1592280"/>
            <a:ext cx="341280" cy="2919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5"/>
          <a:stretch/>
        </p:blipFill>
        <p:spPr>
          <a:xfrm>
            <a:off x="555480" y="2622600"/>
            <a:ext cx="341280" cy="2919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6"/>
          <a:stretch/>
        </p:blipFill>
        <p:spPr>
          <a:xfrm>
            <a:off x="555480" y="3922560"/>
            <a:ext cx="341280" cy="2923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7"/>
          <a:stretch/>
        </p:blipFill>
        <p:spPr>
          <a:xfrm>
            <a:off x="587520" y="4565520"/>
            <a:ext cx="341280" cy="2923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8"/>
          <a:stretch/>
        </p:blipFill>
        <p:spPr>
          <a:xfrm>
            <a:off x="587520" y="5586480"/>
            <a:ext cx="34128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1" descr=""/>
          <p:cNvPicPr/>
          <p:nvPr/>
        </p:nvPicPr>
        <p:blipFill>
          <a:blip r:embed="rId1"/>
          <a:stretch/>
        </p:blipFill>
        <p:spPr>
          <a:xfrm>
            <a:off x="200160" y="976320"/>
            <a:ext cx="8743680" cy="55245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2"/>
          <a:stretch/>
        </p:blipFill>
        <p:spPr>
          <a:xfrm>
            <a:off x="509760" y="1000080"/>
            <a:ext cx="341280" cy="2923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3"/>
          <a:stretch/>
        </p:blipFill>
        <p:spPr>
          <a:xfrm>
            <a:off x="509760" y="2521080"/>
            <a:ext cx="341280" cy="2919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4"/>
          <a:stretch/>
        </p:blipFill>
        <p:spPr>
          <a:xfrm>
            <a:off x="509760" y="3565440"/>
            <a:ext cx="341280" cy="2923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5"/>
          <a:stretch/>
        </p:blipFill>
        <p:spPr>
          <a:xfrm>
            <a:off x="509760" y="5227560"/>
            <a:ext cx="34128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1" descr=""/>
          <p:cNvPicPr/>
          <p:nvPr/>
        </p:nvPicPr>
        <p:blipFill>
          <a:blip r:embed="rId1"/>
          <a:stretch/>
        </p:blipFill>
        <p:spPr>
          <a:xfrm>
            <a:off x="209520" y="814320"/>
            <a:ext cx="8724960" cy="59724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2"/>
          <a:stretch/>
        </p:blipFill>
        <p:spPr>
          <a:xfrm>
            <a:off x="488880" y="806400"/>
            <a:ext cx="341280" cy="2923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3"/>
          <a:stretch/>
        </p:blipFill>
        <p:spPr>
          <a:xfrm>
            <a:off x="488880" y="1797120"/>
            <a:ext cx="341280" cy="2919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4"/>
          <a:stretch/>
        </p:blipFill>
        <p:spPr>
          <a:xfrm>
            <a:off x="488880" y="3449520"/>
            <a:ext cx="341280" cy="2923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5"/>
          <a:stretch/>
        </p:blipFill>
        <p:spPr>
          <a:xfrm>
            <a:off x="488880" y="5514840"/>
            <a:ext cx="341280" cy="2923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6"/>
          <a:stretch/>
        </p:blipFill>
        <p:spPr>
          <a:xfrm>
            <a:off x="488880" y="6161040"/>
            <a:ext cx="34128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Picture 1" descr=""/>
          <p:cNvPicPr/>
          <p:nvPr/>
        </p:nvPicPr>
        <p:blipFill>
          <a:blip r:embed="rId1"/>
          <a:stretch/>
        </p:blipFill>
        <p:spPr>
          <a:xfrm>
            <a:off x="223920" y="809640"/>
            <a:ext cx="8696160" cy="57625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2"/>
          <a:stretch/>
        </p:blipFill>
        <p:spPr>
          <a:xfrm>
            <a:off x="488880" y="806400"/>
            <a:ext cx="341280" cy="2923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3"/>
          <a:stretch/>
        </p:blipFill>
        <p:spPr>
          <a:xfrm>
            <a:off x="488880" y="2193840"/>
            <a:ext cx="34128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Picture 1" descr=""/>
          <p:cNvPicPr/>
          <p:nvPr/>
        </p:nvPicPr>
        <p:blipFill>
          <a:blip r:embed="rId1"/>
          <a:stretch/>
        </p:blipFill>
        <p:spPr>
          <a:xfrm>
            <a:off x="200160" y="795240"/>
            <a:ext cx="8743680" cy="59914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2"/>
          <a:stretch/>
        </p:blipFill>
        <p:spPr>
          <a:xfrm>
            <a:off x="488880" y="5454720"/>
            <a:ext cx="341280" cy="2919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3"/>
          <a:stretch/>
        </p:blipFill>
        <p:spPr>
          <a:xfrm>
            <a:off x="488880" y="5819760"/>
            <a:ext cx="341280" cy="29196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4"/>
          <a:stretch/>
        </p:blipFill>
        <p:spPr>
          <a:xfrm>
            <a:off x="488880" y="6137280"/>
            <a:ext cx="341280" cy="2919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5"/>
          <a:stretch/>
        </p:blipFill>
        <p:spPr>
          <a:xfrm>
            <a:off x="488880" y="6483240"/>
            <a:ext cx="34128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Picture 1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8715600" cy="60008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2"/>
          <a:stretch/>
        </p:blipFill>
        <p:spPr>
          <a:xfrm>
            <a:off x="488880" y="754200"/>
            <a:ext cx="341280" cy="2919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3"/>
          <a:stretch/>
        </p:blipFill>
        <p:spPr>
          <a:xfrm>
            <a:off x="488880" y="1092240"/>
            <a:ext cx="341280" cy="2919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4"/>
          <a:stretch/>
        </p:blipFill>
        <p:spPr>
          <a:xfrm>
            <a:off x="488880" y="1428840"/>
            <a:ext cx="341280" cy="2919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5"/>
          <a:stretch/>
        </p:blipFill>
        <p:spPr>
          <a:xfrm>
            <a:off x="488880" y="1758960"/>
            <a:ext cx="341280" cy="2919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6"/>
          <a:stretch/>
        </p:blipFill>
        <p:spPr>
          <a:xfrm>
            <a:off x="488880" y="2090880"/>
            <a:ext cx="341280" cy="2919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7"/>
          <a:stretch/>
        </p:blipFill>
        <p:spPr>
          <a:xfrm>
            <a:off x="488880" y="2428920"/>
            <a:ext cx="34128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32:35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