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43CB-BCCE-4044-A355-24C2DF40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E7D-490F-4384-BB94-8420A17E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1BEFE-102C-4096-9C74-A336E384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95E36-5D91-439E-B572-2AA2B0F8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FB16C-A527-48EA-80B0-0C1CCEBA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A2C94-6001-4E6F-91EA-1C04599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8C12D-88A4-4F8A-A63E-928CD36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B247C-A9D4-4D45-8DC4-5B982E3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5D390-FBA1-462F-9BF2-F69B6BA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731F9-31E2-497B-A29E-257ACF62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68AD1-014E-413B-B0FD-9E82D9FB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17B94-A3AB-45B2-ACA5-1A9079FD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9EC-3466-4BB9-88C7-A995B27D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00A3F-3AC6-4222-8F18-EFEC1559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BB237-F408-40BC-9CA0-073B394C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DB28D-4FB6-460B-9934-811879FE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C566B-851C-40BC-BBFE-65DAF828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B0A7B-67A9-49B1-8ABC-BA6B7DF5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D5421-ECD1-42A2-B470-D3184C78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C64D6-91AF-4252-9BAB-BB8452F6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A134A-CA61-417A-A244-B45A36A1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28F04-F8A7-4C4E-BC20-8684D97B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E08E6-F4B9-4FB0-ADBF-DA022F95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983-2A38-44B1-94F3-89EF369B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8339C-E32D-4314-941E-852E1DCC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CBABF-ED78-4A05-82B1-E5D12CED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05218-27FC-4A60-8334-0517E2D8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8586C-8F3B-4BEF-BC7E-9D28F712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EE5FB-66A4-4FE1-AA99-2C5181D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43503-3130-4469-93C6-3F22904F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DAB40-5B6A-4363-BF6E-59A144C8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D4C2F-76DD-4CDB-8573-CA6C8BB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52AA-1073-4EB7-BB5F-0E37898C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01B6C-11A1-4CE9-AB88-A559A14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BBAB-C1D1-43C6-A387-CBC78559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2C216-40F0-485C-983B-D25AA3CA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51A44-25C0-429C-9AF0-9DAF9256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048B3-47B9-4188-A9B4-6342FC43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DFED0-0A1E-43D0-8436-98B6F122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547D4-7486-4144-B292-C78CD21C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60B88-3B46-4607-9B89-B52BF10E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6A5C2-FA61-4A20-9869-1FFBA212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1671C-8206-4479-AC47-2FE81391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271FE-A06C-47FF-BBCE-6F4452A8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D17C4-002E-42DD-BA4B-52002D89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7795-4DFD-49B8-8539-353F27C9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31F2C-FB43-420E-8AB2-0B03BE5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1746E-2070-48BD-A8A1-5B56B042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CBC7-DD1B-4052-8BA2-E49F1B3B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9C40D-D1E2-4253-A4DA-99A85E69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92566-F263-4D54-988B-3737A327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47BC79-919E-4F40-9656-20622E41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EF88E3-597D-48C5-BC89-4F9B87E5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8F0EA-CB66-432F-B4EC-64F6164D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AEDEB-683E-4012-A015-FC578407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8E8DA-745E-41EB-A1F6-BB277E1F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7C67-59C3-4AEE-95CD-549E9BAD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4DC4B-D349-4F7C-B91D-1BE4231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7F994-BEDB-4A25-9476-AE8D314A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1F7B2-3B8A-44A9-BEC2-F387CFF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924586-3266-4E76-BF35-B46C8F00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787196-37E7-4BDB-AD58-309A24B4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DBA3E-1019-4FD2-95BE-548DD2DC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46125-C8F8-4FB7-A536-A8612BDC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D9B280-AAD6-4869-9C2B-58449F8D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5C421F-39CA-4AE2-A535-ED6BDFBA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E8273-35D4-41A1-ACD2-9EC4765F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D3B7-6BFC-4861-8086-23B69641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670250-5502-4FAF-A7F9-8E7B20BE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C3463-4314-4D48-8473-1FAEFA83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25ED6-01E4-4EE6-A059-837F2B99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2F8FE-AD63-4EE7-BAFE-3393A6B2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4E7E0-E5B4-4211-832C-5E6B93B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C2E23-0625-4FD4-AF52-20635517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C85A8-E44F-4C65-8DF5-46C7AB63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F9B9C-494F-4CEC-8205-EB919319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A8E73-7CF9-40BB-BE6A-66E51214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8632E-98AD-48D5-B945-C0D1FC2D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ED75-9EF4-4497-8B8B-4469AB95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FE122-55C3-458C-977F-CC55BA4E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7BB81-4AC1-4A30-A47A-03A47ADB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D9454D-0633-47BA-BB68-D16B80AB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B117D-9123-4326-BCD9-3ED470F3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121B1-17E2-40E5-8BB8-CE081326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C1523-F589-47AE-ACFA-CFC8DDCA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69D59-E8A7-4BBD-9DFE-4C1D818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B13A6A-6A6E-4D10-B69C-1F46C823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25417-FB14-4BE8-907C-5709AD6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9274A-81CC-4E08-9FBC-4BD9BF0E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5522-A269-4D3E-A54B-21A952C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C55BAE-56F4-46DC-A872-3369C330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79A0E-6242-40C4-977F-C4369EEE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611E15-781D-43C7-8065-8047738B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FD011A-6631-474F-8BC1-8CC41321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26B0F-9F36-4539-81B6-E89FD10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EDBAA0-5489-4693-AF46-01BEE3C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68D9D-641A-451D-8AC3-A3F352E2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B2E4A7-D631-4829-99A0-D411FF6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DE562-157D-4BA5-9DD0-BE9DE991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CDFDD-1897-43BF-9A38-274B070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3F1F-F442-41C6-80AB-FA5397FF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1A6A7-1C91-4037-89CE-92163A9C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7D917-E1C6-4737-AC9E-42273DD7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C5ED7-E47E-4CD8-A18B-032BDF09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53D254-446B-4694-A89B-253DA5E0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F07A8-9232-4C6B-95A7-F4EA78F2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1EA1F-C34A-4C31-A46C-CA4BE71C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01EDA-2765-4A30-BAA4-85AC31F3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DA969-727E-435C-97E2-0E632369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FD938-9727-4037-AF4E-A7D6B95A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20077-552D-4B09-8FDF-10E170B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0C1-35F5-4AF1-A9E3-312BDE72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505E-89E1-41F4-B72A-F0C29EE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6C3AD-542C-49A7-9DA3-8A2F7BDA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76F2C-5DA5-421D-B57C-57964427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173D0-D31D-4874-875B-B03967A1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7A1F5-0C1F-49AC-B85E-11E5AE37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2D4C9E-7222-4877-B371-CD62FD80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2E6FC4-1884-4D51-9AF0-E0EC2201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C53B01-3FDD-45CC-AECB-85C033DC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C06F96-CC60-486B-BAC8-EF7101F1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8860F-4AFA-4165-AE2D-0D3C22FB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73E2C-D36E-44E2-96EF-FE8AC875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5E4D-6C6E-4FC0-AC08-51A8B13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CA453-27EF-4BE6-8C88-62700AF5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A166D-4899-4BD7-8960-82051442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4BFFE-3A9F-4FE2-A50C-76C0BFD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D3D181-36EA-441F-A459-1728E8A4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27CC25-2BE7-4C49-A5F8-AC173ADC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68FCB3-74C8-42AA-8F8D-946102D6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6F5F74-F3FF-424D-A9C0-9F839884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FB1784-681E-4624-926D-E08B297D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401AE-C031-4096-8F13-873F9B6B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34325-55EB-4C6E-8BA4-11EBB3D8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3700-96B1-4CA6-AA20-99E3EBC5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4977F-65EE-41E2-A17E-0E0E9054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110017-931C-4048-9DF8-C19B576A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A3085-F38F-4F0D-A08F-2A43148F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3644A-B6BC-4EC1-B484-554DAD47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BA99B-1025-48AD-887B-333AE6AF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93273-0439-4FAE-9FA7-CF04B63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BA549-B3A3-48DA-A92B-C273F40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57A5BA-8EEB-46E7-9FCA-D348E0065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1EC466-061A-473A-96E3-2BA3612B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7392E8-4F6A-44AF-835A-A6D0B9B7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69BD-10CF-4880-BDFD-EECA62D9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12D8BD-8BD0-4583-B8B8-44B832FB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63F8E-DBC1-41D7-B949-E7DD367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B2065C-43BE-4E1B-B755-9606704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1F7BFB-C65B-41FF-8C89-E046E476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5C7DEF-058B-400B-B1B0-0F08BB5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E4032-5646-4459-A524-ECA7685B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DA887C-F40B-4984-B377-42BD1559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A2471-B6D5-4D89-A377-A7B3D856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BA3F31-4ABE-4E44-861F-96710071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73669-E207-4E7E-8EA5-9A32B932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D26E-20D7-4ADA-B27D-6A4ADCF5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98236-099B-4E26-8189-0F42F5A6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C907E-08C1-4295-8B8E-8771D6AE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3A3AB0-D182-4583-92DB-F9954225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7DDBA0-7431-4B8A-85A6-B143599B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9A2388-BDB6-4038-92FC-C1011C22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31E65-F75C-4DA5-AB1E-D3EE19EB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C8495-1AF4-4921-AA62-897636C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77353-49EB-4431-A6D2-AC64DF18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C6AB16-EDCE-47AB-A328-49B9B04A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002C5-4825-494B-930B-6078E7A4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D400-8D9D-462A-9336-572F7AD3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BF9D1-2656-4FB5-940D-A61D0F03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3265E2-5F20-4CAA-A455-F5B6C6B23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132A6-F6BB-4C6C-943E-135126D6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1FE6-DD46-412B-A2E5-25FB97B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3AB06-0292-45AE-9C9A-3E9E96A1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313C-C8C4-45C4-9405-9449DFAB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6140-CB55-4080-AE61-B37D3C6E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8B6-E017-4577-8AAE-C575860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2A39-3CFC-490C-8606-C898A883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58DA-F02B-4F08-AD09-A3D48056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C140-6F56-4038-8734-9E4FB8D2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34BE9-C5E4-45FF-A715-835ED743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BD8D-BA6F-48D7-8CD8-0D1B348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C786-628D-430C-B65C-63A3B1C0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8147-78C8-4C86-AA99-E33F5576B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EA0F5-44B0-4504-B1DD-39D626D1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3393-16D4-451E-A89D-0D8EC5F3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67EA2-0E41-4E12-BC66-A482BC83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63AE-4E0E-4F98-B1F4-96B2FB00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FD66-5AC0-4AE8-958A-967CB9D6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3048D-FE25-4F52-B6BA-38702254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78CF3-D070-4F2E-AB04-8CCB402A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FAA7-CE79-4BBB-A190-7857D6F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7E5C8-7860-465E-B0C9-4B0A311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6E436-C78F-4B2F-8FD7-4D2A25D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80518-1BB8-420E-8D38-E40D264E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41FB-8241-47A9-BE27-BFC57595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DC5EE-5CD1-410C-AE17-C4E2BC3D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C6C25-9D10-4E9F-88C8-05E0B065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37B-E514-42AF-A79F-E8191B22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5E719-7490-4AAE-8E71-1B963F93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EA4F9-949E-400C-973D-BE356D00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DB633-B775-4D49-BA4E-CB4D8BDA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89FE-AEF7-4FD0-8749-92F49469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0C40A-42DA-4BEB-9AE1-55D002CD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F700-BAA5-4BB0-8477-1F117DE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1D8E1-B45E-492B-9165-01E8A4E4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62C41-E219-41B8-814C-81AE24C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B54A-AB3B-4ED4-A8A9-D643C5BD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3B0E-C1D1-4060-819F-D24E0025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8B2-D746-446A-ADE8-4647C8B6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D6F31-AF34-4020-8AB5-81F5C5F4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20292-EFF5-4906-9AAB-A697A9CC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52ED-D55C-4FE8-A646-781457D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CD08C-C804-49B4-9C71-0A19BC03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5CB0F-D047-4AE5-BD2A-B7854381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23DCC-9C73-4977-85F1-474B1AF2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98D4-CCF1-46AB-A2C0-6FB9BD4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AB135-94DD-4E24-B87F-430468B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67C0-419F-47CE-962A-1EB7D140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EA21-B58A-4EEA-A41C-A76C68D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0F3-DFA6-418C-B73E-1973EE8D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275A-0597-47D9-BB87-2F5F0B54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42475-49B8-4889-8035-644FDCEF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8CD23-1B52-4A17-9A31-5DB04A79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B787E-5A29-477F-9A72-03F00BDF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80875-80C9-499B-BC67-864B9B1A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636E6-A38C-4ECC-92B0-EE288ED5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E232D-C653-424C-B83F-6A6C5F11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59543-9005-401F-B271-B9036A0F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71476-7F5F-4BB8-A9EC-68DF0815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EE67E-DB3B-4451-B153-59999CA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93E-46EC-45C2-969A-BAA3CA87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282C4-FCF7-488D-82DD-1347F0F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454F8-BCC4-4CFD-8542-23F746DE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76A69-71E6-485F-9E3F-409D9053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20D2-B87E-4048-8BA3-C795605D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AB8E1-127F-4E98-BCE9-EF11A573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D19EF-BCBD-47A5-9B87-A641E880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89A5E-AE81-488B-91F6-40B69572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EF8A4-2873-4405-A1C6-9E1F9A3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04B01-D44C-46E6-B3F6-8F48FF4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5F4C1-9381-45E0-A689-89970236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80F-E942-4993-8537-02F609F8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70D57-2004-436A-8075-F7C5B7D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79FF-A1F6-4BF0-A72B-2BC9FA07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A5338-3A6E-4461-932E-B1AD9E7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37E46-F9E9-4F73-81AD-8A799BC5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3388-709E-4FA0-99B7-E40B699E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BF5E0-F8D1-4EAC-8B96-892BFB00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12CB9-FD4C-458D-87A5-022B3EF9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42AEE-26B7-46C8-A75F-3AF5848E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111CD-80EA-4414-8DC6-1D121D28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F91C-9578-47CD-8BC8-A131EE09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AEF6-DBB6-46DF-A1D4-A2758DEBB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EAA2-7E30-41CA-AF9D-E7841F32FC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0450-C06D-4D23-A09C-6B3181862C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80A3-6041-4572-92F3-3995938F2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7153-6040-4EF9-83C7-A10B17FE7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664-FE70-4412-875C-F84A78F39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44E8-FEC2-49CF-A501-40EC42FE06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8C11-18D2-4F4E-879A-5CBDB7D6EE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7CED-6652-4301-A4B4-5E00507EF1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BC96-795E-4B98-8694-1FCC875460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46FF-3FBE-44B9-8ADE-38367B927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3960-864F-41A2-9DA9-23A8DCF7A1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505E-24DB-46EF-9CF9-E211B73161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A1BC-A42C-4E72-8BBD-4C8FD2F3EF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EBB6-AF0A-474E-AE9B-B1A48C918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EDB9-41F3-492A-832F-438E0D4C75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370-A5CB-4B32-9124-26660A014C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7E4C-602A-4556-93FC-0290DB8C86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E8C0-4945-40D6-B27C-FE9DC4B45F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6573-2F05-479E-8578-FAB2814BAC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7250-C7F0-4017-89D0-2B52D728D7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B806-0CFA-4967-85AA-6F4841B0F7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DC2D-688B-4893-9CAD-84584A47D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549-6F58-4A56-93CA-1804486D0F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6F93-E0FA-4D44-959E-E05BDF8078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E68-756C-48B2-82F2-B429701D46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63DC-22D6-4F76-9A60-04BD1B431C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4C79-5102-4C92-B831-947EC0FDF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01B8-62B6-42DD-BACD-1234D2FC2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7366-1628-4058-9F95-EDA534102F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F8B8-F557-492C-8372-5D7E1500B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AFA3-5D6E-447B-9049-596ED3859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6FBD-65D4-4533-883D-03FD2B8208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13F9-B592-446A-A240-20E8D26840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DBE0-2385-4164-9260-5EC06A4490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990-019A-4E48-AA19-5F2E8C0F13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3480-75C1-4018-9EA4-D93A301DA8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D7F3-8C30-4198-9F96-509DDD0963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05ED-5801-4D2A-AF29-4F44F08B69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0EA3-CDDE-4F65-8390-3113673B9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190440" y="2214720"/>
            <a:ext cx="87631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190440" y="747720"/>
            <a:ext cx="876312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1" descr=""/>
          <p:cNvPicPr/>
          <p:nvPr/>
        </p:nvPicPr>
        <p:blipFill>
          <a:blip r:embed="rId1"/>
          <a:stretch/>
        </p:blipFill>
        <p:spPr>
          <a:xfrm>
            <a:off x="209520" y="1071720"/>
            <a:ext cx="8724960" cy="37908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2" descr=""/>
          <p:cNvPicPr/>
          <p:nvPr/>
        </p:nvPicPr>
        <p:blipFill>
          <a:blip r:embed="rId2"/>
          <a:stretch/>
        </p:blipFill>
        <p:spPr>
          <a:xfrm>
            <a:off x="237960" y="4881600"/>
            <a:ext cx="8668080" cy="11905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500040" y="106992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520560" y="2643120"/>
            <a:ext cx="331920" cy="2826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5"/>
          <a:stretch/>
        </p:blipFill>
        <p:spPr>
          <a:xfrm>
            <a:off x="500040" y="4870440"/>
            <a:ext cx="33012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200160" y="928800"/>
            <a:ext cx="8743680" cy="5600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2"/>
          <a:stretch/>
        </p:blipFill>
        <p:spPr>
          <a:xfrm>
            <a:off x="539640" y="968400"/>
            <a:ext cx="330480" cy="2826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500040" y="279720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1" descr=""/>
          <p:cNvPicPr/>
          <p:nvPr/>
        </p:nvPicPr>
        <p:blipFill>
          <a:blip r:embed="rId1"/>
          <a:stretch/>
        </p:blipFill>
        <p:spPr>
          <a:xfrm>
            <a:off x="185760" y="828720"/>
            <a:ext cx="8772480" cy="58863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2"/>
          <a:stretch/>
        </p:blipFill>
        <p:spPr>
          <a:xfrm>
            <a:off x="550800" y="520704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1" descr=""/>
          <p:cNvPicPr/>
          <p:nvPr/>
        </p:nvPicPr>
        <p:blipFill>
          <a:blip r:embed="rId1"/>
          <a:stretch/>
        </p:blipFill>
        <p:spPr>
          <a:xfrm>
            <a:off x="214200" y="809640"/>
            <a:ext cx="8715600" cy="59054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500040" y="8064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3"/>
          <a:stretch/>
        </p:blipFill>
        <p:spPr>
          <a:xfrm>
            <a:off x="500040" y="239724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500040" y="33066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5"/>
          <a:stretch/>
        </p:blipFill>
        <p:spPr>
          <a:xfrm>
            <a:off x="500040" y="423864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Picture 1" descr=""/>
          <p:cNvPicPr/>
          <p:nvPr/>
        </p:nvPicPr>
        <p:blipFill>
          <a:blip r:embed="rId1"/>
          <a:stretch/>
        </p:blipFill>
        <p:spPr>
          <a:xfrm>
            <a:off x="209520" y="857160"/>
            <a:ext cx="8724960" cy="6289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8715600" cy="46864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3"/>
          <a:stretch/>
        </p:blipFill>
        <p:spPr>
          <a:xfrm>
            <a:off x="539640" y="1154160"/>
            <a:ext cx="330480" cy="2826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4"/>
          <a:stretch/>
        </p:blipFill>
        <p:spPr>
          <a:xfrm>
            <a:off x="500040" y="280512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5"/>
          <a:stretch/>
        </p:blipFill>
        <p:spPr>
          <a:xfrm>
            <a:off x="500040" y="4656240"/>
            <a:ext cx="330120" cy="2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1" descr=""/>
          <p:cNvPicPr/>
          <p:nvPr/>
        </p:nvPicPr>
        <p:blipFill>
          <a:blip r:embed="rId1"/>
          <a:srcRect l="0" t="589" r="0" b="0"/>
          <a:stretch/>
        </p:blipFill>
        <p:spPr>
          <a:xfrm>
            <a:off x="185760" y="955800"/>
            <a:ext cx="8772480" cy="54734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2"/>
          <a:stretch/>
        </p:blipFill>
        <p:spPr>
          <a:xfrm>
            <a:off x="571680" y="9684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3"/>
          <a:stretch/>
        </p:blipFill>
        <p:spPr>
          <a:xfrm>
            <a:off x="520560" y="2500200"/>
            <a:ext cx="3319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Picture 1" descr=""/>
          <p:cNvPicPr/>
          <p:nvPr/>
        </p:nvPicPr>
        <p:blipFill>
          <a:blip r:embed="rId1"/>
          <a:srcRect l="0" t="0" r="0" b="430"/>
          <a:stretch/>
        </p:blipFill>
        <p:spPr>
          <a:xfrm>
            <a:off x="214200" y="876240"/>
            <a:ext cx="8715600" cy="56721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2"/>
          <a:stretch/>
        </p:blipFill>
        <p:spPr>
          <a:xfrm>
            <a:off x="3398760" y="1592280"/>
            <a:ext cx="959040" cy="2826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3"/>
          <a:stretch/>
        </p:blipFill>
        <p:spPr>
          <a:xfrm>
            <a:off x="2428920" y="1909800"/>
            <a:ext cx="1143000" cy="2826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4"/>
          <a:stretch/>
        </p:blipFill>
        <p:spPr>
          <a:xfrm>
            <a:off x="2071800" y="2214720"/>
            <a:ext cx="1071360" cy="2822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5"/>
          <a:stretch/>
        </p:blipFill>
        <p:spPr>
          <a:xfrm>
            <a:off x="2786040" y="2532240"/>
            <a:ext cx="1214640" cy="2822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"/>
          <p:cNvPicPr/>
          <p:nvPr/>
        </p:nvPicPr>
        <p:blipFill>
          <a:blip r:embed="rId6"/>
          <a:stretch/>
        </p:blipFill>
        <p:spPr>
          <a:xfrm>
            <a:off x="5060880" y="2838600"/>
            <a:ext cx="1143000" cy="2826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4" descr=""/>
          <p:cNvPicPr/>
          <p:nvPr/>
        </p:nvPicPr>
        <p:blipFill>
          <a:blip r:embed="rId7"/>
          <a:stretch/>
        </p:blipFill>
        <p:spPr>
          <a:xfrm>
            <a:off x="3214800" y="346392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4" descr=""/>
          <p:cNvPicPr/>
          <p:nvPr/>
        </p:nvPicPr>
        <p:blipFill>
          <a:blip r:embed="rId8"/>
          <a:stretch/>
        </p:blipFill>
        <p:spPr>
          <a:xfrm>
            <a:off x="2143080" y="3768840"/>
            <a:ext cx="1000080" cy="2826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4" descr=""/>
          <p:cNvPicPr/>
          <p:nvPr/>
        </p:nvPicPr>
        <p:blipFill>
          <a:blip r:embed="rId9"/>
          <a:stretch/>
        </p:blipFill>
        <p:spPr>
          <a:xfrm>
            <a:off x="3143160" y="4087800"/>
            <a:ext cx="785880" cy="266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10"/>
          <a:stretch/>
        </p:blipFill>
        <p:spPr>
          <a:xfrm>
            <a:off x="5143680" y="4389480"/>
            <a:ext cx="785520" cy="28260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11"/>
          <a:stretch/>
        </p:blipFill>
        <p:spPr>
          <a:xfrm>
            <a:off x="1643040" y="5316480"/>
            <a:ext cx="1785960" cy="28260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12"/>
          <a:stretch/>
        </p:blipFill>
        <p:spPr>
          <a:xfrm>
            <a:off x="4429080" y="624996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13"/>
          <a:stretch/>
        </p:blipFill>
        <p:spPr>
          <a:xfrm>
            <a:off x="5583240" y="6235560"/>
            <a:ext cx="114300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Picture 1" descr=""/>
          <p:cNvPicPr/>
          <p:nvPr/>
        </p:nvPicPr>
        <p:blipFill>
          <a:blip r:embed="rId1"/>
          <a:stretch/>
        </p:blipFill>
        <p:spPr>
          <a:xfrm>
            <a:off x="209520" y="785880"/>
            <a:ext cx="8724960" cy="33717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2" descr=""/>
          <p:cNvPicPr/>
          <p:nvPr/>
        </p:nvPicPr>
        <p:blipFill>
          <a:blip r:embed="rId2"/>
          <a:stretch/>
        </p:blipFill>
        <p:spPr>
          <a:xfrm>
            <a:off x="233280" y="4286160"/>
            <a:ext cx="8677440" cy="2133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3"/>
          <a:stretch/>
        </p:blipFill>
        <p:spPr>
          <a:xfrm>
            <a:off x="5521320" y="109224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4"/>
          <a:stretch/>
        </p:blipFill>
        <p:spPr>
          <a:xfrm>
            <a:off x="6786720" y="1084320"/>
            <a:ext cx="785520" cy="2840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5"/>
          <a:stretch/>
        </p:blipFill>
        <p:spPr>
          <a:xfrm>
            <a:off x="8072280" y="1084320"/>
            <a:ext cx="785880" cy="2840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6"/>
          <a:stretch/>
        </p:blipFill>
        <p:spPr>
          <a:xfrm>
            <a:off x="988920" y="2021040"/>
            <a:ext cx="1143000" cy="2826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7"/>
          <a:stretch/>
        </p:blipFill>
        <p:spPr>
          <a:xfrm>
            <a:off x="2571840" y="202392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8"/>
          <a:stretch/>
        </p:blipFill>
        <p:spPr>
          <a:xfrm>
            <a:off x="960480" y="265428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9"/>
          <a:stretch/>
        </p:blipFill>
        <p:spPr>
          <a:xfrm>
            <a:off x="1989000" y="264780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10"/>
          <a:stretch/>
        </p:blipFill>
        <p:spPr>
          <a:xfrm>
            <a:off x="3000240" y="2654280"/>
            <a:ext cx="785880" cy="2826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11"/>
          <a:stretch/>
        </p:blipFill>
        <p:spPr>
          <a:xfrm>
            <a:off x="5775480" y="3575160"/>
            <a:ext cx="1225440" cy="2826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12"/>
          <a:stretch/>
        </p:blipFill>
        <p:spPr>
          <a:xfrm>
            <a:off x="7418520" y="3564000"/>
            <a:ext cx="7855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6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Picture 1" descr=""/>
          <p:cNvPicPr/>
          <p:nvPr/>
        </p:nvPicPr>
        <p:blipFill>
          <a:blip r:embed="rId1"/>
          <a:srcRect l="0" t="0" r="0" b="328"/>
          <a:stretch/>
        </p:blipFill>
        <p:spPr>
          <a:xfrm>
            <a:off x="214200" y="942840"/>
            <a:ext cx="8715600" cy="54691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2"/>
          <a:stretch/>
        </p:blipFill>
        <p:spPr>
          <a:xfrm>
            <a:off x="874800" y="6107040"/>
            <a:ext cx="331560" cy="2826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3"/>
          <a:stretch/>
        </p:blipFill>
        <p:spPr>
          <a:xfrm>
            <a:off x="2741760" y="6083280"/>
            <a:ext cx="330120" cy="2840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4" descr=""/>
          <p:cNvPicPr/>
          <p:nvPr/>
        </p:nvPicPr>
        <p:blipFill>
          <a:blip r:embed="rId4"/>
          <a:stretch/>
        </p:blipFill>
        <p:spPr>
          <a:xfrm>
            <a:off x="4527720" y="6083280"/>
            <a:ext cx="330120" cy="2840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5"/>
          <a:stretch/>
        </p:blipFill>
        <p:spPr>
          <a:xfrm>
            <a:off x="6283440" y="609444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6"/>
          <a:stretch/>
        </p:blipFill>
        <p:spPr>
          <a:xfrm>
            <a:off x="8099280" y="6102360"/>
            <a:ext cx="33048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04840" y="1000080"/>
            <a:ext cx="8734320" cy="57150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55640" y="3625920"/>
            <a:ext cx="331920" cy="2826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2622600" y="36036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4408560" y="36036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6164280" y="3613320"/>
            <a:ext cx="331920" cy="284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7980480" y="36226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571680" y="466416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571680" y="5727600"/>
            <a:ext cx="33012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Picture 1" descr=""/>
          <p:cNvPicPr/>
          <p:nvPr/>
        </p:nvPicPr>
        <p:blipFill>
          <a:blip r:embed="rId1"/>
          <a:stretch/>
        </p:blipFill>
        <p:spPr>
          <a:xfrm>
            <a:off x="214200" y="728640"/>
            <a:ext cx="87156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Picture 1" descr=""/>
          <p:cNvPicPr/>
          <p:nvPr/>
        </p:nvPicPr>
        <p:blipFill>
          <a:blip r:embed="rId1"/>
          <a:stretch/>
        </p:blipFill>
        <p:spPr>
          <a:xfrm>
            <a:off x="214200" y="942840"/>
            <a:ext cx="8715600" cy="54864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2"/>
          <a:stretch/>
        </p:blipFill>
        <p:spPr>
          <a:xfrm>
            <a:off x="714240" y="955800"/>
            <a:ext cx="1714680" cy="2584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3"/>
          <a:stretch/>
        </p:blipFill>
        <p:spPr>
          <a:xfrm>
            <a:off x="3063960" y="955800"/>
            <a:ext cx="1079280" cy="2584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4"/>
          <a:stretch/>
        </p:blipFill>
        <p:spPr>
          <a:xfrm>
            <a:off x="4836960" y="960480"/>
            <a:ext cx="1552680" cy="257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5"/>
          <a:stretch/>
        </p:blipFill>
        <p:spPr>
          <a:xfrm>
            <a:off x="7040520" y="960480"/>
            <a:ext cx="1714680" cy="257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6"/>
          <a:stretch/>
        </p:blipFill>
        <p:spPr>
          <a:xfrm>
            <a:off x="714240" y="1270080"/>
            <a:ext cx="1714680" cy="257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7"/>
          <a:stretch/>
        </p:blipFill>
        <p:spPr>
          <a:xfrm>
            <a:off x="3063960" y="1258920"/>
            <a:ext cx="1079280" cy="2588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4" descr=""/>
          <p:cNvPicPr/>
          <p:nvPr/>
        </p:nvPicPr>
        <p:blipFill>
          <a:blip r:embed="rId8"/>
          <a:stretch/>
        </p:blipFill>
        <p:spPr>
          <a:xfrm>
            <a:off x="4836960" y="1263600"/>
            <a:ext cx="1552680" cy="257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4" descr=""/>
          <p:cNvPicPr/>
          <p:nvPr/>
        </p:nvPicPr>
        <p:blipFill>
          <a:blip r:embed="rId9"/>
          <a:stretch/>
        </p:blipFill>
        <p:spPr>
          <a:xfrm>
            <a:off x="7040520" y="1263600"/>
            <a:ext cx="1714680" cy="2574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4" descr=""/>
          <p:cNvPicPr/>
          <p:nvPr/>
        </p:nvPicPr>
        <p:blipFill>
          <a:blip r:embed="rId10"/>
          <a:stretch/>
        </p:blipFill>
        <p:spPr>
          <a:xfrm>
            <a:off x="714240" y="1563840"/>
            <a:ext cx="1714680" cy="2584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11"/>
          <a:stretch/>
        </p:blipFill>
        <p:spPr>
          <a:xfrm>
            <a:off x="3063960" y="1563840"/>
            <a:ext cx="2222280" cy="2584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"/>
          <p:cNvPicPr/>
          <p:nvPr/>
        </p:nvPicPr>
        <p:blipFill>
          <a:blip r:embed="rId12"/>
          <a:stretch/>
        </p:blipFill>
        <p:spPr>
          <a:xfrm>
            <a:off x="214200" y="3983040"/>
            <a:ext cx="8786880" cy="2858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13"/>
          <a:stretch/>
        </p:blipFill>
        <p:spPr>
          <a:xfrm>
            <a:off x="214200" y="4303800"/>
            <a:ext cx="8786880" cy="2570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14"/>
          <a:stretch/>
        </p:blipFill>
        <p:spPr>
          <a:xfrm>
            <a:off x="214200" y="4603680"/>
            <a:ext cx="8786880" cy="2746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"/>
          <p:cNvPicPr/>
          <p:nvPr/>
        </p:nvPicPr>
        <p:blipFill>
          <a:blip r:embed="rId15"/>
          <a:stretch/>
        </p:blipFill>
        <p:spPr>
          <a:xfrm>
            <a:off x="214200" y="4908600"/>
            <a:ext cx="8786880" cy="27612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16"/>
          <a:stretch/>
        </p:blipFill>
        <p:spPr>
          <a:xfrm>
            <a:off x="214200" y="5222880"/>
            <a:ext cx="8786880" cy="26676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4" descr=""/>
          <p:cNvPicPr/>
          <p:nvPr/>
        </p:nvPicPr>
        <p:blipFill>
          <a:blip r:embed="rId17"/>
          <a:stretch/>
        </p:blipFill>
        <p:spPr>
          <a:xfrm>
            <a:off x="214200" y="5529240"/>
            <a:ext cx="8786880" cy="257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4" descr=""/>
          <p:cNvPicPr/>
          <p:nvPr/>
        </p:nvPicPr>
        <p:blipFill>
          <a:blip r:embed="rId18"/>
          <a:stretch/>
        </p:blipFill>
        <p:spPr>
          <a:xfrm>
            <a:off x="214200" y="5835600"/>
            <a:ext cx="8786880" cy="2574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4" descr=""/>
          <p:cNvPicPr/>
          <p:nvPr/>
        </p:nvPicPr>
        <p:blipFill>
          <a:blip r:embed="rId19"/>
          <a:stretch/>
        </p:blipFill>
        <p:spPr>
          <a:xfrm>
            <a:off x="214200" y="6130800"/>
            <a:ext cx="878688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5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0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0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223920" y="995400"/>
            <a:ext cx="8696160" cy="5219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571680" y="1001880"/>
            <a:ext cx="330120" cy="284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571680" y="16938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571680" y="205092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571680" y="38098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6"/>
          <a:stretch/>
        </p:blipFill>
        <p:spPr>
          <a:xfrm>
            <a:off x="571680" y="486108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223920" y="857160"/>
            <a:ext cx="8696160" cy="45529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2"/>
          <a:stretch/>
        </p:blipFill>
        <p:spPr>
          <a:xfrm>
            <a:off x="550800" y="12142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3"/>
          <a:stretch/>
        </p:blipFill>
        <p:spPr>
          <a:xfrm>
            <a:off x="539640" y="2592360"/>
            <a:ext cx="330480" cy="2826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4"/>
          <a:stretch/>
        </p:blipFill>
        <p:spPr>
          <a:xfrm>
            <a:off x="500040" y="366696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1" descr=""/>
          <p:cNvPicPr/>
          <p:nvPr/>
        </p:nvPicPr>
        <p:blipFill>
          <a:blip r:embed="rId1"/>
          <a:stretch/>
        </p:blipFill>
        <p:spPr>
          <a:xfrm>
            <a:off x="190440" y="1128600"/>
            <a:ext cx="8763120" cy="49435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2"/>
          <a:stretch/>
        </p:blipFill>
        <p:spPr>
          <a:xfrm>
            <a:off x="714240" y="5450040"/>
            <a:ext cx="1500480" cy="2826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3"/>
          <a:stretch/>
        </p:blipFill>
        <p:spPr>
          <a:xfrm>
            <a:off x="3571920" y="5440320"/>
            <a:ext cx="1500120" cy="2826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4"/>
          <a:stretch/>
        </p:blipFill>
        <p:spPr>
          <a:xfrm>
            <a:off x="6643800" y="5440320"/>
            <a:ext cx="2143080" cy="282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5"/>
          <a:stretch/>
        </p:blipFill>
        <p:spPr>
          <a:xfrm>
            <a:off x="714240" y="5756400"/>
            <a:ext cx="1500480" cy="284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6"/>
          <a:stretch/>
        </p:blipFill>
        <p:spPr>
          <a:xfrm>
            <a:off x="3571920" y="5749920"/>
            <a:ext cx="150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219240" y="1033560"/>
            <a:ext cx="8705520" cy="5467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571680" y="18684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3"/>
          <a:stretch/>
        </p:blipFill>
        <p:spPr>
          <a:xfrm>
            <a:off x="507960" y="34210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4"/>
          <a:stretch/>
        </p:blipFill>
        <p:spPr>
          <a:xfrm>
            <a:off x="500040" y="405432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5"/>
          <a:stretch/>
        </p:blipFill>
        <p:spPr>
          <a:xfrm>
            <a:off x="500040" y="527832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219240" y="755640"/>
            <a:ext cx="8705520" cy="60706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530280" y="7858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3"/>
          <a:stretch/>
        </p:blipFill>
        <p:spPr>
          <a:xfrm>
            <a:off x="500040" y="16542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4"/>
          <a:stretch/>
        </p:blipFill>
        <p:spPr>
          <a:xfrm>
            <a:off x="500040" y="287820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5"/>
          <a:stretch/>
        </p:blipFill>
        <p:spPr>
          <a:xfrm>
            <a:off x="500040" y="5013360"/>
            <a:ext cx="330120" cy="284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6"/>
          <a:stretch/>
        </p:blipFill>
        <p:spPr>
          <a:xfrm>
            <a:off x="469800" y="5921280"/>
            <a:ext cx="3319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1" descr=""/>
          <p:cNvPicPr/>
          <p:nvPr/>
        </p:nvPicPr>
        <p:blipFill>
          <a:blip r:embed="rId1"/>
          <a:stretch/>
        </p:blipFill>
        <p:spPr>
          <a:xfrm>
            <a:off x="204840" y="714240"/>
            <a:ext cx="8734320" cy="25146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2"/>
          <a:srcRect l="0" t="0" r="0" b="7012"/>
          <a:stretch/>
        </p:blipFill>
        <p:spPr>
          <a:xfrm>
            <a:off x="204840" y="3255840"/>
            <a:ext cx="8734320" cy="34275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3"/>
          <a:stretch/>
        </p:blipFill>
        <p:spPr>
          <a:xfrm>
            <a:off x="500040" y="75420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1" descr=""/>
          <p:cNvPicPr/>
          <p:nvPr/>
        </p:nvPicPr>
        <p:blipFill>
          <a:blip r:embed="rId1"/>
          <a:srcRect l="0" t="0" r="0" b="4716"/>
          <a:stretch/>
        </p:blipFill>
        <p:spPr>
          <a:xfrm>
            <a:off x="214200" y="852480"/>
            <a:ext cx="8715600" cy="5862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2"/>
          <a:stretch/>
        </p:blipFill>
        <p:spPr>
          <a:xfrm>
            <a:off x="550800" y="11224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550800" y="142884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4"/>
          <a:stretch/>
        </p:blipFill>
        <p:spPr>
          <a:xfrm>
            <a:off x="550800" y="1714680"/>
            <a:ext cx="330120" cy="282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5"/>
          <a:stretch/>
        </p:blipFill>
        <p:spPr>
          <a:xfrm>
            <a:off x="539640" y="2050920"/>
            <a:ext cx="330480" cy="2826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6"/>
          <a:stretch/>
        </p:blipFill>
        <p:spPr>
          <a:xfrm>
            <a:off x="527040" y="23572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7"/>
          <a:stretch/>
        </p:blipFill>
        <p:spPr>
          <a:xfrm>
            <a:off x="539640" y="2960640"/>
            <a:ext cx="330480" cy="2826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8"/>
          <a:stretch/>
        </p:blipFill>
        <p:spPr>
          <a:xfrm>
            <a:off x="500040" y="3327480"/>
            <a:ext cx="330120" cy="284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9"/>
          <a:stretch/>
        </p:blipFill>
        <p:spPr>
          <a:xfrm>
            <a:off x="500040" y="393228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10"/>
          <a:stretch/>
        </p:blipFill>
        <p:spPr>
          <a:xfrm>
            <a:off x="500040" y="4575240"/>
            <a:ext cx="330120" cy="2826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11"/>
          <a:stretch/>
        </p:blipFill>
        <p:spPr>
          <a:xfrm>
            <a:off x="500040" y="5167440"/>
            <a:ext cx="330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33:2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