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F39-2096-4E63-ADA1-B9996FD1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84C-4373-4E6D-8D22-241C16B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0ADA9-3594-4B9F-97B6-75545B6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32A79-BD09-4B20-A535-ABCA85B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DC143-BF05-447C-957A-F06C2DB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97544-7B32-46C3-9043-4F6BA86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7496F-BC63-4F3A-B63E-12C04255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1C471-00CD-46A9-9DDB-ADBFE54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D500E-6DE2-49A4-ACA7-9234534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2BC07-7814-4155-8953-99B7EA24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E1BF-ABA3-47BF-9BF3-02B32CEF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D9CE3-64FB-4B28-9628-9F011BBC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325-8847-4565-A542-EB56C91B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55FD2-5E77-40C6-8301-1205BC6A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C02F2-FD99-40A1-BA5E-5927CD26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EBCA6-1D2B-4889-AD5D-326EDD4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9E5BA-12AF-4BCD-8D69-D970E0A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CD45B-4D3A-4EF2-93E8-69B038A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CBBAB-98E0-48D1-B9C6-FD4B31A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16234-E724-4929-AC05-6139AA6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F5596-A533-427F-A1BB-3133692B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2F7EC-BAA4-4C1D-8B34-E182CC5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7ACDE-8447-4111-B1F8-189BA8D4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272-EF4F-4769-8419-2B07874D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4CB5B-5464-4578-8E36-F51B845B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5D89-C855-4984-A7F6-AD0422E6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B5806-E4B7-4E03-8311-ADA99CF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8A330-6ABB-4AE2-AB6C-0E377D4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F51F9-E220-4571-8050-72BE8193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117F1-E1EE-45F7-A218-967BE90A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B461-4BE2-4898-BD9B-D014E08F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34F4F-1E3C-4922-89E4-3B4B24D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3E0ED-8D0B-4B81-840A-A93BDBB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AAB4B-603B-49CD-8749-B5255FB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BFD7-C5E8-4948-8465-2B298B27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F720F-C0FF-45F8-9EDA-2BC53B6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F241B-FDE9-4C5D-B3DE-283F7561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F27EE-531D-47C2-B4A4-341F2BA5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863F5-DAEF-469A-91A3-8F55C81F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3131F-1ECD-4D25-9670-5849D8BC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EBDA5-13AD-49CC-AE69-17B6A435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8C4B0-401B-49B8-A5A5-764A411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147EC-EB38-46A8-A135-7CF483D1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F2B73-5ADF-456C-9868-95D8DE3C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90EB3-8FD6-4104-A6CC-8F8E52C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BA2-A094-45EF-B72F-40D29CC5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53315-EF2B-475F-BFBB-3C781CF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05DC-3833-4DF3-B506-62A444CF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51D15-9317-44D5-9BDC-4428501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A0EAB-050A-45AD-AFD6-A58C9305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400D6-EA51-4681-8733-A5E0C763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C6E84-155D-4660-8F90-01F0D132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3D7DA-EBAA-4F19-8BAA-84ED2FE8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1A7E8-97FB-4597-B62A-C2D9F599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9413A-BE06-41DB-842E-6B43DE2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726B8-F47C-48B6-A02C-745F553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34AD-3716-431C-B706-D7F2592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0DCE6-B99A-4F2B-8C4E-825838BB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81516-E43A-4E36-9473-921E8E9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08A1B-2C53-4A0A-9F77-FD6AFF9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37B7B-BB84-49A4-A1D1-627955D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B4897-4DD1-4290-AD45-9E1BCC70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1E97E-A3F7-431B-9E39-37F4E565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8B5D6-63E9-4D1B-8772-6D713D5A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55F00-DA73-41F6-8900-6EC9F908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3A4F8-A194-45D0-A2D9-FE8D69B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4FA13-FD81-4BAD-B812-69AB58C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9CC-7123-4576-AC58-B920D67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187BA-B0FB-4C28-9252-973B022F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5306F-71AD-4FB6-BBD9-A1E5451D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8973B-37DA-4C26-86BF-6B166274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1D6EF-1497-4EA0-BAE3-2A1E00D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A16D5-5F14-40A0-9679-7EECF3B9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A8EBC-FFC7-4252-A43C-C323334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63F70-AC6C-4A09-8E9F-CBC371F0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F5D8F-13C8-4C9E-9D2F-2DA43DF7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E596B-339D-40B3-AE54-A5253CD7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1C602-D2C9-40E3-8887-3E67B30F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9C9A-1BAB-4B1A-A68D-FAC17C5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DA12C-C22C-4379-A448-F9F68A6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E7B69-48E2-48B9-AA63-443DA3A9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65F2C-6620-4E3B-95F7-2BDD4BE5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87BFC-6C1B-4755-8FF0-E127D96C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32E91-FDA7-422A-AC3A-8B2E413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59F43-9036-4B83-8385-78118D4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B528B-C7B6-4B79-A566-E5ECA57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27857-6750-47E6-A087-98DEFE1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09EE0-7617-4AC6-9DF7-59773086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C4295-5800-4A3C-A2F0-EE7640B0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1E8-6040-4075-B314-AF96086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97B28-C248-48AB-9C1F-D84324AE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7E9BE-1A09-429D-BF9F-B497268C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3322D-4856-4808-97E9-A8B1B27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9BB19-B1B7-4E37-A77D-9BFC11D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8013D-7294-4A56-B30B-16822BE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C39F8-7979-4A00-A379-24339AD4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3336B-5E59-4A70-955B-751B5BE4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2D6C3-8BC1-4CF0-90E8-E182EDD1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7E98A-CAB5-432E-929D-BA1132E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27F90-EF21-4A71-8C2C-140197C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E661-BB36-4210-8A1D-E07704C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584C6-8AC5-4DD9-AA85-22E0BD98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0A775-E70D-4DC2-A44D-A5012526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84C5B-C3CA-4A56-8046-D62092DC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310FA-7EFE-4447-B3FB-441F2D26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F3D43-24EF-4866-9792-375D7FD8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2B8B9-10C9-42DF-8AFC-4219BAF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11B0D-E084-4286-96EB-EBA99B1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2DFC4-59E4-45F1-8B42-19A67C9B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DB6A1-604E-47FA-BD83-EF8590D0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0D17D-1B11-4989-89C1-FC3532E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1A7-8A61-4E14-920F-D67CC432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98D-89C8-41D7-B05F-FF1D8B4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307DD-98EA-4743-9AC5-5FA8F42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1B389-C76D-4CE2-AB36-4DB1DF8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53F1D-8E1B-4B46-B464-EFF66A6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9B988-3B11-4912-A322-5246F674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13A65-388B-4611-AFDE-3178DC72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76279-3AA0-419A-AE50-8824C14F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4367B-4DB9-4105-8123-68205D78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D6FE0-E3E1-4ECA-BA21-34B91A9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63509-24D8-4822-8118-8E27045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1A3CE-34A4-4AFE-A78D-C1EB547F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753-79C7-4208-A4FB-8DE2650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9BB89-DD78-48D1-BBEC-58ED1DE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EDD38-0887-411C-8F65-164CDDD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B90B7-D901-4561-86D0-64C3F33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E626B-8841-40CC-A324-E63B1CD7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5D488-6FB7-4109-BE1B-558F63F1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BB383-AE72-43A7-8E8C-85F2EEEF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83ABA-2301-408C-A8C2-AB68155E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7388A-D06A-4D44-94EF-A6352DB3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CBBF0-CFC1-4B42-92E9-95C1EE8F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AA580-DC79-4138-AD5D-12C3399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68E-FAD9-4485-9FB5-D4B24A9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2FEB3-53AC-48CC-973B-9C776C8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D000F-856F-4F8C-9626-4BFAACAC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63E8E-1358-4122-8337-7192B50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3A081-FCEA-453F-8A15-8072B75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7484F-68E5-4547-8F49-82FC017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8448C-1A99-40F7-AF3A-074589B4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8B141-2D86-4B1F-B868-B811B6BF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3DC47-8DC6-48F4-A178-166EF832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33D95-0990-44B7-9DBF-60134B24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E5B40-B025-4E6F-9F7C-533A212D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B38-FC75-4ADF-9987-E9EB890D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D7B8D-50DE-48E5-BBEA-E7E7BAE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D8CA5-CC3A-4449-B448-FC3C4E59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D5886-CCA9-482F-BDCF-55686DB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2CFCF-A182-4E38-81E7-3DB5E066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517E1-BD08-47ED-BD98-62E5235D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ED488-CFB1-44D8-A830-D0C891DC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C6E27-14F6-484B-B859-C5F1B33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3C99F-1941-4A90-B3E2-B52C5F5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17914-1C4F-4B25-81E9-5DE42176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46E79-2B21-4B8E-80FC-DB700A0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29B-A92C-47DA-AA4D-AFABFA76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FCD0F-AE81-46E3-92AC-CBD0FEA9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87168-6FD7-4F93-8C0A-303BCA81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F78D2-FE6B-47F8-8E4C-17AA2E18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86D2F-5D85-4BFD-B8E4-DEA7F9BD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C463C-EF74-454B-940E-01514DE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15D7F-642F-4DA9-9471-66C93B4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4852C-1371-4CA0-91BE-D6E724F7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6E8BF-D446-4A50-9B58-C22E14A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C40514-8CA9-4E18-A794-A82F2488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0A83B-F197-45C3-B515-86DC225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3BF5-83F1-49E6-962A-80423F4F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B3DE7-0659-4E42-B3CE-381D75FF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539CA-7902-47EF-8AD1-67220EB7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6B28A5-B8C0-4914-ADBF-018EA658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1DF9-3DF3-497C-9837-0124CD6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78ED-1C72-46B2-95DE-2A4FB9C4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A242-FC94-4C78-9FEC-0AA81D2F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947E-40B0-41A1-ADA8-23EAA7E6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1C8-26E2-4EF6-A67F-4D6F9BC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FABE-2FF6-486A-B919-A3C7826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C3EA-DF7F-468C-882D-C704FAA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A4E9-24BD-4CE3-BB2C-5AF39FBF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CC67-A7BA-48F4-8999-B122EDA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14E1-9C6C-4FFC-84E2-DDE442E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EB6B-BEC2-4BEB-AACD-1D03BBE7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61FA-81A3-4BDC-9379-79750547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5589-C910-4DE3-89C0-008257B6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C352-C67A-4F39-859D-13B6941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33668-78AD-43F1-90AD-976296B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15D-3545-4DF4-B0AC-13586CB2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89CA-0C0A-4F38-BDF2-BD2470AD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D0C9-9D68-4C97-B7CD-F70A775D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99EB-3305-4F5C-B3B9-CA1303CF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5896-68E5-4792-87E2-A54BED33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0A25-A877-47AB-9FE2-ECB2BCD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EB71-9FF1-4619-96AF-0E98154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7F7A-6B69-4607-A677-ED6DBB4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0F43-B97E-4889-80E8-7C56D389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6EAC-A125-4AA2-B979-ACE6EF55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E455-A7AF-4833-A391-43915093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777-A114-47DC-BE63-2E3BBFBF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99C5-0E45-4FC6-B0E0-C36A1322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4989-516A-4971-846F-2F7566E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26A8-D389-478D-9422-9797E91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FDE7-D240-4792-BF65-E703F58B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8662-5816-4CF1-8BEA-D20E26E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B884-E201-4738-961E-38C6755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53AC-8939-44E1-94D6-4768EF3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E8E18-B17F-41E2-8DDF-2E257158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1CD4-C182-4096-B56B-B0E9751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03717-6A6B-4A1E-9AC3-745C28DA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9FC-3945-41E0-A32E-4A19DAB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7B07-AFAD-422A-92AC-9F176D0D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CC142-0F22-41EA-83DD-75E3DF92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09BB-163E-447A-80D2-105DAD4B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6D53-5273-4930-B7F4-6F699588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0F3A-9532-480F-ADD8-2932A5E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1A902-8599-4AA4-9A01-5A39D62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DC7C1-7721-498B-87B2-6935777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59BB-F266-4F60-A95C-592A378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1173-7F7D-46B5-9B17-F018E29B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7E14-6A82-4153-8588-FA6D8F0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B6D-68C2-4C3E-B1EE-40380369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4F4E-BA5F-445F-9EF9-B7BC2008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95711-4254-45F1-95A8-444FD74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0C69-5158-48F3-BB86-AC98B141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9264-54BE-4A40-8F7C-0AEFCE37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31B4-25D8-417B-BE96-02E74BCA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BBD90-9774-479A-AABC-B846182D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907AA-5C97-4A5C-BFD0-44E58EA1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10FC-38A2-4C90-AD3B-AFA7607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AE2F-B96D-46FA-B54C-535E5D9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B898-1E70-40B2-81F8-C33202D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B3B-B61F-4464-BB9F-5757A2F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225D-13D3-425E-BF8A-303E74B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8F290-6BF8-4B7F-A09A-1A029E54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B05FC-278C-41D2-B6D5-760C3607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2E97-ECB2-4849-9A68-32720722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12BE1-2F38-48D0-AC63-D4B94DB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6D6A3-7CCB-4498-8BB7-7449DC44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81C53-56E9-481B-AD68-D2C9382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9549-DBDC-4145-881A-8B59E155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6B43-1C27-4B1F-B31B-76CD245C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DCA49-F84E-4ED4-A1E9-E1344A4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EA5-2694-425C-90A2-CD93327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BF40-0D57-49F9-8514-24DC2FF6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582AC-94F9-44A3-99C4-0765AC2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5C48-9687-4282-AF98-26F3621C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FD8F-4DCF-442D-8F95-1E4D9BD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2EDD-A5AF-424A-925F-AA1C43A1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B2AA-6A47-4CE6-9EAE-D7FB49A0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4F43-51B3-402C-9647-AC1ECE19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6029-F94B-46AC-867E-6DF96AD5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FA12-4F70-49DE-86A8-AC43BB94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99D89-0D06-4BBA-94C4-057915C7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A72-72E4-4916-AA57-905DC72C28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E61B-BAFD-4832-B92D-8CE9C7AAB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F734-36C2-43CD-B22D-ED3A10FE9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778-9932-43FB-96EB-E4F46AB2E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7F2-826B-4A90-A2A6-EA806CDB31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E8A7-0E48-4B48-A38E-D7DD18054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611-52BD-4DEB-8373-9836BC8AA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D73-7584-461F-9990-459E67B4F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30DB-30B7-4231-9444-4401BDE17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F8D7-1830-40B3-A004-14D9FDF6C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EF9-E83E-45F8-9054-CC1AAC6683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6553-9B68-48F4-874D-96AEBB18F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DAAC-FBB9-44BB-BC02-366089B4B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AF9-995C-4695-A999-CBF531D68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DEAA-3191-4846-B4D4-29E47BEBD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68F-4616-4FE1-A4F4-D2CCA2216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7EE-8A3D-476F-89AA-6A9C45C41F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097-62CB-4E6A-A48C-D49FD5D09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836C-9A4A-4344-BE80-2A2F5CCD4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7C4-B538-4B13-95CF-CD60EB6C0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35E-7391-4D25-94A4-071CF5F8C8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164C-20EA-4494-B9B0-246E6669A4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41ED-A685-4D26-9CE7-B486B5E6A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1B7-2FFF-4F93-BBFB-359D4E132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0BB-E79A-4910-8031-A2C4BDD2D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B75-6C05-49B1-A41E-8EEE93657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617-BBD0-4C8A-A838-16B2981C0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D3CD-0D42-4B05-B1CB-8281E6D0AA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C74-3CC6-4569-A2DE-B04F94D83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687D-7EDC-4C4B-AD75-4B434236E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EA3-2848-4D94-A092-6C496992E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DF4-C385-4769-946B-8FC6D51E3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0FD2-4299-4123-9EFF-1705692FDE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814-D0FD-4D8B-AF67-6D13B549E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F15-CC70-4833-BCCD-1141AA655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7851-B7ED-4699-90A6-335C6A52A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C858-4CA7-45BF-B5C0-EB8D1919F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D91B-5124-495F-9032-8E3D654FE2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B74E-9792-462F-B4C7-6AF5B64C9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EC39-6492-4953-AC95-AE794FD6F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534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281160" y="95400"/>
            <a:ext cx="8581680" cy="66672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1576440" y="3241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2700360" y="3241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3836880" y="324180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159084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271476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385128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159084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9"/>
          <a:stretch/>
        </p:blipFill>
        <p:spPr>
          <a:xfrm>
            <a:off x="271476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0"/>
          <a:stretch/>
        </p:blipFill>
        <p:spPr>
          <a:xfrm>
            <a:off x="385128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1"/>
          <a:stretch/>
        </p:blipFill>
        <p:spPr>
          <a:xfrm>
            <a:off x="1590840" y="6178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2"/>
          <a:stretch/>
        </p:blipFill>
        <p:spPr>
          <a:xfrm>
            <a:off x="2714760" y="6178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3"/>
          <a:stretch/>
        </p:blipFill>
        <p:spPr>
          <a:xfrm>
            <a:off x="3851280" y="6178680"/>
            <a:ext cx="43164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1333440"/>
            <a:ext cx="8553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1" descr=""/>
          <p:cNvPicPr/>
          <p:nvPr/>
        </p:nvPicPr>
        <p:blipFill>
          <a:blip r:embed="rId1"/>
          <a:stretch/>
        </p:blipFill>
        <p:spPr>
          <a:xfrm>
            <a:off x="1469880" y="569880"/>
            <a:ext cx="6486840" cy="6172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835280" y="66348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692360" y="13701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762200" y="20750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1619280" y="27813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619280" y="34862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762200" y="48974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1619280" y="560376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1619280" y="6308640"/>
            <a:ext cx="518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76802" descr=""/>
          <p:cNvPicPr/>
          <p:nvPr/>
        </p:nvPicPr>
        <p:blipFill>
          <a:blip r:embed="rId1"/>
          <a:stretch/>
        </p:blipFill>
        <p:spPr>
          <a:xfrm>
            <a:off x="585720" y="1014480"/>
            <a:ext cx="7972560" cy="4829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971640" y="1787400"/>
            <a:ext cx="5688000" cy="489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5688000" cy="488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971640" y="3228840"/>
            <a:ext cx="5688000" cy="489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688000" cy="488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826920" y="4538520"/>
            <a:ext cx="7848720" cy="489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55640" y="5243400"/>
            <a:ext cx="7848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438120" y="1552680"/>
            <a:ext cx="8267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1676520" y="966960"/>
            <a:ext cx="5790960" cy="4924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763640" y="1066680"/>
            <a:ext cx="5832720" cy="505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763640" y="1743120"/>
            <a:ext cx="5832720" cy="504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1763640" y="2465280"/>
            <a:ext cx="5832720" cy="505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763640" y="3141720"/>
            <a:ext cx="5832720" cy="504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1692360" y="3905280"/>
            <a:ext cx="5832360" cy="504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1692360" y="4581360"/>
            <a:ext cx="5832360" cy="5050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1547640" y="5229360"/>
            <a:ext cx="2737080" cy="504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4500720" y="5243400"/>
            <a:ext cx="2736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1015920" y="1019160"/>
            <a:ext cx="7372440" cy="5505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83272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583236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76360" y="3083040"/>
            <a:ext cx="583236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547640" y="3803760"/>
            <a:ext cx="5832720" cy="479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1476360" y="4451400"/>
            <a:ext cx="583236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1547640" y="5172120"/>
            <a:ext cx="583272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1332000" y="5891040"/>
            <a:ext cx="23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3851280" y="5877000"/>
            <a:ext cx="3673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5300" descr=""/>
          <p:cNvPicPr/>
          <p:nvPr/>
        </p:nvPicPr>
        <p:blipFill>
          <a:blip r:embed="rId1"/>
          <a:stretch/>
        </p:blipFill>
        <p:spPr>
          <a:xfrm>
            <a:off x="276120" y="1243080"/>
            <a:ext cx="85917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590400" y="1090440"/>
            <a:ext cx="7963200" cy="46771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11280" y="113976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1280" y="180180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39640" y="255096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468360" y="3919680"/>
            <a:ext cx="5905440" cy="47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68360" y="4581360"/>
            <a:ext cx="820728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395280" y="5300640"/>
            <a:ext cx="8207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3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