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F47-29E8-40D5-B941-9AA9792C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1A8-B416-49BA-B00A-5779F1E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D7FF3-7EEB-4A30-AB27-B250E97F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97ABD-D73E-4BBC-9019-25038AF7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D8C28-C7CE-4A88-BC3D-A715CE8E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1AEF9-2E76-4545-97BD-04E7302A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F9C7A-8995-424E-AA0C-E97D99FD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4EA9D-8D42-45B8-9645-D64A021B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2491D-F6EB-456D-8570-8374955E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CBECD-F2D3-4B25-8B7C-5D6083A1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980B9-3FD8-4159-8084-0337AC13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1B6E3-7B79-404F-8F2F-D7BD3C1C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BAD-4D90-4600-8947-D8B6E5DB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34684-CF5D-48AB-84EF-4A4CDA74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1C6D5-D2E9-4303-800F-BB870025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38704-CE3E-4D65-990A-082BC70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F04C2-2A9C-4C5E-8590-B764D414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D8EF8-2686-4C98-A76E-D9891868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6A089-CA09-4494-A0FB-2150620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44213-51CA-4DA5-A8BF-CD8F2474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5691A-4CC2-4911-BCD9-C768FE79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88246-FB2A-4C17-AB4A-476F601B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376FE-72E9-402C-A1F7-371E9E46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61F-3523-4BD7-AB87-77C34B1F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7D64E-1D32-4B8D-B8A3-CC0F6E44E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FC2B5-513F-47FD-99EE-F04016D2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FB58B-59BA-4EC6-A0F2-4670B222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5A8895-D93F-4C9F-A7E5-926EBAC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79CCD-1420-46E7-ADCC-09B4A8C5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09B7C-4EB3-44F1-B869-DDD4DC88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2F737-FF10-478A-A6B9-6AB9B968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DE7A3-9751-465D-9838-4CDC181D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F6098-6DE9-4F6F-9156-C653E6F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D6CB8-BB4C-41D2-8E4C-A24034E2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F7A1-61D4-45CB-A38B-0228E1FC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9245B-CFC2-4BCB-BA77-7DEB55E3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A2E7F-1A22-4212-A7C6-74E96142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E4423-76CF-428C-A1E9-C4B38829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12B72-D455-4A80-B0E0-CBA2DAA7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5B1DF-6F19-491E-AB01-E7461556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8BFD6-CFDF-4A2F-B4BA-2BFE50B3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82F5A-299B-40AA-BDFA-33C2930C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727F7-CFB2-4B0B-9FD3-B551F83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940B02-F01E-48ED-92D8-66D2181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BBF4D-645C-415C-92BB-660A8F37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A266-0FAF-4CE3-8111-AEFA1473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C42A1-4854-465B-85E9-EAA4AF8D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7D82C-7F0C-41DD-A22E-EF48C291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E7957-97FD-450D-8CFB-44FB037F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AD684-79D6-4348-8ADF-508BD5C18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C599E-0D08-4ABC-8BE0-E7A95A05B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DA2C1-6C94-4991-A84A-13890BEE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58DDF-B995-405D-B47A-A0E0293A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EB2A4-4CED-4005-85A6-9088930E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E0A7E-589C-4684-BD83-3A6F5F7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18692-A9E7-4F4B-9A9B-D3FEEF48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EFF8-120D-4951-BAA0-A09769A4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6C9CD-8911-4A25-A883-B0322926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29836-FCF0-429A-9869-6B79CA3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7A17C-3C5F-4738-BC20-5BF73E1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D010E-8F34-408B-A8C6-F605F4F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55E72-BBFD-4FBA-AB00-4FB40C07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3A1EC-E25E-4262-B597-229DB351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38748-AC6A-4868-AACE-D3D8E011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11DEC2-C25C-4639-B2BF-EF9B10C1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E1BC2-2E19-4927-AFCA-534B5634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1301E-68D4-476A-84DD-05ED1058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3907-0C2B-4E76-AF5C-44B1989A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51A3E-EBB0-47CC-A74C-453BD87F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956D2-1250-4759-A37A-065C3C39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C017D-0B27-4EFD-ACFB-6D096455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0A3D0F-D368-4F2D-99BE-C8F8CD4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9BD9A-9A21-487A-8459-DAD60636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58824-C47A-4AED-AE03-D1F6C445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6EF0F7-5729-4855-8A94-AD159981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250429-FABC-471C-9155-122F3455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CEF89F-26AF-4417-9D58-0F78E7F6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84848-7D1E-466F-9262-45F492F4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642E-071F-4BD4-94A4-8DC1FEBD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4BE30E-404D-435C-8A79-DD040886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71AEB-C2C1-4E38-B753-61DD031D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22C7D-CB81-4A37-AA92-F730D68C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227E1-7C00-4FE0-BEEF-F13247C9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47627-FADA-4755-B53F-8DAB962A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E3A2A-0BC9-4DFA-A168-5059A67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99BC7-BA1D-49B9-94F3-E1749E89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00B41D-09DF-456D-AF84-E5DAEC10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7FB73-9B36-420D-AACC-F78203B2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4ED471-51A3-4071-80F0-3C3E64E4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6969-3B10-4834-98C2-A67AEBD5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1C3AB6-C5E6-4953-A0D7-4785A2DF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57C0D6-65C0-4B36-BC3D-176DE729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2C4D9-EF45-4660-B68A-25E853F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75350D-ACFE-4E29-919D-3433CC45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4AAC8-C9E8-4DDD-8FEE-3AEE403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6A10B-697D-4136-B2B0-6C6C6973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5CF124-1703-4ADA-B62B-F5C4A6DE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50D6F0-F086-438E-94DD-E4344EF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5C2D67-04E0-409C-BB43-868F47FA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927DA8-40B0-46BE-BD4F-2C4F8B41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FC70-8647-4625-8CAE-FDBDD451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07E978-7DDB-4626-9488-CB41E411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E3481-719B-44F9-8B4A-7FEC136E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3EB1F2-3D25-47F3-AEFB-5C596573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BA653B-AB25-4060-9157-62477B33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1930F9-A0B9-423E-954C-B7650132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87A95-5CB8-47FE-8C39-645C11F5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CBC2B-F42A-479F-84A4-D01AB8C3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F3DCFC-2B31-45D4-8282-D664D47D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CF7222-2E0B-426E-9ED7-01B7A26D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7A475-7071-46DA-9787-75AAFAC2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C582-50F6-4B76-B933-90470DAE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83C1-1ACF-4DB6-8795-DDEA791C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B1E18-D4F1-49EC-BB5B-BD3C361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2892D-4479-4366-ACDB-E541C63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B220D-9A45-452C-B6BD-8A4BE02B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0BD49-D8C4-4995-BFDC-26A8F89F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B1BFA4-2556-4399-9DD0-EDC131A7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1B0A75-04E4-4E7E-88E4-D19F6C96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DAE980-379E-4FE5-8FAC-7C245897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08F16-7924-41AB-8FEF-5FF02AC4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13AFC-3A08-426D-966A-F80F976B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F64BC-5A23-41BE-9E69-14C0A056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2809-F681-48BB-AECB-BC33AAE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225F07-18AF-42A1-BD6C-A9CBAD04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DD679-ED39-4039-ADB8-8CE8C52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501E0-1549-4314-BE47-5E89F247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2A58D7-16BA-45F2-9BC1-2719D9E2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623B1-840D-45DA-9F4E-148C316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DA4273-CB87-4629-8A32-DBD69C29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3526A-D48F-4516-8AF7-B0186E0E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253A1-CEDE-4C55-90FE-005A756F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FBCC36-57C9-47AE-984E-4D111BE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5B221-A893-41E0-BF6A-1DA88D44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51D1-9BC9-4925-B1E9-F4D09A33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EA1AE3-B6E2-4188-87EA-5BFA646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8FAA47-E135-498C-83B2-FC5798F1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989C8-C105-4FA6-B2C4-92EDFCAC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56267-4EE6-4451-8962-B94F53D7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BCFCA5-90B3-42BD-9FF1-4DDC31C2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1D6130-76C1-443B-8CAD-F1D7324E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8E37E-AC76-4D02-A896-B5782E2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E27D4-A5F6-48B5-9BFE-F7B8FE9E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3958C-0ED7-45F0-9A1B-89DEBA66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937008-03DC-44F6-8929-D2BF6D93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AD45-6BB8-464F-8863-2498C7FC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407178-2897-4062-A64F-9937DB9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D24399-A841-4A05-B010-E2261808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78B1F0-5FA0-40A2-84F5-894E993E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C1182-E75E-4624-BE42-4FAEF842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E0C49F-08C1-47D3-A126-7389931C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E83DEB-8EA5-4423-B725-97AB4D6F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E1C40E-9147-4308-B4CB-15FDF7F9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08CCA-86C9-467A-87CF-0FEED30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D13AB-6AAB-4D2E-A2A5-C457883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A0BD8-8EB6-4E3B-A1EB-08EBA63B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D76C-0E21-4C6B-A35D-D14D91266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6C242-39FA-46F8-9D3F-D07D01DC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8435DF-AD65-45E9-876F-E17228F3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A1442-4D18-4B3F-BA9B-C00B24FF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73B537-D9BA-43B6-B888-1C3B456D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02608-C42C-4B6A-AACC-FA5D7F32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7EEF70-3CCB-4C33-B47A-DF51F24F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68E31-944D-4E53-B276-5BB8F544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0F71F-97B5-48B8-818B-E494DE4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913DC-E42E-4BCE-B35C-C0453C6C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CCD77-39A9-430E-9DAB-2C6E9794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F9990-57F7-4F94-A5A1-29F21D34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1E3DAE-4951-4283-8144-ED355268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BF0EF0-FEF0-42B7-87ED-8453B7DF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A51396-012B-448A-B5E4-24049D43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8FFD6-5187-4984-9887-A610BB05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753BE-5B72-46B4-B362-7B150D5A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4EE34-E413-40B4-A7E4-51EAB456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31066-93C3-4CFF-BE44-AEEA13A8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907-B70A-4EF5-8DE4-32C65ED4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88A7-E57F-47A6-BBDF-E217B10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73504-3232-4C4D-8FA8-879612CB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10B8E-0CA3-4082-A4E7-04691367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A856-B8BA-4C94-B996-E77E2853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C6B5-6B76-4F9D-8E04-A62E926A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4FE67-8789-4E89-A4B8-E548BBA5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BB4A5-0B36-4C9E-882F-4E4C3015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F452-94BF-487D-AEAD-AD76C2CB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7AE0-EE2E-4B45-AAF2-A1B0FF19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35D44-6737-4EF4-A944-05E85654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E35-8007-4205-8A9C-4C7863D0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64450-46F8-4A84-AD59-B4AC7987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5079-D9CB-43C0-940D-4AA10A8A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2EECB-584E-4B25-84F2-9AA47C94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0884-DE5C-4634-9904-852A884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0E77F-7571-4156-B7FA-1D9D3234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EE491-B1DB-46F4-BF52-748AC2A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DC658-425D-4AE1-BC62-92866214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79E98-BA3E-4B4B-BEF7-E2477DAC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7868-1C1B-454B-95A1-35D419FC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10F88-FC25-4EC3-A42C-2F1EE578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07B-6CBD-4340-AB56-DAD74A4A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C711A-8BA2-4B9F-8230-2D6987EA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7CBD-DA46-411A-A74E-B7BDC2A9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CB55-9424-41EC-BEB3-B9410BA1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C32A-A327-46CC-B4C5-030E0890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B28C-580C-44C2-A74F-37D17572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3802F-771A-4C21-BFFA-949A739D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649D7-FF31-4CE7-9D07-CE08FD22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99E4F-96EE-4C2D-A644-FAFDC4C3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222A9-8193-44EE-9425-77528861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79C9F-2840-4C49-9269-58DDDC39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C72A-F12B-45BE-BB07-BE4C9C7F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695C-E981-4E56-B944-D292015FF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75EE6-1572-43E6-8F22-D36E01E89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469C-4225-4785-811F-08D5D376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55833-8401-44DE-BEDD-2B218611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603E-95B4-4539-987D-2EC08E0A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21D37-3C31-4D74-B3AC-6EAA7AD6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3260F-B098-44F6-851E-928B922F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0D2CB-78B4-4170-8D94-B981050E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A225-73F2-4456-A214-44C4A95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E7697-1ADB-4990-8B00-31E4B57E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780-A50F-419D-9372-19C29EE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AB381-2611-4314-BB0D-0F933879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804CF-B5A2-4412-ABE7-CFC5BF27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A196F-8CD3-4607-BE1B-D1E47F84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68A92-BFD5-44D0-AE68-3C2DF633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913EB-1267-4A7B-AEF0-0D692D1A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558B-DA59-4ADF-9CA5-8E71088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04745-B922-4609-A018-97F9F52B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02108-6A4D-4BE3-AAED-680BE802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87D18-F9F7-4975-ACF3-C5CBA77C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350C-2971-47EB-8C6E-1789933F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04F-B381-4FC8-AFE5-1D3D7E86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77D6B-7E16-4B62-9DAA-5DF506C2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8B792-5340-4590-B5F7-2A0BD80D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CD741-6FB8-4E7E-BD6C-F190031B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D0743-CC47-4052-86FB-8AFA9E85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0927A-F93C-40F1-9D6D-A8D6AE51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25E3-D889-41C4-92F6-B3363319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EFA74-E7FA-4345-B3F5-ACABE1B7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83661-12C0-4986-B545-702422A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45D9C-C02D-4C35-B987-C8333AC1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50193-9677-4B1F-B377-353CDD6D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5E4-CFCA-4F2D-8DC8-A180E56F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5F215-368B-42A7-885F-1F2DF122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2AC75-5734-40E8-89CD-C06FA856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09D6A-D095-47F9-A2E2-85EFD7D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5268-71C4-42F3-99C1-E9731B2E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6B7D2-528D-45C6-95B6-1770F179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688F-209D-47E1-BABA-1583CB655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7910C-13DB-4FFC-A2E4-277ABB34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E221D-F7CC-4E40-B47D-11982F50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C982E-5116-4666-A74B-DFD76F4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F9DCB-D86E-44D7-B02F-BA75E829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5C19-27CA-4826-81DE-ED2D1DDB97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D39-6546-4D1E-9937-2B928F50A3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70F3-BFA4-4D3B-9556-B15B6ECA2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187F-45C4-48D6-94D6-EFA0E6485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3A9C-AC87-4FAA-8954-31A991C476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29C6-6F0F-4F88-9A89-6DD2D22141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E637-C7B6-413B-9F1B-5A6093E7A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DD8D-BB34-4321-AB9A-432602BB3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952-EEF9-4476-B839-A945621161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1481-BEEF-4D48-B72A-32198FEA2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7A6F-5F6D-449F-B3B6-A0E511F6F9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B402-6EE7-4456-91FF-C0A83A953B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CDC-1653-41BF-B144-B6508B2EA7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492B-B801-4BC7-B0B4-9E404C6552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B29-F7DE-4A94-9766-E51EADE330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56CD-4F3D-48D2-8844-D02E6C16D7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6A1-04D5-4EC8-A7BB-03427C544F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6BCE-DF05-4D52-9BA7-ED2125BBF4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22A7-BFBE-46E3-9290-8DD3043353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FD61-E4F5-4613-9C86-CA5E3BA51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4A75-C579-4466-808E-AD2744428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4073-A563-4109-9038-25BFB91721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0EEE-047D-4C80-8357-D851C759DF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4A1-507F-422E-A575-211031D31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231E-51F5-4B67-8C52-F81D3944F2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3D70-4BE4-45CF-B4FC-3836E0F6B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A962-0636-4C04-856B-53D978EBF0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8CC2-3865-4FE0-AD85-D401FE7E1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78E-A1E3-4C89-95CC-51E560DFE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ECE-77A6-4F90-AB1B-6BB93C75B3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FBB-2C59-4F0D-B94A-EE3D0218E4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DD98-7130-445D-B9F4-31E13BF3FF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6335-5E1A-49F2-A788-92C69481DB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2E44-357B-4DF5-8913-264AE5E51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B55-4466-4065-A4D3-E42460737E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E33D-B979-4F9F-8083-8B8A76D6F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88A-79A1-4536-B109-B87300EB3C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CF8-1D0C-4735-8255-764A5E9948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C97C-EA63-4B16-8BF3-38A4D53CB7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71DC-18AC-462D-8FDB-6D00B8BBF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819000" y="2976480"/>
            <a:ext cx="75060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2231" descr=""/>
          <p:cNvPicPr/>
          <p:nvPr/>
        </p:nvPicPr>
        <p:blipFill>
          <a:blip r:embed="rId1"/>
          <a:stretch/>
        </p:blipFill>
        <p:spPr>
          <a:xfrm>
            <a:off x="938160" y="1420920"/>
            <a:ext cx="7267680" cy="2152440"/>
          </a:xfrm>
          <a:prstGeom prst="rect">
            <a:avLst/>
          </a:prstGeom>
          <a:ln w="0">
            <a:noFill/>
          </a:ln>
        </p:spPr>
      </p:pic>
      <p:pic>
        <p:nvPicPr>
          <p:cNvPr id="979" name="图片 52232" descr=""/>
          <p:cNvPicPr/>
          <p:nvPr/>
        </p:nvPicPr>
        <p:blipFill>
          <a:blip r:embed="rId2"/>
          <a:stretch/>
        </p:blipFill>
        <p:spPr>
          <a:xfrm>
            <a:off x="700200" y="3849840"/>
            <a:ext cx="7743600" cy="2171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4140360" y="198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6877080" y="198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88952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66764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2050920" y="4365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4702320" y="436572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7451640" y="44226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0"/>
          <a:stretch/>
        </p:blipFill>
        <p:spPr>
          <a:xfrm>
            <a:off x="2138400" y="5084640"/>
            <a:ext cx="920880" cy="4478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1"/>
          <a:stretch/>
        </p:blipFill>
        <p:spPr>
          <a:xfrm>
            <a:off x="5076720" y="5013360"/>
            <a:ext cx="920880" cy="4474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2"/>
          <a:stretch/>
        </p:blipFill>
        <p:spPr>
          <a:xfrm>
            <a:off x="7870680" y="5013360"/>
            <a:ext cx="920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838080"/>
            <a:ext cx="8601120" cy="5181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19564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508720" y="358776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2195640" y="4221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96360" y="486900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564000" y="5516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7308720" y="5516640"/>
            <a:ext cx="72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47640" y="1228680"/>
            <a:ext cx="7848720" cy="4400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1835280" y="1916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148360" y="191628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1692360" y="2563920"/>
            <a:ext cx="7189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5364000" y="2565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2987640" y="378936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7"/>
          <a:stretch/>
        </p:blipFill>
        <p:spPr>
          <a:xfrm>
            <a:off x="7885080" y="380376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8"/>
          <a:stretch/>
        </p:blipFill>
        <p:spPr>
          <a:xfrm>
            <a:off x="1187280" y="443700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9"/>
          <a:stretch/>
        </p:blipFill>
        <p:spPr>
          <a:xfrm>
            <a:off x="5867280" y="4437000"/>
            <a:ext cx="172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1" descr=""/>
          <p:cNvPicPr/>
          <p:nvPr/>
        </p:nvPicPr>
        <p:blipFill>
          <a:blip r:embed="rId1"/>
          <a:stretch/>
        </p:blipFill>
        <p:spPr>
          <a:xfrm>
            <a:off x="304920" y="857160"/>
            <a:ext cx="8534160" cy="566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611280" y="2305080"/>
            <a:ext cx="288108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468360" y="293832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4932360" y="231948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4789440" y="295272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4716360" y="358776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611280" y="4824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9"/>
          <a:stretch/>
        </p:blipFill>
        <p:spPr>
          <a:xfrm>
            <a:off x="468360" y="5457960"/>
            <a:ext cx="324000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0"/>
          <a:stretch/>
        </p:blipFill>
        <p:spPr>
          <a:xfrm>
            <a:off x="395280" y="609300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8373" descr=""/>
          <p:cNvPicPr/>
          <p:nvPr/>
        </p:nvPicPr>
        <p:blipFill>
          <a:blip r:embed="rId1"/>
          <a:stretch/>
        </p:blipFill>
        <p:spPr>
          <a:xfrm>
            <a:off x="352440" y="853920"/>
            <a:ext cx="8439120" cy="57438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684360" y="154152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84360" y="22050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684360" y="2852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250920" y="485316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250920" y="5516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4572000" y="486720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4572000" y="553068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4572000" y="6178680"/>
            <a:ext cx="38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500040" y="2152800"/>
            <a:ext cx="8143920" cy="25524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39528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324000" y="422100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4572000" y="288144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4572000" y="357336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4500720" y="4221000"/>
            <a:ext cx="30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6324" descr=""/>
          <p:cNvPicPr/>
          <p:nvPr/>
        </p:nvPicPr>
        <p:blipFill>
          <a:blip r:embed="rId1"/>
          <a:stretch/>
        </p:blipFill>
        <p:spPr>
          <a:xfrm>
            <a:off x="281160" y="166680"/>
            <a:ext cx="8581680" cy="6524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154764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2714760" y="407664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1763640" y="53150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1187280" y="6180120"/>
            <a:ext cx="554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图片 55300" descr=""/>
          <p:cNvPicPr/>
          <p:nvPr/>
        </p:nvPicPr>
        <p:blipFill>
          <a:blip r:embed="rId1"/>
          <a:stretch/>
        </p:blipFill>
        <p:spPr>
          <a:xfrm>
            <a:off x="514440" y="1000080"/>
            <a:ext cx="8115120" cy="485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2"/>
          <a:stretch/>
        </p:blipFill>
        <p:spPr>
          <a:xfrm>
            <a:off x="2195640" y="208908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3"/>
          <a:stretch/>
        </p:blipFill>
        <p:spPr>
          <a:xfrm>
            <a:off x="1332000" y="3284640"/>
            <a:ext cx="72072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4"/>
          <a:stretch/>
        </p:blipFill>
        <p:spPr>
          <a:xfrm>
            <a:off x="2239920" y="4437000"/>
            <a:ext cx="72072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5"/>
          <a:stretch/>
        </p:blipFill>
        <p:spPr>
          <a:xfrm>
            <a:off x="971640" y="5315040"/>
            <a:ext cx="4824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54276" descr=""/>
          <p:cNvPicPr/>
          <p:nvPr/>
        </p:nvPicPr>
        <p:blipFill>
          <a:blip r:embed="rId1"/>
          <a:stretch/>
        </p:blipFill>
        <p:spPr>
          <a:xfrm>
            <a:off x="295200" y="826920"/>
            <a:ext cx="8553600" cy="5915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2"/>
          <a:stretch/>
        </p:blipFill>
        <p:spPr>
          <a:xfrm>
            <a:off x="826920" y="5603760"/>
            <a:ext cx="388944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539640" y="6308640"/>
            <a:ext cx="770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02:30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