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A9F-FF43-44BF-8136-C964FC7A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345-62E7-4A76-8E76-9C1F3B6A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79680-C0E3-4B01-8324-C5FE3062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ADB22-3691-416D-A10F-C0578BC0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BA2D9-9959-4C61-AA96-35B3D106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7391D-DCF6-4E06-A7A3-F9FE9E29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32E26-7F1D-4BE9-9C99-511384DB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C0C98-11A6-47E8-B58E-5641BBE9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0395E-95CA-4273-A6CD-292906C2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3530E-6657-4246-ABED-8CE53ADF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DC06F-B369-41F5-A1F4-2F57803F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A1984-6A72-496A-AFFE-3C56BBDC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78E-7B49-4E5B-951B-F7BD2188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148C8-594D-4682-B5A8-8C70CCC2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333D9-3545-4955-A6F2-669A6C9D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27DAE-A0FE-4D6B-B50C-F1B852D1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265F2-D5D7-460C-8F30-43B79658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C6B6C-A865-49DD-8D27-FA28E26C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73DC6-644D-4E4B-A2C2-2E3205D4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2EAA5-11D5-4675-85E2-FA13524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E9210-F643-436C-A427-92EA0B2A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23016-2609-414A-B375-CA6ACE2B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51D08-48B9-4BDF-B484-FD52DD69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8D2-7891-4A0E-A75C-56D21E91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561D2-98BA-4A41-84A5-808A5279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C1C0D-99A9-4477-9F98-6E50502D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EC3AB-C17C-4D2C-A063-A1D45CA1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CE404-AEC8-42AD-A584-914A454A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81485-BEA8-49F9-AA62-92F19494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9ADDE-D132-44F1-AB9D-06DCF8BA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52605-D298-4629-9E97-EF0B943A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0518E-230C-4BEC-9041-E5F5D8B8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8AAFA-F63D-4B8C-B09E-3826061B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2ACE8-1BF9-4708-AD52-21E784C8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BED1-A423-44E0-8915-D8BB53D4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23A6E-82A2-4843-A2FD-60B31831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406B7-1201-4CC6-B6B4-4B2B635D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E945B-305B-45BC-BCAC-22FE0A26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F7F1D-F1ED-49AE-9B09-D5780234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68107-2801-4232-AB70-BE0A982B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BC7D6-3B4E-466A-AAE1-6F974DD8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9AD4C-79EB-4F4E-B98A-04D61065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3A197-A80F-4AFA-B8D9-402072B2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5E63E-226C-43F5-BA40-4D36D0C5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5849A-94BE-4CB9-AC1D-3DFF2B80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31E5-08B1-41FB-B36C-250E5FFB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C9314-075D-44E7-8554-116A9AA9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4C1F4-D4F4-4BF0-8EE9-EA127486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BEFC5-A828-4806-96DC-7EA2C404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8D593-B153-458B-8EC3-DF2013DC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AA929-F757-49A0-9DFE-8B44A731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7023C-F7E7-470D-AC5C-68796D96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547C0-E470-43B4-84B7-010A4951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564C3-0CD2-48B1-AB9B-054CCDA5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DA2E3-9974-40F9-92E7-FAA82463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A853F-235E-4A18-98F9-92F92B1F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1296-4FEB-4C53-BDE6-B0E06C83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24E12-2F06-4B5B-A5D8-0F70106E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2DC75-07F1-4621-9B0C-255B36F3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3E27B-DC86-4460-B3BD-DD20C3C0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99A60-2E55-4CA3-8E4B-C710BFA9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65961-9460-4EB8-ACB8-3A2CD1F1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FFD12-E4F7-4AF7-A050-DA57FE8B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757CB-D342-46C7-B431-F16A4E42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7CB6B-2FE5-4C73-B2FF-2926B439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76151-1780-4649-8140-2F12D468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0D95F-77B6-4AF7-BD2C-64B1D714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19AC-9B04-4696-9AC7-83F7151B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546D9-29D8-46B7-AC52-78354C4F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9914E-4419-432F-9169-C183F18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8F1A0-D69E-4241-93A7-BBD93C53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721F0-7B24-41E1-9D4E-E07AD51A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6D68F-A81D-455F-9315-78E9D1CB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004BC-BE2E-45DD-8338-8B855AE6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0433C-AAF5-40E5-B88D-4160474E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7A40D-53EC-430B-AD6D-44AC90A8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49247B-7F45-42BF-9408-56A57D39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3B6B6-50A8-4D17-8CFA-041385FD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EB7E-1CF7-49B4-A772-633675DE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CC98F-1416-4093-B1C4-850B724D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D7982-A6D1-4FB7-9E2D-7E6B9AC7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149C5E-6268-4FDF-B4E7-26826852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A6327-9293-4C78-ACCB-3C5A9B97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610A6-05B5-4E6F-83F2-E69EEBCA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7FC5E-CFC4-4A51-904A-EAA358C5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AEF16-2E6C-4321-A026-78AFC981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E81BD-19F6-41BB-BD7E-B71A40E5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CC4220-1E68-4978-9094-4B08AA22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61BD47-CC07-49F8-8936-3273EDAB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975D-CE0E-4425-94D2-FF1BE8EB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A89C9-6459-454C-818A-8C2C8DBB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5D1342-8FA5-46FA-9822-95C29381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DB4D3-4D64-4DA8-9E7B-81CF9210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77706F-6D9F-4D33-B3EA-64D9A022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2735E-9EE2-437F-9127-21696A6A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D51C1-92A7-4B2C-81EA-82D7BB57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2A5BE-0ED2-4D20-AB85-D2F24CEF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89D12-3F3C-4405-A3D6-7A52624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80261-3D65-4039-A79C-91BB315A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1BB89D-C7E6-4E64-93AB-9AAB390C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666E-247C-4A26-9824-B819A92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B3B60-B190-4345-8E70-82B003E5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94BA0-7474-4ECB-9F00-3F05A366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E3A6B-3B74-436A-B6A9-49AE1B92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36825-9EB8-491B-9FD2-5A672FA0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990BA0-D2BA-4F51-BAEC-5B03F91A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5DD0B-52FF-4D76-8D09-E742619A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2938D-AEFB-4DD5-9398-EFB8677B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0F431D-66CC-4E86-8F09-36CFBC5F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BC7A3-BB49-4ADC-9018-05BB99E2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5BD34-EF06-40D9-9EF6-E17AACB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83D-0C73-40F5-9466-45073B9E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DF7F-5EA5-47C6-AA25-65DD055F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CAFF6-AE9A-46A1-8D04-6755A498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383C4-1708-4AB6-915F-9FCDC977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CD652-B675-4DFC-9317-17443B49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EA705-DAD1-4207-8BEB-DCB5DBB8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30416-9D33-4DEB-8607-A3BE5FCA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45EE13-450B-4881-BDC7-1071841A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371BA-55CD-4354-B94D-3AC6DC49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18396-60CB-430D-AA1D-F8BBEA3B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AEC5E4-5A5D-4CFE-A1E3-E351EECA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CC9A8-C11E-4017-8D94-FFF145FB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3BF9-B4F4-4B76-9E01-518C2D2B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49A3C-C362-48E5-9360-F46376F1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1762B-ABD1-411E-B8D3-A0859734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CE0A6-8A8C-4C23-805B-757FA25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D83A40-D8D1-48F0-92E0-AC53FF03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26C9E-00AB-4A46-B0D6-A63DDA08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405DEA-6DAB-4E88-9AF5-1E019373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04755B-7201-41FB-B6BF-17C11413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B1823A-ABE8-45F3-825C-A6BAEF3A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5D4EB-7144-4C96-BBB1-21928E6B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4CF64-1529-41A9-8453-1FD75E89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1656-DD02-4F0F-9EEF-A2CBE221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322741-98FE-4303-8633-E243B526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0AF04A-C5E5-437C-A77C-7C60ABF9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867594-BE2B-4669-9820-0A344F40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63B562-DF29-468A-B9D5-37FEBF4A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AD3A3F-E02F-4D0A-BCB9-1D25EDA3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35EBA-C786-48CF-9437-EECBEB82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A6F42-9261-42F5-B26D-67191ABC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34F111-4645-4FE2-A40C-4FC79CAF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264033-0AE0-422F-9B9A-A40F4A4E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0DFAE-5355-4DC2-B36B-2D9EC52C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825B-7A79-4CD5-AB49-5A3FE941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41DC9-FA19-4481-A7A9-56F7CCDD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9DB17-FAEC-4E1B-98A9-7DDA698A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883FB-8926-495C-B52A-0DBC920E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B9DD6-42F4-40A9-AF5A-8190C88D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B2914-47B0-4013-A39D-E1725733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C50FB-B155-4562-8DCE-3AF7E1DC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9473F-3FEE-4AAD-BD0A-0CC7A52E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B88124-821E-4680-9E71-0E0220DD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4634F7-62EC-426B-9461-489E365B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3BDBB-2022-4D55-AE0A-688BFF93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2D29-AEBE-4DF2-8C6A-3AA0575E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112E9-8667-4973-8BD6-F5EA099E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1B47D-1661-41B3-899D-CA884D6F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F3A11-6B5B-4E39-8480-65CA7B98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C8DFE-3A4F-4638-A2C4-199B75F7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9E29E5-2CE7-4FBC-9B75-FB96EC4D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6D6D2-F4F9-4628-9BCD-C9A4C138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29923D-D29F-4874-A251-5C262DBD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465C1-0569-4827-8766-B293198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B46984-73C4-49E8-A6DC-73159E2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EC921-83BB-4E70-8447-6BE39359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D9900-915B-4A02-845F-F34EBEB9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B131A-ABFB-4B0B-A756-23216C64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773918-92D6-426B-AF32-4F192D21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C116B7-1911-456E-9C4A-A44D3BF3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CEB0-D30C-4940-93A5-8B2828E9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6FE6-68A1-402A-AE49-28E02516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518B-C3BC-4CB1-B822-DD7FA75A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7C8B4-710B-4CA9-A7DD-2BC29392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A57-0410-4CB4-9009-4DA64888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71F5-0DBE-46AC-A2F4-18D7FBB9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657D-C57A-4034-BE93-311AC2E4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FDE1-C55B-4F56-B41E-5DE51F01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4923-6061-4D2B-90BE-9DAAEA00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15D8-32BE-4914-A032-3C1A8A6C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8D173-6FEE-481A-AEC1-7DD67748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7FC6-474D-4293-B0BF-88D8284E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D25EB-8AF6-4401-BCF7-68329DC8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C3288-3347-40B6-9F8C-F39DF7DA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6024-FB18-4E6D-A95A-DD49149E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E75-E90D-4159-BEEF-467B073B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D60A-871C-4003-B263-C74CF7D2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33F3E-BC9E-4C24-B77E-72352E4A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3649-05D9-4A06-A56C-5971E223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ADE6A-39C5-437A-A323-FF56ACB8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9CBD-4596-40FB-9719-CEFD1024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D2090-FD4E-48C5-B28E-0A683C9A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14D53-D206-403A-900A-7CD7D308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A690-DDDA-4876-860A-E24CADAD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2110-9B97-40B8-8FD8-FB200681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196F9-15D3-4F43-A8E3-FBAFC585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3FF-DC4C-4D46-9FEF-DA924542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B32E-1FFD-408B-AF56-610F7BA6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1C4B6-424E-4BA0-9418-767CF596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CB6BA-0788-4ABC-B425-EEF6EAD2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7830A-1D77-4341-A281-AF566DF4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49A1F-6272-4649-9287-D82AC957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DCB7-F56F-4D44-9CEF-B4FA7060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A277-2866-4192-8EEE-0053B317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9171-3A61-4803-9EF5-A53CC45F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65913-4EDC-4A3C-A026-A97EAC29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2FEDD-5E35-49E3-B5AC-84D6F6B3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965-D9BE-4BB0-850E-E44B8E61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034B3-4B42-4E51-93AA-CB623871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CFDF6-25A8-436C-B81B-A9AFF35A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80EDC-EC2B-42A3-B03D-DB1EADB0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F3738-4659-46A6-BDD4-D521D661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69AE6-481E-4ACF-BC56-81CA60B4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4046E-984F-4D5E-85C0-602FDBCB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A55F6-72CD-41AD-BC82-EDD8D269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A0043-3C2D-4762-A6C6-4800F07A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8532E-75FE-4D6D-BDD8-879D390C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B35B-5B15-4DE7-A708-4C7A1B3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C0E-DAB6-42AF-B3BB-33BF7577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F739B-984C-4BA6-BD10-07AF4AE7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13CE6-4BBD-4635-A3A5-A9A69F1B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6D181-468E-4694-AD4C-DF6728C6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071C1-F340-4097-8F89-F81E799C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62EA6-BBA3-4744-9E1B-8CE27DF6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78979-6716-462E-85D6-29524909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BF03D-D3DE-4916-AE01-EC1C924D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7882B-B5A8-4285-A9A1-DD95A52D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6F35F-628B-4A85-8C53-DB7404E5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41ABA-31D4-4C57-B78C-72C90071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1CF-DB69-47E9-AA15-3EF7A22D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CEF06-2CC5-4C5B-904F-1A31C48E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45A4A-821A-4AF3-A577-AEEBD573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FD93E-442E-4F1B-B1FB-947CC357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EEEA1-9158-4382-9A22-52E9D71C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61A8B-1EF4-4960-8EC8-329D234E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2E880-8D98-4E0B-BA37-135BDF5D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B1368-4826-4D22-8FA4-07885122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96E03-BDE3-47DE-B8D5-3D4B5E07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06C73-8FD4-45D0-BA98-EF130C52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3721-8368-4043-9C93-AAAE756D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E2B-AB3C-4719-A1DB-245471D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E8321-8DCF-4A78-BF7C-BF2A5FB6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2E718-9DE4-48BB-8AEA-F1B200EA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4312A-ECE9-42E9-AC0D-4AA2B877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5A89E-5D40-4D16-967D-EE67F8F0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02C0A-2EB0-4DBA-901F-63F80BCD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C683F-C9D7-44D1-81B8-17830C20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1DDE3-A619-4FA0-9FAA-7CE22A55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91FA5-8677-43BC-8553-C9C425ED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DF98B-1669-4FE4-B710-79A80D1F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8A23D-1CAF-4993-895B-97A0946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E24D-03AA-41C2-8D6B-4B3F2E074B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D128-5980-4834-AD53-BBA8F13750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A4B0-CFAA-47F8-87DB-5627A9695B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8FD0-4607-4086-9DDF-D72B30EDEF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3CD8-FC26-429B-B4D7-F909E46ED4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E3B5-7CFA-457F-BE4A-F244E25340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C609-DE1E-42CD-8F4C-1957D5283B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1693-DA4A-469B-B021-3CC7238B0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3AF7-2680-40AD-A5A6-62911AC178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5564-7B0D-4086-8EE6-2EAE60B424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6BEB-9D02-44D6-9FEC-0D2ECE4C4B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5FF0-9C69-4C97-A188-5E39BF99AA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82FA-4EC9-49ED-8FE4-377C93E371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0A7F-D29C-42E3-9CDA-83D43567A0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DE84-26CA-4BD8-BE23-984A8DF49C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4DB3-3B82-47B8-BCC8-77470AC0B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DF1C-F508-46C9-A22D-729303F03D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158E-88B6-4E60-A85D-32FE8409D8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6327-63E2-4E33-A2B3-4577FB861C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486C-2131-4751-9973-399F369560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607B-786F-4C7D-A004-9C9D5FD9AF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5765-6F60-4DF1-B6CE-166AD8EDE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0359-74FB-4B6A-A2E9-5A39A3CAF1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13E3-3B28-431B-9E88-824F6010C5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1982-5B35-48A0-AAA7-BB8FC82FE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7435-20BD-4FFE-9CF4-5C9B91FC92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5FB5-DF39-4DC4-8CCC-B6FD7F2675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ACD3-81FA-4C55-B349-77F659C293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392D-EDA0-40AE-92CF-D89011C1FC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9A0E-B8B9-4A01-8E30-F992671AD1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C8A5-75DA-4F37-B120-0F490564D5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06A4-5D76-489D-A0D4-66CCFEB983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3062-C781-4B2B-BAEE-42464E9024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D192-20F7-49F1-8918-E31B17C2F3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D555-2BBD-4B87-874F-E997F99FFC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D7BC-D5ED-4C26-9E41-961411486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5526-4C89-4A6A-A5A8-1F5B8DAC16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27F4-3CBB-4D40-8B63-7B2C698FA8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2C6B-9533-4986-BFDA-FEB98FAB8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9479-2E12-4C27-89BD-4FF008C270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66920" y="2948040"/>
            <a:ext cx="46101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9633" descr=""/>
          <p:cNvPicPr/>
          <p:nvPr/>
        </p:nvPicPr>
        <p:blipFill>
          <a:blip r:embed="rId1"/>
          <a:stretch/>
        </p:blipFill>
        <p:spPr>
          <a:xfrm>
            <a:off x="237960" y="534960"/>
            <a:ext cx="8668080" cy="6134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755640" y="3760920"/>
            <a:ext cx="813744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611280" y="437976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1006560" y="504180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861840" y="5661000"/>
            <a:ext cx="8137800" cy="493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755640" y="6194520"/>
            <a:ext cx="8137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43080" y="1044720"/>
            <a:ext cx="8458200" cy="5553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116000" y="4551480"/>
            <a:ext cx="3672000" cy="9651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042920" y="5661000"/>
            <a:ext cx="3672000" cy="9651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292720" y="4581360"/>
            <a:ext cx="3672000" cy="965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472000" y="5603760"/>
            <a:ext cx="36720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743040" y="1652760"/>
            <a:ext cx="7657920" cy="3552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3384720" cy="1009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3384720" cy="10098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4788000" y="2852640"/>
            <a:ext cx="3816360" cy="10098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4859280" y="4005360"/>
            <a:ext cx="38163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371520" y="219240"/>
            <a:ext cx="8400960" cy="6419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1258920" y="3255840"/>
            <a:ext cx="720072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720108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1187280" y="4695840"/>
            <a:ext cx="720108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1116000" y="544500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971640" y="6165720"/>
            <a:ext cx="720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581040" y="971640"/>
            <a:ext cx="7981920" cy="4914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971640" y="387504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900000" y="459576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755640" y="5373720"/>
            <a:ext cx="698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6324" descr=""/>
          <p:cNvPicPr/>
          <p:nvPr/>
        </p:nvPicPr>
        <p:blipFill>
          <a:blip r:embed="rId1"/>
          <a:stretch/>
        </p:blipFill>
        <p:spPr>
          <a:xfrm>
            <a:off x="290520" y="914400"/>
            <a:ext cx="8562960" cy="50292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684360" y="2938320"/>
            <a:ext cx="70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70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684360" y="4162320"/>
            <a:ext cx="70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70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755640" y="5373720"/>
            <a:ext cx="705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299880" y="1557360"/>
            <a:ext cx="8544240" cy="3743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403280" y="3543480"/>
            <a:ext cx="691380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691344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476360" y="4738680"/>
            <a:ext cx="6913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819000" y="1933560"/>
            <a:ext cx="7506000" cy="29908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648180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00000" y="315612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898560" y="3774960"/>
            <a:ext cx="648180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755640" y="4365720"/>
            <a:ext cx="6481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2231" descr=""/>
          <p:cNvPicPr/>
          <p:nvPr/>
        </p:nvPicPr>
        <p:blipFill>
          <a:blip r:embed="rId1"/>
          <a:stretch/>
        </p:blipFill>
        <p:spPr>
          <a:xfrm>
            <a:off x="1042920" y="1866960"/>
            <a:ext cx="7058160" cy="31240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332000" y="2521080"/>
            <a:ext cx="66247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1258920" y="3156120"/>
            <a:ext cx="662472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1405080" y="3745080"/>
            <a:ext cx="662436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1332000" y="4379760"/>
            <a:ext cx="66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1:3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