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CEE-D60A-4C8F-93C4-EE40E408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C2B-84EC-4C38-9222-74A4E490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35E6D-4967-4A59-8BBE-DAF3961C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F1F9F-ECE2-49CC-B448-56BF1FBE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EA55E-90C3-4E1C-87D0-A2DE2902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D5752-0DB0-4F77-BA1E-4FC1C1E7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C8220-B6B0-4CC3-AB91-2BA3748E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48364-5803-4C9D-A50C-0F78F892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E4329-4C5E-450A-B9FB-35B39A9B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CF288-7B32-419C-906F-EA0AF408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C2B6E-AAD6-495C-9CEF-B8F00990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3D6E6-1CE7-4A0B-933D-FA64319F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748-E2E8-49FC-B45D-63EE609A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919D4-11A9-4C57-B371-73BF84B4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BE8FC-21DD-411D-BF30-7E9070FA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47428-47D5-4B74-8545-12AD7DCE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0192D-9AA1-4056-89FB-A24A0C70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EF496-4B59-47C7-AACE-E3DA671F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5A66A-045A-4A3E-9C38-483871E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A5C6F-CC76-4056-AF72-C84CDCC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3BF67-484F-466D-B938-3ABCEF71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DE707-7A9A-4C18-A4E8-3440BCA8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DB85F-E040-4560-882D-2B269937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DD5-7034-42CB-8153-4BAB2001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BBDFA-AF7A-4C44-BA52-7AD1A38F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B3DC7-9C32-40E1-B95F-5E0790C2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C3C6B-C675-425E-948F-6B2973B0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2D14D-AF83-4934-AAE7-16C3532A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4CF38-0727-436F-B6C2-22BACE1A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11CEA-6445-4E02-9841-1ED72EF5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88C54-D199-4D02-BA3C-4B336212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6EEC6-B9EB-4663-B139-3391FAA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FB6B5-2E69-4077-A85D-F3861C6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02A42-9AC6-48CD-B11F-C08638C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5727-0683-4F65-9F6E-56B05B27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93FAF-FA9A-4431-A46C-79EFBFA3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D9509-B153-4DA0-BCA1-3F5D309A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E69CE-438E-4B07-871E-38A252AE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062C8-9EBA-4114-BDB2-F4A36C98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7B263-B7E9-42FE-97B1-DC145633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5937D-4579-4EE5-B842-0744DDBC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88510-0956-439A-BDE8-11472786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DF2DC-714F-4836-9C0E-D0B5E673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276E7-CE5E-44DC-AE62-8D21A567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0C188-20EF-45C0-8339-EBACF74A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7932-BC1C-42A7-92B6-26E8F8E6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4DE10-EC9C-4F91-8436-397A1526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0BDAA-70D3-4C4C-AD0C-201B55A2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5E1D2-ED18-47B4-99AC-590412F7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A60B9-D8EE-45FD-A945-CB5A7061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045A3-C4EF-425C-81E6-64702EB0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605B4-14E8-4ACC-A598-78835A99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002ED-D1D0-46E7-9FF5-A86A8B1E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695E7-20B6-4C0B-AF68-58660542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6F3A8-4EB3-4648-BE1D-C7A8C9B6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31913-9730-4082-9FBA-2FA2DB95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38D3-1363-454C-A66B-9A0FD584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D3067-692C-4B66-96F4-5EAADB32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BEBD9-AF11-48FE-B6B0-681C97B8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A7481-CF38-420A-984B-BA7CC26B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00063-42AD-4F35-AF79-9595ACFE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7964E-C919-4F5F-9465-6CA5C64F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9710F-9E7E-4CF9-BB44-2FBAB479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E0C89-AC0A-43CB-8853-5CADC2E7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48633-EA99-4CBC-ABAE-57A537B4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9FE67-EA88-4CE7-95B6-A839BEE7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7210A-E818-470D-B31B-36CDC126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B281-99B4-4298-A14E-E04B884F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CFDAA-19A1-4580-A458-88053091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2F2B6-7817-4B08-A173-6882C45B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5E111-E047-4473-805C-7B9B2896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7C32A-5ACB-4C7F-B3BF-A8858D49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D55BB-DA20-4737-8813-1F98DAD9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EA516-0784-4D0F-AC44-48AA0C2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A14E8-4B8F-4CE0-9839-DBA24D52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0E889-A363-470F-A14E-1534C3A5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05B49-BAA8-4512-A141-A0E9BC64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A6C57-8935-490C-8352-7326BBEE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F7AB-C360-40B5-90AF-23392D06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8AF49-6631-44DB-9DD9-C167459F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30C63-D8D7-4AAB-928C-847557E6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EB672-C5ED-4532-8E8E-ECA1B75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63818-532D-4D75-87C8-10B4E0E2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F744A-16C6-4545-B227-6BEEA04F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FFFCA-C43C-4D7F-9061-B7C5D3A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10F41-A562-4C24-B0EF-6E30B3BC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0293E-E0AD-4538-B5CC-3FA992BC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154A4-8EB7-40FF-937D-066929A7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0C58C-1BC4-4902-BA10-DD0F1721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880F-3AFE-47DB-B6B6-7A23D1E1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EE9B2-30C1-4716-A6EC-5F990146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C2E40-0D36-463E-BAA8-F8E968DE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5DDB0-C0DC-4B00-89AB-6830305D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D7987-F7FB-4170-9386-2CCF1DE1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320F8-90B4-4335-A484-641AAFF9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6C0FF-9ACB-417F-AA50-69ECE710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A4F4C-C78D-4BCE-B7F8-2DF6795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EB241-70DE-4BD3-805B-30D5B1F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FC458B-1FE1-4DEF-B5D2-5B803AB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8BBC3-5A37-4E6D-A733-256C9BA0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143D-74CB-4939-A36E-AF28F320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C3E47-B0C1-442D-963F-DCA9F066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E9296-D649-42B3-8FB3-EBA0CC52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8CA7C-746F-43F8-996A-0835CB11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42155-67B2-4AA0-9E8C-E39D45F5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ECFB0-4581-4A87-9193-D5B20F43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FED94-FBF0-4D36-893C-87091009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D9703-FC9F-4471-A1AB-5BB1718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93311-F8D6-406D-8859-8DCF8C4B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2ECAA-1FB9-41C8-88CF-AAD6C282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3C47C-758C-48B5-9129-6FDDE15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E21-F8CE-4E68-88E1-DBF290D5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24B8-DC44-47ED-9AAC-C588DC1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50DDE-E874-4C92-BEE3-CC0F5490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6763AC-39A0-42E5-BCAE-DB9CD4D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02189-17A4-4E95-8602-C9C9E3EE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11E9F-0E90-4330-8EAE-A9170483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3B55F-609D-46B7-B7C6-012FAEC4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61DF9D-3F5F-4F8C-93A7-DAEDFE29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F4C41-7D4F-44D2-98FD-05DC40C2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9FC57-7A39-4797-AC6E-3C439B7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FCDA0-62C5-4337-AAB3-776466AB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B9544-E996-4BCF-875C-E6505CA8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776E-430E-4417-BC48-0C33077C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4B98D-B089-4329-A347-4AF6EED5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DE31A-3A6F-4349-9D55-5F6C824B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8D2D9-1A25-49D7-8BC9-7ED06CD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D3C22-DCF6-45AB-B0CC-146EEB10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31BA64-9C3B-4178-BA08-5023044C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52377-AA82-449E-936D-564989A8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15B79-7118-4597-AEFC-06DD051B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4015A-85AB-49EA-98C4-E93ABA7E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7A82D-7AB0-42B1-B213-E59212A7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E8DCF-126E-4E92-84F1-EC26DA3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965B-B7C1-4DA5-B4BB-E64F8BF7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7B7F2-AF74-46B8-B145-C251C5E3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D4EA1-9502-4EC8-8588-FBACE18A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5C7260-D94A-4EEB-9737-280625B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FB66A-3096-4A70-956C-C8B634B1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32251-E5F9-4695-A172-46FB56F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16631-EE50-40E8-8681-BD0A53D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7109C-86B6-4B66-A4DD-D1FA290A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2A25CD-F4C6-42B7-82C3-5DB05101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9818C-D9BF-4574-9F62-63FC3EFF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85744-AD3F-4E54-BE4A-C6B64222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0151-E598-424F-965C-B6A9EA81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2550A-202A-4DC5-8E79-38AE04B6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78EF7-6A04-4F74-A3BA-84E2B068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69942-F83C-4764-A81C-8551251B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22BF98-DDC5-4E0E-AD5C-D21CA54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85734-FAB4-44A7-82D6-7B91ADD3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5204C-6D58-4FAD-A7EE-7F19FBC6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0478A2-E3E8-433C-8827-6F2CF8F5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43B775-2E3B-437C-8B3E-8730B80B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C2864-D6DA-437C-BAC3-C721D468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259260-6DE2-4372-896F-4654A0DA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F937-1043-4D88-A38B-063696BC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4FCC2-9D90-4B88-9904-CD4C47FB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2AC93-08B4-4052-96D1-53A28B95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3E852-4CDD-4014-AFF0-EC6F49F5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1054D-304A-49B4-9862-22F3D8E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D2521-421F-40A3-9E5A-720EBDE5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34F06-6432-4909-A74D-ED528AB6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0F4D79-E6DC-4CE5-BF98-2F5EA7D0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E68469-0D85-421A-A850-BA9DFF52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A8A1C2-49DE-4814-A071-5A1A2C7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A64813-130C-4FC6-9CD2-5BF72E14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C3FA-3455-43B3-A6F0-9BB85F5A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338852-52B2-4766-BF35-3873D7BF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1050C-0D7B-440C-96F1-F6B1A9D5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70A284-1547-495F-80ED-A55F6FA0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EE8A-E706-4D11-8755-90EB7A5B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58D19-5E33-4600-B2F5-2F8F2C1C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1D14-7E88-4A9C-8BB6-306C0952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B2B7E-E654-4E26-BE41-0FA9C4D8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86F-7C7E-4D8F-BCF6-AE07FF3D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C7BFA-108C-4A2C-A32C-245B4C22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BB0B-EFF5-4EBE-9FC7-C59A76A9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3D82-621F-4858-BEFD-518B6E7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EEE7-05F6-4369-A248-E63DC19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52C5-58ED-491A-8E36-8B54553D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C8BC-4342-4AF6-9A33-B4832036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0A6A-B6E1-4D76-B4FC-DD679C45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B614-EDE2-4DE7-96D2-9D3E3D25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6E97-EA8D-49CE-B235-94045BAB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094BA-E17A-440C-9B4D-CB922BEC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EF6-7C7D-4510-8525-00CC79E1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8D55-5226-4E2D-9891-CD3CB280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05CED-46CB-4AC1-A3E3-9307817A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DE87-8FDB-47F9-9D70-60D9DB51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DF563-BEBE-4A34-A60A-79BCBC77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31491-9D44-4D7C-9DD3-CF948A4C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D56D-C35F-447E-80B2-1CB32045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E1F9-1ACF-443C-A421-7EC9E5CA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99C0-8659-4784-9E31-1554E356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EF6D-2BA2-4DE2-AE68-4EB53F41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56542-C655-4E75-820F-D9A0F527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86F-D338-4994-81E5-713C5DE4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07FD7-8F02-40DA-AEE0-C03193B2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C8126-DE99-43E1-BC71-E45276EB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CC882-1132-4E24-BA52-4BF84E2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94E9-B366-405B-B647-9E13A115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02BD5-6DED-40C0-9B0E-B3E3B72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1362-A8AF-4069-A348-8CA4543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9548E-4BA2-4D9F-BA33-E568EA9A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8A3D-429A-46C9-91D1-AA00C68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60F2-F229-4D92-8484-2E54E12F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44463-38F7-4644-AFA7-FC66D38B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490-9AD2-44DC-A4A9-6B35BA5C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D4FFE-1067-495B-BE50-599297E6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C7D7D-6238-4D48-B091-BFA04B2C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F255C-32CD-4452-A788-09EBCEB6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89E4-7F4E-42E1-983B-787FCBB4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9D4A0-C92F-4717-905A-9E099914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AE69-132F-4C23-926A-75457248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7F576-3724-48F2-8462-5843E1F7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0604B-3175-48D7-AD2A-46BC8F8C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60DE9-BAAB-4DB3-A9B5-3756D52C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2CF90-C329-4587-8324-8FD0381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4AC-D79D-4DB3-9F5C-C9D4B5AF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D85A-3A4D-402F-BF19-36D80DB6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A4A38-AD4E-4EB3-86D5-ABC6D4BA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1157F-2BC2-439E-9610-BC87FC5E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5BF1B-6F6A-43B8-BAEA-637A8A12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73E7F-2417-4024-9E90-921E5285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253BC-BB00-4AAA-9A72-C00094A3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98FA1-48B1-4DD0-AD16-F4284B98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21E13-8798-467E-B67D-D7161A49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D2619-5E99-482E-8596-4B6D3DAA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9E89-B401-4B63-8EF5-8C96BA31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7EA-76CA-404A-87ED-0C004BF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272A3-A035-4DCE-BF8B-7BC5E18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452E5-4269-4A63-8D5D-077D2FB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A24B9-53F5-49D4-8F0A-2CE34D7C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992C8-E755-4301-8AB0-7631186D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5045F-8E2A-4FBD-8770-03EB2B6A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60001-96B5-457A-A672-DBB78359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23161-CE69-4EEE-A2A5-798CDE37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B35C-39E2-4F70-A857-C79601EB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EB650-CA7D-48A8-9427-8F2DEEA2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14EE3-2227-40AC-99CA-EF1C8AF1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A1E-BF48-41CF-8136-69368FF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3320F-F967-43DB-BBEA-3FD2DD7E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44A39-9987-4397-B106-DEC5ACF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ACCF-5EE9-43E6-9E51-0DE4165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DFF3F-6BEF-4677-AC8F-F0850613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3A2F4-E153-4BD6-ABE1-7E9A120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02120-868A-4C10-94DA-0088D9ED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BF5FB-48FF-4A6E-B6CE-0312BAE5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7E7D6-5477-4F52-9D37-39650BE7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8A1AF-190C-4EFE-B991-9EC15661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14931-3F51-4878-AF3E-FE8D9CA1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F996-371F-4A4E-9EDD-7DF36FEBED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3C12-D438-4524-836B-5BDC373E8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5343-F7E4-48AE-9A3F-1BD850AAF7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308-7A05-472F-9213-E95597126A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5D43-4F99-4302-B478-77D5743AF5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564C-05B1-471F-A968-82A80D1FB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E6C7-AD56-4CE3-9EC2-C17D217CD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1732-FDA2-43B4-BE5A-328A8398A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24E-A5FF-44DB-AAEE-8B5DE10AEA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6988-3632-424D-9150-1659E91EB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8234-5B4D-4781-A903-51B3D5917A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CF39-BB9F-48DD-B84D-B38036AC26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078E-2F6F-4CA6-8F5F-325605431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A4C3-59F2-421B-BD25-3B561CE2A6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39ED-FFE9-40F5-A322-F6A31EA767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F7A6-E175-4BAB-AAC5-5038ADB84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D4DE-EC5F-4F36-9EA1-ADE58B1A97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0997-4510-4580-B34B-768EEA46F0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E161-76DF-4FF3-BAD3-F4FB6C536B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CEC3-E5E5-46F9-849C-A16DE43F3C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ED14-B256-4925-BAF3-BCADE3A552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6F47-AEB0-4D40-9A41-511E8619B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3CC5-0781-4D7E-9F8E-3D8954F48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D4FA-0AF2-4CC8-B5D6-E64DC532C3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B50A-CA35-47CF-B366-B3AFA8B832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6AAC-C522-471C-8EC2-067570978C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BEDF-5223-4535-80D7-E23128E432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5CC4-DE21-449B-94F2-1EA7287CD7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9ABF-602E-4A97-BDC8-38FC99692D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FE87-FB61-4508-9E4F-27FF7523FB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C1EC-B63E-440E-96C1-7A7404F58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ACC7-892A-44BC-9B95-284C25842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BFD0-FBEA-4C40-8563-F994BEE17E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ACD4-5CC0-45A2-8D58-1A742DDD09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E738-A0F8-45EC-818A-829D3763EB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10A8-AA39-4758-B942-E5C8537FD5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987D-C6E8-4356-88E9-3CF0A0C4E2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59E3-8EF6-4BB5-AE23-4952A9D643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2325-FA0D-457F-94C4-A8480DFF3E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8903-A27D-4E7D-99D5-81972675C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00400" y="3019320"/>
            <a:ext cx="45432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9633" descr=""/>
          <p:cNvPicPr/>
          <p:nvPr/>
        </p:nvPicPr>
        <p:blipFill>
          <a:blip r:embed="rId1"/>
          <a:stretch/>
        </p:blipFill>
        <p:spPr>
          <a:xfrm>
            <a:off x="255600" y="4103640"/>
            <a:ext cx="8637480" cy="119700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69634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6639120" cy="2085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3981600" y="1989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6732720" y="20178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3995640" y="27226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6934320" y="27241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1835280" y="417816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788000" y="414972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8107200" y="414972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1979640" y="479736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4788000" y="479736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8121600" y="4797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1090440"/>
            <a:ext cx="8562960" cy="4677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042920" y="377496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042920" y="437976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35640" y="378936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378400" y="4394160"/>
            <a:ext cx="29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380880" y="657360"/>
            <a:ext cx="8382240" cy="554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258920" y="2162160"/>
            <a:ext cx="244944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5580000" y="214776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508720" y="272268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7105680" y="4567320"/>
            <a:ext cx="5047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5292720" y="501336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6516720" y="5516640"/>
            <a:ext cx="14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47527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1158840" y="1773360"/>
            <a:ext cx="2751120" cy="1008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5450040" y="1816200"/>
            <a:ext cx="2751120" cy="1008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5724360" y="411948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1332000" y="4581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2843280" y="46101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4932360" y="5056200"/>
            <a:ext cx="14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299880" y="942840"/>
            <a:ext cx="8544240" cy="4972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7667640" y="23353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7667640" y="35146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7596360" y="41482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7596360" y="534348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752400" y="1619280"/>
            <a:ext cx="7639200" cy="361944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6325" descr=""/>
          <p:cNvPicPr/>
          <p:nvPr/>
        </p:nvPicPr>
        <p:blipFill>
          <a:blip r:embed="rId2"/>
          <a:stretch/>
        </p:blipFill>
        <p:spPr>
          <a:xfrm>
            <a:off x="1147680" y="2343240"/>
            <a:ext cx="7020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961920" y="762120"/>
            <a:ext cx="7220160" cy="53337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543564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012000" y="538812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357120" y="947880"/>
            <a:ext cx="8429760" cy="49622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5897520" y="2565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5435640" y="521496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295200" y="942840"/>
            <a:ext cx="8553600" cy="4972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7488360" cy="792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900000" y="4076640"/>
            <a:ext cx="4464000" cy="1368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5580000" y="4149720"/>
            <a:ext cx="331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4:5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