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1B28-BA2D-49F6-BA18-937FC53E9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2CF3-65FB-40F0-85FE-1BBE6A91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62B58-21FE-4847-A02C-96059796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2E984-0DFF-45F8-8A95-A0ED1783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55434-A882-4F02-B7A7-4A869213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01DCB-3527-4D02-B1C3-AC239A36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C34D8-1DBA-48B5-9194-0856E491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BADEE-75FC-419F-820A-5020D0B9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B5F33-D90D-4D06-963C-6707155B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58BBB-2D63-4BB8-9C35-54C67EC8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36808-1F4C-4C1F-8BB1-F21625E5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38290-2034-4FF9-8334-DCA2563B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50E5-FC61-4741-98D2-C219AD18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CF560-9D58-4BA8-B1CD-74289D6C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0571C-442C-45F0-BB45-E9F03E3A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E9B22-D106-49B1-B908-0900621A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A2F5B-4BC3-42B3-BB09-3621937D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92DA9-FD3F-4019-9729-4EA17DEB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41CEC-AC30-4ADC-AB2F-8843269E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A9F53-1D69-40EE-9185-9AF7642B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DC921-16C7-4560-AE67-69BB7B1A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3AE92-9620-4FA1-80B5-5A841EB3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D5AD8-9299-4F43-8284-463FCA61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95A2-EA8D-4FF6-85C4-ACEAAA2E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16EE7-3181-4226-82F9-F1BA5DA6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1EF35-E7F7-4D0C-954F-A6683039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B9254-BFBE-46E3-B159-472E74E0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23FA4-4D9E-49DF-A4AB-838AAB8F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D4C90-45CA-4995-BCA1-C6A54C17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DE5EA-CB92-4805-A320-D44DB28E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C76AE-1603-477B-BB08-417B1577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9D5F8-EA15-4105-A335-976A20BF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E7716-1D29-41E8-8B12-D9E0ED0C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69F10-83F1-475D-8A2D-8A7B1F56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417C-B6D9-49C2-A480-8F0E58BA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56B65-6F6B-423F-AA80-D0DCB9A2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98E0E-9CC0-49C6-ACFC-DCB8608A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8AA24-6802-469D-B653-9A47FC38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FDE0E-72A6-4086-A15A-0A4A99B7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69EE6-166F-46D3-A371-480E7051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A2317-7393-41E5-94DD-8072DEC6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258F7-7689-497B-B779-41016B4B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E3BE3-575C-447E-BF1B-14B114EA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A18E4-D9F2-4ACB-8887-685FB10A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5C0DF-7A06-4358-A6B5-02FDCFB1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A31D-1FA7-4975-BD95-607309F7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2DA9A-0FF2-4530-AC31-30D5CAB1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658EE-B056-4DBA-ABB0-998E0829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CCA86-8E3E-44AE-8056-9202496E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45648-F38B-42AC-B64A-741BBF27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82460-794D-4E78-844D-0BB59210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57E0A5-8E39-45BA-9AC4-28F5BDD1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FC8FC-7534-42A0-B8FB-E4F30025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7BD0B5-4A33-4B52-A501-A65B1F79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52139-EAAD-4E98-AA88-29F0E516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90BF8B-87F9-4CAF-BE53-8C4B8377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A270-4103-48CC-8AFA-A704A471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ABBA7F-A8CB-444E-8769-BACCA1F5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033EA4-B587-4688-BB34-C1B9E26B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F005CD-E9D8-4B81-BE43-04EAF4C0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17915E-D688-4FFD-8823-6EA3FF61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D8E210-A1E3-4655-8B34-9B8312C6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CB7679-D440-4A1B-ABA7-5568328F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AAEC13-346C-4EBA-8F7F-DD6F9DB9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A42977-A522-4336-8206-52BDB3F7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BC0AE0-6C9B-4AA1-9232-FA0E9243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562E20-48F9-40B9-A502-91B155BF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DBAD-2827-4D91-A1C7-68E51988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36BD67-040E-4F26-86ED-2EDAAA41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147AB5-B494-46B6-A2A3-310FCFCA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E0E7DF-641A-4061-B2D1-67650993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13A60F-CA68-47B8-B008-F49AA9FA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E84F91-1F18-489B-A486-40A57C19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2131AF-4F35-4F9C-90E4-1C0B42A8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5EF6D5-C4B3-486E-AC6B-097B15B7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7364B-FA1C-445D-A132-A13C294D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5D6734-6430-4226-BF8C-9104018B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189E91-F0DA-4333-B040-8064F303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EF33-3632-4E78-B1CF-C9FAD458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1A0B4B-E605-4B1D-9063-8A3238D4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5FE195-A83D-47F8-B8F4-6F6C2218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8C6524-DD51-4CDB-9AA9-90BD47A9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0E7BB2-DA15-4301-9E0C-E901CB67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DAD7D7-1153-40D6-9B38-3147FA1B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44D96C-0F50-4988-B575-77395542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4C7102-6D28-4970-A923-EA23C0BE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416AC2-6F92-4887-9E3C-850A5D88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845978-9D7B-4FA0-85FD-F42217BF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A4284A-8F3D-4AC0-85E1-91BD4F15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9927-AB91-4B94-B53E-510EC002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EE3FBB-A4B3-4686-844C-3B56E1AD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452370-C305-486C-BF1C-18EAEAC6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10F267-1C73-4BC6-A966-9B06AF77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2BF21A-E0C4-45EE-9E7C-9DDB2745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B6D9A8-0205-41E3-A724-207C53B3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F2F459-940A-4EFA-81BD-DD4C6582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350C17-D7F8-4B81-912B-178C46FB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C397F4-5F0E-4754-98D1-F8607248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DEB538-E10C-4012-90AB-BFAF581E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AAB0B0-8501-4F94-BBC3-686D6956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5E47-36D7-4167-8A01-7A3F4EF5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86147B-34B7-4F79-9641-50C3DEB5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F6B436-1504-414E-9102-FC2F3AAF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21A989-FA86-441F-A6A1-E924993C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62D763-1185-4FAE-9D32-52015EA1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16B247-B945-4373-841B-BF2492BD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45F8FA-5E9E-4E14-B14F-A90F0314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97AD57-4E28-4926-92F5-D3665475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4AFC12-A5B6-4B5C-9A5D-A5162B08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F049C6-925B-4761-8EED-2FEE9819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EDB217-4931-434D-8429-CB4A5B7E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BFDC-2BD5-4226-BD70-CEABD3AB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5596-890B-4F32-8D4E-B7A5B9EE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518D2A-2DD8-4785-92CD-9298D0E5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7D1D56-8348-4449-80D9-73169DA6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F5B2E1-AE6C-4953-8DCA-605AD416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1066D2-54A9-4AA3-BC5A-053EE4BF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87D556-AF80-4022-ACC2-9E3AA0ED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A3001B-C2C2-4AEB-B407-84AAF147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9909A4-1FC3-4F3B-8241-5075F3BF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8DD003-7366-487C-80AF-460343E5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AADEB1-BE2A-4B7F-8A29-719450A7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91B9CE-25D4-427B-8175-7C17D4B0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BD5F-8DD1-4F11-9715-32F03146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E90DDD-7B9F-4756-875D-EBA41EFE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159FCD-600C-4CD1-91F0-5FE689C0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08A5BE-C8DE-4DEF-8E2A-FCEF2DCF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AAB328-92B0-4E75-9DFB-698280EA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38C491-12A2-43EC-91FB-E818F2C1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F98834-6C78-4E4D-A7E5-A060988F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D4A9DC-A7D3-434B-ACB1-FA2FEEA4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7BCAFE-967C-493A-A15A-1A559FE7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00DCD5-0474-4DD4-8457-0CED2654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132C6C-5239-4253-ADFE-C9B4A093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5BFD-CD3E-4EE6-87BF-87E54AA6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FAD64B-BBFD-49F3-B4CA-9D5D79A7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70AD8A-B6D0-4C56-BF9E-E3FFAA50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4CF68E-A23F-4614-B144-7FE9A814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41382A-9019-43BD-8F9B-C5597945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317E92-4106-484C-88F7-94A65EC8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548EA8-F174-48A6-BD98-B6431F94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17ADAB-F916-4A3F-941A-CCF73928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294DFC-A5B9-44A5-88E5-9F02AACC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61DAFF-4D79-45F0-B3D3-1040AAB1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12A10B-38C1-4D23-B09A-030003FD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5DDD-1145-4D17-BB40-1FEEF9F7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F0F199-CCFB-4EC0-AD6A-6279AD3E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7B9C4A-1ECD-4649-9A6A-D0D5DF3E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403F2B-F187-47B5-A3DB-2B9B56D3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2CE5D3-8DA7-4003-B64C-DC588537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08A9CF-0F37-41C8-93A8-AA2277DF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26B57C-0A29-4557-BB70-75C4515E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F4D595-D7B9-4A1E-98BA-73FCF515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3431A6-5DFA-42D1-95D2-01189336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DAEC6E-2F05-45F3-A84D-D349BE7E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56420C-A5C4-483A-ACFB-9C5DA92C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FF55-7A85-43C5-82E9-85596F41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DFA4A1-A816-49CC-8F9A-71507728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68153F-C932-4E59-B064-652B68E2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CEA4D9-A820-4AAC-A657-4C4144A3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252CE3-0AFA-46BF-AC3E-ACEA7BD2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31D1EE-DFB5-414E-B406-B15A67C6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81143A-07B1-4F01-9FDC-3D74F060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A04AC6-72B0-45F3-AD08-1220545D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E35C3E-C503-45F0-A924-1DFAF596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9C18F7-99B7-4B82-85B8-7690728D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459420-ABD9-4C5A-8463-607DB2FA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0879B-A6B1-4921-8DA8-4AA473FE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285EDD-877D-41E2-A2AC-85D544ED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492347-A35D-4F5A-9CF8-28B06670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D06A70-2E3B-4851-A581-E3E46353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782F2-5648-4605-881C-81C13C4C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92F39-BB50-4266-B2A3-AFA45053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BA0B3-B212-42FD-BDF5-46121AC9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D6670-A1F5-4072-9AE8-ED573C53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6B2C-3B8C-418E-91B3-EF8B7C3A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961A9-1C56-40E1-AA15-2B482A34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C7AAF-2D1A-4903-9655-64909BB2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61393-B907-449B-AAB8-FC9C43C0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E9FE4-EB25-430A-99CD-50A951D1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B5A9A-D9E2-4728-81E2-86ED27F6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0B3FB-67A6-4E5F-B3FA-A7928E19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3D2BB-8C3D-4653-AC7B-1AA1E405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D03BC-81D9-4A3B-A6CB-6CE01398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ADE7B-8998-412F-837D-AFB4901A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7F993-58A2-4945-8639-42EC69BD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0F0E-EBF8-41B0-96EB-B2524EF4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C56A3-FB66-4B52-A549-6BD3565A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F43D0-E502-48DF-9BD3-FB11C7B0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A45B3-D60A-4E7B-80DC-17148F82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891F0-4699-49C7-B329-EF727530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8BAEA-23FB-4F20-A921-5FD0ADDD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3FFCB-047A-42A7-864A-0FFAF59F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CA8F5-4392-4220-AA21-DF39E4D8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DEB17-D3FD-4CC0-BFC8-F67869DD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82BDB-2AA4-401A-B6D3-1B0B0510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25816-2D97-4314-9ABC-A5AECA3B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5D5D-9CD4-476F-B474-1FF272BA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9C37D-64A9-4B5D-9A01-F0B5D0BD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F37EF-C299-48D4-95DF-D6A021DA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4FD4E-E161-4453-9392-07BDE057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F4DC2-9B56-4DEC-A0BB-6FE35EA9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52197-CACA-413C-B43F-79DF9766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477A8-4047-4523-99D9-A0B10E9A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441E7-BA91-4ED9-A7FC-E9AE3FF9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F4C17-F674-4973-924F-A4826455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94694-C794-4675-AD79-0CD59D0A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B5E45-F951-47E8-8922-6DE24997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8108-26ED-449D-AC74-AB3A874D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ACA59-2EB4-4B38-A850-6AFADF7B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AC480-923C-48FA-B702-902259D6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13DD4-94B3-42E5-9629-B679A20F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D4AEE-12E3-4909-A48F-6DCAD0C2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0088C-7DE1-4B6E-AB65-1A097ECB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7EEF6-1BE5-4AEB-9470-A68B4A64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AE53A-C690-4AB0-B4BA-93A4D226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9813B-0546-4784-8CE8-5E2E3D68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88048-ED0D-498E-9C4A-7B2E010E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6B442-B905-4F89-9E6F-266C7F2F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B6CB-6950-48C9-A013-BCBA9D4D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AF995-A71C-4B1C-8DA7-AD3DBECE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660FF-3341-4B6D-9B01-BB19860C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1DA1F-8A47-4558-9E1B-7B218E79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BAD05-FACA-43D3-9A6C-C3B98763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85306-56A9-4A52-960B-218BC236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C7ECE-C65D-4357-8BF6-2BED8754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39B58-3923-423B-AFAA-C4EE242D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1248A-948D-4A81-BEFB-A8CECB97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914E8-7C71-47E3-81C2-848E367A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6FB00-4CD1-4DEE-8581-0FB3608A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D271-C232-4BB9-9BBB-C9275A78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1B704-ABA4-4596-9DF6-6F683A4A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F5B89-15BC-48AF-8EA0-9EBDB76B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A9B00-AFC6-4DA3-8871-7D34A74A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83EF2-BA32-4C61-9A56-E7D52EE4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2190F-709D-4018-9009-C7F069ACC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60664-2E31-4DF2-B4A5-C324CAA0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D395C-E8F3-4569-9D64-FA9B8E6A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B1FE1-F7B9-4492-B200-53E7B11C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03069-9C7B-4D47-A75E-535A4D24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5B5F0-A26A-4D1F-86BD-B72EB7F1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311B-E8FA-4EE8-BBCC-3FA2AF2A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6ACBF-3129-46A5-9C1D-50B9697F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7DB89-8C90-473A-800A-55DAAB23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200B8-EBC4-4BA7-AFA9-A12AA2A4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F47F4-287C-4443-B6A0-03FF5851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F897A-2600-480A-B0AC-6A42FEA9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ECE16-36D5-4EA6-9CB6-E8A05140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08B59-A46A-4A93-A198-AD19D7E9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540CF-9D79-4B25-957D-054D5CA9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71944-7E85-4018-AB37-C61CB2D9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6410C-FC7E-4025-ADC3-A14B12A0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C128-9E40-4993-BA19-47E0CF8EDD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60B0-3007-4BDC-AD17-DF78585FA9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070D-C287-45BC-8535-AA0CEF9AED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FB90-D9C9-420A-85AD-311D9B2EA3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EE18-3F93-4313-A4D2-B4244F6C02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3A07-8C93-4E31-A236-65F8DD032C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F8D4-726B-4616-8C8B-AED101B40E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C0C4-719C-41D1-AF61-5960C1B7BE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FF89-8169-43DA-BC95-58AF289D26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7831-2709-4FE5-B287-8CFCAE25AA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0D60-64CB-4E8C-AF81-54FBD6874B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7D29-9512-4CB4-B14E-B273FCDEA0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4988-BF3F-4CB3-A364-C9B858AFD6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B09F-95B1-42B3-82F2-DAC4CDDAF9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2759-CD0F-47ED-A454-4EACFA4E6E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74C3-C84B-4102-A629-D327E3774D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AB74-73E8-46C7-9AAB-EA9BA7E01E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CE46-2509-4026-B327-7685E9E333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ABB6-B32E-4A0C-8231-4EC9A37F00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DCE1-849F-4675-8438-702B6C6DC3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5923-8A99-4C0D-8E7C-873C50FC6D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5CFA-F729-474F-9AE9-42B5FE16AE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D1FD-7A88-47E9-B8CD-1C56198829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5DCC-C8AF-4392-9F76-3FE7389E18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DC9C-002A-409B-8CDD-AF66B8450F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4CE2-19DC-4D3C-B87E-C9CAC2ADF9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2FA3-1749-4940-B1DE-DF149939E7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58B8-383E-4ECF-B300-A0E2A139C2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72A4-399F-4122-ADEF-97205BF5EB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E978-5159-46A7-A1CE-ABF69C521F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648B-3260-4CC4-9CC4-9D183CDE07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8740-46FE-4F9A-BF4C-F68FF560DC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52F5-0CC9-4983-B145-1BFDE29C5A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31E2-29DA-4590-98C9-101AFE6DD3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B108-0372-497C-A4A9-7EB59E4012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BF8A-A454-4E5F-9563-F1E3EDCA4F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0DCE-DB42-4622-A457-500BC41455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11A4-E621-4B47-BE81-3B981AB044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1EB8-CB78-4E6B-9888-3906909C29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2C70-6EFA-45A6-97E8-5EE70A9157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71600" y="3019320"/>
            <a:ext cx="460080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69633" descr=""/>
          <p:cNvPicPr/>
          <p:nvPr/>
        </p:nvPicPr>
        <p:blipFill>
          <a:blip r:embed="rId1"/>
          <a:stretch/>
        </p:blipFill>
        <p:spPr>
          <a:xfrm>
            <a:off x="271440" y="923760"/>
            <a:ext cx="8601120" cy="5600880"/>
          </a:xfrm>
          <a:prstGeom prst="rect">
            <a:avLst/>
          </a:prstGeom>
          <a:ln w="0">
            <a:noFill/>
          </a:ln>
        </p:spPr>
      </p:pic>
      <p:pic>
        <p:nvPicPr>
          <p:cNvPr id="961" name="图片 69634" descr=""/>
          <p:cNvPicPr/>
          <p:nvPr/>
        </p:nvPicPr>
        <p:blipFill>
          <a:blip r:embed="rId2"/>
          <a:stretch/>
        </p:blipFill>
        <p:spPr>
          <a:xfrm>
            <a:off x="1033560" y="1776240"/>
            <a:ext cx="7762680" cy="3562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1258920" y="6035760"/>
            <a:ext cx="5184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8609" descr=""/>
          <p:cNvPicPr/>
          <p:nvPr/>
        </p:nvPicPr>
        <p:blipFill>
          <a:blip r:embed="rId1"/>
          <a:stretch/>
        </p:blipFill>
        <p:spPr>
          <a:xfrm>
            <a:off x="571680" y="2157480"/>
            <a:ext cx="8001000" cy="25430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1187280" y="3500280"/>
            <a:ext cx="7488360" cy="447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1042920" y="4162320"/>
            <a:ext cx="748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04920" y="723960"/>
            <a:ext cx="8534160" cy="54100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5219640" y="221940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419640" y="28814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4427640" y="364500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276720" y="4292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2556000" y="5661000"/>
            <a:ext cx="100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609480" y="2500200"/>
            <a:ext cx="7925040" cy="18576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4211640" y="321300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1835280" y="3903840"/>
            <a:ext cx="865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8373" descr=""/>
          <p:cNvPicPr/>
          <p:nvPr/>
        </p:nvPicPr>
        <p:blipFill>
          <a:blip r:embed="rId1"/>
          <a:stretch/>
        </p:blipFill>
        <p:spPr>
          <a:xfrm>
            <a:off x="252360" y="800280"/>
            <a:ext cx="8639280" cy="52578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1346040" y="3875040"/>
            <a:ext cx="259272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1332000" y="4537080"/>
            <a:ext cx="259236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5148360" y="3889440"/>
            <a:ext cx="3168720" cy="4474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5148360" y="4537080"/>
            <a:ext cx="316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7352" descr=""/>
          <p:cNvPicPr/>
          <p:nvPr/>
        </p:nvPicPr>
        <p:blipFill>
          <a:blip r:embed="rId1"/>
          <a:stretch/>
        </p:blipFill>
        <p:spPr>
          <a:xfrm>
            <a:off x="466560" y="1619280"/>
            <a:ext cx="8210880" cy="36194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3708360" y="2637000"/>
            <a:ext cx="237636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3635280" y="3298680"/>
            <a:ext cx="237672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6891480" y="4681440"/>
            <a:ext cx="64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6324" descr=""/>
          <p:cNvPicPr/>
          <p:nvPr/>
        </p:nvPicPr>
        <p:blipFill>
          <a:blip r:embed="rId1"/>
          <a:stretch/>
        </p:blipFill>
        <p:spPr>
          <a:xfrm>
            <a:off x="290520" y="755640"/>
            <a:ext cx="8562960" cy="60580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7610400" y="231948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7596360" y="36590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7596360" y="501336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7624800" y="6381720"/>
            <a:ext cx="64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233280" y="1047600"/>
            <a:ext cx="8677440" cy="47628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2340000" y="3386160"/>
            <a:ext cx="6624720" cy="447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684360" y="4005360"/>
            <a:ext cx="662436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2268360" y="4653000"/>
            <a:ext cx="662472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755640" y="5257800"/>
            <a:ext cx="6624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4276" descr=""/>
          <p:cNvPicPr/>
          <p:nvPr/>
        </p:nvPicPr>
        <p:blipFill>
          <a:blip r:embed="rId1"/>
          <a:stretch/>
        </p:blipFill>
        <p:spPr>
          <a:xfrm>
            <a:off x="552600" y="1566720"/>
            <a:ext cx="8038800" cy="3724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2771640" y="1600200"/>
            <a:ext cx="590400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395280" y="2233440"/>
            <a:ext cx="590400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2843280" y="2867040"/>
            <a:ext cx="5904000" cy="4478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468360" y="3500280"/>
            <a:ext cx="590400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6"/>
          <a:stretch/>
        </p:blipFill>
        <p:spPr>
          <a:xfrm>
            <a:off x="900000" y="4738680"/>
            <a:ext cx="590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2231" descr=""/>
          <p:cNvPicPr/>
          <p:nvPr/>
        </p:nvPicPr>
        <p:blipFill>
          <a:blip r:embed="rId1"/>
          <a:stretch/>
        </p:blipFill>
        <p:spPr>
          <a:xfrm>
            <a:off x="281160" y="1224000"/>
            <a:ext cx="8581680" cy="44100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826920" y="3889440"/>
            <a:ext cx="8137800" cy="4474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755640" y="4508640"/>
            <a:ext cx="8137440" cy="4474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755640" y="5157720"/>
            <a:ext cx="8137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8:08:30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