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8E59-64B5-48F8-BCC7-06AA05F0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6D5-017B-432E-BE27-A349E7F4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36234-5540-4A50-97B7-D07AAEFC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6A3DD-8437-4041-B5B3-476B7367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70CA9-9753-4DCB-8F1D-779F2906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DDE39-0BA2-443C-A9B5-A8221D96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69D31-B3BB-40D4-ABAB-9201DB5D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55133-3814-470C-9FA8-56E910B2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D24E5-26A4-4E86-B052-C9D8D9D0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2A86E-C128-4C45-A312-7D17FC1F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0B5DC-D00D-4D43-BEBB-E71CB65C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C75A1-E0CD-4EE5-8C8E-C75D542D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BE9D-C77A-4ECA-89C0-40502CE0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0ADE9-B0E7-4E0C-ACAB-E3070019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C4D57-2DFC-4598-9662-3817639B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68A9F-27B8-49B4-BCF1-644DDC76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FE29E-AD38-48A0-93B4-C7A33FBF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1D73E-806F-4167-ABE7-1744526E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F3C9D-5D6F-4A79-969E-1D443A3E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29348-1287-4964-94BE-17924632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999B8-8733-46D1-B079-6380FB4E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87318-2E88-4379-9629-A0679867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76093-B885-446C-A4B2-F2576390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D376-BB93-4054-9BC4-675D30CE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1AE2E-4E34-44BD-9412-23ED8DE8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0C1E2-C8B9-403C-A366-37B25339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F018C8-32CC-4F64-9686-A49D3462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50826-F982-47B0-AAB4-F3E204AE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A5971-F52B-480B-8CEC-9627F28D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E2588-18B8-431A-A362-ABFB9DB7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09BC0-774E-4B00-98E9-A8F2BD5F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85CFE-DB3E-43C8-8D36-03578FD7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A3B59-D367-4C7D-BA10-FB6B28F8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CA7EB-D2BC-47D1-957E-31F2B24A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8C12-760B-4DAA-84D7-767ABDC0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34047-C814-4FEE-9426-362506CA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D8483-7947-4650-A3C8-EE5199CD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D83D3-3483-4004-BCA8-04CB980C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5199A-CF88-465E-BCB3-7A0531B0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7F10D-2EFC-4CDA-8C92-9C629673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1294C-01A7-4DE6-BA41-CFA6696B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18A7A-DB8F-4DA3-AE18-F8289114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78737-8BD2-44FD-85E8-F19B18E8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CB152-2884-432D-B9B2-BC8510CF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BD5E9-B17A-41E1-8F1E-BE4D3408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D847-C01E-49FB-9323-7B2B35FE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E8070-41B4-4613-8D1D-07395577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D2E7C-9337-4CA2-9E32-9917809E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0670A-29B8-455D-88AD-7FBC874E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92347-D9FA-42FE-BF71-7B9D0B3A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0E510-9FE9-480C-B19D-D130EE1E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AE7C09-D337-4CA4-8264-F3897138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C67FC-8802-4492-9BB2-C5F0CF0F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79405-7265-492C-B157-430B5432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B00D17-2209-473B-A7C0-861C44DD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21A1B-0C32-4C88-A239-D82F0A50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05E7-CC80-4BB8-9933-7BA81A73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BF3438-1623-4BA5-AAFD-4DCA0CFB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BE95B-138A-475D-9AAE-57A59124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498A1E-ECF3-4D4E-B04C-B9F34D46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64495-1695-414D-83AD-0A50A272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C91AE3-E29C-433E-87F1-3D172988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D7F0E3-7C5D-437D-9FA9-72A60C8D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6AB41E-AB28-4BA8-976F-9998352F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C4BA0C-7AE9-4D65-AAAF-AED4AF18B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E3935C-289C-46B2-B456-B0C84E02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354A17-EC19-48B3-B6FE-51E58903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F089-ABC6-45F7-913C-5C632F47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318A27-7C8D-442A-98F2-4ABC630A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A7D6E3-B609-4886-B8F4-5BC32CA3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DC2550-0FE9-4292-9BC8-A40CE4E1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4E08BD-079A-404E-B42F-34EE77C1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9DD4F-B43A-4D0E-96F5-6326197F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8847C1-06BF-4D44-ACD1-07D05322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C629A3-7B3A-4A48-B87A-A1241043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F8C367-6332-43D6-A5AD-F254F9EF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D2E312-DD58-40A5-8328-8A341FB4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479626-8152-4EF8-89A7-05F7A22B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ADAE-8A92-401F-BAE2-B3F05C68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2DB42A-90B8-4709-AE87-7ECD6CF9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10CDF3-6286-49B5-8A9E-A8CBCB36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FADD78-0BAD-4E14-AB1D-86C175B1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67B127-34AF-45B3-B36F-385CAF2A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A2328E-06BE-4F1C-82AB-988D273F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D64808-4597-4DE5-BECE-7ABAD5C7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38A1E2-318C-4389-BF08-117AB61C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95F692-A2D1-4389-A44A-CFC2C2AA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04C432-E296-4B00-8686-0A9027BC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EF656A-3571-4B26-BB41-FBFCC559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9F8A-7ABB-4248-886F-2DF9F459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88E71F-D992-44ED-9005-450892CD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25434A-74E6-4A2E-9B26-72DA2DC9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283DE4-9C83-44EB-A8AF-30910A49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279775-0E44-40FD-BC9C-83D4BE5A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9FF3BB-33D7-4C80-9017-244274B1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4A5720-BD55-42E5-9043-6B31CAF8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BAE34B-CA4D-4F8E-9727-99182298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4C58FD-FE52-4766-9BFD-08CADFCE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6AA7AE-F513-4D01-B22D-2FF2E87F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D03B49-BE48-4C63-8DC8-7DEF8449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9DA6-FC4C-447D-90A6-E9C502B1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2C9093-AB78-44D3-A478-363622F7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294FF0-DA24-4F30-A2DA-02684745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B94D78-D4FA-4C08-B343-7B6F9101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46223E-300A-4DA9-A4FF-140E60A2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E752E5-8C9F-4D22-AEDF-41234B62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9F13F0-89B1-4B3B-83EE-20F6184B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574C11-42BA-4E84-A99F-DEFB8063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63A5E8-9B20-4AEA-9ADB-9B1CA5A0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7AF2C5-AC84-415F-807D-E0384949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B16256-1E6D-40DB-BC89-8525DF7F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61E-7E46-4877-90A3-7CAD0A4B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A2BE-D877-4972-AA6C-8A602BD9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D142B5-958A-484F-8813-6A582FAC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2F508-62DC-4EC5-AD75-EBFACCD6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4BC894-434F-4B20-9370-AF04A7DA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405AE1-E62D-4562-8B8D-223DE8C9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1C060D-92D6-41B2-B96F-EE784999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2FD01E-3E60-4C6B-80CC-66035FBE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F31DC6-060B-4082-A6EF-87C2D1EB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68872B-898F-4667-9A20-BC101CB8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805575-7A63-4FF3-BF85-2E562590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155425-71CA-4D1A-837A-AFBDE225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DB46-D44C-4746-A3CA-A14BF6B4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6162C4-879A-47FC-BE93-66FAE63F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A4EF2F-D48C-4BF8-AB35-1991F2C1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1C055A-DFC0-4361-9843-390A2E81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59BE4B-1965-4E43-A31C-F41D3D48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A69EE4-8822-416F-9EF8-BC8F4D53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95A24F-3C5F-4BCE-B4CD-F1C577F6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4E2AB0-7C22-48E5-A03B-205512F8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93A8E3-DEEA-4297-B6ED-34E01BC0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B62839-7268-4DAE-B85F-73282CE5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3149BF-30D6-444B-AE53-83E6D8D3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64BC-93C4-48C0-B2C9-BA3119BF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303C0F-79FD-404F-8DCF-2F4E5381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4DA6A0-C2EA-4A5F-A031-665265B1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F1E239-8369-4872-8B19-B9524FE6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F553EE-C915-4D18-86E6-88CB3483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E8BD3C-D07A-4EA1-964F-1255A4BE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75F5B8-7771-4FA3-9587-B60EA3BF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7F8959-2AC2-40F9-8E08-380086E4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8E7DBA-DFDD-4A83-9A6C-20539705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E681A0-6A0B-414E-85E1-A0C70158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9ECF00-A86F-4DD7-A3C9-E574E243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A4D9-A7ED-4970-9708-E50C468A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BF623B-29D8-4BB4-88B8-793B5FAD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19C429-7CF7-4F2F-8E40-7250E748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B0BDA3-CDEB-4E18-8365-7F78634C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35C001-5D33-4F14-A964-A2F0720B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1AA0D6-C71B-46FA-8C20-4DE981FB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E917E8-3C69-486C-9F54-8236946D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5E6814-A526-43A3-A5CD-F5EBE0F5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3E810D-E347-430A-9757-F296DFC7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2596BD-CC49-46A7-9EE0-DEB6A828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3D5CD5-1BDF-418A-8803-62FCF305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84EC-49E7-4755-8367-6E3DCB18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97DAA2-D997-4599-A5EE-0284DC61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8CAD2B-7359-40E7-B2ED-1700A7B7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FC84C6-374D-411F-87EA-B405735F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EE9BC9-5DCA-4EF2-A812-6EB0E5F2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74E38E-AED9-47F6-A29F-CFB73AB1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EA76BB-880F-4D3A-A525-604D058F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0009C3-5F05-4B3F-AFD3-88D4149D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2E5FD1-321C-4ACA-A11F-F230B22A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678554-C8BB-4E74-85CA-DBA65865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9B9839-8294-4CBB-B533-BD81798C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5D06E-B880-4154-B66D-360377D7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2F3387-7299-451E-BC11-06090479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AB40D6-B479-4924-9522-14E9478E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489034-2155-4793-AD0D-8F85258F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C27F6-BFB4-4D9A-9EC6-E3384EF3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99838-C5BD-49C3-A7BD-0AF973DF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EEC74-784D-4B68-9BD2-C2AA0E50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65454-83BB-4648-868D-C3ED4002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A62-6EC2-4410-A00D-81D82B70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24B32-6B42-4A87-89E3-ABED5768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39F71-2B5E-446A-B717-AC46AEDB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5D897-8810-49DA-82DB-74FE94A9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724DE-94B1-4121-A61B-0E9A62FF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03C3E-E3C8-43BC-81DE-532CD895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1F43C-CDE8-4699-AFB3-0604877E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F88CF-9676-4B46-907E-CF7A39B7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960AD-5E25-4C81-82AD-4C47867F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9F972-8C4A-43CB-BD2F-34A24972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9D899-3C2B-4A28-915F-7AE5162C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E01-49DF-4ACC-8712-B0317A77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49B90-9D92-4DEC-973B-954F7267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C3F59-218B-44C1-AE0B-6C024894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C2793-3D09-4F9B-AF7B-0863C216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7500D-2ACB-4640-9DF3-0A3C5D97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E9791-1023-419F-87EA-37A2EE36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7FBDD-3F54-4CF5-87FD-8714BA8E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D82EE-B39A-4710-AB5F-ED0A2AD9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83C9C-8120-4151-B0C4-83768056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F4988-AE80-4DE0-9014-98EC9D98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8DF33-FE47-4E21-986E-930CB230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37E8-37A6-4A20-A5D7-C278C01A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30CA4-4891-413E-A91A-6C34E173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8E939-BC15-4D96-A1A8-30BA7A84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25224-D1BD-41D5-BE0B-20BD13D3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C0EDE-67AE-466E-847D-B6D4839C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97542-2187-4CA7-8246-9137026F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2544F-C541-4972-B511-13D743B4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92666-1E1F-4B8C-AEC9-99E78F5D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D1DA1-2BC8-42BB-8456-25877E4F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F35E5-44EE-42BF-A491-668005AD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BF72A-E75E-40B1-BA65-EBEADCFB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3CD9-8851-4C30-8FE5-F4F81352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50BA9-2716-49D9-9CBB-C975D8AF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C7E6E-1694-4CB6-BE91-47ABA761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C43E9-0574-4D3E-98B3-824F6C48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7B4F8-AAEA-4A26-A771-F40250B8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7705D-8BA9-4980-8AD3-F1DF44FA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9E336-259F-40B4-AC9C-57F4A75D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3D021-A8B9-4228-8821-78206E25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24E64-5A60-4CF5-AC22-3858EA78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A82CA-2958-43BD-9B55-C5E4AD02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5F470-9111-4F3D-B6A6-43B900CA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9803-222B-444A-83CD-80C1B781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378D4-25CA-4C69-8E89-3EF8DDF3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4BE57-187F-4A4F-AB19-688C525E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33C24-E671-4060-8BF6-847CB445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41D45-6ABB-4E86-924D-0A810DBE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C973A-08C2-4C7E-9801-32CFFD3A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F0A39-05B8-456F-8676-DDC1DE8C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83321-5DBA-4F78-9F25-3C255CC2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68D9F-6D4C-4C1C-B08B-13547567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FBFED-F364-40F6-8782-83347196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53905-CA5B-444D-9E50-6D22F431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EE6-8871-48AA-8A1B-B368BFC7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59EB4-3C72-4EB6-BA1E-C0CE37F2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3E243-C275-4394-9F9B-7515CC0D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6B1D3-A733-40CB-B410-2688D567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9F4B7-1429-45B6-B309-726EEEF2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CA81F-8CDC-4BFA-862B-E8537F83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B9218-BB0F-4878-8D15-2BC28E9B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2A0A6-8750-4F7A-AC15-0CCB345D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83498-B1F6-4156-B762-D4C824F3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66864-BB7B-44BF-B0EC-40BD9F45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EB5BE-2290-48A9-9D25-286C1D98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D243-C3AB-4AB3-999F-BFBB96F8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6E9A2-E618-42D5-A21A-97F71DE8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67BB3-C728-4B89-A22B-4F6CADA0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0DD7D-A841-43D6-A8AC-C20A8176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6EAE8-CDDF-4C31-ADE1-6E9DE2DC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742E8-1D92-4225-A54D-4BF336AC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A35C2-B57C-46B7-A93B-4B4BF631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F98A0-0C18-4F24-B12B-64E5A037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006CE-AA80-46A0-9840-A95BF122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A7E16-BA57-4B72-924D-2053784D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2B2B2-539E-443C-9B50-DA537C4D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E258-1635-4AA0-A786-C83381DCE8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2341-42F7-40E1-853A-C4B5A0C34C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A12E-1BD5-48C2-9468-E7D2DEDA93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B4D4-C3A3-4BBF-A0AB-48996C4739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CD73-65C7-4FCC-9715-B64287C492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A74A-39F0-4B95-A4B7-8F4E0F352D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ACC4-48C9-4762-904A-79623F4362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26A2-850A-4DD0-8AA3-D52F46BCF2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36F6-51DE-4180-ABFC-81B0A2EDE3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34B8-8AA5-4152-B619-E6B1D21157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5391-4D50-4482-888B-74E55820F1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C117-F49D-45CD-B203-C9B238B868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A0A2-F3C7-4245-AAD3-35D00BDD6E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0BAC-385F-45E3-AB6E-E654EEE66D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EFF0-1A2C-42C3-AE73-4DC60DA476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7BC5-6764-4EDC-859A-4E98FE46C2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0EE3-960F-41A5-8823-9B6E2B8BCA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350F-8506-4E85-AB97-9F3CC3D3E3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2DD2-CAFA-46F5-8227-F08D408694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CD65-CD26-46AE-BD03-B25527D967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CB00-9CEA-45F0-9464-C4C20FA6FA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F827-E2FB-4880-94E1-9FFEF7FFB5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5EF1-5C9C-45FA-A6A6-29AF168C76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559B-52D3-48F0-8410-F2B0A46E9A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8ECD-8570-4E2F-9B4B-2340E482F0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CC9C-D501-4D5C-A061-4BC9E20639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A2B9-ADF6-4B15-A627-D987CF6E8E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D14B-AB49-414D-958F-BF5EEDAA3A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41CF-82D5-49AC-86B2-C1F6017F71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05CC-05B3-4527-A90F-82FBD4CEA6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1920-21E5-463B-A584-80944D3B92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E16B-5C5B-44C0-9047-921267759C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1547-7570-417E-ACBA-509C45587A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EFA4-9589-4341-AD4E-FA38C8C47B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B946-9E09-4FF9-A3C9-23D2791912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D147-E63A-4825-9804-00A4D622AE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E0D8-A428-42BD-BDCA-2FA929AB93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9745-41C3-4AB9-BB56-EA51BCE44F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E2F7-E1EA-4471-A09B-572BA2CCD4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0FA6-A32C-46F2-B029-0DD5FBB147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95360" y="2976480"/>
            <a:ext cx="455328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1440" y="685800"/>
            <a:ext cx="8601120" cy="54864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7812000" y="3573360"/>
            <a:ext cx="1081080" cy="493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476360" y="4292640"/>
            <a:ext cx="1081080" cy="4935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435640" y="4941720"/>
            <a:ext cx="2449440" cy="493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050920" y="5632560"/>
            <a:ext cx="273708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012000" y="5675400"/>
            <a:ext cx="10810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181080" y="885960"/>
            <a:ext cx="8781840" cy="5495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3492360" y="2205000"/>
            <a:ext cx="115092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900000" y="5157720"/>
            <a:ext cx="7344000" cy="4939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826920" y="5805360"/>
            <a:ext cx="7344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318960" y="1628640"/>
            <a:ext cx="8506080" cy="36007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7632720" cy="493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755640" y="4581360"/>
            <a:ext cx="7632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304920" y="1319040"/>
            <a:ext cx="8534160" cy="4219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755640" y="3500280"/>
            <a:ext cx="7345440" cy="493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755640" y="4221000"/>
            <a:ext cx="734544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900000" y="4883040"/>
            <a:ext cx="73454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6324" descr=""/>
          <p:cNvPicPr/>
          <p:nvPr/>
        </p:nvPicPr>
        <p:blipFill>
          <a:blip r:embed="rId1"/>
          <a:stretch/>
        </p:blipFill>
        <p:spPr>
          <a:xfrm>
            <a:off x="200160" y="739800"/>
            <a:ext cx="8743680" cy="5857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755640" y="4149720"/>
            <a:ext cx="748836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684360" y="4797360"/>
            <a:ext cx="7488000" cy="4939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684360" y="5445000"/>
            <a:ext cx="7488000" cy="493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684360" y="6093000"/>
            <a:ext cx="8135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5300" descr=""/>
          <p:cNvPicPr/>
          <p:nvPr/>
        </p:nvPicPr>
        <p:blipFill>
          <a:blip r:embed="rId1"/>
          <a:stretch/>
        </p:blipFill>
        <p:spPr>
          <a:xfrm>
            <a:off x="185760" y="176040"/>
            <a:ext cx="8772480" cy="6505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755640" y="4221000"/>
            <a:ext cx="7272360" cy="4939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611280" y="4883040"/>
            <a:ext cx="727236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684360" y="5504040"/>
            <a:ext cx="727236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539640" y="6165720"/>
            <a:ext cx="7272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4276" descr=""/>
          <p:cNvPicPr/>
          <p:nvPr/>
        </p:nvPicPr>
        <p:blipFill>
          <a:blip r:embed="rId1"/>
          <a:stretch/>
        </p:blipFill>
        <p:spPr>
          <a:xfrm>
            <a:off x="276120" y="1461960"/>
            <a:ext cx="859176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2231" descr=""/>
          <p:cNvPicPr/>
          <p:nvPr/>
        </p:nvPicPr>
        <p:blipFill>
          <a:blip r:embed="rId1"/>
          <a:stretch/>
        </p:blipFill>
        <p:spPr>
          <a:xfrm>
            <a:off x="366840" y="792000"/>
            <a:ext cx="8410320" cy="58770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755640" y="2852640"/>
            <a:ext cx="5761080" cy="4939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684360" y="3573360"/>
            <a:ext cx="5760720" cy="4939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682560" y="4148280"/>
            <a:ext cx="576108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611280" y="4869000"/>
            <a:ext cx="5761080" cy="4935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539640" y="5416560"/>
            <a:ext cx="820764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7"/>
          <a:stretch/>
        </p:blipFill>
        <p:spPr>
          <a:xfrm>
            <a:off x="468360" y="6137280"/>
            <a:ext cx="82072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7:47:1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