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1BA6-9FAA-4446-BE77-D56D3AE5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680F-18C8-4C03-A602-EC5BEB02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FB863-EF41-43AF-B015-8EE3E9AD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19993-FC31-48BA-B42E-2CF9AC05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7CDCF-A042-4820-A0C5-C778C720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1B3F3-8828-4EB7-BC62-7148774C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70266-4672-4D6A-99FC-BEC26639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9CED6-27A4-44D1-8E24-1ACD0BD0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8CAEFD-B82C-44D6-96E7-E9B9DF44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95A162-D8F1-4B75-B0A4-CB4B37925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3FF2E-F6A1-4741-B572-811B3CF62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8E3904-C973-4DA5-A155-B30FE5E8A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1C8F-EB3C-4CBC-866C-6418DC58D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AD8A25-8AC7-49C4-8DB1-45926103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D3E7E0-0F8B-49EA-B695-B72A1A3F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728E0-B75E-426B-A227-CADAEC79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D260C-7C4A-4144-A97E-4C67D9DD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F5CB26-0BF5-49F5-A70F-E3859A0E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94CB1E-3DEF-4FF2-8EA7-64792E85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0162A-0654-43CB-926A-60246C5A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D9B7D-393B-405E-B0AE-EFE3F904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CAFF33-5AE5-4CA7-9E78-5C433EC6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019E65-D013-4C8B-A326-FFA12CAE2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345B-60C4-43EE-A60B-D0D569428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3FFBE2-43D9-45A9-93F7-253E46A3B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81919-ADE7-4761-A122-179EB0FCB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8945F-EBCE-49F6-A44A-EA7526BD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3602C-7520-43ED-9C44-F1922E1E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88D29-4885-480D-9D06-F636A099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7E9FF-2C5E-404A-BEC9-5A6F188F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040C0-2726-4B86-BD7E-DC7E0ACB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4574F-6217-43B4-B861-2009002D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48E0A-2BD0-4673-AF71-A601AEC4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C07DD-CBC5-4B91-B0DE-A4BC814C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AB40-312A-432C-AB3A-2A26D630F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9EF1C-F9F7-4546-8183-5C990EE3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17548-A29B-4C57-A22D-122891342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296D3-B332-41E4-8300-86F29D6E3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6CD292-1798-4900-B447-C782B5DA9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132C53-8C2F-4FC4-89BD-EF0D081E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012C30-4505-4A94-B19B-3B106463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A23DC6-3B81-4394-93F5-CDD55DE4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E0924C-0935-4670-B1DF-6DD03ADB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99DA53-003A-4ADE-B85E-FFDE3CA5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0243BA-9A46-4573-AFDE-6FD48191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4B2C-F072-45A5-A7E5-9043DDBB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2113E4-E431-42F1-B283-5E83BE51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0D28FD-8B47-4086-9D42-CBE93231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706196-E3F3-411A-964A-D4815B3C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8C6437-BFC1-42DA-9855-6BDABCA23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FCBE55-BBAE-4664-90AD-B3EE6E80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F95C8D-8AA8-4C6C-94CC-D0DD5F6E5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9DB05D-E02E-4D82-A0A9-704B453F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83694D-4989-4A92-BFC1-889067CF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B846D8-605E-4502-A8A7-2C811799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B3E65A-CDA3-408E-841B-4AEAEE50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F704-5417-4D4F-8356-A5A6116E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AEE24B-84D1-493D-8FD8-9B009050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EDBC36-808D-40F8-AA41-8873DFAC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1F4233-66B6-4B94-ACBD-74420BB7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C420D7-FBD8-43A5-9DF7-0314FB1A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97C253-0665-4BC4-A24C-06180465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AE9B04-0C06-40EE-9370-60A7A8AEF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EB16D1-702B-45AA-B1DF-ADEAC380A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69607B-D369-43E4-A993-D792077A6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CC6E96-A72B-4D3B-9557-32E96DFE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671C77-12CE-4011-A0EE-2FDDAC14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3B39-46E9-4D68-9FFA-5C7C50FF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B72049-EEEF-4F35-A657-E420A2C7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C0F98B-AB9F-4713-9AF5-DE011342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8E11D6-DA54-4FA2-89C5-4871B3D0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CA00DF-522C-4129-8F31-8D5A6A5E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C81274-F2BD-436E-AF83-C67ED7A7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961641-3557-4FC8-8993-3855DF8E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BF7BDF-6CAE-4143-B675-EB0078443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FFE5F7-315F-45C6-AC29-9F7E0B4D7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14EF06-404D-4031-B552-0F8A28E3A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3CB8D5-3494-44B2-A5AE-579607A44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85F8-B2AF-4D1C-BD41-360403CD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3E921C-2D04-4440-8057-048E4984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E70F5D-41EE-424E-BAED-E01C51C7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2BD708-680C-4538-80E9-CDFF864C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75C4DA-A70B-4ECC-A50E-E765F515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85CE7D-74A4-4C8D-90E0-94FD3E9C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41ABB6-6C88-4CBB-9383-0A26A91E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49D2BE-041B-4D21-930C-47A4BC2A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9C0686-17EC-41EC-B9FA-1333F490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614A3A-FA12-43F2-8E40-782C3F07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707519-A9E0-4A9B-A3DC-53E5DA5BC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4A75-A465-4AFC-99B9-56399FE5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1FD7DE-3283-44E9-8307-AE53D7651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0A4AB6-0BBC-4FD0-8360-488612C06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01C0E4-669E-48E0-9970-DD9934D7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0CFC9E-D801-40DD-A3E6-6108AC5B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A0F953-F9E7-4E22-B78B-33D6D377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3E43DA-5B58-4E83-BDD6-7B09F010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627171-31FE-4923-A8B4-69442DD4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A827BA-722A-4F0D-B03B-183B9094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8458F7-6911-4C11-95E5-C48EEE82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6201AF-50F0-40CB-AADB-F1FD95F8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257C-7927-46CC-97F7-935F468E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1BBDB1-E70E-4BDB-90FF-FCC41315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D0FCF3-3F9E-4680-8252-053731FEB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FB1119-87CE-4A11-9196-401ADA0A8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01C08C-0B6B-4B16-92FF-63F6F972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28C643-A34A-4656-999D-861DE0F6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BF643B-8B88-44C5-AFCD-48732F30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F45569-F792-4013-A0C7-EAFEA538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4F3985-4F76-4F18-A71D-D9C7BE8B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E7A9D4-E97C-4EB0-A162-842E18F0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2F198F-0DE4-4BBF-8BDC-212307B3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A6A2-878E-468D-9C19-7CE5E767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AD7A-524F-4037-A4AA-4E39CEA6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A2B9D6-F11A-4027-BBFB-25D66984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ECD4DE-376A-44C8-8E43-5465CF4C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0249F9-80F5-4128-B381-70E1BAE8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D8E345-CD24-4C0C-8675-FD41C48B5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74A39F-CE1F-4967-BEBF-7767C3D5D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0642B0-8CAA-4D9D-BEE5-DBA5CF9F5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2AFFC4-3EBD-49CF-8657-58F93420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CA4BC6-3E4E-457C-AE98-81F016D4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32FEA7-5384-4D5F-803D-5411C4C3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EDDE24-1201-4DD3-A2AD-3215EECE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AB67-86D5-4C9D-AF7D-D7BEF02B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648760-F48A-442D-8ED7-EF6D6C3F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91B07C-F501-4284-AF7D-260B7C72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1E79AC-8B2A-40BF-ADCD-01B38DAD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7BC6BE-C421-4C86-9762-4401B54C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AB7E87-B920-4332-BDCB-F4692A65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C32CA4-FFE2-4394-B8DB-B67AE6B72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2919E0-F8E1-4544-AE8F-68EF2FE60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358650-C5F4-44E9-857A-F2A5864AE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173C4E-808E-444E-B5A2-1DEB8636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DA5A85-4D82-4DB5-95B3-B248B853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7C55-A3DC-43A8-A4AB-DAF3DE58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AE3369-D597-4257-B8A1-93BED9D8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2864C6-02D2-49A2-A01C-583DF2E9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F36AA3-7695-47E5-8388-E94FD39E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9427EB-CE1C-4C40-AFDE-31AAD42E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3AA2D4-01D4-4073-8538-02236DB7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FF0523-09B7-489B-BE7D-9D4069BC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7E74A5-3ECB-4812-88A1-B768D88A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F399C9-7097-4DE3-B4E0-AEBD3FE55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A83655-AC0F-4CA8-B883-22D815661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067A80-9ED8-43A8-9D10-10B7372CE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FD83-D546-4923-83CA-F79A4C4FC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D34774-A974-424A-B509-2334363B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C69394-9082-46CB-A92A-BA729380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9CF5C2-916B-4457-9B94-ECB4ED9F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F91B4B-19F4-4021-A7AA-88FB88DA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4F3E48-EBD9-4478-8D9A-F37B73FA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2BA578-361D-4648-8D29-1CF8B14E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65AB5A-CE6C-42F9-AD1A-9343B629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05863D-B46B-4968-9CAE-BEC7C013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C8373C-DF76-4A85-9AF1-316946F4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BC6BEF-8FD7-40CC-8B45-47D094E73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D769-D40E-4742-8EE8-78AEF2011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291ACB-4BEF-4AA3-AEAE-4026AEDE3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D77D25-6900-4E2B-8F7A-C587B1888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19D0B9-FA84-473D-BA77-FA551F0D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DB0C70-C7C1-477D-9E5E-85DD450B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833CB3-26AC-4C87-84F5-D35F300F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6B1378-ADCD-45EB-9F1D-26430831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DB3BE6-1EDE-47D2-894A-532339D8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BB77C8-70DB-4498-847D-5D8970EA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72838A-6B85-483D-9FF1-34E93651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194899-072D-4783-86D9-19461499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56AFC-18F6-4CEC-89F0-AFC829ED4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B8D184-02B1-4647-93F8-62F4DB57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919446-2702-4026-B7F5-25933F572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758AC9-F0DE-4309-AA0C-8273A45D5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BF0E5-C69E-4093-8008-C0B45602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6272A-6920-4897-B846-514206DB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B5068-D7DD-422B-BB95-CED3453A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DAB9C-4706-42DB-9165-2BCC1B13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143C-1929-4EEC-9397-142E5275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FB5C9-FC7D-4F2D-BAAB-5A439E00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DDAE4-BEFE-4043-BA20-593002E6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73E94-C723-4A05-951A-4F34511D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A518E-B51F-4417-9723-5642307A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C2904-FF93-4A00-A2FD-6289EE73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C7B4A-BBEE-459E-9A29-DBFC0E30E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67CBC-AAD8-4BFF-883A-A05D3EA19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E4BC8-5B74-4C30-BE26-A47AEE0A3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48D80-EACF-41FC-9984-A5268C21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BBB69-8263-4B48-A949-0BEE331A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77CD-0AAA-4FB8-9724-22BC3DA8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6BDCB-A2FC-4FBC-AC02-D1171A57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AEC80-A2D5-4835-BB37-02B285A1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28C3A-4CC5-4396-8F50-E9B0ECBE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2BACB-A162-4E46-B79B-CA27DA8D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F056B-B06F-46EF-9848-4827A3E1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6609C-A62E-4488-B058-769658E7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AB8DD-D751-4772-B0FF-BC6C1766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D00AC-67AA-467E-A097-D2D1C31A1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2EA76-20E4-4EE8-BD4F-6DF65B55B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08E95-2700-44B4-A24A-217F13855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3094-58C7-4CE7-BD97-96DC38B1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C76A6-08DC-41DA-895D-46B8E99A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030CE-5755-4BE7-A5A4-7FDA6A56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089FF-EC28-45B7-82E3-C40C8F9B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E544D-1162-4632-BDF3-9E9F01E5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BEB05-6CF1-443C-9E1D-CE97B4DC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EAD35-97F7-451E-8785-4A3D87B2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79964-8BC7-48FD-90D2-1B354B4A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DCDFE-3354-430D-9401-B2D8381F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AE1BF-71B8-4350-996D-7C72630B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408B8-A8EA-4B7E-8C59-3E088C2D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E326-02F0-4FC0-ADBD-DB781DCB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C0017-818E-4E9C-B1D5-749364C6D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FD26C-BBC6-4D32-BD22-A65267F9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11021-9D39-4027-A3A1-AD55DF1E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D58DE-FF60-48F9-B24F-CE34D81A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42770-BF57-47F4-A1A6-DEDF79EF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0FBEA-F120-4718-931E-D78ED14E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0F70C-79F9-492F-A151-AA20286D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5A407-D5DD-48F1-8CD5-E7AC33EA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B4427-78BC-4EA9-ABCE-4339372D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2BCBB-19E1-495E-9ABD-DF43D49C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F0E6-0750-430F-BCE7-FE2DF7FF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B8C54-4ED7-43D6-A195-A860AEFC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924A4-3DB3-4432-8839-E38E7D4A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3FFAB-066F-4A86-9E54-E60888F11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1BE12-FCE8-465F-B7AA-CEEA65AE7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798EC-83CC-45E7-913B-96C59D2C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9EF19-E3B2-4D5A-B4B7-8E9681F9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75E3B-866C-4B02-AB9E-471626EE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B777F-CBD2-455E-8FD7-0971C117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6A4A6-DCF6-44BE-A56D-2CCAD0E9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98F04-F0DC-4620-A80C-8D105FAF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463A-9652-4A59-B19A-3F3AA0ED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3CBE4-E708-4B0A-85D9-C0BC0E37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AD7F7-8FAA-42EF-B1CD-0E21A6E0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0E108-3839-4593-A8B4-443AAF00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BB0DD-8E37-40E9-9361-3FA83D55F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993CF-7A29-4BA0-9D73-072898A4D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71AAA-BAFB-43FA-9A6B-7A357B187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8EFA4-9396-4DBF-8BA4-A4185854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17419-D53B-473D-BA8B-2CE03E90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07108-D366-46B0-8C64-1730B8AD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1B6BE-0737-4F1E-8B2F-4306B20A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A860-57DD-4448-A195-0C670A2B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9C3C2-B7A4-4A42-BEF4-2E8FAD8D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BB398-06DF-4758-B4F1-5FB122B0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75C44-A9E5-4D0D-9121-60C58590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D1DA6-9A80-4172-BBB7-599FFE1C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59B40-89DE-4659-831A-758DA474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610D7-6691-4F9B-B162-5D3F5D750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BA55A-0A3C-4436-949B-A4FE74D39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82995-3F6D-49A8-9A5F-536AEB68E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E3D29-1CC9-463B-A027-6D4EECA3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0ABE6-3E46-4B72-A433-3D9B0296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B059-6218-4496-9F44-6A08BF8806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F1CF-21D3-4966-97F5-FFC6EB7352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A252-E33B-4022-A78D-5D93D3F304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8005-1E00-4E99-B2B8-8CD44A93F2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A513-5EE9-40BE-AFC8-C1F8C92035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E1DF-7F2B-47CB-B4DE-BC337F840E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FAE5-8758-4C85-9E60-256E142FEC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41A2-F8F7-40BA-A433-DAE3DAD32A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1782-5B0A-4095-8BC2-AB06D527C6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A41B-67C1-4A60-9770-4B95886C21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0464-CF60-4AF1-8CC7-40F39860B6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ED96-7CA3-4BE7-8C90-329D29764A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FB50-AFE1-4286-9302-BDF2AF957E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2E5E-4E16-40A3-B337-CCAED6D1EB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9921-E9CB-4099-A67A-79DD12DC4B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C58B-0061-42FF-8B48-91073DF346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B0F7-7AD1-484A-AC90-5937DAAAB9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63F7-3647-4AFD-9F78-7C74EB6A07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9EE4-569B-4D66-B619-EC40A36F27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4568-CB6B-4EB8-87F6-075308574A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821F-9580-4FED-B9C4-FD2F70965D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2E53-B268-4FC3-A11D-2327DC1B89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C527-227B-4F3C-B87C-B24AAF0F7E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1825-A87F-45BB-B6E5-483AA7C9EC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60B9-2C99-470F-9300-346AF961AA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2B99-2475-4112-9F00-9DF4CDCA15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9300-EA1E-4BBC-92A4-1071E9B260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7796-C44D-40E7-AAB9-625A3A0A3B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3E76-85EA-40CF-A6EB-26C4B5B6BC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4D0C-3AE0-4ABD-B485-9C68F1A9EA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CF6F-7CB4-4458-8B96-F6864CF4AA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8BA4-3637-484C-80AA-101174BBBA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C377-E3F4-4B97-9EBB-55A958511B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87E4-FC3D-46D6-AC7C-8AD1BAE284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7C85-7EE6-4B9C-A772-4B8F44B21B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2A69-D781-4689-802B-A207AB68B9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5947-FEDC-4A27-9F40-34E1F7BFF4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7B1B-9CDD-4E3A-B0ED-6E184E21AF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EA6A-9E42-4C20-A257-D4C86D0AA4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3449-BC87-43F6-9842-0FCB1ECDB6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257480" y="1628640"/>
            <a:ext cx="6629400" cy="125748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2319480" y="3641760"/>
            <a:ext cx="450504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69633" descr=""/>
          <p:cNvPicPr/>
          <p:nvPr/>
        </p:nvPicPr>
        <p:blipFill>
          <a:blip r:embed="rId1"/>
          <a:stretch/>
        </p:blipFill>
        <p:spPr>
          <a:xfrm>
            <a:off x="257040" y="1195560"/>
            <a:ext cx="8629920" cy="44668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2"/>
          <a:stretch/>
        </p:blipFill>
        <p:spPr>
          <a:xfrm>
            <a:off x="684360" y="3170160"/>
            <a:ext cx="4392360" cy="4939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3"/>
          <a:stretch/>
        </p:blipFill>
        <p:spPr>
          <a:xfrm>
            <a:off x="539640" y="3789360"/>
            <a:ext cx="4392720" cy="4935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4"/>
          <a:stretch/>
        </p:blipFill>
        <p:spPr>
          <a:xfrm>
            <a:off x="539640" y="4437000"/>
            <a:ext cx="4392720" cy="4939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5"/>
          <a:stretch/>
        </p:blipFill>
        <p:spPr>
          <a:xfrm>
            <a:off x="468360" y="4941720"/>
            <a:ext cx="6264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8609" descr=""/>
          <p:cNvPicPr/>
          <p:nvPr/>
        </p:nvPicPr>
        <p:blipFill>
          <a:blip r:embed="rId1"/>
          <a:stretch/>
        </p:blipFill>
        <p:spPr>
          <a:xfrm>
            <a:off x="262080" y="1566720"/>
            <a:ext cx="8619840" cy="4886640"/>
          </a:xfrm>
          <a:prstGeom prst="rect">
            <a:avLst/>
          </a:prstGeom>
          <a:ln w="0">
            <a:noFill/>
          </a:ln>
        </p:spPr>
      </p:pic>
      <p:pic>
        <p:nvPicPr>
          <p:cNvPr id="964" name="图片 68610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181400" cy="11811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826920" y="4149720"/>
            <a:ext cx="4608720" cy="4935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755640" y="4797360"/>
            <a:ext cx="4608360" cy="4939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684360" y="5373720"/>
            <a:ext cx="4608360" cy="4935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6"/>
          <a:stretch/>
        </p:blipFill>
        <p:spPr>
          <a:xfrm>
            <a:off x="684360" y="5964120"/>
            <a:ext cx="6624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85840" y="870120"/>
            <a:ext cx="8572320" cy="54385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3348000" y="286704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5364000" y="314172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1979640" y="4581360"/>
            <a:ext cx="1079640" cy="4939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4140360" y="4581360"/>
            <a:ext cx="1079280" cy="4939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6588000" y="458136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2124000" y="5805360"/>
            <a:ext cx="1152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9410" descr=""/>
          <p:cNvPicPr/>
          <p:nvPr/>
        </p:nvPicPr>
        <p:blipFill>
          <a:blip r:embed="rId1"/>
          <a:stretch/>
        </p:blipFill>
        <p:spPr>
          <a:xfrm>
            <a:off x="614520" y="2143080"/>
            <a:ext cx="7914960" cy="2571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2700360" y="4076640"/>
            <a:ext cx="57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8373" descr=""/>
          <p:cNvPicPr/>
          <p:nvPr/>
        </p:nvPicPr>
        <p:blipFill>
          <a:blip r:embed="rId1"/>
          <a:stretch/>
        </p:blipFill>
        <p:spPr>
          <a:xfrm>
            <a:off x="504720" y="1400040"/>
            <a:ext cx="8134560" cy="40579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2916360" y="4781520"/>
            <a:ext cx="1942920" cy="4939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6516720" y="4781520"/>
            <a:ext cx="19429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7352" descr=""/>
          <p:cNvPicPr/>
          <p:nvPr/>
        </p:nvPicPr>
        <p:blipFill>
          <a:blip r:embed="rId1"/>
          <a:stretch/>
        </p:blipFill>
        <p:spPr>
          <a:xfrm>
            <a:off x="1247760" y="2481120"/>
            <a:ext cx="6648480" cy="18957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5508720" y="3803760"/>
            <a:ext cx="23032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6324" descr=""/>
          <p:cNvPicPr/>
          <p:nvPr/>
        </p:nvPicPr>
        <p:blipFill>
          <a:blip r:embed="rId1"/>
          <a:stretch/>
        </p:blipFill>
        <p:spPr>
          <a:xfrm>
            <a:off x="281160" y="1504800"/>
            <a:ext cx="8581680" cy="38484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1042920" y="2938320"/>
            <a:ext cx="4969080" cy="4939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826920" y="3529080"/>
            <a:ext cx="4969080" cy="4935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900000" y="4133880"/>
            <a:ext cx="4969080" cy="4935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684360" y="4724280"/>
            <a:ext cx="755964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5300" descr=""/>
          <p:cNvPicPr/>
          <p:nvPr/>
        </p:nvPicPr>
        <p:blipFill>
          <a:blip r:embed="rId1"/>
          <a:stretch/>
        </p:blipFill>
        <p:spPr>
          <a:xfrm>
            <a:off x="309600" y="1481040"/>
            <a:ext cx="8524800" cy="38959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684360" y="2867040"/>
            <a:ext cx="7632720" cy="4935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611280" y="3500280"/>
            <a:ext cx="7632720" cy="4939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612720" y="4091040"/>
            <a:ext cx="7632720" cy="4935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5"/>
          <a:stretch/>
        </p:blipFill>
        <p:spPr>
          <a:xfrm>
            <a:off x="539640" y="4724280"/>
            <a:ext cx="7632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4276" descr=""/>
          <p:cNvPicPr/>
          <p:nvPr/>
        </p:nvPicPr>
        <p:blipFill>
          <a:blip r:embed="rId1"/>
          <a:stretch/>
        </p:blipFill>
        <p:spPr>
          <a:xfrm>
            <a:off x="324000" y="1214280"/>
            <a:ext cx="8496000" cy="44294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539640" y="3213000"/>
            <a:ext cx="7417080" cy="4939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539640" y="3860640"/>
            <a:ext cx="7417080" cy="4939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4"/>
          <a:stretch/>
        </p:blipFill>
        <p:spPr>
          <a:xfrm>
            <a:off x="468360" y="4437000"/>
            <a:ext cx="7416720" cy="4939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5"/>
          <a:stretch/>
        </p:blipFill>
        <p:spPr>
          <a:xfrm>
            <a:off x="468360" y="5084640"/>
            <a:ext cx="7416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2231" descr=""/>
          <p:cNvPicPr/>
          <p:nvPr/>
        </p:nvPicPr>
        <p:blipFill>
          <a:blip r:embed="rId1"/>
          <a:stretch/>
        </p:blipFill>
        <p:spPr>
          <a:xfrm>
            <a:off x="285840" y="1185840"/>
            <a:ext cx="8572320" cy="44863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"/>
          <a:stretch/>
        </p:blipFill>
        <p:spPr>
          <a:xfrm>
            <a:off x="611280" y="3198960"/>
            <a:ext cx="5905440" cy="49356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539640" y="3846600"/>
            <a:ext cx="5905440" cy="4935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4"/>
          <a:stretch/>
        </p:blipFill>
        <p:spPr>
          <a:xfrm>
            <a:off x="898560" y="4379760"/>
            <a:ext cx="5905440" cy="4939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5"/>
          <a:stretch/>
        </p:blipFill>
        <p:spPr>
          <a:xfrm>
            <a:off x="826920" y="5027760"/>
            <a:ext cx="59058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7:45:56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