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5C3-A8EB-4BA8-99D8-555752A8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5DD-1B93-4503-81F4-5DFECC74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307AD-F2FD-41A6-8FC4-6A16D2E8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FC1B8-A26D-4F3D-9BB0-0AD82167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440E0-6F9D-422D-B412-ABF3F957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C8EA-5936-4DD7-9F9C-E595C8E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B993A-A435-406C-8902-0E79CB2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D8793-D399-4BC6-8AD7-AE48D6F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C346E-B5DB-4C52-8168-FDC1DCB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81F97-F899-40D6-B0DC-D9C4EBDC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5FF56-420F-4499-BAC3-E9BC4C30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B0FE-5DE5-45F8-92B9-CC90CEC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F14-683B-4DAB-9DF2-EAE0C9E9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64015-847F-4D2C-8B45-1016A28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22ACD-A4E3-45EE-AC4F-8D690AE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DEC3A-F93C-4C48-B0C6-3110FBAF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63265-EC2D-4CB1-882E-909F51D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DF4E2-7F61-477E-94D1-B990C0C7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A92AB-03EC-4D21-B067-1D9B77F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F3150-2230-4B0A-AB89-33AE89E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4E6ED-AB9A-482A-B55C-47B11A1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023E2-2B08-4468-BF18-6BB9D06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6BBFE-1638-48EC-AA93-CCB281EB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BDF-A2AC-49A7-B731-22FB9470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1E4DD-509D-4A11-AB84-54C487E8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4B9E-66C5-44C9-9E42-D166E3F5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A8564-8D30-4EFC-BEC7-8FD18E2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6EECC-C8CE-41E4-83A3-BC35089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93C19-23BC-47CD-825D-B3372CF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9938-9884-4D4C-8F30-5A6BE26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DCD2-D2A7-49B2-BDE5-2E7EF0E0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D6783-846F-4FC6-9FA8-5147EA6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A05D-9B96-4005-8DC9-C547C96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F9D88-8DE8-4006-8FEC-2EC7646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B519-CB62-4B1F-87BE-4A5C16D3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290F7-F68A-4041-99D8-10A52BB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2881C-287C-418A-B467-8A444BB0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3705-BA30-409D-A72D-38142FCA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0703B-4676-46B8-AF47-BE099FC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4F12E-422E-4D08-9FAD-6C07978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9A02-C734-4309-B216-87E561B8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FFC2C-BF06-4B35-9006-15AEDD3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487A-7536-4E69-BF6B-E3CCACD9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AFFD1-FF5E-430F-9116-3C3967D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4DA1B-CFF7-42D7-904B-3E0B1B4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5617-0E53-4458-B335-C96C7A3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422BE-B00F-40F8-9079-CB10881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F5FF0-7095-4CDA-86FE-2474E52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C05C-5483-4C8B-8060-9B09A2B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31322-614E-4276-8707-DFD6D0E0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866F2-64B2-4253-AC7E-CA067E1A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831C7-C415-4738-9B31-6E26A081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C46CE-8A69-4D27-BA71-CD2A47A8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9FA5F-C2B2-4F6B-A290-22DC5EAE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AACB9-2CD7-4625-8EDC-2175D1C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89C84-BF8E-41DE-9B2B-65ACA3D9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61A-EB20-41AF-A399-9DF4602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F5A08-24B5-45C1-B986-2E37CBB0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B44E9-32AA-496F-98EF-86E9660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63DA3-817E-4F7E-B3B5-6B21B92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F7B06-6B1B-428C-B4F3-0E93B73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83F73-DB66-45BB-861E-9528294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BE236-B17F-41ED-B9D0-CFD23AC6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8E5D4-B5C2-40DB-981F-B4976D91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52A8C-29C2-4D85-9E2D-C9DA851E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6C445-759B-4430-9369-FD72CA6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8406C-A743-485F-B3C8-9CDABB39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61A4-A411-4F64-90AC-C79484A4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32EB4-887A-4CB6-BC2B-E3FBC27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ED5D0-D33F-4339-AEC0-71B802ED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81BD0-EA6D-404D-A59F-EC14E477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AB867-67FB-44EF-8DEE-F88075A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F7A38-5BEE-4F1E-9357-7C61AB8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4D9C0-5703-42ED-BE6B-AEF689DB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0C4AA-90FA-4112-9AB0-C4A92A11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73CA2-DD62-43A1-92DE-B203FFC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4A459-5E04-4EBC-AEE3-A87D9146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5FD2B-6715-4F73-919A-5636B25A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E63-BD50-4BA6-86E7-459E850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B193A-0852-49DE-AAA8-BB828439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BF2BD-5EF7-4B0A-BD63-0704D2A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377F9-53B2-48EE-AE38-41CDC3E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7CB24-8153-44E7-876B-93A52880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E498A-D7BA-4496-BF91-550FDFF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C0B5C-FFD0-4B5B-A0A2-DD31F02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F213D-1E1F-4D44-AFBA-357779C9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D4B2A-DDFD-426E-9ABC-A72AB39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858B8-B0D4-4C22-A1A7-6FBAB01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E723F-2458-4BDD-B593-02CDFF22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3D8-9C91-42C5-AD6D-35FFDB99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1617D-CA0B-4DA5-8F7D-AF11C66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E8906-B49E-457A-8AFB-44A8F7A1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FFDD8-8A97-40F8-9EEE-57CFF11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D64EF-4099-463F-8A1C-0571AAC0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8B134-DA3B-4F8D-B362-7C7E298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C34B5-1F55-4373-9969-5CDC5F27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2BF45-0655-4341-BA7D-3B20D62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5AF69-3477-4666-9EF8-CD582513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193FA-AA58-4B08-A9C3-FDB5DBA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4F557-42C9-4F8D-AA8B-2F737FA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191-C266-4027-A788-663DF5D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88C5B-854D-4508-8FFE-3364C9C1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F6D76-B135-4114-8EBC-2F0582FA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8551F-1CDF-4177-92FA-49162574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CE022-0288-468E-8FF6-A0B2BDB1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18B081-5D0D-4300-8ECA-6D52F4D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3C4B2-680C-44D1-800C-3FFCD30C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E2A2B-4C9D-401F-9FBB-3BFE502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46995-BFFE-4DDD-8E2C-5D0C1AEC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0A1E0-684B-4F65-80A2-FEAD71D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1910B-2737-4D00-8253-6EC9BF2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655-31E3-4C0C-A10B-927F4E8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579-9074-4C0A-AEA1-7FDFD4D3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77F8C-8C5C-479B-AFE9-40C966C3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1B792-223B-4E99-9507-170EA56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DD6E3-C93C-4D04-A557-7EB7B213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D150D-4E5E-48B3-A17E-98EEFA72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73A9B-BE55-482F-A037-501EFB07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869ED-B296-485E-8C6D-F12A041B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91C3F-6E1F-4D19-8CAB-A75C8F8A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54EC0-7513-4506-BBAC-D29B74F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20BDB-C200-4551-B1E3-F3A5BF84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4BFED-8A57-490C-B666-F3D4464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BF6-6264-4092-8330-C7789295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D26F8-BA52-443C-85C8-6498022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DFCEC-2DAC-4696-9933-3C9AC5D0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3B7EA-24AF-41B6-93C7-14E96CB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7D959-1294-4E46-91B0-DB1E9BD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EE335-2883-4AD3-BF18-FCE4AC90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981CC-87C2-4865-B651-BBA39E74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5CBAD-145A-46AB-8E05-4295790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50081-80DD-452B-A7F6-BE2F5320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1AF654-848F-41F4-BCC5-DC527DA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6F7EE-C606-445C-9CD9-C396277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F68A-32C4-43FA-AD41-121F19C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8F75B-E99F-45C4-8A9F-3750DFFA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62EB5-F644-4E17-A0C0-2BABB56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26FAF-0DA1-4617-B736-3D7FC362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B4E714-02C6-4D48-87FA-14FADE4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AF2CC-81D2-40C8-B873-0BA917A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07E13-DA82-4521-A26F-9FFF5D4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D4961-CFFE-4397-9F8A-BD48327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3A446-27A7-49DD-A2B0-6E0FD37F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7034C-B031-4E4A-8CB5-6919D7A6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06F7D-9053-4DC6-8578-F7597E2F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592-C210-4ADB-A730-4E80EEFE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B25B6-953F-4451-8DF1-833B62CE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1C55E-F271-47CC-BCB5-A81E68F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4AC6A-3771-40F8-8BF6-7DBD985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DF606-6D98-4730-9971-56A7A1B6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730B8-0675-4A92-83AD-41E0065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474D0-6BBE-4B30-89FC-E65BC58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74A2D-B542-4E54-9936-964507F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659C1-BFC7-42FE-820B-1DCD33D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BA646-0C29-435E-9EDE-40B25A3A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AD1CF-EE5A-4B1E-8191-F1AABCD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24B9-804B-4220-A2CF-2D15B769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906B5-8BBE-43D5-AA52-256B4958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BDB05-2139-4F8F-BC83-F4A81686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8BB77-C349-48E0-AD19-D31697E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C1E6E-752C-4A34-B970-AE94E02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102AB-C51F-41FD-AD0A-17CF1E83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A99FA-9C64-44C0-AD14-6677C422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88D27-EA3D-461B-A652-6FFADB29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8578F-731A-4922-982E-BFEE30BA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64D62-534D-4259-B45D-9F56991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C44D0-B1F3-4B34-BA8F-E204005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A9F6-CE61-49EE-BE74-B92F3F7D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08CB9-0B62-489B-90A6-4F6CA8FC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6FD2E-0291-43AD-9C87-9EBEFDA1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2C518-494F-4C5D-AFC4-7AC7323D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AAA5-8276-4A63-9E9C-1985BE4D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DD30-05D6-4499-91DC-1A59487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070C-159E-41E1-82AB-DBC9297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B073-D54D-492D-AB30-A2E77F6A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829-6B94-4A02-97E1-EC47B85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0E0E-5A27-4467-8FF1-068B96E5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ECEA-1FEB-4499-9966-3B3FC978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0CF4-11FD-442D-93CD-12A0791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C0F6-6BC4-4440-9BD1-2560102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9ADE-F1F5-435A-9325-40D37A9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66AF-F4A0-4B33-9C8E-17E6246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B6D7-3B7C-4F54-B63A-48B2C9DC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B7A3-749C-4CDC-9D6F-8FE2F625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FE2F-ACAF-4052-B492-EC376E0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BA55-C7C7-4005-B597-AD6769F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113-29FC-4822-82BC-E95BA76D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7E74-A4E2-4472-B59A-CDF6850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43FD-F3BD-4E8D-A1FA-8C27C43B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8326-5A1E-4E0D-8A7C-9B55D583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47F0-D4F3-4C04-ABDD-62F6566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C723-091D-4F8A-92E5-A64A288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4FF2-C5B5-4B56-A9D9-425CAB1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5DA5-DC41-42D4-BB4C-9FDFE408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EF84-0E9D-418F-BF9B-7C99376C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F61E-EE4E-47CE-A4E2-589407E5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F8BD1-3AA2-4E3C-953A-0B7F7BB1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82C-6FE0-4B15-898F-1982C47B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FBA1-4691-4DAC-8852-F0BFEA4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6DB6-E3E3-4423-A58F-7FCAC05D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C634-B995-4D11-96AF-50D29D63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03921-1E38-45E7-8A63-69047774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BC22F-6A8D-4345-8A4B-C2D380B0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12EE-2D52-478A-BBDE-E584CEB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24CE-7894-4BB4-91F8-7F4EB9A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6425-177B-49BE-8DF7-FBCCD33D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DE18-8B02-4FF9-9873-1544810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E8F8-F5E7-4116-AABA-6BAE0315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F5B-9843-4638-AEAB-7577362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28B7-4D31-4BA1-8D00-D5550E6E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8E23E-E30D-4610-A176-F4B0E96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B200-0552-4FCF-9C2B-ED68649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49CC-17C5-4589-8EB3-1EB8538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23053-0A49-4D84-BFCD-9A2EB686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1C31-CC13-4D0D-8E2B-C54A5E7E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7FEC-BC47-4173-82EC-2E49F25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5E15-E967-4972-89E7-43EDEDA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C3822-C36F-4279-AF84-E69083E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6B9B-B6E6-4D8F-929F-EB2B3E6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0FE-D3E3-4FD0-A258-93B4268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5185-BCAC-4577-94AB-5024CD70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2EE23-7883-463A-B5CC-E95B7E13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E4B6-534E-4600-B77A-BFD0F874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A3E8-78E8-4B5E-ADF9-B9AB0BE9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4225-94A4-466C-8A17-47A498A2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D959-C85E-4BC4-AC6D-C2DC5FE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14C39-750F-45B4-9A78-77B7FC6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A9CC-D4FC-452F-AD5D-6B13B958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67EB-3671-428A-9037-DC5C0C54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40BDC-7200-475B-AD40-E51C839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3EF-ED03-46A5-BC9E-C4D1C28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ABB8B-3725-4065-846C-8835FFF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66763-FC81-4BD7-9954-BF3E94F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8F7E-2269-4DE1-950A-78532FFB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48DA-E183-4D19-8D3A-35C30218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DF688-769B-4DBB-93C9-2199470A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1BC0-56F4-40B1-83E9-CEA4746C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6CE92-6A0B-4F18-BCD4-A2D312D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38F07-34A4-4B44-84C5-ADE5C0D8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B568B-9F94-4CF1-B065-2665F8E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E1150-0ABB-48E8-A5D2-11C1C61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498-48FE-4F31-99B9-7C0C40C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F559-0F4C-46FE-AE1C-4DE9CD15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08B0-9984-425C-B81B-9D05C88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FBD55-184F-40E2-9C49-1023820E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AE25-77AF-46A7-8BFF-95DAED9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7518B-04FF-448E-8331-45A9FE1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8244-3876-4B93-B852-C87D038E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0C75-2E59-4880-8113-474DE1EC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4B03-25B9-49C6-A0B4-511420D0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3868-259F-467D-96FD-DED65FA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1EED-3946-4B98-8433-9D78AC18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9182-CC5A-41C5-961A-2C44257C4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B513-FDF4-45D8-8424-04C9D5832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137-C107-4D16-A506-1929352609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187F-49CA-4F2E-A5B3-19E30C69A0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2172-E5F4-4D31-90B7-F7D2AEF90F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D13-1A6E-476C-ADC6-62E623EE4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D50F-5170-4712-9031-869BD0BC9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821-16B7-42B6-B42F-D344154E4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1163-3F60-4484-A557-7AF79D76FA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131F-30C3-463D-AB3A-2738A716F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BCE-D098-4BE5-82FD-40023FDC9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83E-9922-4E3E-86C7-789339450C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555-C79A-4284-9897-48AEB5D25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FC9B-B038-4B4D-8B7E-338C69CD0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F0F-B35E-43CE-8EB1-EFF10521C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4605-A062-4E48-8C32-DE11C5B6E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FE7-BA5E-4A4C-9F67-3BFC65E9A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44CB-1C69-484A-840A-BCE21BBE5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8C6-4AA2-48D6-9B8D-1B508551F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859C-895F-46D1-86A6-493B7366FF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1526-5223-4DD5-A727-46911415C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EC74-6D1F-4B70-B3DC-321904D7E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4DAE-7A53-4FDD-B708-BF966193F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1E08-4466-4C2A-8911-BEC146CE7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54D6-F7B9-4F60-ADEE-B0D9E631B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0EE8-1095-4945-9F18-6152AA6FE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D744-16DE-4D1A-8B76-5CE13663E5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B20-D2C0-4444-964D-BCAF13278B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CE2-9784-40A4-999F-26F710369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D65F-CE1D-4FC5-AC09-E6A1C9E90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5DE-BB45-4C0D-BAE9-1F4F2DFE9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544-2EC4-4B27-9079-64DCEE9C3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33B7-F040-4FE6-BB13-EC7A486C8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C046-A622-4B9F-81ED-77698B66B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0DC-4825-4ED2-BA39-9626701AB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6003-8F14-4C6A-B4C0-0B8432807B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1C9-CAF3-4D95-87B4-DFF49EE9A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EBF3-E26F-40F1-A8D5-E4D5DA1A2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780-A0AB-4843-9846-F3220BADA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76F-7597-4DF1-8015-CE3A4EB2FC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81360" y="2886120"/>
            <a:ext cx="5381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69633" descr=""/>
          <p:cNvPicPr/>
          <p:nvPr/>
        </p:nvPicPr>
        <p:blipFill>
          <a:blip r:embed="rId1"/>
          <a:stretch/>
        </p:blipFill>
        <p:spPr>
          <a:xfrm>
            <a:off x="480960" y="804960"/>
            <a:ext cx="8182080" cy="5248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232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3059280" y="214776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148360" y="280980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3851280" y="5459400"/>
            <a:ext cx="93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314280" y="1986120"/>
            <a:ext cx="8515440" cy="28857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4062240"/>
            <a:ext cx="2232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257040" y="152280"/>
            <a:ext cx="8636040" cy="6589800"/>
            <a:chOff x="257040" y="152280"/>
            <a:chExt cx="8636040" cy="658980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257040" y="152280"/>
              <a:ext cx="86299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1025640" y="4970520"/>
              <a:ext cx="7867440" cy="177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8388360" y="558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476360" y="619452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443640" y="619452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252360" y="782640"/>
            <a:ext cx="8639280" cy="5886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272360" cy="1008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39640" y="4595760"/>
            <a:ext cx="7272360" cy="1008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68360" y="5675400"/>
            <a:ext cx="727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85840" y="1486080"/>
            <a:ext cx="857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880920" y="1709640"/>
            <a:ext cx="7382160" cy="34387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7353" descr=""/>
          <p:cNvPicPr/>
          <p:nvPr/>
        </p:nvPicPr>
        <p:blipFill>
          <a:blip r:embed="rId2"/>
          <a:stretch/>
        </p:blipFill>
        <p:spPr>
          <a:xfrm>
            <a:off x="1052640" y="1733400"/>
            <a:ext cx="70387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1071720" y="1805040"/>
            <a:ext cx="7000560" cy="3247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128000" cy="936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2938320"/>
            <a:ext cx="712800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55640" y="4135320"/>
            <a:ext cx="712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76120" y="1000080"/>
            <a:ext cx="8591760" cy="485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050920" y="3313080"/>
            <a:ext cx="568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1162080" y="2305080"/>
            <a:ext cx="6819840" cy="22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2406600"/>
            <a:ext cx="6553440" cy="951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042920" y="3559320"/>
            <a:ext cx="6553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76438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6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