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0C9-FE1C-4A2F-A09E-FC083F9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9BB-16D9-438A-9BDD-204424CA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7D16-60F3-45D4-B068-5058B3F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EFAB3-077D-48E9-8ED7-0DDEF1B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B2DEE-4F33-41BE-90E7-19D0289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EF3FB-B8F7-49FF-9550-C90D6DA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1A00-3E2C-42FC-8377-C3D40A6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FE61D-5E5A-4C22-92B7-4CB1197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8158A-C002-4C7A-AFA8-47D4C27C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88DA-EA8E-4880-A5DB-41DD6B43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74EC4-D0EF-4081-A284-9DA88CAC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D23D-33E5-4713-8174-363C490F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D62-B30C-4651-B87E-3A4C0042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82330-CE9D-4F66-BFAA-EEB11745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EEDC5-E72B-4CE3-AC04-9EE528E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B91CB-1200-4018-8488-CCE3460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6733-A186-422D-9659-94E4F2CC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2F13A-1847-462D-AB3F-5C87D844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E4373-56F2-42DC-8FC6-B1EA810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7D6B-65EC-4601-9C80-D9B623F0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6F3F-0ADD-45C7-B692-11D40565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D2A63-44D2-4995-BDC7-58CA9506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C593A-CA5C-4715-8429-9A7D2E5E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2C3-BE03-498A-B11E-7C99E4DE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EB358-757A-4EA5-92A4-6DD28DCD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5127-F207-4033-85F6-05D9E775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36290-032F-4268-A4FF-F8F2856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32C36-7EFF-4F75-9A6A-4DC1B6E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00424-30AD-46F8-AD35-AE5560C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5BC5-4F3C-42F1-880C-E9429994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27BAD-03D5-4750-BD30-1ADF26F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2E07-A670-4609-8323-143744F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32838-101B-47D6-8028-E7208CD0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37FB-0DC0-4F94-BAA4-06D2C49F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2B5B-EDAF-4641-98B4-ABA9C24C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22AF0-930F-4426-AA0D-623541E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1B515-1F6C-417C-B0D7-3E111C7F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015BC-D688-4422-9ED9-8AF54A45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00A13-8964-43E0-8BC9-E4AB8BB0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99664-4CD8-4547-88F8-8F5B15D8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27ACC-39CF-4BA5-B41D-B414F39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E7A31-14DD-4F73-8835-0D545A90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F62A9-6438-4549-AF73-BCF06F7F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E1903-1BAA-4420-B099-71456FA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F28A4-FC8B-4D21-9783-111D833B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A37B-A6E6-42E3-B8AB-47BA3B9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CF787-5284-4A85-8471-6A3327F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F8D18-4B3C-4FB5-8733-DCFF24A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009D4-8515-4D39-967C-0BFB784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64747-7DD3-4A0B-958A-DFEA7299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2C70B-B4EA-4C78-9D31-5677FA1F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5B4AB-3CAE-4689-B254-BF60E60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ABC43-DC14-4546-85A8-FE0EBFEC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7D784-8C98-4781-8FC6-C02A6A3D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C6FD7-AA2A-422C-9BD7-AF651D6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49FF7-F0C9-4268-9AA2-A4A6497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F2F-AF33-4B6E-B8E0-8FD3DBF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5D77A-6CA4-495B-8BCA-5327D3EF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D1DDC-06BC-42C5-9BAD-FC8C8AFC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BBF30-2112-4C42-88C9-42493B2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FA2B9-62EA-4716-9142-6174376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D6FCB-F7B0-4B17-AD81-39572E22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F808F-20AF-4D76-A295-4871AF0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06C73-B475-47CA-BFF6-FE5E6977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B2C5E-3CE3-4136-ACC7-5BA4ACF9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7E497-2F30-4757-A83F-B65D384A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27C3F-62B1-4281-8464-5B987DB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5F1B-0D56-49F9-8782-45BDA27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2CB16-0536-49E2-ADCE-857106BC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DB2B5-677C-413F-8724-3A8A85B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72DE1-7AA8-41C9-B1DB-1EF0BB7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CCC8B-1B86-4EE3-9F50-8B40311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FA47C-6EEB-4649-9DE5-4E2CA08C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EA0D3-B770-4D4C-94D5-D6AC816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A3925-00E9-463A-B8AE-4875EE2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6F6C8-71B0-4219-8337-847C9270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D33BC-87D8-4B6A-81C6-01663493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03993-4090-42B3-B086-B2C71B12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A49-F548-42B3-AD25-A93D56FB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63A1C-DB0C-41F7-B19A-3D5EBD3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B0516-2F30-497D-92FB-5AD7B47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8DAB1-2778-4E7E-8CA2-D23DED8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D85E2-6969-449F-842D-B6029FC4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0554F-ED98-4B8A-BBF1-43D364E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D57EC-6996-42F5-9412-24844E6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A3B34-564C-4568-830F-331A203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B72DD-7C2D-454B-9FE5-EB4CDD3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1F402-7C59-4E60-9DB0-9C82E49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86B66-3D9F-4F74-9884-690F83B1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9761-6B6E-4DA5-B3EC-FBD302DE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DECCD-6E76-4C90-ADBD-32F7A2ED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B93AD-D9C7-4CB8-96D5-F5E74C5A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81084-D783-47E9-8CE4-2FE97F07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011A9-994B-4EF9-A232-351E14E2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B83C2-2CCD-4C0F-8BFD-B118E7CB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4C10E-2284-4F9A-8C51-BF90C43B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46BE2-6837-4CB3-B29E-E537B46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C1DD3-8651-4E18-B661-AA5B01F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E00D3-FB06-4B08-B451-255875A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03A8E-20BA-4FF9-861E-03F958C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B30-B872-4700-9E69-08CF5CA0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E9ABA-A19C-49DC-BCB3-50E1EDC5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DC346-D7D0-4337-9216-75771B54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C3DDC-F109-46D7-A9D7-0BA2D68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5F223-B459-48E4-9ACC-6890A7C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7155D-C20E-40D7-BB3A-36B425D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A8FDD-3A84-4D2A-88EA-AB69C70A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FEBEE-0FB9-4AB0-9654-1B86B29D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95029-73FE-4EDF-B1AB-69DA8EE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0A673-827A-4E07-AA0E-6FD8B78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B11F1-430C-4B44-9AC3-6A112F4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411-4764-44BB-876D-327E30D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DC0-D7AC-49D4-B8F3-D77BA5AE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1237A-9622-4BDD-9BD4-2B4036A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9953F-98E9-48A1-919E-64CA2C0F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6670B-48BB-4C03-90C8-6097647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73F6C-B34E-4E83-A2B0-FDAB55C2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EEC73-61C7-48D4-8973-658790D6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FFBE8-71CC-486B-B36D-AE5DB293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3C51E-ACBA-4428-9B82-8F2B55FB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86CE6-7CF6-4967-B1A4-CC37B843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C7D5C-9B23-4EB5-8DDC-25B63E48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628C6-14FE-40B5-876B-68488EC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1C1C-65F4-4D39-ADEB-8EFF7BE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9A865-EB3C-4680-A00B-BFF06916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A83D1-98B9-48E9-8282-C9301BA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0F160-9B90-461B-AED7-39CA0C7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31762-36A1-4351-AEFF-FB94640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E05CB-13EC-4B92-91C1-DA216979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27197-9DA7-4120-8C0F-E889A0E4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8E99D-1718-4521-83DF-BA72D05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CD0F9-0063-486C-BAA7-230EF17F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F2389-C483-46C6-9284-0E2A706A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97A01-D4F3-4C79-8319-BDE9290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3BA-0F67-4C73-A9BD-2F151CF1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1B5A2-2EFC-430B-801B-314FC552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8494F-52C0-4ABC-A9EA-58CE11A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C0B63-6C37-4842-AA59-4AA548CF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1E937-6BA4-4383-B933-B1CFE80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D50EC-FFFF-4C31-96F9-00F275A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C719D-57D9-44A5-B471-C150D00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36D9AB-C9AF-4BC9-BE99-5B8F484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8F5FF-7A8B-4C0E-9EDF-E3960F61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15C57-5C9B-4A87-9C2E-FF67342D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B2AB7-F258-49F1-B5FC-0CFF51B4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138-D5B5-4AEB-8498-8C44A6E6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A5F0E-23AC-47A3-9F1A-6AA802B2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8F068-FC0F-4F5B-817F-906B36E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46BD5-5906-4096-95BE-D095347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0DC7A-17A6-4D57-A26A-D44FDD6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57859-BB89-470E-8936-4ADE452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3C7CB-66A8-4E40-8E71-0F3DF81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D0A9F-0B90-4956-87DA-0D802882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7BA6E-9330-47AB-9943-49D35A6D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1AF7D-EAEA-41B5-B0E7-EF88827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BAE6D-F645-4B76-9283-5D4B0C1A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464-2926-4B1E-9916-9E1BDDDB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BDC3B-BDBF-4A32-8254-8585FBDF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1FF77-B460-4657-B9C7-96770281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E962E-726C-49CA-BB10-072AB2D3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31F8B-48C2-4561-9649-09B30AF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3CDD0-D672-41E7-B0CB-EDB22F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393A3-6AB3-47B8-BA77-0DFC552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A75EB-0053-4A2E-85A9-568E61DD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4766E-1BA7-48FF-B8BE-D499DAF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C3AE9-C6E7-4DE0-B349-2E0CF36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DAFD5-5051-4474-8B5E-5230CF7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C1B9-F88B-40C1-979E-42B1BE9E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C5184-CF3E-4B16-B77E-16CFFF2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4FA2F-D643-49C6-BB08-20F1E605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6A391-6390-4D32-9491-BF0B0C5D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DA5F-37E8-4983-96E7-4FC6F44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7E4B-E904-4B98-B966-3B21EBC9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096F-792A-492C-A51F-37720E98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15AC-5B13-451F-9E2F-92EBD280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667-4B43-4412-953F-98E62AF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D6AE-04E9-4AF8-B2B1-7E20B1BC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D3AB-AE69-4F23-B7D6-AA00F0E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2FEE-B618-4AFA-BAF1-883C671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9884-9FEF-4792-AD49-09B542E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B248-3B75-4A8E-8EF9-B4434EF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A1FB-65BF-4AB4-9269-626A537E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C290-E051-40A2-BC55-30D11E3C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0398-DD5B-4617-BA93-03C5E5DF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5A9A-8633-4A11-9A39-9A2A90BB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1B85-118D-4671-8465-1817A78A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D12-0E50-4261-85E6-FB6B2BB6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0B7E-D07B-4EF4-BBE9-5E62964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C953-A4B3-4139-AB10-66E0FE5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E186-2AD1-4FAD-A7C7-3DDDF35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BFD9-D9A6-46C8-B72C-E1114D4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82AD-FA6B-4D5A-99DD-417D972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7011-A2A2-4BC4-BF53-D36430A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9BA9-5804-4C6F-9460-52DB906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ED23-9C79-48EE-BE20-652D531B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9356-6187-4C25-91EE-A9990ECF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C8C36-3D06-4BBA-AEAA-FD7D5A35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09F-1008-45C9-A264-4F9E9913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A4CA-9F93-41CD-8532-3697046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6A27-84BB-4EE4-A3E3-B52D65D4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D962-2E1A-471E-9E4F-A2B8C52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30B4-5406-4100-8898-4A28253E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1EB5-DF08-40F1-A129-A6EB020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55ED-E5FB-4315-BAEF-C2D9E64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8217-70D3-45C2-84D1-6D656A2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025E-4706-4C52-B1B0-CE05830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A2E9-89EF-4082-B78A-5FA1BFD0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4F4A-67A0-4C43-9B2B-66C723D3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9CB-C942-4F2B-8C27-2BCC936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3A9BB-82D4-43AA-ACBA-98D89D7D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0D59-9D63-41E0-B2C1-66A72E49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2B9E7-0A6F-4D2E-987F-82ECBA80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0420-9125-48D7-AEAC-253BD8D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CBBF-748B-44E6-A0CE-061B5CD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361C-08AD-4467-8417-6D1C9D30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F0D88-3333-41D3-BDDA-5DB5215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88F31-A67D-40FE-B72D-6397D2C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B3D14-D3D9-4784-830B-B564072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E3A0C-38EF-4076-9833-90792E0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C4F-5128-43A2-BB4F-770793C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CE75B-6861-456A-A092-33F6F489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FD634-785D-4BA0-9C03-40A5826C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0F2E-CC7D-41C2-A0B2-1F0DE6F7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44CC-A429-4E55-8A1D-18AC8190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3BD8-2E43-4E08-84FF-84E5A8C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B2C3-4352-4A71-9776-A7C1B161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8210-E7C6-425A-BF02-F57B384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3593-BEE6-48C9-A5FA-9CD7830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C8D5-B883-431A-853F-D06DF16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E4B3C-167E-4D02-90D8-44A93DE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087-95BC-4399-B2A6-BAE9A03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E787-95D6-4381-95E2-032093A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B075-1F2B-44AF-9FED-3E5EA93A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AFD9-3C56-4394-B9C5-79C9E9FE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7996-A18E-452B-B60B-E3CE0936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1A9E8-DDD2-4719-90E3-52DF7F19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92343-B9EA-4263-8E65-A5EB7345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E606-A286-4045-AE88-12CE63A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004C-8FFF-4BAE-AEB9-29ADE8F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2A9C2-5DC5-4957-A690-EAE0861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DB759-1360-4119-9E63-86ABDDE9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58C-B7B4-4550-9817-324F277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FDD00-466C-4027-B129-9ACB0C4A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64B61-97E4-4488-B0BF-7D7F4CD6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3ED7F-B13D-433C-B07D-B5DE247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06C6-52B7-437E-8032-4FAE5A8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1DC0-189F-43F9-8AEC-9A968E3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0481-252E-4110-9926-7D539B9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0E94F-CA11-42D8-A4B5-EABD5649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51A8-94C7-4473-AFD7-DAEBE33C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7B661-714C-4FCB-9ABE-43A9A2CE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BAD41-9809-4849-9300-80C7C38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573-11C9-4184-9FB5-F08E5998D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E639-7ABA-4FF7-AF56-5D86934ED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D03-3D01-47CD-8565-FBAC6C622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FD4-ABCC-4480-9391-3EC3B2A35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89E8-FE8B-45FD-934E-355F76C523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762-DE84-42D5-B7F7-DB06E9366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270-330E-464A-9DFE-8E74E33B5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178-A02B-4CC6-8993-65067AFD0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553-A40C-44B1-AAA4-6B5BC92A2B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BE9-DF21-4728-86FE-2528B3CA7D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5E80-A933-4229-BDD6-CE2D0827C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B10-6F5C-4874-A702-540AC4A837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FA40-6B69-479F-BB2F-3C42B9FBB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5C9-A89E-4978-BB2E-B4D9346EE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EA86-1A1D-498C-9AFB-9D7192859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3F71-15B8-40E4-94FD-1DA61B7EC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C37-1EEB-4B47-AF0A-C8CBB51BB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186-C64E-40BC-8C81-E12608CBB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F902-412D-4B8D-8BE9-4B5F65EE7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256-BE49-42DB-AF21-CAAC87967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78D-DAB9-407C-BE0E-A9636CBD11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739-8DDE-440C-B4DB-A33ED7763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22D-379B-43D6-8B7D-7FB014245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6FF3-C552-4926-8D0D-85C4C067F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AF8F-010B-492F-B7E5-7AA4F8CCB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7E1-297E-45A5-AB66-84AF81933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ECA5-2637-41C0-9CC7-6A8C1B1752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A671-3DBB-42E0-B698-345F68823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021F-DC2D-470C-9E2C-29122768F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AAD-49D1-4593-861F-F091FE035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B4CD-B113-44D5-9420-2C685A67E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0CB2-C713-4C6E-B7F0-6A7D2F285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123-C904-4E13-82EE-5081A5433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852E-3E4A-45FE-9468-B97278172D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9865-38F0-4AA9-B64A-D94967442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ACBF-D0FC-47B8-9412-D153E06F64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7235-90B5-4F77-ADB3-04C57C3601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65B-67C5-4E18-9C28-D5DCF6515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681-E6F2-4346-B337-34E9D326B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6DC3-7D65-4974-AC35-E2C4E9B6C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4680" y="1297080"/>
            <a:ext cx="382896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442800" y="2971800"/>
            <a:ext cx="8258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1285920" y="907920"/>
            <a:ext cx="6572160" cy="216216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9634" descr=""/>
          <p:cNvPicPr/>
          <p:nvPr/>
        </p:nvPicPr>
        <p:blipFill>
          <a:blip r:embed="rId2"/>
          <a:stretch/>
        </p:blipFill>
        <p:spPr>
          <a:xfrm>
            <a:off x="600120" y="3408480"/>
            <a:ext cx="794376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197240" y="1125360"/>
            <a:ext cx="576360" cy="790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207200" y="113976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4356000" y="19447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7380360" y="19303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192240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491796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8013600" y="36590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1763640" y="452268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5133960" y="44798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8028000" y="4508640"/>
            <a:ext cx="576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760320"/>
            <a:ext cx="8591760" cy="5981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2867040"/>
            <a:ext cx="2305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627280" y="465300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124000" y="5848200"/>
            <a:ext cx="29527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95440" y="1866960"/>
            <a:ext cx="7953120" cy="3124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1657440" cy="86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743200" y="4335480"/>
            <a:ext cx="21891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651640" y="4321080"/>
            <a:ext cx="280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19040" y="1380960"/>
            <a:ext cx="8305920" cy="4096080"/>
          </a:xfrm>
          <a:prstGeom prst="rect">
            <a:avLst/>
          </a:prstGeom>
          <a:ln w="0">
            <a:noFill/>
          </a:ln>
        </p:spPr>
      </p:pic>
      <p:grpSp>
        <p:nvGrpSpPr>
          <p:cNvPr id="933" name="组合 58377"/>
          <p:cNvGrpSpPr/>
          <p:nvPr/>
        </p:nvGrpSpPr>
        <p:grpSpPr>
          <a:xfrm>
            <a:off x="1403280" y="2938320"/>
            <a:ext cx="6193080" cy="1570320"/>
            <a:chOff x="1403280" y="2938320"/>
            <a:chExt cx="6193080" cy="1570320"/>
          </a:xfrm>
        </p:grpSpPr>
        <p:pic>
          <p:nvPicPr>
            <p:cNvPr id="934" name="Picture 1" descr=""/>
            <p:cNvPicPr/>
            <p:nvPr/>
          </p:nvPicPr>
          <p:blipFill>
            <a:blip r:embed="rId2"/>
            <a:stretch/>
          </p:blipFill>
          <p:spPr>
            <a:xfrm>
              <a:off x="3276720" y="2997360"/>
              <a:ext cx="43196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1" descr=""/>
            <p:cNvPicPr/>
            <p:nvPr/>
          </p:nvPicPr>
          <p:blipFill>
            <a:blip r:embed="rId3"/>
            <a:stretch/>
          </p:blipFill>
          <p:spPr>
            <a:xfrm>
              <a:off x="1403280" y="2938320"/>
              <a:ext cx="1440000" cy="15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" descr=""/>
            <p:cNvPicPr/>
            <p:nvPr/>
          </p:nvPicPr>
          <p:blipFill>
            <a:blip r:embed="rId4"/>
            <a:stretch/>
          </p:blipFill>
          <p:spPr>
            <a:xfrm>
              <a:off x="2700360" y="3198960"/>
              <a:ext cx="1727280" cy="80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266760" y="763560"/>
            <a:ext cx="8610480" cy="5905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377352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398920" y="378936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403280" y="6021360"/>
            <a:ext cx="374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71440" y="884160"/>
            <a:ext cx="8601120" cy="5353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40328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521964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03280" y="530064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076720" y="5027760"/>
            <a:ext cx="30974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47680" y="757080"/>
            <a:ext cx="8648640" cy="5343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2651040"/>
            <a:ext cx="316836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11280" y="4437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39640" y="50133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468360" y="567540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4500720" y="501336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4356000" y="566100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843280" y="345744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780000" y="403380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2050920" y="5229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5834160"/>
            <a:ext cx="129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662040" y="2533680"/>
            <a:ext cx="7819920" cy="1790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80036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1800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989600" y="3097080"/>
            <a:ext cx="152712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8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