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673-8048-495F-93A0-620AD776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330-178E-467D-A9D4-9535A6EF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E6842-8D4E-47A7-B657-5882F50A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2C651-F551-4BD1-8ED0-777929A5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B0F9E-DABD-4CDD-B75E-236AEB8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74702-F73B-4E02-8E98-AC4AD62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2366E-EB22-4D52-973D-E50A0B1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F9B49-06C8-4B8F-90CC-A0AE5E54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F33D3-735D-4A59-8EE4-66783294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F6527-3DE6-402C-905F-9DBA20C4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DC973-5EC3-4509-8382-A85D7FD8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6DB16-E61B-4006-B29D-227C463D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203-4573-4788-9A80-C05D98AE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6F896-5796-4EE4-A192-BD09167B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3C27E-0D7E-4323-BAD4-F32BCA6B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D9FD9-4924-4EFC-9356-09412D88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A0E6F-BB9B-43B2-9161-AF1ED23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589F6-0ECF-4912-9C6F-D33B3D01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4DA56-9CF9-414F-9AA7-DC6EF5DD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AC00E-05F4-4363-968B-6E1FB104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CF5B3-055E-4F89-9637-6A038608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2F47A-64E6-436D-A4B0-4E527F80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8DC00-799B-471E-AB06-2C4B54FC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71D-1AB4-4E43-9A49-B004D8CD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F7147-6855-48B9-B6CD-75FC6D9F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889AA-481F-4499-B33A-F11000D5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783BD-DC92-43FC-A81F-7D0BC094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1782E-EC83-4FC0-A201-E5A194E8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DAA70-E986-41EB-B4C7-DA30395D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62702-BB27-479A-A984-1345C9F2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C49AC-B22A-4E38-94E0-DC64C98D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DE642-1851-4219-9DE3-01A8FC97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91F8B-A6FA-4B35-99D2-07735950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2A792-F466-4545-9131-D4871F6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5225-84DC-479C-832E-B9450044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A9BF7-C444-43A9-BFFC-B6462FB1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2E998-68D9-4225-9D87-84B96F09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29580-A9CD-4B87-9C2D-C3409056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CC391-6768-4015-A15A-15B933A2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E3379-9F3B-4511-8F19-31F47029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6F360-C052-4AC2-8389-EEE275DF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C4CF7-69CB-4FA7-A531-D951F958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5B651-BDBE-4513-BD6B-259154F7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2D351-FE01-400E-B3CE-FA828BD3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52E5B-E352-4CCB-A373-4282E9AD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6BBE-FF11-4719-8ED8-CE86DFEC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4C5CC-A681-4F84-BEB5-F60DBC6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91E5E-1ABD-48F3-B04E-1E377C11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E84B9-5A35-4EAD-BA90-4AB16C5D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E3EF9-A919-4C41-86CE-469BD61F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E661A-0C02-4878-880D-638CABC4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D3BA2-31F5-44DB-8B42-0FA71B3F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4583D-1FD4-4CC1-8EED-D514EF51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04993-A364-454D-A636-033DE9B6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A6D32-245D-4744-A685-02F8304C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F86BF-8A6C-4B72-832E-08766D9C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18F5-1742-447E-B51C-DE8F23FA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B78AF-D3C7-4CD4-AEB3-64D8AECE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B07A0-B267-4FB4-BCF3-2C476AF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47A4B-6C85-427E-884D-4129DF57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DB4A9-A4D2-42F3-A0E5-76E9918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C3E0C-0CAF-4BEB-B5F8-D8E7DB4E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CB653-871A-40FE-96AD-1A6C2368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A16EA-3DC4-4B26-B4B1-A3F1A2A4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AAA0E-060C-4814-8AAE-0565C62A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3957E-0447-469C-9708-9B89FB22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A95A9-D96E-4F55-A212-DD2DA192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7858-F8FE-4E94-BE1B-A4AC7C8A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185BB-5F2C-4F03-A04A-1EF77207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4B6A5-EDF0-4339-9CDE-890B537B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8E12B-1F7E-40B1-A8DD-2468717C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854F3-9497-42D3-94FE-1F11707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DD6D0-3C3D-4679-8DD1-E613994A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2A8DE-25FC-426C-92EE-75301019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BB803-7EA6-4AAC-87FC-F3C1DC3F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60E9E-10D6-441F-86AD-30DF22F4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E7F1D-4D30-4CA5-B71A-27CD0B15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7E2B9-EC6F-4460-86EB-E9FE2276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635A-E164-4C57-8D70-E5D1574E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36E38-26A5-4F18-B356-A9C6F245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936DF-79C7-4C99-862E-3A0BBDF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0A2AC-C197-43B1-8DF3-C8BDDA99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17072-D35E-462D-AABF-CAD095A8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BF806-41BF-42F6-808F-687F5D01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DFF1A-7C84-4F75-BFD4-4919DD6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74831A-C354-4183-9F4B-AE06517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71315-194D-43D0-B6A7-36E952B5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C3B02-CEB6-4E79-89A9-E3650A4B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2F355-3CC7-4BFC-9833-374C09AB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6708-101F-45FC-B9CF-5B88078B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E9416-7E3F-4501-AFC4-82A45AE9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31A8F-558A-42C2-AF73-D7DD6F3A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57F01-F254-4B71-88F3-5AC3BF00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28BF6-D442-4057-A94E-6128A6CE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791E2-A2A1-42A1-AD90-C9343416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F5F4E-2796-46B6-BB44-D62FC9D2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969D7-47CA-47C6-A38F-C3A2496C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06F85-7F06-4481-8A79-8E83844C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9152A-1182-4FDF-9230-0B68AE56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E312D-BE4C-4727-8B67-B84A49A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2D73-C453-454A-BDB3-9CE30687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CECA2-F7E1-49D8-8ECE-14F0154D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ED276-CDA8-451E-BEA0-03B055B0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D223B-D047-493D-AE99-99A70740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FADE2-BC36-4F10-A692-C83F6499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CE934-C58B-4362-8966-1993B5E3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CDD89-C67F-4343-81E6-E95823E1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ADF21-095D-4F9A-B309-F565230B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C1B32-FB91-4CAC-815B-0158B1EA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285F1-E9F2-442E-BF1B-854C733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08E95-C4A8-4A61-9390-5E12B7C8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498-3968-476C-B570-EB6DA78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48FE-4FF2-4C22-956A-D4289DD0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07A27-0DD1-4E1C-8864-57E6FD4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B6D30-5FAF-4614-9563-2F3EE90E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33323-DC97-4A08-BBB7-6E345D4D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19234-1C62-423A-B07D-59E55710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3D964-5D88-4910-A6F9-94A16613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979FA-F3DB-44E8-9741-712C111D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85926-CA7B-4BD2-8CD1-B987C6DC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02193-64BD-48EB-958A-3FF6E6CE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B0AC6-7648-41B8-B61C-AA7326C8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860FC-6502-475D-AD21-35DEB7C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B705-7092-4D03-B5CE-B342919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4D8454-F11D-4F04-BD9E-2B756528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C403F-D129-4C83-9A3B-3703981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768C1-9827-4155-AB60-835272ED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210B5-B3F7-4305-B1C3-89A3E2E5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D74FC-F708-460E-AB70-D3ABFA6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C8ABF6-6FE3-4FBE-80BC-0CB5C71C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E9452-30B9-431D-BB2A-CCB2A471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1D06FF-E4F8-4D8A-8830-A53ED600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93493A-2DAB-458D-B11D-55E2761C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4B47E-A8DE-4093-B07D-E46872D9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2FB2-340D-4699-9799-5B5E436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F8F75-71CF-416D-A167-0F0E8D13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71AC2-A1CE-4667-93EF-364BA014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76608-D22A-45D5-B183-828B6792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2057D-5DE0-4931-B780-929BA8F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43DAA4-D3BE-4B33-98E5-93B0EFF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F5279-3B5C-41F1-953D-E017C289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CFF6C-0B52-426F-999E-4DFF889F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82872-9E22-45F0-BF7B-19F84631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3C8CB-0640-4534-BC58-5BAA1B4D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54919-C1D3-44DE-BA44-F331C1C7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CA00-EC14-49D9-A6C9-E241A233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921A4-E30B-4AD1-9691-9A9C083C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F5A05-9BF7-4D05-8B72-08B180C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3F416-70ED-42DE-8630-E1B1623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F804BD-98DE-4303-9307-C9BB36EC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AFD74-7052-4F89-8B7B-374B33E0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C113D-F6FD-49FD-B9EC-60E5958C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5447F-8276-48EB-A118-B3C29AEA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CE39E1-68F7-4E25-B204-02BA797B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4D1BFE-D207-41E7-8FFD-EB1583C5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E7320-5EA9-4737-AFF9-EB94D730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6CD5-71D5-4C6A-A4EC-525B0934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F40317-E34D-45CC-86E9-709A646B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CBC08-6435-4DA0-ABC7-CFB7D9B9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358503-EB04-4018-BD35-7A447F82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393645-C3DB-431D-AB13-4347F0E5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FCF658-4C30-464F-B35E-F97FE68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EA8CD4-CB7B-4341-9D12-2DCF9AAD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71E84F-81FD-4D97-B252-EA674949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CD90E5-52B9-4625-845D-F2B6B0D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9BAE01-9559-42F9-AB9A-2503D2F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2F313B-77B4-435B-B3D1-2704419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B21DC-1495-4DB8-9678-51831AC8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7B759-DD7B-4F85-9275-805F66A8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73922-623E-4B72-A4C5-4C9FF654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17148-FAE0-4BB6-92D2-5F36A711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91AF-C936-4F2B-B53A-A72D0ABE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AD97-3502-45DE-9AA0-2B88165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746A-A7BD-4F14-A0EF-4FF92A05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C1B2-D989-4A7C-9A7C-E4E6E436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61F-747E-49E7-9E99-D831717D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284E-B45B-4324-AE51-B4A985F9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1BC6-72AE-4926-AC91-F0799175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E50B-736B-410A-A615-215AB326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0ADE-0E43-4072-8F71-8B060A3E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2CDD-7372-4CEF-BECD-F5D26832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1FB5-4F4B-4C7B-8CEB-724F1206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6C5E-04CE-4417-B614-A2B53554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E3F8-758C-4EDE-ACE3-444ED6FF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4243-35C7-4CEC-8715-2990D619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4976-97C8-4B6C-B2B5-02047BDF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30B-4709-4E43-B747-D98FB2AB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9FF9-BB3D-4FAE-AC20-BFF8D191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A2D0-5A45-4171-92A0-8D3F503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F9CC3-2A26-439C-81BF-68D570E6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9BF4-BC77-473F-A6F4-ABF18FA7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29D0E-7C92-4E2D-98BC-D16869D8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438A-72F0-48B0-AEDF-7773BC69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A361-30FE-41BF-A4C0-54EF0A4E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49AF-E465-49E8-86D1-DB1D154E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E8FC-4F0A-4EFD-A932-5791A7D8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190C4-D6D2-4FD4-A86B-24BBA822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57D-E243-42DD-9545-34D73123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0BF2-5A15-4496-8748-A3AB3E82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F8B85-29EA-48F1-8BAB-CB83446D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507B5-BCE5-448A-8202-58B067E3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179FF-AD56-4BD1-9B84-87471A86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0146-899D-40E4-AF70-0AC16480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90B4-A209-4757-BE11-24324C8B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8FDC5-CB88-46E3-83EB-C148B92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EF57-895E-439B-BAC6-A23A2AA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5090-113E-4932-9DDB-383D1C91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30FBD-113B-4734-9124-4943FAD7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94F-B4FA-43C6-9739-94928A2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867A8-3999-4E44-AA26-F43D0841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BA1F6-4EBE-445F-95E3-FCBFA739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26A7C-9A80-45DD-9190-3C43B294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FE65-CBFB-4D28-B763-FE1677C5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E7AD7-C01A-41C6-9E79-8F961F94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FAF79-1F33-4F7B-A8F0-49FCE91E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6B9AF-729D-4E53-A269-B05E025C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FABE8-8919-4170-9F17-1E8A69F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6EB54-DA38-436F-9179-A17EC050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04575-F6EC-47E2-AD3C-AFA421CF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FFF-D6D5-4840-82BE-6D748C0A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6196-1EE3-4F54-8722-B8D1FFBC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2FE9-A8DB-416C-862E-D0733718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0611A-DB5B-4FA4-80E2-3967A546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71A7D-C2D0-473F-BB39-92374ED5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82AFF-225F-411C-9EDC-0BC0D8D1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909D8-74FB-484F-B8A6-3E68EFD1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03BEF-9258-4619-8B07-121EC65D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718BD-4C4E-4295-B04C-5C382691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182B5-8212-4CF2-A4BA-B7510007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B2983-E6E8-44C3-9532-E10F193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EF8-6289-4686-9173-63C1BEF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73A9F-5DCA-4B05-956D-4E92697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86689-8F28-4D23-81F7-CCAE371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A97BE-96AF-4CF3-8B29-F7A6D164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E836E-F74F-4E10-9C7E-E9218681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8686B-7C5E-4D31-8F35-C8472374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45CC5-2BD7-4A5A-9524-CC7BB2B6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8ADE3-415E-4990-8CE4-0A96BCF2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291DE-E02A-4F03-AAAE-4D635C9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75A2-F223-4B94-8665-3A3128EB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25C3-D387-4F18-B580-66554FB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2AF-0288-47A8-93CE-5545C0FD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F6BAE-0B7A-436E-9901-D4D4C942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13AA8-C4DF-413B-9A27-64AE9343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4DA1E-CCE5-4CD4-B430-073C1371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A47C6-9540-40F9-95EA-E0F6541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1F186-CCEA-42D0-8ABC-FE612849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7248C-B274-4DFE-8126-759BCB6A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23572-0C8F-4109-AAA5-F841CC75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B2DC6-6C73-4EE1-9CDD-9B9AC60A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B2D4C-6EF6-43EA-BE64-2E154407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E17A9-2DA0-4594-BAD0-6BE55AEC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E86B-746D-4482-B751-063942FCA7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D970-1672-45CB-AAA3-B603BFF68B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8968-D75C-4E7B-841E-BE52B5E859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B83D-1FC2-4561-8A45-D7F13C23C2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9057-BDE1-489C-9358-792CF0D364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A11-4905-44E4-AA26-3F010753B3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944D-ED67-4E7E-AE12-0C7EE07CB8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7F98-D180-4443-B418-F99DDB7F1F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12E1-FC55-4034-A0A2-AD6223F9E6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0711-9F20-4920-B432-5D106F40AE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19B4-4888-48E7-8B8E-F82BB88DC3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DE11-3533-456A-9677-9D86E656C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5F7A-7E80-4366-97FE-3DC4EBA208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BFD0-23B5-4155-A2C0-A2D24E69C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2CEA-50F3-4FC9-A7F5-8726572F22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6252-239C-4208-8F11-5196E0EA8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96D6-8320-4DB9-8083-B641844C6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B95D-EC27-4022-9AF3-AD335EDDC2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9CEB-C915-4AFE-A934-BF8E83BC5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30AE-522F-46A9-BCC0-F4B7EBFC82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A48E-29E8-41D3-B1B6-1EE5A51683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C618-29F8-49AA-B626-5CAD979AD2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B29E-7581-4537-A866-C2B89D230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00D5-3252-483C-AA37-9EEFB92C03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2711-11F4-4A93-8D57-C90BB6E44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81E7-AD5A-45EF-8041-D584624946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46E1-FBA3-4C2D-B7E4-B697A09014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F094-2E05-4639-B0ED-5AE0A95E20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01AB-87AE-4260-B279-13D96F560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D5A9-E398-4DAF-BEA8-D8879EE4C4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D074-1FC8-413C-BEB9-95E6B8F003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A959-D981-483F-B318-5C17428FC2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E9C1-0131-46CF-96A2-62AD55395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651C-DAF6-4A80-BB2C-F07C3982C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6281-C01A-4197-9EC1-999CF2F81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1DDB-1720-42B3-A77C-2732BE672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BB85-D931-4FD9-9C1A-AF2622680A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4AC-25CA-4751-AA50-AC27396425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BC03-3DDA-4A09-90D9-F50615D278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BC8E-2CDC-449B-A65B-685DDA3547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9633" descr=""/>
          <p:cNvPicPr/>
          <p:nvPr/>
        </p:nvPicPr>
        <p:blipFill>
          <a:blip r:embed="rId1"/>
          <a:stretch/>
        </p:blipFill>
        <p:spPr>
          <a:xfrm>
            <a:off x="638280" y="819000"/>
            <a:ext cx="78674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8609" descr=""/>
          <p:cNvPicPr/>
          <p:nvPr/>
        </p:nvPicPr>
        <p:blipFill>
          <a:blip r:embed="rId1"/>
          <a:stretch/>
        </p:blipFill>
        <p:spPr>
          <a:xfrm>
            <a:off x="557280" y="2214720"/>
            <a:ext cx="8029440" cy="2428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00000" y="3471840"/>
            <a:ext cx="77756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7775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7585" descr=""/>
          <p:cNvPicPr/>
          <p:nvPr/>
        </p:nvPicPr>
        <p:blipFill>
          <a:blip r:embed="rId1"/>
          <a:stretch/>
        </p:blipFill>
        <p:spPr>
          <a:xfrm>
            <a:off x="619200" y="995400"/>
            <a:ext cx="7905600" cy="48672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468144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826920" y="3443400"/>
            <a:ext cx="468180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826920" y="4019400"/>
            <a:ext cx="468180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00000" y="5286240"/>
            <a:ext cx="66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3920" y="957240"/>
            <a:ext cx="86961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795240" y="2209680"/>
            <a:ext cx="7553520" cy="2438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877080" y="220500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924360" y="2852640"/>
            <a:ext cx="338436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389240" y="4076640"/>
            <a:ext cx="1079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576360" y="1633680"/>
            <a:ext cx="7991280" cy="3590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313200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4255920" y="4149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148360" y="30830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242040" y="4149720"/>
            <a:ext cx="79200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7380360" y="3083040"/>
            <a:ext cx="79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7352" descr=""/>
          <p:cNvPicPr/>
          <p:nvPr/>
        </p:nvPicPr>
        <p:blipFill>
          <a:blip r:embed="rId1"/>
          <a:stretch/>
        </p:blipFill>
        <p:spPr>
          <a:xfrm>
            <a:off x="257040" y="676440"/>
            <a:ext cx="8629920" cy="5505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403280" y="4897440"/>
            <a:ext cx="756144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1116000" y="5530680"/>
            <a:ext cx="7561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576360" y="1495440"/>
            <a:ext cx="7991280" cy="3867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71640" y="34005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755640" y="4653000"/>
            <a:ext cx="7993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5300" descr=""/>
          <p:cNvPicPr/>
          <p:nvPr/>
        </p:nvPicPr>
        <p:blipFill>
          <a:blip r:embed="rId1"/>
          <a:stretch/>
        </p:blipFill>
        <p:spPr>
          <a:xfrm>
            <a:off x="666720" y="2200320"/>
            <a:ext cx="7810560" cy="2457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971640" y="3471840"/>
            <a:ext cx="7777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55640" y="4091040"/>
            <a:ext cx="777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314280" y="1905120"/>
            <a:ext cx="8515440" cy="3047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332000" y="3889440"/>
            <a:ext cx="781200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71640" y="4451400"/>
            <a:ext cx="781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609480" y="870120"/>
            <a:ext cx="7925040" cy="5438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971640" y="1469880"/>
            <a:ext cx="777708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777708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777744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898560" y="4538520"/>
            <a:ext cx="77770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898560" y="5129280"/>
            <a:ext cx="777708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826920" y="5705640"/>
            <a:ext cx="777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2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