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A99-E1B8-478F-8DE2-51CAF26A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AF6-337D-4F74-B497-6632CBD4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FF54F-FF01-4CEA-B615-5682E4CC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C05F6-9EA8-4C2C-A239-C5B60E3E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803CA-DC79-4323-A42D-6FC76512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78E8B-052A-4F5A-AF61-5D1FDED6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9D86B-642F-42E1-8E05-B4C91167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093D9-C8EA-4942-92E9-2F85CCC8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95780-25EA-4199-A1B5-97FC3F8E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1B8E6-FF6B-42AD-AD6F-B3DB527F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0F0E7-9C26-4FB0-943E-64557469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C4FCF-AE6C-44B8-88D6-A45A1095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DB5-321B-44A9-9DA3-1326DFF4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71A1B-A434-4D00-B6F9-803AEB10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A77F2-61FB-4450-A510-EDF03114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19FF1-5A7F-40E2-939B-77F70902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F0FAB-0311-4297-BF66-C8A4AB77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09B9A-E774-4650-B8F7-81C35DA2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C3077-DCA0-4993-BDFC-FAC030C2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E9BE7-DA65-4BE6-9DBB-1264D462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E5C50-26C2-4B49-872D-0E17E46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A5B8D-8B3A-4AE2-B5D9-8ED7D398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0B94F-FCF3-4911-8F4E-E2E27921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F8A-4B0D-4061-87FD-BDFAD061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FE0CF-EB69-4CB3-9F52-3836E57B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A0E4-401A-4729-9B4F-CF150AB6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08DDF-D2FE-404C-A9C4-54DF09E9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EB618-2583-480A-A6A5-F70FDE95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9C819-864D-40D8-A4A1-E8D792D0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5F785-2B8F-41FA-A79D-A762D1FF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21B48-9941-49C4-945F-9C98EF1E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78B22-1ACA-428F-82FA-6B00DF84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1E1AF-E7F2-4ABD-915B-5F02CE3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28D45-3579-4895-A397-9A4501C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4F14-E01D-4665-A5A9-9BCA2A3C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1B01F-ECD1-48C1-A7D1-DC243AB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BA9AE-2CA2-4A8A-B741-BEF4322F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F6BA1-2143-4F6D-AD37-A38173A1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BC718-6815-4126-89BC-3DF36166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BAA98-2A0D-41F1-A2FD-CD52EB85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9FE30-DF09-4BCA-87B2-97BE5426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BB18E-CE3A-43CA-99D8-37D71178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43D33-26C1-4FB9-A67A-8AD2011E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78B12-701F-4AC5-80F6-A9FA108A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EA93B-4C2C-4305-A9F1-AD05460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D9C6-115E-4589-AA61-3563D782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003C2-AA2F-4AFA-8ADB-63F01776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2B2C3-735D-4E8E-871C-DCA2554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7A7E9-6358-4497-89E1-14DA447D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B9692-05EE-4627-AA81-9E0E7207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4C446-2896-48A1-AD75-B5CBDD76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259D0-2025-4345-A065-A64C3345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51841-BB0B-4C25-B6DD-628779C6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894E7-54CF-4552-B947-11E87B61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85784-51F6-4D95-90AF-DC4002C1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F52A8-4790-4114-ADAB-377AF05D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D836-94E0-47B3-97F7-B3A745A8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FD6FF-8A98-4469-95B7-F1F13C2F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F0B9B-CC3D-4F34-952A-6718866B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66EE2-8AB9-457B-AE1D-26FDE81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84C72-FF00-4056-BAF9-1842D3A3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4414F-77F2-4CA0-A11C-09DC58AF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C2FA6-3AF8-4A8F-9A35-12736D3B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D58B0-F564-4422-8375-D6AE5834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D9664-0116-4698-8400-665B7D68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44A66-84DD-48C8-AB5C-9DBECD14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6EB1F-DB45-4CF7-8C7D-40BCECB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BD17-B954-42E5-B88D-B016856D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96A25-21D6-4202-95E3-EB7C6B1C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D39D9-15C0-43DD-B807-A82D722E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B641E-B7C5-4CC3-8A0B-4374F2C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30F1E-B06A-45E8-A8F0-779C2D10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DFEC5-34B5-4F97-BA36-5E61D849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5DA93-4DF6-4B92-889D-C52BFCDA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9FF0D-5FF2-4DF8-BBBC-B15A97CA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6E9B5-5A45-488D-AD9E-45570A27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C2BD5-C04C-42A1-AC41-76B2F900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8A364-491F-4A16-8A1C-73DE2CC6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F8A2-735E-420A-8548-183CAEE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530E6B-4A54-494B-BF49-034AE9A5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B29F6-A16F-4283-BC47-F3F28C81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E37A1-A8A1-49CF-B61C-A5744769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C9E10-1CE0-4420-AC17-F57A7A84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233A8-1EF4-4A62-BEBC-5ACCD131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34DF7-3E62-40E6-9854-73864E9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12931-2B2C-4C11-8C92-B0B3FDA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DBEC3-4E7D-40C6-AB06-7474EB0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11B82-EBCB-4675-BD14-3216698A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C07B0-9118-4320-8829-84FCE3B9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6121-7A43-4EF0-810F-ACEFE912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980C5-421F-4D22-B447-0F36A41F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C1B89-DA55-48AD-8FFB-64BB3762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6C6FC6-0C6F-457F-864F-4CB9CCF8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F6DF5-7FA7-4D81-BAD2-58C6E8E7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BB220-6DF4-40AD-A081-BB3B02B8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C88D52-A157-4316-8266-563635F0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57A74-8D10-4F30-8D5F-3FA5EB7C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56A71-8C67-4160-8D96-3D8DBD70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036A6-2882-4B1B-B007-7A9C10FF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D080D-94F1-439A-BC4D-CD7DF896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12A5-5521-424E-8F08-669FEA42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4308F-66A2-4A6F-9D84-AFDDAC29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F863F-1A00-4D43-B9D7-D3B0B5F4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07917-BA08-4B58-A99C-1CE3253A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574E0-103F-4C29-94B6-FEEAD8C9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73569-D68E-4461-8B89-F9E4168B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BE767-92C6-4CD1-B01F-DA5B825C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8BA5D-5D32-445F-BC48-525DF3F9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E573E-247A-4826-826D-60F9F8FE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C3418-EB41-4653-9799-43A764B5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EA9507-28C1-4372-82B6-61736A2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334-D11A-4554-A2AB-46323E9E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4F00-8537-4C40-8D98-D4C54E1B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98C255-766C-4C91-89AD-0AAC3E89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E41E3-0501-47C0-84FC-C554B17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66834-1879-412D-A70E-05D4F968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FC0C6-08DB-44AD-B84B-D4C7D1F1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C9C94-92A3-4F9F-BD48-BF9AB16D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C3270-A388-43E6-8294-1ED1C543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C31E7-AA63-4763-BEA5-8A246F07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03A11-6F43-47EC-92ED-103E0EE2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9C351-3CF7-46C0-AB7C-7C24D103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D42E9-72AD-45C1-B1F5-9B098BA4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37BE-8EB4-4089-8A9C-D2A9D22B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5FF97-61DB-4D68-A245-D0EDE4BD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80BF9-9861-4F7C-8AE7-EE1FFB0A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7B2B5-B9DF-472F-9660-35517AE0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9F61A-86C6-42E5-B7FC-B6A72912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B28141-9239-4F8D-A431-B4EE3426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11221-E4C7-4B31-A055-C2B1EBA3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42C2F-0AD6-4A97-ABF0-520BFFA8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E739B-FB1F-4EBE-BED3-E10D0D8F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433BD-F757-499F-BB47-89552FC4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A542F7-313E-48F0-ACC7-42D1E39A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8371-C4E1-48B3-961C-8B9A4BBD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6A149-DEF9-4D8B-BB4F-91FC5B1E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942E0-8D85-48C7-8B26-01B4616F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E784A-D785-4744-B439-99F63720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95D60-3203-4294-BFBC-010FDB5B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1CBC8-E706-4AD2-8F35-3B7CA54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D65D4-9AE8-4492-8CC8-DE50BE64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6C397B-7E7A-4925-B3DA-0C004AAE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30D020-26F5-4772-A30A-FEA2DF43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37633-36CC-4FFE-9B4F-D5BDAFD4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B5002-B0C1-4955-B971-F6C2C05B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611-56AF-4F7A-98F8-331B5023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F2A8B-0AE0-4C3A-AFD9-D6A91E01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F169C3-218D-42A1-AEA1-CF219B45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209AAD-AEF3-470C-9461-A3D58D16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9C2B3-D711-444F-9B56-233ACB07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C5123-62A3-48A3-9B00-44D69A7D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E8A6E-4247-4C7D-A627-043136DD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ABE509-562D-4DB4-AEB4-1CA9AD1C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C1D8A-419E-4B79-9E82-095E3C5C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5621F-EEAD-4315-B29F-EAD46DEF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19D60-CC78-4BF8-87A1-D1279487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80F3-CC75-4D32-9622-C19D20B9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63ABD4-0200-480F-9B50-DEFC620E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CB667-ED83-4D18-8B58-0556E1B2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63D6A-73A8-4128-A0FD-D25B67F5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D94AF2-A0FF-4933-8FA3-CB653627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6F564-1A21-446A-B498-3EBADA72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883ABD-3A94-4986-AB09-F5DD5DBE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0D800B-14C1-4F3E-8AAC-1ABBF3BC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95C4D7-D9C2-48CD-9C59-2F0EBEF7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94FBEF-4A2B-47CF-8B6B-C3A3B47F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7C059D-E6D4-4FD8-B7E8-261B4F8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96409-8C82-47BA-A628-28898643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02F612-0991-40C0-8306-6023659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6F43E-AF01-4D14-B1BA-C9D4EAF5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56EBA2-E488-4CF2-8EBD-C6685116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AC7D-21A4-4246-9B5B-FE9F69F2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1A66-B7E1-409A-9805-6D354BA4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1705-A666-4BAB-95C2-1A299326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D28F-C6BD-4D60-A367-B63B7C3F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9FF-7353-4BD5-819B-17A19A42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2906-F2D8-448E-B183-476957BF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215B-53B9-49FE-8505-3D079547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049DA-1253-4B36-9C7D-380F2B3D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E615-CABD-4631-B8F7-E1052037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E93C-9C43-4768-9444-36CE7AFD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7FB8-883E-4127-BBE6-6D75DBB1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FFD0-4C60-457D-8EFB-6C64ACF5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E4D1-A0D6-405D-8072-3D28A218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777B-896A-4EC6-BB48-0A157757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4D84-D653-4570-885E-B76C625F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6BC-8F88-40FE-9E1A-833B296B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7436-CCEF-4A01-B6F9-8EE95F14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7ED5-BBDA-49E6-B16A-770A69B9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F162-23B9-4537-A1AE-B0B17937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B346-BBD3-4479-9733-850962F5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23D3-300F-4014-9107-BAB650D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81F1F-6820-4ED2-AFE6-2C7D153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DA4C-AF00-42D5-ABC3-11819EB9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0CAA-A248-465E-891F-FD5A8FC7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1C26-8C4E-4FB3-8FEA-FCE1D992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BC458-0755-4A95-95BA-D9174A38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EFE-6B88-4C9E-AB27-DADDD48F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576B-1C44-42E1-9528-D481EE68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D4CF5-3C2B-47FD-83C0-145E34CA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5F8E-30AA-4725-93E9-52156DC7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310D-59D5-440A-8FD4-92C43999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A01A8-08CA-4743-B6C9-D0E2F104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D3FD1-E0EF-4A18-8905-2148B7B5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4AC5-4E6C-4E0A-9D66-C155C98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A0F2A-6C28-4263-A13C-D83F111B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3BB5D-268F-4A2F-BA34-BC18316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3516-1681-4297-A61C-5A337E67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E5A-9F25-4004-B5FD-C3BB09DC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9484-5B35-470F-B148-D8C21ACD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FDC13-C82A-484F-992F-65200ABA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55138-6750-4524-87B6-8FCFA115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2DCF-EDE1-4EAB-9615-F64BC4E3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8C1D-C2A2-4919-8C71-7064A3C0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815AA-C197-4997-BC8D-CEB99F9A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143A0-08F0-45E8-9A90-66BD758B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4F634-D6DC-4AED-9C6B-CB579C6B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D388-6DFA-4AB0-A806-6936AC2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E4FBC-D6E9-45D0-B43E-1F7BBF30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CE9-49FD-4E06-B9BA-A895E556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26601-3E8A-46AB-984F-199BFF17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B497A-260D-47F8-9778-6A7569F6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EE9B1-BB08-4EC7-9607-73D448D7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EEB82-BCAF-40B0-B10A-84CAE750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90903-3972-44B2-B9DF-F703D7B4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FD0B-8AC0-401B-B473-F24DB0E4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F4BC9-79D5-41D6-A5F7-FDB3A36C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2105F-F120-4494-81A5-30CD66A6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1B98D-0B4C-4C99-AD2B-9A8A3A67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0DA3-446B-41A2-85B2-2FCFF44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533-4141-4645-B413-9C60F3AA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938A-2B21-435B-9A30-40F4A29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5889B-EE97-4D05-90FD-45CB980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7907-2189-4989-8987-6CEDA66B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C5D86-45F5-41CC-89BE-815D988A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04D07-24F9-4133-BD9E-E16A947C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9A9AC-B29B-489B-87C3-D4FFF83D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145F2-5938-4EA3-B3B2-B3D964D8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BFF11-0702-4563-8D93-0C6C2197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2CB50-030C-4EA5-9022-E3F69E31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CAC4B-7318-403B-83AD-A16F14ED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E1C-B652-42A2-9D5D-A7768F8B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AE641-0D7C-4E9D-ABB3-D7AB17F9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3E85D-0CDB-4483-A36C-7E9FDB7F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E70A9-AD31-4234-9A46-CCD91FA9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EF5D5-D264-4DF0-86E7-9A69007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03FF8-A4A7-4CD5-A11A-40C16B4F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B368-BAD7-4857-88F8-DFB7349F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93997-70B9-4694-B938-CE8ED8F7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1A35D-2233-453E-AD1E-AC60CF1C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B8C8D-B6B0-43B5-BC30-1766CED7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DE23D-846D-4211-8F56-5880ABE9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3129-65A2-45D0-B13B-4D3745E539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0BD1-8115-47A8-9BC7-88B7B2E449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4C0E-C5FD-458A-B294-8FAF0AE9A9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CC6C-5371-4006-BFB0-9D7C6307E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336-C1EE-435C-9566-FCA30F8C9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E749-7D96-4184-827B-2E0B157FE9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1EEF-A2FC-494A-9C28-516E53547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DE66-23A3-4E31-8A77-587449D131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05C7-9523-421A-92AF-E0ADFCB7ED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0330-3D4E-4796-A43F-022500E8C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1F05-835C-4A85-9F09-1D953B557A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2714-2E95-45AB-8757-4DC1759F4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1684-55FD-4FA0-91E1-590A6678E6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5F30-0F38-4A47-8155-478DFE0A08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4F5-54AE-4A6E-8DBA-CD715122F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6674-D774-4835-8E0C-132BA9505F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9284-EEC4-4E8F-BAAC-CC8A168E59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56BA-C5E8-4EA8-B42C-6B27A736BF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C99A-F4A0-4107-B7DC-E3EB905268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E12E-F5D3-425D-B4B3-2214957A0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8790-8DD4-423C-B48C-7A13811A6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88FA-E88C-4668-ACDC-0F2141041A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588-8B6C-46A2-A95F-3933F02B0C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CCBE-83CE-4437-9036-F99E286D6B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5C93-A917-477E-BF3A-9E0FABBA4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705-F6A9-4093-9D66-6A71872CA4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DF62-58DC-4CC0-B591-5CD66FE6A3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A5F3-FE70-4CE6-9D24-DFC239D4B9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9ABA-872D-46E8-8D47-8251F0C954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3C57-9491-455A-842A-8E20E062B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4E11-01BD-447E-B397-AA07CF0560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11F1-7BBE-4E88-B208-2F71A89125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B3AE-3C4D-4E3B-B4AC-FC2E101996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BF98-5528-4D76-83B6-4C598034C8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2B85-7F82-4B30-A1CA-2B5E307EEA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DC5A-9C2C-4688-8A24-38F2A073C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6DA7-AE6A-475D-85CE-0A60B0AD35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710A-9A4F-4D8E-AF65-BDC5C423C0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2474-23A5-40C7-8860-63A39DC1A3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AD99-0553-40A2-8B3F-FA0C4A021F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62240" y="2909880"/>
            <a:ext cx="46195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69633" descr=""/>
          <p:cNvPicPr/>
          <p:nvPr/>
        </p:nvPicPr>
        <p:blipFill>
          <a:blip r:embed="rId1"/>
          <a:stretch/>
        </p:blipFill>
        <p:spPr>
          <a:xfrm>
            <a:off x="295200" y="185760"/>
            <a:ext cx="8553600" cy="6486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3529080" cy="863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1187280" y="5056200"/>
            <a:ext cx="259272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826920" y="5603760"/>
            <a:ext cx="806616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684360" y="6165720"/>
            <a:ext cx="806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8609" descr=""/>
          <p:cNvPicPr/>
          <p:nvPr/>
        </p:nvPicPr>
        <p:blipFill>
          <a:blip r:embed="rId1"/>
          <a:stretch/>
        </p:blipFill>
        <p:spPr>
          <a:xfrm>
            <a:off x="995400" y="1341360"/>
            <a:ext cx="7153200" cy="221004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68610" descr=""/>
          <p:cNvPicPr/>
          <p:nvPr/>
        </p:nvPicPr>
        <p:blipFill>
          <a:blip r:embed="rId2"/>
          <a:stretch/>
        </p:blipFill>
        <p:spPr>
          <a:xfrm>
            <a:off x="523800" y="3716280"/>
            <a:ext cx="8096400" cy="2305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7596360" y="1600200"/>
            <a:ext cx="576000" cy="820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4427640" y="2521080"/>
            <a:ext cx="936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7380360" y="257976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1835280" y="4033800"/>
            <a:ext cx="936360" cy="7192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5364000" y="401940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8164440" y="403380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1979640" y="489744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1"/>
          <a:stretch/>
        </p:blipFill>
        <p:spPr>
          <a:xfrm>
            <a:off x="4629240" y="4897440"/>
            <a:ext cx="936360" cy="719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2"/>
          <a:stretch/>
        </p:blipFill>
        <p:spPr>
          <a:xfrm>
            <a:off x="7999560" y="4869000"/>
            <a:ext cx="93636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779400"/>
            <a:ext cx="8562960" cy="5962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740720" y="494172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812000" y="62085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595440" y="2128680"/>
            <a:ext cx="7953120" cy="2600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7380360" y="292428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7451640" y="41054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333360" y="914400"/>
            <a:ext cx="8477280" cy="5467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258920" y="515772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042920" y="5776920"/>
            <a:ext cx="698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7352" descr=""/>
          <p:cNvPicPr/>
          <p:nvPr/>
        </p:nvPicPr>
        <p:blipFill>
          <a:blip r:embed="rId1"/>
          <a:stretch/>
        </p:blipFill>
        <p:spPr>
          <a:xfrm>
            <a:off x="628560" y="1805040"/>
            <a:ext cx="7886880" cy="3247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561636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561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6324" descr=""/>
          <p:cNvPicPr/>
          <p:nvPr/>
        </p:nvPicPr>
        <p:blipFill>
          <a:blip r:embed="rId1"/>
          <a:stretch/>
        </p:blipFill>
        <p:spPr>
          <a:xfrm>
            <a:off x="681120" y="2076480"/>
            <a:ext cx="7781760" cy="2705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71640" y="3414600"/>
            <a:ext cx="561636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900000" y="4033800"/>
            <a:ext cx="561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5300" descr=""/>
          <p:cNvPicPr/>
          <p:nvPr/>
        </p:nvPicPr>
        <p:blipFill>
          <a:blip r:embed="rId1"/>
          <a:stretch/>
        </p:blipFill>
        <p:spPr>
          <a:xfrm>
            <a:off x="309600" y="569880"/>
            <a:ext cx="8524800" cy="61722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03280" y="6323040"/>
            <a:ext cx="4392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4276" descr=""/>
          <p:cNvPicPr/>
          <p:nvPr/>
        </p:nvPicPr>
        <p:blipFill>
          <a:blip r:embed="rId1"/>
          <a:stretch/>
        </p:blipFill>
        <p:spPr>
          <a:xfrm>
            <a:off x="647640" y="1338120"/>
            <a:ext cx="7848720" cy="41817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042920" y="2521080"/>
            <a:ext cx="266544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067280" y="2565360"/>
            <a:ext cx="266544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826920" y="4956120"/>
            <a:ext cx="48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2231" descr=""/>
          <p:cNvPicPr/>
          <p:nvPr/>
        </p:nvPicPr>
        <p:blipFill>
          <a:blip r:embed="rId1"/>
          <a:stretch/>
        </p:blipFill>
        <p:spPr>
          <a:xfrm>
            <a:off x="276120" y="1819440"/>
            <a:ext cx="8591760" cy="32191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3851280" y="4292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5219640" y="3429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3:2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