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515-A034-444A-88FE-741CB893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D4A-F781-4346-8313-CF74D6EE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205A3-D02E-43A1-A34A-C8E0A08B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DBBB6-571A-42A8-BE6D-47D4C357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0C591-B1E6-4E74-BEF6-82DC97CD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75697-F56E-4C7F-A63A-CC19EF81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64399-ED80-400B-8B3D-DECCDE82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EE7BB-6B28-4260-88C2-F2B7208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EB93F-C197-412F-B372-732A434F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DD752-AEBC-49CC-A650-11E51321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E77AE-5DF7-47CE-83A2-915576A4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EC46EB-EACE-43B9-A6D1-86762BA4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895-A29F-4F55-9956-F60263B3A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E238C-409D-485E-8A87-D533549E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C1BE9-A763-4517-A3C2-595B22A9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AAC57-F6C6-45F3-8AFE-61233E1D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F9891-3424-48A2-A030-EF02B5EED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3E8F3-1785-4C53-B0BE-3DFCD966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BF2F8-34FA-4443-911B-D59EDF4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C0265-8012-4B81-8328-0D1D0EE6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E3885-FDD0-4A81-BB90-5E429FF0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31341-DD0E-4D06-9F66-499A3B5B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73C78-C2A7-4D14-9958-C760133B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0DA-0CCD-435C-AC71-D41B66E0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7056D2-0C54-4E0D-96C3-48A50E7A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FF47D-2C59-48A2-B102-CF1D0C593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D6D4D-C9FE-46A2-928E-2310C607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87F06-ADBB-409C-A053-BBB3DFF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93C2F-5C9E-4070-9618-AC5B08BD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D25A4-4412-4AD5-83EA-BAD2BE6D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B653F-1D11-4A77-9A5D-A1FE3B9F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38968-789B-4449-8B82-33B82AFE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A200A-AC37-4D68-83EE-896BAFCA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9869A-2AB0-4878-934E-178D767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B001-0ECF-45B6-BF8A-FE22A0F2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8F7A5-19BE-402D-8F8B-6AA422F5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D9DAD-A28E-434D-94F6-D31AFFE4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3C637-3DE5-4A79-890B-1D75C823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B12EA-E725-4435-88C3-2DBD52E58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C8149-9024-4AD5-A2A7-B6D19DAD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3F60A-E46C-4C75-8FEE-62381EEF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997A7-DCD2-49A0-BDCD-A7E8AE03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99A12-D012-49C3-A5BD-E2CD9479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FBA77-E965-4E33-AF2B-E2F6C25B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EB54A-9608-4AFA-B8E9-7CB9546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34C9-DE53-4E27-B89F-6E27EF02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A4929-C1DC-4312-A1D5-760241BC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70BE5-0CCC-4793-BC8B-0A113200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B94F8-D060-427E-887D-9E2CC6C5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31C25-7CFE-4A8E-9026-880277A7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D0CDF-6A39-4A0B-ACDE-01CECE9D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5AE67E-FF28-47B9-B83F-01B5F795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79825-A9B3-4F11-8F98-A14753DC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853B5-AF75-4593-A875-12C30D7F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B99BF-B928-4FDD-9196-68D9D2C2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62201-7913-4C39-BD17-5631B225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7D4E-5C23-42CF-906F-6EA758ED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318F10-C146-43FE-8115-186185D8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A8D5D-06AB-48D0-9054-65F7188B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8831C-3351-4260-B018-9B7F7062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99E57-23E3-42D0-B1CF-F3D1721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49069-069C-4B29-8AEB-FABF5BB9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810A2-9AC9-4888-BA7E-1AC1495E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F8ABD-40AA-4BEB-ADAD-1E50F3A5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1CF07-45C9-4D18-BFAB-6250D8C1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E9F8DF-01E6-4983-A408-39E41164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13ED4-EC3C-40FF-B1B8-E7EB2C2E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7CB7-1E76-461F-924D-25D8750C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CB95E-9711-4828-8207-F09144DF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6C6B1B-F89E-4D54-9A0D-BED98766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E0C8E3-7B6A-40EE-B169-F67A2E12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CB161-16B1-4CFD-A953-9FAD0EC8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5D6FB1-A77C-46F9-84EF-3BE1D523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548652-93EC-49EF-B779-8EA0E522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B373AB-9F90-4388-848C-8E122DB8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7D507D-C741-4A35-93B6-5DA9B4DF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66BDC-0BC2-4A10-9F57-E8B46BFC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8120BD-B301-40FF-865F-30B29AE0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B044-F760-496F-8AEA-DD5EC705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C1099-5AED-4A7A-9461-F62CB380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140275-8C8F-4133-9515-C6FD59C7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B7BF3-0E47-44D0-A2EB-BDF7390C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F7E410-D7A8-4D93-85AB-5211611B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5E24AB-9012-4AD5-AFB4-B1C012E6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FD092A-755C-4FAF-8AED-2C45F141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447E0-606F-49B0-9448-DB4D55E7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E1F6C-24CC-421F-848A-D5C7B4F1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013418-EBBD-4BE2-AF54-74274C97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5F7DC-3FF1-4BB5-9F61-DE0A49DD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A0F8-9D16-4AC3-AB38-949833FA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18066-2F0E-457B-81A6-716D48C7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4E72B8-623B-4BF6-ACF3-419871D4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3685F-7B06-4E2F-941F-FDAC4B16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C2F03D-46BA-4358-A3EA-7CD98424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73703-2408-48D9-836C-D8786BC2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DB698-D949-412F-9B21-C9E4B1D7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A5674-DC64-408E-AC3F-5A39A6EB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D3281-C01C-49C7-9373-28F40325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3BF8C-82C3-42EB-8D17-D172CBC4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8FCC8-672C-430E-9715-D66CB07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69BB-1171-454F-BBA2-4EB2D0F1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543FF-1F58-46D7-A2FD-4BD70A02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8DBF8E-2021-4692-9E0F-544EF6A9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9D769-90B6-40EC-86A4-CEE17C71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39C702-A02D-4484-A9B5-CC9F2E7D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B93D4-6AB2-4A7F-8947-EBF45A01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87A23-871D-4E33-8E97-2092879A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CCB0E-FFD9-4F32-927B-24404DE5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1363D1-9E11-4C58-9F46-91017CAB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EC99C-DB58-4651-B3A1-1DA6A4FF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FB74C-97F9-4FB0-9F66-7D6252D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F12-1A62-4D4D-A2B3-84AEFC2F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7FFD-726D-4C7B-AA70-8134B9D7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501F94-C9E5-42E6-AF2F-2D0506EB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33AF6-D5B6-4306-B33D-678EC6EB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25EB2-080E-43C0-91AF-6E0E48A0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78BC91-D41D-4BCC-9BCF-47B9A8B4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094E12-5428-4B1A-A071-62A0493C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EA08F-1B55-453A-8AFE-30CA1173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9B67F-3C6D-4114-A6DF-32EED69F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8DFEBE-0A11-4FA1-BCE2-56CCBCE6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3B9EF-7798-4755-B00C-36823CBF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C9DE66-68AA-47D5-AF85-13D29F23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8175-561A-4CBD-9D54-C6B75765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CC8EDB-C19F-4FC7-A0FD-58CD26ED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BF91E-0758-4F42-8C44-71228B43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7CE40-EC65-431B-87FD-69F9705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866C0-1108-4041-8554-29C284F1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5843C-19F2-4F5A-B5A6-806D12D3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90D1D-70D4-4D89-8E48-1B300398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8C0A6-AD28-4913-8987-A24E4ABA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87CB54-A885-4E7D-A027-2095B2B7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7320C3-6436-4DAF-AF6D-E98B2500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05B60B-74C1-4918-A98A-6EE6F74D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B730-372E-451E-9F25-C354B39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058D9-07D0-41F6-8C74-08B97E38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BB25E-E569-4B49-90CA-176C4736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90F434-671A-41A5-8816-AC22932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47CBE-6669-4921-837E-E1A15199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3A628F-A37C-46BC-9A79-BC03BB65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542E1-349B-4D96-95C1-C1BEA758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034AAC-7156-4B73-922B-4D87B5A5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63E1F-B937-4A56-810A-9B86144B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5370AD-E0B8-43D8-A0E4-507D4434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FDD2E9-01A4-4573-AD16-C9347CCA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E6D4-17B9-4520-A0DD-AB252C7F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73AA2-59E2-43F9-959D-6C6D7A58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FAF00-CBF6-4AE3-9BE7-B588E54C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EB436-E5E7-4449-BDFA-2C6B62D3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B27B5F-7B50-4A12-B019-967D5352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FB7C2-F2C2-47B6-A4E4-6E6B70F0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EFEB69-5345-4579-9133-E848B8EA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3894A-EF89-4048-95B3-494950C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170DD-534E-4318-A386-2F65C2C5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8D1A87-398E-4A60-8866-235CD9C4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5D4B4-0ABA-4157-B69C-648E1039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081A-0B28-42CD-90DC-D0B02D7C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34062-CCE3-4629-B56B-D050FD5A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5D122A-0613-470F-8F43-84FD0FB4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C5F1E3-BA87-4DAA-AD08-E11969F1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7E0F0C-31E2-43AA-A717-D87CCEDC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C4129D-6C3B-4FFA-9890-9C2B4343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DFD841-E388-4F34-AF4D-987EBB4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22CC5-67FF-49C5-B1E7-DC994163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C560FB-4F7D-4338-A5D2-87A4755D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253359-CA2A-4BE6-806D-4E404554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915D75-436B-4E4C-B983-3A25DC12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96AB2-8F3E-4A74-A795-81F383B0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FD0C7E-EA45-416A-BA92-15C59F32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2DBB9-FF0A-4C8C-B081-0A7C662E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E8B1D6-10EB-4221-9DE4-81DE20D3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69D2E-3B2C-4C4B-8621-96F73DD0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E1593-4AD8-442E-8AAF-0D530E75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A9856-FBF9-491D-B459-7E7BAD4B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22A4B-3E88-41A3-BD0F-FDB73F24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43B-5ABF-48BD-BAA6-32779B4F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74381-199C-433D-A7CF-A9920576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32A00-E815-4D86-A328-8AC4AAA0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4F1A-736C-450E-9D1A-B0A5AF23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7AD8F-C8E5-4019-AB26-CD480526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6E0D-514D-438B-92ED-72FC2A18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432FF-48E3-47D1-A2D6-50F3FA68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F679-1003-4A69-AF4F-C021594A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0C34B-A716-4E3A-8C35-58F6C26D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545AF-D373-4575-887A-D01B1ED1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9399A-8904-4ED2-8513-C07ACEAE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EC1-5477-4E50-B05B-F5A31040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63CF6-184D-4DC2-9A6B-E05AF25E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E992-C440-47A5-B9A5-BE005556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E53E-5C97-4329-ACDC-464311ED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7631E-53D9-4F11-9157-65D939FA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D1585-6020-42B8-8B78-0DA69E93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43DB4-FF80-4097-841D-41B33D3D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AD02D-2661-43B5-987B-DBC23E18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D5CC-498D-4E21-86E3-45CEA3CE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E39B1-7B11-4164-A765-2B8E3BA2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ACD76-F0EB-43FC-AD11-7AFFAF0F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C3F-28EE-48DF-98F8-C91AB92F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B12CC-F6A2-479D-9E0E-76992CB3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87021-30F0-4D5D-9181-E33A9E82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BEEE9-B8CA-4009-9C7A-FE82BA4D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DA63F-1337-4B96-8E3E-DE76871F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DB78-BC6D-48DA-B6C3-F45798F8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AED77-9B87-4F75-8CB9-B004ED54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43C3F-6F8A-4F2B-B6A0-D146F5F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07AC5-C1F3-4B9C-855A-F903012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81F1-1E0A-45BB-A796-BDDE9143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64FC1-F102-4C10-A31E-4DDCA4E7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334-CE9D-42E7-AE13-AE05A0CD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5138E-50D2-41CF-ABE0-0F447FDC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8E0F8-CC1B-4EAE-BA4D-9BB35C20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2B3E0-F1FE-483B-BB39-192A3593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3905C-89A9-4429-9960-8FA88BC5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CA5FE-16D7-4123-95E0-DFF88F94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800C7-1AAF-40A1-A4F5-F698DE34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C0B68-2248-4F63-8DF1-7AEAB624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5D495-0ED8-4FB8-9C9A-1842F8CD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CB818-A7C1-4A5D-A236-CFC0D64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35354-25BD-45AD-A97E-73C1BFAA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A98-6297-4D2C-8F40-5AAA6E6C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285C0-A5A1-40C3-9D76-06D65F67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A5AB9-7439-49D9-8D57-C1A5D2DF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B3BE6-3D61-40A0-8E02-6AAED951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73D3E-CFC2-4A2A-9B7E-73FFA946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EE260-F2D2-4900-AA72-ABFEFB06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98B8D-2B99-4A3B-9921-2F444CC0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6C343-00E1-4274-8686-BA8682B3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BA52-CFD9-4B8E-AE02-628E7231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7790-6ED5-4795-9060-C2478FE4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A9F1C-EBB6-4B80-BA71-2F52082F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2CF-24AD-437F-BAC0-C341521B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FDCDD-E466-4E50-8822-A4D4798B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09E7B-3BE1-45E4-BFE3-D74AACED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EE860-6CC8-4C7D-BF05-892A9DB7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78A58-C614-4E20-8302-EF861619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A3E1A-CD3A-4B4C-9832-472659AEC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91623-D434-4F2D-A14B-DE62F761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3F0E1-341E-4396-BE88-9530A281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C0969-6BA1-40EE-AAB6-349926A3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FA934-4C0D-4631-A311-84CD4468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2F1B-81E6-48EB-B070-691C15C3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852-9C7A-4D95-812E-07C54CB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2F109-919F-4971-BF4B-A6DAAEBC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B1B2A-7DA4-4138-B990-F1D028C4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49686-C7F9-4A11-ABEB-A0EB969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BB495-9084-475D-9B85-F6037996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0C445-536A-4295-ADED-4B0104E8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C6024-E39A-49A3-932E-5234E801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F5EDB-2C39-4230-886B-A6135463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6A42F-905D-4520-A6EA-A1C99D88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ECCE1-9EBA-49F3-B19E-7B712E35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BC759-27B0-42FE-B2EC-8A512B46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71AB-0F96-4D66-9F75-90A5B2BBF5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4E5D-13B1-4077-87B8-53BE4C3B9F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2525-ACE3-4FD1-9F06-6A688FA1D9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5A18-BFBA-4EA1-AFD2-DA4EB8E7B6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28DF-08B2-49EE-BA7B-DB2B828A4C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0708-A50A-41A4-AEB0-5CEDCA4F12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EF9C-DBE2-4EF7-ABB6-F753176AB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3C02-67E7-475E-96C4-FDA7DB31C9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43AA-7CED-464D-9241-B8A36CB52D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0DC8-450B-4F8F-A186-5E7ABC2BC3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71E9-16AE-4BD8-8942-51C4653F25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7EB4-55F5-4FF3-8411-865A53508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F30B-A6ED-472D-B21E-003846869B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AA8B-CFEF-4133-ABDB-03774FFC73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C3D9-F01F-4B86-ABF8-9E2885EEC7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3AD-C610-4C38-8C93-2689DBC968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9588-E4B0-4C2E-992B-EBE728EE77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DA65-F0F5-4CE7-8289-38545E23B2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F23B-9809-4E79-9F48-B5CBE1A35F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EA93-EF5A-480E-BC43-5A4D3204E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8858-BC33-42B9-8804-D0C9CB93E7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D5B8-4E9B-4F75-93F4-81B47D3459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FC76-237A-43C2-BC89-621D9A33C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0CD3-7455-402A-94FD-279825E76E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7075-A644-43D9-A8BD-7E6B53698C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E62A-5E60-42BE-A75A-2DD6BEC6DC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46E2-F4A5-4D0A-B2F9-B959562979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F2E9-E56D-41B4-A064-3B3BE79C08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488B-F52C-441E-B878-BD78AA60D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1476-71A3-4472-81E3-49412281B1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7E53-41ED-4DAC-8007-DDF48E0337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BB11-1C0B-45FF-A71A-3D2F4E9BE1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C40A-ACA7-47A2-A95F-2847F6F2B3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3F9E-06A2-441E-917F-EC28AD4F97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0DEA-304D-4B6B-A16E-2E49D69640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0EF5-EBC2-41ED-81CF-EC743D580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8393-5D94-4069-A886-0F4ADD7F8E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BDAA-75B1-4D59-951D-20D30DC48D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963A-1AF5-43CE-BCBC-6412B2F713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08F2-457A-43E6-A664-BE28AC6153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QQ图片20200731093942"/>
          <p:cNvPicPr/>
          <p:nvPr/>
        </p:nvPicPr>
        <p:blipFill>
          <a:blip r:embed="rId1"/>
          <a:stretch/>
        </p:blipFill>
        <p:spPr>
          <a:xfrm>
            <a:off x="169920" y="2340000"/>
            <a:ext cx="8753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 69633" descr=""/>
          <p:cNvPicPr/>
          <p:nvPr/>
        </p:nvPicPr>
        <p:blipFill>
          <a:blip r:embed="rId1"/>
          <a:stretch/>
        </p:blipFill>
        <p:spPr>
          <a:xfrm>
            <a:off x="281160" y="777960"/>
            <a:ext cx="8581680" cy="58197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539640" y="299736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468360" y="342900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5"/>
          <a:stretch/>
        </p:blipFill>
        <p:spPr>
          <a:xfrm>
            <a:off x="539640" y="380844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6"/>
          <a:stretch/>
        </p:blipFill>
        <p:spPr>
          <a:xfrm>
            <a:off x="395280" y="5110200"/>
            <a:ext cx="5472000" cy="318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7"/>
          <a:stretch/>
        </p:blipFill>
        <p:spPr>
          <a:xfrm>
            <a:off x="395280" y="5516640"/>
            <a:ext cx="5472000" cy="318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8"/>
          <a:stretch/>
        </p:blipFill>
        <p:spPr>
          <a:xfrm>
            <a:off x="395280" y="5950080"/>
            <a:ext cx="547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68609" descr=""/>
          <p:cNvPicPr/>
          <p:nvPr/>
        </p:nvPicPr>
        <p:blipFill>
          <a:blip r:embed="rId1"/>
          <a:stretch/>
        </p:blipFill>
        <p:spPr>
          <a:xfrm>
            <a:off x="281160" y="2147760"/>
            <a:ext cx="8581680" cy="25624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611280" y="2987640"/>
            <a:ext cx="5976720" cy="3189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5977080" cy="318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539640" y="3808440"/>
            <a:ext cx="6120000" cy="318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539640" y="4221000"/>
            <a:ext cx="6120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67585" descr=""/>
          <p:cNvPicPr/>
          <p:nvPr/>
        </p:nvPicPr>
        <p:blipFill>
          <a:blip r:embed="rId1"/>
          <a:stretch/>
        </p:blipFill>
        <p:spPr>
          <a:xfrm>
            <a:off x="290520" y="1533600"/>
            <a:ext cx="8562960" cy="37908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8353440" cy="3193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3"/>
          <a:stretch/>
        </p:blipFill>
        <p:spPr>
          <a:xfrm>
            <a:off x="539640" y="408636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5"/>
          <a:stretch/>
        </p:blipFill>
        <p:spPr>
          <a:xfrm>
            <a:off x="530280" y="4951440"/>
            <a:ext cx="8353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14480" y="1081080"/>
            <a:ext cx="8915400" cy="4695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971640" y="206064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3203640" y="206064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5508720" y="2565360"/>
            <a:ext cx="122400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2340000" y="3068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536400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10"/>
          <a:stretch/>
        </p:blipFill>
        <p:spPr>
          <a:xfrm>
            <a:off x="6877080" y="35290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1"/>
          <a:stretch/>
        </p:blipFill>
        <p:spPr>
          <a:xfrm>
            <a:off x="6443640" y="400536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2"/>
          <a:stretch/>
        </p:blipFill>
        <p:spPr>
          <a:xfrm>
            <a:off x="4500720" y="450864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3"/>
          <a:stretch/>
        </p:blipFill>
        <p:spPr>
          <a:xfrm>
            <a:off x="6659640" y="4508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4"/>
          <a:stretch/>
        </p:blipFill>
        <p:spPr>
          <a:xfrm>
            <a:off x="5724360" y="5013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5"/>
          <a:stretch/>
        </p:blipFill>
        <p:spPr>
          <a:xfrm>
            <a:off x="2843280" y="5516640"/>
            <a:ext cx="503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9410" descr=""/>
          <p:cNvPicPr/>
          <p:nvPr/>
        </p:nvPicPr>
        <p:blipFill>
          <a:blip r:embed="rId1"/>
          <a:stretch/>
        </p:blipFill>
        <p:spPr>
          <a:xfrm>
            <a:off x="262080" y="781200"/>
            <a:ext cx="8619840" cy="5600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2771640" y="76500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502920" cy="3193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2340000" y="1268280"/>
            <a:ext cx="1511280" cy="319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5292720" y="123516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1436760" y="244476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7"/>
          <a:stretch/>
        </p:blipFill>
        <p:spPr>
          <a:xfrm>
            <a:off x="4043520" y="2452680"/>
            <a:ext cx="239400" cy="204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8"/>
          <a:stretch/>
        </p:blipFill>
        <p:spPr>
          <a:xfrm>
            <a:off x="6588000" y="244944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9"/>
          <a:stretch/>
        </p:blipFill>
        <p:spPr>
          <a:xfrm>
            <a:off x="1547640" y="302580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0"/>
          <a:stretch/>
        </p:blipFill>
        <p:spPr>
          <a:xfrm>
            <a:off x="4159080" y="302580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11"/>
          <a:stretch/>
        </p:blipFill>
        <p:spPr>
          <a:xfrm>
            <a:off x="7183440" y="302580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2"/>
          <a:stretch/>
        </p:blipFill>
        <p:spPr>
          <a:xfrm>
            <a:off x="3492360" y="350028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3"/>
          <a:stretch/>
        </p:blipFill>
        <p:spPr>
          <a:xfrm>
            <a:off x="7380360" y="350028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4"/>
          <a:stretch/>
        </p:blipFill>
        <p:spPr>
          <a:xfrm>
            <a:off x="1042920" y="4508640"/>
            <a:ext cx="865080" cy="318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5"/>
          <a:stretch/>
        </p:blipFill>
        <p:spPr>
          <a:xfrm>
            <a:off x="2627280" y="4508640"/>
            <a:ext cx="86508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6"/>
          <a:stretch/>
        </p:blipFill>
        <p:spPr>
          <a:xfrm>
            <a:off x="4140360" y="4508640"/>
            <a:ext cx="86508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7"/>
          <a:stretch/>
        </p:blipFill>
        <p:spPr>
          <a:xfrm>
            <a:off x="5796000" y="4508640"/>
            <a:ext cx="865080" cy="318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8"/>
          <a:stretch/>
        </p:blipFill>
        <p:spPr>
          <a:xfrm>
            <a:off x="3924360" y="5046840"/>
            <a:ext cx="1079280" cy="3189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9"/>
          <a:stretch/>
        </p:blipFill>
        <p:spPr>
          <a:xfrm>
            <a:off x="8172360" y="5056200"/>
            <a:ext cx="432000" cy="318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0"/>
          <a:stretch/>
        </p:blipFill>
        <p:spPr>
          <a:xfrm>
            <a:off x="5805360" y="5589720"/>
            <a:ext cx="43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58373" descr=""/>
          <p:cNvPicPr/>
          <p:nvPr/>
        </p:nvPicPr>
        <p:blipFill>
          <a:blip r:embed="rId1"/>
          <a:stretch/>
        </p:blipFill>
        <p:spPr>
          <a:xfrm>
            <a:off x="109440" y="1976400"/>
            <a:ext cx="8925120" cy="2905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838836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8440560" y="3040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838836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8388360" y="40575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8450280" y="456264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57352" descr=""/>
          <p:cNvPicPr/>
          <p:nvPr/>
        </p:nvPicPr>
        <p:blipFill>
          <a:blip r:embed="rId1"/>
          <a:stretch/>
        </p:blipFill>
        <p:spPr>
          <a:xfrm>
            <a:off x="628560" y="743040"/>
            <a:ext cx="7886880" cy="53719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2843280" y="3284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4500720" y="4365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7812000" y="530064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56324" descr=""/>
          <p:cNvPicPr/>
          <p:nvPr/>
        </p:nvPicPr>
        <p:blipFill>
          <a:blip r:embed="rId1"/>
          <a:stretch/>
        </p:blipFill>
        <p:spPr>
          <a:xfrm>
            <a:off x="552600" y="1143000"/>
            <a:ext cx="8038800" cy="4572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2095560" y="212400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4067280" y="2124000"/>
            <a:ext cx="649080" cy="3193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6012000" y="2089080"/>
            <a:ext cx="649080" cy="319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7956720" y="213372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2095560" y="263700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7"/>
          <a:stretch/>
        </p:blipFill>
        <p:spPr>
          <a:xfrm>
            <a:off x="4067280" y="263700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8"/>
          <a:stretch/>
        </p:blipFill>
        <p:spPr>
          <a:xfrm>
            <a:off x="6084720" y="263700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9"/>
          <a:stretch/>
        </p:blipFill>
        <p:spPr>
          <a:xfrm>
            <a:off x="7788240" y="263700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10"/>
          <a:stretch/>
        </p:blipFill>
        <p:spPr>
          <a:xfrm>
            <a:off x="1042920" y="4149720"/>
            <a:ext cx="1513080" cy="18003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11"/>
          <a:stretch/>
        </p:blipFill>
        <p:spPr>
          <a:xfrm>
            <a:off x="1998720" y="3645000"/>
            <a:ext cx="772920" cy="318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12"/>
          <a:stretch/>
        </p:blipFill>
        <p:spPr>
          <a:xfrm>
            <a:off x="3789360" y="4149720"/>
            <a:ext cx="17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13"/>
          <a:stretch/>
        </p:blipFill>
        <p:spPr>
          <a:xfrm>
            <a:off x="4745160" y="3645000"/>
            <a:ext cx="877680" cy="3189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14"/>
          <a:stretch/>
        </p:blipFill>
        <p:spPr>
          <a:xfrm>
            <a:off x="6531120" y="4159080"/>
            <a:ext cx="1719000" cy="1800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15"/>
          <a:stretch/>
        </p:blipFill>
        <p:spPr>
          <a:xfrm>
            <a:off x="7486560" y="3654360"/>
            <a:ext cx="8780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55300" descr=""/>
          <p:cNvPicPr/>
          <p:nvPr/>
        </p:nvPicPr>
        <p:blipFill>
          <a:blip r:embed="rId1"/>
          <a:stretch/>
        </p:blipFill>
        <p:spPr>
          <a:xfrm>
            <a:off x="662040" y="1638360"/>
            <a:ext cx="7819920" cy="3581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2157480" y="1638360"/>
            <a:ext cx="1406520" cy="3189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5"/>
          <a:stretch/>
        </p:blipFill>
        <p:spPr>
          <a:xfrm>
            <a:off x="4894200" y="1638360"/>
            <a:ext cx="1406520" cy="3189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6"/>
          <a:stretch/>
        </p:blipFill>
        <p:spPr>
          <a:xfrm>
            <a:off x="6751800" y="2247840"/>
            <a:ext cx="1584000" cy="1152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7"/>
          <a:stretch/>
        </p:blipFill>
        <p:spPr>
          <a:xfrm>
            <a:off x="7650000" y="1681200"/>
            <a:ext cx="1025640" cy="3189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8"/>
          <a:stretch/>
        </p:blipFill>
        <p:spPr>
          <a:xfrm>
            <a:off x="3635280" y="4581360"/>
            <a:ext cx="3816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图片 54276" descr=""/>
          <p:cNvPicPr/>
          <p:nvPr/>
        </p:nvPicPr>
        <p:blipFill>
          <a:blip r:embed="rId1"/>
          <a:stretch/>
        </p:blipFill>
        <p:spPr>
          <a:xfrm>
            <a:off x="628560" y="2500200"/>
            <a:ext cx="7886880" cy="18576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1511280" cy="13665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4211640" y="3357720"/>
            <a:ext cx="1511280" cy="13665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7380360" y="3357720"/>
            <a:ext cx="151128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图片 52231" descr=""/>
          <p:cNvPicPr/>
          <p:nvPr/>
        </p:nvPicPr>
        <p:blipFill>
          <a:blip r:embed="rId1"/>
          <a:stretch/>
        </p:blipFill>
        <p:spPr>
          <a:xfrm>
            <a:off x="71280" y="808200"/>
            <a:ext cx="9001440" cy="233352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52232" descr=""/>
          <p:cNvPicPr/>
          <p:nvPr/>
        </p:nvPicPr>
        <p:blipFill>
          <a:blip r:embed="rId2"/>
          <a:stretch/>
        </p:blipFill>
        <p:spPr>
          <a:xfrm>
            <a:off x="295200" y="3213000"/>
            <a:ext cx="8553600" cy="3286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3"/>
          <a:stretch/>
        </p:blipFill>
        <p:spPr>
          <a:xfrm>
            <a:off x="611280" y="178596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4"/>
          <a:stretch/>
        </p:blipFill>
        <p:spPr>
          <a:xfrm>
            <a:off x="611280" y="227664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6"/>
          <a:stretch/>
        </p:blipFill>
        <p:spPr>
          <a:xfrm>
            <a:off x="468360" y="5084640"/>
            <a:ext cx="8424720" cy="3193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7"/>
          <a:stretch/>
        </p:blipFill>
        <p:spPr>
          <a:xfrm>
            <a:off x="395280" y="5589720"/>
            <a:ext cx="8424720" cy="3189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8"/>
          <a:stretch/>
        </p:blipFill>
        <p:spPr>
          <a:xfrm>
            <a:off x="468360" y="6093000"/>
            <a:ext cx="8424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31T02:42:5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