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D55-1437-48D5-9560-0EE9EAF2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0AA-94E7-489A-92FE-40876228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9B06A-F7BF-4705-B9FE-B020C26E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8D4A9-B686-4CB9-ADA2-57E96952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823ED-3136-47C9-9AB4-861B7F11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424AC-ABF2-497D-9332-2DCD17B0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F6BAA-616F-47B9-9D50-13217FEE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9B2BD-098F-43FA-BFF7-70F43F19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FEBF6-07DA-4998-B211-CCCF1B20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D8363-179E-4D4E-B400-A1963428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764AD-772A-44DC-9003-5C9B862A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872FF-4736-4ABE-9B9C-FD58F457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57D-8042-4615-863D-5DAB13AD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9705D-7F8B-4697-8CE6-62FF59A4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64EF0-368B-496E-BCB3-75AFFD43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2D439-0FD4-4A94-84D9-5FF3E13A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18EAE-CD12-4189-B08D-BD7046CB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9EF53-9C88-4351-A616-C48DBC3B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CE554-1E5A-4732-90B7-591BC1C4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0237D-A044-44DC-A770-AEF54172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27521-7B59-4356-9C46-55A3AFC2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B9EB7-D565-43C8-AD1B-CCD7F470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D0FE9-3478-4FD3-94E2-CB1325BF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4BC-6CE1-464F-9908-EEF6DAA1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1D423-1F1D-460D-96A7-A98A8007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8B4AE-AFCB-47E3-9EDB-AC1BC47A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50812-D7E8-4C9D-8E09-5668D5B9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4ECD4-2098-46BA-8700-A30664D1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298B8-55D0-4C90-9FD0-38F913E8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7E680-5E05-42AB-9570-E4F65850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CE0FF-D998-47D3-8049-0E0C2C5F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9D9F7-7BE9-40B2-959F-2558F53B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13F0A-E597-412E-8718-D6FCFC3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4ACB3-F6D8-43F1-9D5A-D354C9C1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F9EF-004B-4CA9-BD0E-0F9A8EE1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9AF15-3BE2-404C-A4C1-6C383E57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14FDE-9ED6-4CBA-9F63-70C4FEB7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1EECA-0118-4C5F-A0B2-43F50427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4050B-06EE-44A1-B9DE-F4F7D529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181CC-2FEE-49C7-B39E-61B811AC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7E4B7-B154-4871-AC31-1169681F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3F8E8-00A9-4EE7-A0CA-00F6C787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1F083-C408-412B-9BFB-BB109564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FC781-40D2-46DD-B7DD-5D1A2FB4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29458-C702-47EB-949F-CD04B28C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D9C3-D5D4-4C32-B2BF-3525E426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906BF-2D86-4448-B5D4-7C618D77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FB81D-96B1-4E4B-9E24-AD3AFC9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E8D3F-192E-4BED-8B49-96E1EDE1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FBCBF-421E-45B9-8014-2BA24D14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19BA8-FD11-4682-BB17-4DD0C1FD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A00F3-DEC5-42A5-B68D-AF39716B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140B2-8002-4477-A4D5-E1B61C3C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B1BCD-D9E8-457F-BDB7-5560EF83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9949F-D261-4D56-B513-C6CD3C18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EA552-061B-4D7C-BC57-84C67C07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5B9C-F87F-429B-8F1E-C4A5DDC7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BDEAF-C542-4E0C-8F71-E5A20C69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03A53-D1EF-4B0B-8B17-1AA473A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B53AC-5D22-4F3D-9C49-BF45CAB2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8B5DC-07DC-41C1-BE95-C109C0FC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D13D4-182B-43BE-8413-134CBF19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071FB-E90E-44DD-8C36-57EBC816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F7EC1-8535-4053-99BF-0612B48E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DACFA-1452-43BD-878A-9BADB98D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CD2C9-FEFA-439F-B322-B5EE7806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81AF4-CB2D-40B6-A4F3-B08922FA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E393-3AD3-407B-BFE7-2318DE9F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D4879-CC26-41E5-9FA3-F93B4201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982F8-F67F-484B-A568-1CB51984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D7DB9-F457-4E0B-8FA7-FA1F2A23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4A751-EDF1-4788-8DA1-D8B3D23C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2B33C-C6F6-44D9-8414-98AF6C01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FBEB7-339D-479F-997A-53B55DDF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B2301-45EE-4793-B025-B182806A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3C75C-7F5B-4EB5-8B07-8FC04C30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C8880-517A-4632-BE17-237A3352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534A5-589C-4219-93A3-336C5113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9327-92D1-4131-B034-0283F982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B02EC-7A83-4106-9F94-50FDD4E1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B854A3-DF76-4CA0-BD27-D196F912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C97E9-60BE-42F9-A14A-E14320E9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2A9FF-E4C9-430E-BBAC-34086CA9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4FD13A-8622-4E4C-B1B5-3AF73338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3CEC88-1A9D-46A2-81E6-7ADFF71F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46ECE-B22C-4BAB-95A1-DFEF2D69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0829B-34AE-4418-9018-1035E499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3D8DE-9AB0-4AE1-919A-EA236FE2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097E4-9FC4-4DE6-85DF-7B12061F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A503-AF51-4F59-BBEA-93AC1E4E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C1F31-4211-4824-B679-7FA5BA43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90EDF-78B5-49D0-826B-3D85D7D9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D73A6-CC13-47EE-84E2-585274C5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4F4D2-54DC-4065-B699-2921876E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8AF27-3CCC-47CF-ACB4-A4A62A47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3CC2F-AE79-496D-9966-38D2021A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6D46C8-DFB3-44F4-AD55-637DE72B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807814-22B8-4AC7-B8D1-11946331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8BE9FC-FE86-4DC6-BC9E-40030B54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B6D7FB-ABB4-4DFB-ABE1-4A99C4AE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4EF0-B6BA-460E-BAB5-78023468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EC217-8A57-4438-A6E5-6388225C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98298-8726-4F40-810A-9D7F0F39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EFAB90-84E8-48D3-A01A-2690D307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ED808-A106-4016-8F82-6D249905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4C034-CEE5-4BF3-BDDA-A9EACE9E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5B01C-3A31-4EAD-8FF2-B2AEF384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13DCB-4228-473B-A12A-71F911E1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83D3A-DDE3-4ECC-8C39-91750471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A5A37-B9B5-4B8E-92B8-CAB91A05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72BE9-833C-49CA-9E93-50C5FB5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3B6-8D48-4ED6-A84A-C0F14324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79B3-BA8F-4128-9C1E-BBBE232D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8BB0E-553A-40A4-9E15-77F18877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DD939-D86A-4C80-84A0-0D1E80A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8173C-807D-4C80-900A-90E3D21D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FC285-6E85-4B63-A588-C1749B0E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95F15-1231-421F-B2A8-0B602E1B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AECC6-3DD5-4D2C-B2E6-FCE6664A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8FAAF-F553-405A-B078-ADBCBCD3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D3F54-F822-4CB1-9924-BAC33EAC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3A1E6D-0E75-4723-BC4F-81D9811C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5C05E-831D-4487-B8FF-D876C55C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5673-0353-4D23-AA73-9F81900B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058A6C-55CF-45D9-BE9C-3F7A50BD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98735-3114-4013-873E-C98ADC4B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E3E40-261F-45AE-A958-B859E758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597FB-5A54-4C22-9C6E-7DC45317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14609-B498-449A-AF39-DABD6A89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0772CD-52F5-437C-9AFA-5C999673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9490B-2334-455B-A15A-47324EEC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3396FE-9F24-4C9D-BA2E-BD1A8C5B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8CE767-C6E8-4DFB-A8C3-DEA530DB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374EB3-7DCA-4AD4-8E1C-CE9E74C9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3304-96AE-42C3-8535-3C8B1203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67161A-05B6-477E-B7B5-D683D9C0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BCC34F-17A0-4642-8EB5-43D4554C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89FBB7-C84D-4113-949D-7FDDD33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1842EA-3E41-4BB8-AF61-07F9A99F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84F11B-4A93-4925-8C44-A07B8D4F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98146-A011-43E1-8AD4-89D5EC56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25AF5E-E484-4F0C-A7C6-B6101231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37B68D-E1D8-40EF-85D0-0469F558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6B875-A820-405C-AFAD-B07341BF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90AA3D-B58F-4396-874D-2C7E3E57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FC47-C8B7-4A49-8398-4049D152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BE6B6-6E53-4FA3-9B5A-BDD79EE9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ABB8F-BD5A-45AB-8013-1D77E6F2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43C69E-FCCC-4C39-92DA-7556D2F1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03DB15-976C-44B5-9CE9-7EAE810F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D6E99-81D3-4548-9682-F58C0D35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CD63E7-08E7-4B1D-8FE1-79A5EFB1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5B13F9-676C-44F2-A347-A94BCB8A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E4D8D4-2A79-423D-8056-0AD14A9E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78D06F-8169-45DE-AB3C-C13329E3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C7D316-F910-4904-B995-5162C332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D93E-8F12-454E-B4A2-3CCCB81F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A0DB3D-1849-44AB-AF22-E572F476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4E7709-7520-46CA-962F-DFE5C1E1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71028-30B8-460D-9224-F7A8419D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542DB1-9E1D-4B71-A786-9657EBAA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E0B606-1F29-49F9-A6DC-65ACE305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661D6D-ACE4-4FEB-BFA8-A445EFAF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CE40BD-2A15-4A8A-A591-33BDBD2E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4A600-19F4-4660-96CD-3255C752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EB1FE-9CDB-4D19-A2C5-ABAC2216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813B36-BB77-4487-80DC-8FCB1450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3445C-EFE2-4916-82EF-A5C5EDE7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8C0627-1E32-4110-915B-EFE0F2D3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B3AD6D-FB40-4207-B351-1FB25313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5DEE9-1BEF-472D-B5B0-3CADB8F2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5A32-D737-41B2-BCF9-5531F769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174A-ADD2-4D1E-ABAF-8B922552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635B-B48B-45F9-A3DF-B69E8F3D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B549-50CD-4C9E-9B3B-25F8D7F3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EB6-0CD3-4B1A-B01C-99B31E67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F54F-5B49-4633-AB3A-707789F5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EF89-C028-4634-A1CB-7D9736E1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5934-0CED-4EA3-A1A1-6AEA427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DE23-F89F-4A42-A057-F06554D4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72C2-F5BE-47DF-8508-8406B0A5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D182-C9BA-4290-8457-4065BE80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DDAB5-8AB8-4632-97F9-A84179D4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43C6E-C182-4DD6-94FC-5404B874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804F-56AF-49DF-B3AE-22B0D1F3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E6A46-B733-43C9-B4F3-40852D54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B2F-FE95-45A4-AF71-51E98722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3B54-678D-46F2-9B5F-06F65875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B213C-DF16-45D8-8BAE-7B0A72F5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671A2-9F89-4DEE-A72E-DAEF9B7D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C76E6-E30A-4291-886B-B0BBEA54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90E6F-5694-413A-835C-7B5BBFA1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9DB2-9141-4F99-99AB-269111CF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37F6-37D5-4A2B-A017-6FB55BEA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57B6-9A35-40DD-9771-1B29A334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FFAFC-CF1D-438B-8007-ADB0F6F9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BDA41-C0E0-4DD9-B0DF-FA65C546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048-C944-4677-A724-68085CED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5C176-6D7D-4ACF-BEB5-F24D6504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E775E-E197-45D8-8AE5-7272B6F4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42033-3A48-4145-9A53-C5EC8B1B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F64D-A35D-4E65-9B48-41B62C04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DCDC7-E842-4EC0-9CCE-8E0DDAD3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CFA19-AC29-461F-A0C7-E7D8289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64629-BE09-472C-B601-6DD1A5F8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6AFDA-9738-4991-81F9-05225AAC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00472-BA0C-4BE4-A492-F0EA2E46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AD35E-CAF5-45F8-9411-0DAE668D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1EF-A7F4-423C-B5FB-D523ED9A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9CA1C-F2C2-451D-A94C-2FD05826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52940-928C-4880-A5D4-33ABF294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5B311-5F95-4684-B437-2C0326C4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4FC1D-E320-4A4C-BBE3-B974B6A1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C893-F89B-4A8F-A4E3-4B35E210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C966-7CD2-4DA7-8CAE-C1845F52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6672A-E81E-4CD0-87EB-A569A9AD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95FB3-85D2-43CA-9094-8AE79FA0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0185-BEB2-4B92-9AFA-DC0170AF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05F2A-B8A3-48B6-948F-29236CE6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FA0-FFDF-4D9A-A197-39B75381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D8565-0379-4E3A-8FA6-0229E274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ACBF-F0F8-4282-9E25-33F16730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F9311-A570-4F4E-9808-3AED296E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8CEA3-5D8F-462A-B164-5635A560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F39DC-8255-4730-91A1-B3CC57AA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8061D-DD8D-44D1-83E5-D8960DE5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2F13-0A92-4ED4-B709-6904DBB6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76748-EA67-4C1C-817E-33B272A4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465BC-7B08-479E-9575-9DA0C42B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1FA15-C9AC-4D52-8DDB-8F9AD83C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32E-5BB8-4F4D-A11E-C7E3A84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9B1ED-5BEA-4792-A524-B9D74FEA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69130-B6CE-4285-8454-12880806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8FA9D-EA1F-4A50-946F-8248F673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4035F-2856-4856-9247-1FA612E5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896A9-F3EE-4A1B-AF33-F9617C55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2ABBB-9284-49A6-A348-01AD1F5A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F5FAE-3BC1-47A5-BE5E-335B18CE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B0FE9-3DB4-47D0-9EDA-A98DB06C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C067A-9516-468A-8530-4A523C00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15741-5E57-4F4A-93CE-8D41BD04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906-6412-4708-BD19-255B43B6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7DBD5-EF95-47C6-B436-27A07842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34F0E-3FE5-4AB3-99B4-687313E5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F1CBF-BB21-4A03-8877-29B02C32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8B9ED-DC40-482A-8FEB-817BE5DD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31199-33BE-479D-914D-DC142783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9EF90-2CA9-4A4D-84A3-7A91F562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16C57-B2A7-4774-8B15-40C7BC0C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21C4E-A9F6-4DA4-A52E-F215FF3A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E5DDE-8F97-4D47-92A1-A10EC20B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BABF6-DAF1-4971-AC78-BE01BFA1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075E-943C-4D4D-99E3-5EDDD832D0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7D3D-9191-4543-B3C7-8B73C27A6A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33D7-987B-4550-8CEA-3F38D016CB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94FE-D8A4-4A4B-94A5-C5AF31A813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5D38-2B0B-4CD5-9CAF-C8ADE43E7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D2D8-3E4D-4D2C-9BCD-EC2C264300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E09F-1E4E-4AD3-A218-D19398C84E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6727-FB9E-480C-972B-3C78066772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0BB7-16B5-4594-ACBA-6401401B05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25EE-C79D-4141-A358-C5D8F4A7DC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C219-0872-409C-9882-14BC7DF445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0618-95B5-414C-A350-C8B5080C93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F987-79BB-46EB-90D6-5D060119B6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6AE1-B57B-4E68-9E1A-D2460E7ED0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09AE-B78B-45A6-85AA-D9B6C5C165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489C-B026-46BD-808F-AE5748800E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C6AB-F17B-4CD6-BD8C-DEE1F20784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5162-ADFE-431B-8C73-DA9EBA6A8A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0502-ACB0-4A56-A0CC-186BD796EC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4842-B534-4173-9919-09D9ED1B2E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0AD9-E50D-41A5-8483-647C99878A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E1C5-B9CC-4455-B1C6-A21C86A64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ACCA-07A2-461C-9AA9-35033DE0B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07F5-AA2E-4542-AFE9-309A9A573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DDA5-FE7A-4551-ACB3-5C870DFECB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5612-C302-48F6-83F6-98038EA36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AA77-B3BE-4C7F-B0D6-855287FF37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758B-9AD3-4C6C-B5F3-23970AA3FB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C40D-C4B3-45A0-9F98-6C03B3F6B2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E456-E9F3-4279-94F0-12881536F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E495-CC14-482F-BF45-74FA26F87A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19C7-F08D-4CB5-B027-F179F485A7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6676-D2B4-490F-8AC2-35CC476B3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CE91-EA8E-4AF6-9FC0-D5D38CF671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95B5-FF7C-4147-9369-BC5C7C405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A017-18F5-433B-A258-C9EDB35C7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C47B-D9EB-4FC1-9057-3EF02634D6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C908-A832-4B5D-9983-90976EEC0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A5E1-6CCA-4647-924C-B0613202C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8A2C-80E1-4255-BA83-FA96AEADFB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166920" y="3014640"/>
            <a:ext cx="2810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9633" descr=""/>
          <p:cNvPicPr/>
          <p:nvPr/>
        </p:nvPicPr>
        <p:blipFill>
          <a:blip r:embed="rId1"/>
          <a:stretch/>
        </p:blipFill>
        <p:spPr>
          <a:xfrm>
            <a:off x="795240" y="1028880"/>
            <a:ext cx="7553520" cy="4800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619308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1042920" y="1628640"/>
            <a:ext cx="4824360" cy="936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1042920" y="2637000"/>
            <a:ext cx="4824360" cy="936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971640" y="3645000"/>
            <a:ext cx="4824360" cy="504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900000" y="4221000"/>
            <a:ext cx="4824360" cy="5050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826920" y="4797360"/>
            <a:ext cx="4824720" cy="504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684360" y="5329080"/>
            <a:ext cx="6624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68609" descr=""/>
          <p:cNvPicPr/>
          <p:nvPr/>
        </p:nvPicPr>
        <p:blipFill>
          <a:blip r:embed="rId1"/>
          <a:stretch/>
        </p:blipFill>
        <p:spPr>
          <a:xfrm>
            <a:off x="571680" y="1847880"/>
            <a:ext cx="8001000" cy="31622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611280" y="1787400"/>
            <a:ext cx="79214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841320"/>
            <a:ext cx="8601120" cy="5467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227640" y="386064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24000" y="5445000"/>
            <a:ext cx="2016360" cy="863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003640" y="5445000"/>
            <a:ext cx="2881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95440" y="773280"/>
            <a:ext cx="7953120" cy="5895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6084720" y="76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5651640" y="155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1835280" y="3357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3995640" y="3357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1619280" y="5013360"/>
            <a:ext cx="129708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6227640" y="6093000"/>
            <a:ext cx="129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752400" y="1766880"/>
            <a:ext cx="7639200" cy="3324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042920" y="3745080"/>
            <a:ext cx="424980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1042920" y="4292640"/>
            <a:ext cx="424980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5580000" y="3471840"/>
            <a:ext cx="295272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5651640" y="4076640"/>
            <a:ext cx="2952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814320" y="1819440"/>
            <a:ext cx="7515360" cy="32191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3384720" cy="9363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3384720" cy="9363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148360" y="2997360"/>
            <a:ext cx="3384360" cy="9363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5076720" y="4005360"/>
            <a:ext cx="3384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266760" y="800280"/>
            <a:ext cx="8610480" cy="52578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403280" y="3213000"/>
            <a:ext cx="669780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66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1332000" y="4292640"/>
            <a:ext cx="66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1332000" y="4869000"/>
            <a:ext cx="66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1332000" y="5445000"/>
            <a:ext cx="6697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547560" y="1166760"/>
            <a:ext cx="8048880" cy="4524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000080" y="338616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042920" y="450864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042920" y="5084640"/>
            <a:ext cx="489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361800" y="1038240"/>
            <a:ext cx="8420400" cy="478152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54277" descr=""/>
          <p:cNvPicPr/>
          <p:nvPr/>
        </p:nvPicPr>
        <p:blipFill>
          <a:blip r:embed="rId2"/>
          <a:stretch/>
        </p:blipFill>
        <p:spPr>
          <a:xfrm>
            <a:off x="2517840" y="1752480"/>
            <a:ext cx="4933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247680" y="712800"/>
            <a:ext cx="86486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1:5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