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B5501-B6D8-4422-A447-FA5BF8CE5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1270C-736D-4DA9-A7A3-FDD0ADD02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149E3A-F3E7-4481-B1E4-6D375365D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F6434D-29EA-492B-8FF2-C0B6461EE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4D1437-CF51-4107-ACDC-383CB166D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8DE348-5D18-4038-B5ED-33413B229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3311F6-0C72-430A-A4E2-2E1F697D4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713498-0490-4F9C-BE93-6A6FBF2D6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44B73C-44EF-4B36-BBDC-F0F73E43A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FD112E-B7FC-44FE-AA0B-52F0655E6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2088CF-4388-49B0-A888-B4BFDFB92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746ECA-02E8-4361-B498-DFE72A3EC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6173D-BAFD-4209-B01C-0E9104B28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AF5F60-2B95-4658-B5E1-3EABE7F4C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3D814F-1447-4B35-AB06-7A25C3248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95F7A1-0C5B-4D9D-AD5D-B4A45F0DC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E68089-22BE-4670-9AE9-6CC14C391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FE2BDE-F58E-41A7-9485-1B4295CC1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6340B8-B7C2-4CD5-8C77-6CD04AF11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AD2C61-CB5E-4E4C-B85A-5F242B664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B2ECDF-0556-4AFF-B6A3-A1EC91FF6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E81D88-3E79-46B1-B46E-7353E94EA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7A5F56-0B75-40D0-BE3A-0EB0AC0A2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74236-9587-429C-995F-92C551F48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B122E6-7FF0-458B-9DC2-537CF255C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A54135-3A1E-4F58-8A3B-CCDE9BA83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D490BA-C5E0-4169-B9DF-7ED397DDD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0CABD2-C095-41AF-9B6F-53FE81F75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63BF2A-89E0-4566-9C95-09DB1720B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73D4B0-DB9D-46A6-9FFE-1D537F6E1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E47D8E-461F-4AF4-B01B-21AA35ECE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D226AD-C98B-4146-AFE9-F949A1D1F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B40F04-F76A-4770-B781-F4467B9A5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DBBB58-D81F-41E5-BFBA-D9FC506FE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286AD-FBF2-4A37-905F-303692164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18FDF8-C2C4-495A-998D-6F5BA71FD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BE1C3D-07FC-438D-9E83-C8D3AAD80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77EE9C-26CC-4227-9E92-B0A7672F3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C2713D-7AF4-4A68-B42B-D15A63749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F17C12-67C5-4C7A-BAA8-383AB0E4F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A3BA44-8E81-4BF0-809C-408C7FFE0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CFF5A1-77EB-406B-98B8-E6E61C8D9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E7B32D-0920-440D-AE99-F1FE68B0F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A64D2F-09B6-48A9-886B-874A5376A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FC96FB-1B75-40CD-82B9-4510E7EB4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7665B-297B-4136-96AE-54C85B062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79006D-B6E5-497C-B819-E27BFB3EC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053565-7F57-4562-AFCA-2B617E5B4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36F491-226C-4FBE-A4AB-D3CB034A0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F6325A-50C1-4CC0-86B1-7009AA7C3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A7519E-FE41-40E9-AD02-EDEDE4D5E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EFD500B-1A2E-43D1-A8E8-CF2B71488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A473019-BD7F-4F4D-A736-B5BE2B90E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A5E0330-AF4C-4C0F-892A-B265B7665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788CF45-B5FA-4925-B2EF-092128B64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A3F8450-F1E3-47DC-8A9B-84310E027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92175-E2A6-4B92-9783-6D3DDB6B2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DDBC25C-AC23-4FF1-BA82-C0EE99629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9236E5E-56F5-4042-BEB8-C977EFE7B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EFB8E73-6C5E-4600-A1DE-F95188ED1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8B79D4A-57CA-4AE0-9315-C695990AF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601E3A2-6F49-4CDE-BCEB-22FB05F1F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EB166B4-B127-40DC-ABC5-E6D8A87A7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195E60F-BD89-461F-96FA-F28E7A951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52F052E-1967-4AED-AC96-2AEE2F418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5CDBB00-E93D-4D12-9F13-2DBAB6582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698BCEC-687D-419F-88F4-0F2109453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88CC6-A854-41F0-923B-EAA440642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2948BBB-2379-4D3E-9AF3-DB3AE5BBF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B248B9A-4909-41D4-9765-9ADA90497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D5C1E85-7A32-4ECF-8607-C0652544E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C0F0848-2A84-42C3-A197-6462B65B7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AB3A3B6-68DE-44CB-AEE1-0A2DED44C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0BDE7CB-6526-43CE-838A-BB8041B9C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5E2C076-B40B-4EA9-8FC6-001A0EFA2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D689F87-902F-4B95-A35C-9E6B7EB13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EF25314-C44C-41DF-A4F5-81851D1DC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E599708-0AB3-4A0D-B661-A4C97B408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5599B-6354-470E-8FB3-BE639267A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27FAF36-3E8F-44DA-94B7-488328CEB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FE8E9B2-CACE-4CFE-961B-F9BA57794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7DE2E9A-96D3-48EE-8E31-981AE6855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0783D98-3E5B-415D-9F8D-EF1094D46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F374B9E-AB18-4768-9086-F2CCFCE20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B998E19-4B81-4E16-96E5-FB70A6458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AB0D5CB-7E41-4B75-8985-4429A1A25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FC253FF-6958-49D1-93B3-8FE6BBD17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5E388E1-A35D-45E8-BE5F-2D2020490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16E691B-8B4D-43AD-A4B8-130150FE5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2593D-A0ED-439E-BA6C-5AAF292ED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F369BDC-7F32-46AC-BAC5-62AD2512A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3BF7669-D406-4E33-8F97-C28B3E882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33B4AB6-3784-4DEF-9D05-9C9CAD0CE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955C604-9689-45A9-A36B-F11F404BB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F82FA67-F336-44B0-AEBC-602FD251D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48091B7-1EE6-4F4B-9D7D-749E5AAB4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BDCCDD9-30B0-47FD-AC35-D42C0B372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858092A-F68F-492B-B648-99354EFF2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910A1D3-FBE9-4F9D-8D67-C677B7A4D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68A1E30-51FB-4BE9-8A4E-46D65FF3A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14DA7-C27E-48EC-9B3A-4F5BC1A50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BEFBD7C-B2A7-42BF-B7A8-A98ADFCF4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D11C682-BF7A-4498-A187-8FC1D4E04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388291D-7CF3-4E0A-8F38-400F63CFB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EB0EA28-F367-4129-8C88-80E719E2A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E2AE790-3878-4B03-BE9C-4B131C630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58B9922-F20C-41A6-8C38-80A7E670C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014AFF2-19D6-435E-9D00-26A0C0797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3D29CE8-E347-48B0-A6A8-9831CC672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919634D-E0EF-4071-9647-B6B6C7707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7FF6F68-4B75-486B-82D7-D93B8C43B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97EA3-3284-41D7-9F20-9251D9450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44879-45A3-4C6E-A704-DD79A25AF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0A823FB-ED5B-4D1A-9881-A898B7EFE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442ECAB-1BAA-4387-AA11-0107836CA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8D28C96-D353-484C-87BD-CBA02655C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DE5C37C-5DC0-428F-9002-82E2E65B1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1D421DE-E8F8-4605-8F58-52986AC16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FB9EA90-FAF8-48AF-B06B-784769EFC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C4E11BE-6384-4F68-8041-D143187EC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474157E-D788-42FB-BA40-9B5803847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0E72A03-9D01-4301-B1AD-B7D643595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ABC3E07-E75F-49C1-8204-60D68544B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8F242-5C0D-441B-AAFB-79D7E3CBE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1B92D7F-86D3-476C-BD40-24C3F884D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4482234-8771-463F-ADA8-030D0A844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3F382CF-9A16-49A5-BB79-2C84D9EF3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28C6456-CA2F-478C-9CAB-90553D7F8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F25C7C4-0BC2-425A-8BD6-DDF29EAD5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FD722BA-CA6A-4414-8AEB-2B26DF7DB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7FCDE7D-EE7E-4468-A616-720D1D220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78BF922-881C-4B9C-9018-560601784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B40944F-D3AA-4E2E-825D-8F201956E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837C38A-9856-48C0-A322-3145B3B02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5EF64-BA89-43CF-BEE5-4F0FDFFA8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51F850E-BF16-48B0-BD3D-C03616DF7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AAFF1BF-6232-4F98-9938-37E2CF78B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E023872-D822-47A7-AC3C-9D28ABDD5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B82AA6E-5B0B-4ED0-8ED3-8C07DE6CE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FC0A677-56F3-44A6-8E54-C8D8348C1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B3CB051-32A4-468B-8BF6-BDE2362D1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0706F8E-2896-4EA1-935E-0CDD2565F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A777F74-EF3F-464D-BCA4-05534EB67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C474A0B-BEC2-4502-A1F6-FB9ABC5F8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CBFECD4-B8F3-4368-B92C-16A445BD5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AB161-7B50-4618-9A29-ABAE9E603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79ADECD-E08D-44F1-B1B2-4F6899111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9B144A1-DA1F-4C1B-874C-CE1212497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547D953-B51F-4F96-8582-019BB675B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2D110FC-EF5C-4F19-A2D5-FCFB00CF1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AA3DF7A-77BF-4DEC-B171-79428F156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B4DF03C-B075-42CB-954D-79C8BAAA7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095AD23-BD78-4464-B43B-62D13FD98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D86CA63-AA01-43F2-B2E9-F97C88995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5CD52F4-51C2-405B-A901-9E1926410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66EB266-395B-4172-ABED-02747C366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5D05E-0ADE-4EA6-BA8D-A66F23C2D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AE37F84-828B-49DD-BE06-9201D92E3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0F19059-188A-4D57-85E3-5F03D231E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DD2A64B-9A66-4221-A123-526EDC2BD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A2DBDE9-BE75-433E-9947-BA4BD42DB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A42D189-CD8F-4F98-9B89-529B7D216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E6716A2-FF75-4604-AFC7-1463B49B0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2BFB566-A868-4429-86EA-7370BF666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4889073-B56B-4284-8420-9F75F61FF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471E380-786D-46F4-859F-3666A903E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B6CFF9B-A3FC-4533-8F4C-522AED465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CEC4A1-1C43-4C6A-884C-A9D8F65E7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29D4603-D8F2-4102-8BDB-B7FBC8134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A2E6A99-2A08-4E56-96E5-D0FEEBDE8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944AE4B-F0A3-47F2-AB91-44F0B398C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EA2C37-FD7B-4D8D-B759-6931301FE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A30CD9-A74E-4D9E-A558-04814DA25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4EFDE8-090F-406D-A964-3600719EB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34BDAB-5A9B-4826-BD52-E3ADB05EB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ED4D4-E7C4-4DF0-BED0-8AA62B3C0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A68618-887A-45DC-89D8-530E57DE5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7C35B2-C2DE-465E-B989-CC64B9B40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F4DE4B-2EFF-42DF-8426-469DC2B24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68E39F-F705-48C4-BB17-4A45C1628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034CFE-BCA3-4C06-803E-0893D0AE7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D0DB21-977B-4584-9459-67BB17942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C0B95E-462C-4F98-A779-84F4CD358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1D4C60-CA78-423D-A9A2-43B724665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5A008A-1FDF-4FBD-B525-5A6090B6C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4EDE32-0742-4729-B5F6-DDC89069E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E791B-E71A-4814-97DD-648D94981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E58509-618E-4486-8897-6F49612F9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11E5C4-A12C-4945-A4C7-C84E03594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3D0F38-7F99-4439-99B4-10A995749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99B68D-0D76-49F5-8F9E-C954D7BCF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866527-4366-459C-B4DF-AE4758534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3ADAF6-FDFB-4EBC-B75A-AB14F292A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851639-A229-44C4-8A00-D5F1B88D6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180468-B6EA-4740-AC36-1067D19F0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1BC5ED-2779-4268-98DE-60B2509DE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4AB73F-9C4C-4578-A688-9E98DA234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7A7B2-72F5-4F93-99B0-01D18164F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F04198-DEC8-4BB8-9C33-C70D4FCE5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1A90B6-F821-49B6-9984-253B848D6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64BB5F-719C-415C-BB52-6BD807818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5E2096-D113-49EA-B5E3-0647D0F70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C75121-FD58-4877-A1EB-BCF12A02C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FEF74E-76ED-49B5-B9B1-059C5E226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007998-7D24-4E1A-94FA-7F4E06367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A3E306-BD84-4669-AF63-05F0481D7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41C062-C9E0-4B13-9445-507D3AE12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3B1ECA-B71D-4823-8EE4-857FB8924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960C6-636D-4721-94D8-9AEF80CD3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355FD7-4F2A-42AA-B745-8AA0370AC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D3878F-BC6A-4593-9DA5-17465481C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73395B-0CFB-435F-A3E4-96C63D91F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CB0ABC-9623-4B01-92C4-0679A9F23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ACF092-A859-45CA-A9DB-B2EDF4DE2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266589-D820-48C9-AF26-00490249E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D9130B-F765-4D5C-9384-B587667C9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FF9594-EBE0-4EA1-9873-AA9DA2696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A15E73-5EBA-495D-8811-3C03E5E7F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306864-DFC9-4E5F-B134-2506B245A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C40A2-AE77-4369-9E4A-15DE05A26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5A51CF-4ACD-4A72-8659-3A1FB1E37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465ED1-B05F-469F-BE61-8198946EA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479D3A-7685-46CF-B413-324F8909B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5320CB-9B16-40A0-8125-F59858EDC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D8A245-7F62-4C60-ACE8-48DEC70C8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44B3E1-1A46-42E4-AF22-ED6C7AF9B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FBA0BB-365B-4479-AEAE-CE84BDD19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9A370A-FAB6-4CD8-98B6-279E40C89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E982EA-057C-4A9A-A320-D17F5E1F1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004AC6-7D15-44BE-A75D-B60E17B82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D2027-9E6F-488C-9EB3-6530FA8EF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56E8B3-711B-4354-9560-D1D3F7323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B63CDE-F540-48B7-887A-E663E3983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DB3F53-B49B-4118-B8BF-64FDE27C7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E73E85-3542-40B6-A26E-A6291112E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FD8328-F637-40DE-A6B1-5F4D2BFA8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CCFB75-3048-4508-8621-3EDA962CA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005092-7E8D-4E20-AA05-5A108051A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2DC940-41D5-44EF-A670-8E199A8EA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22E914-90E2-4103-AACF-F25A10D15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BC7157-8BAE-4317-97D6-4B9DC9B77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6A379-97BA-4D74-81D5-CA3DBB47F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982138-0813-47E2-A0CA-0C91D56AE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4D2152-B5F4-4185-9F6C-D8EC14BFE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F4B380-E895-4C02-A90F-DDCD5F78F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02AF72-D4F5-4101-856B-2C1BCA879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EB24D4-4021-4180-AECD-6033DDE2F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2CFBF9-5D23-4A42-BE92-A47A2F769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B1703B-694C-4A6B-9EE9-0EA729F7D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EE0004-159D-4A21-BA4E-168266DC0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A46C43-C499-40FF-B10C-3A19FD5B7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5990E6-745F-4816-8C6F-0AE9E5D55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F71F4-120A-4441-A3AB-AAB18E16A2C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04A86-7EB1-4543-BC83-FA1B563ACF6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81021-3BA8-4704-9124-3594372EC68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291B3-76E2-4F67-BDEB-E7FF24F5010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0D126-FF9A-42A8-B803-CF3B82EBC1E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F0C29-138A-4404-941D-8B09BC2B0E4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2B2ED-9193-4F2D-977A-E12C56CB71E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75460-F7F5-4831-AC5D-56F2C21DD81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CF0E7-5751-44F4-9CA3-82420095860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DFF3B-F567-4587-A143-BE767E3559A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45017-6C18-41B2-A2CB-4827C63AB9D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F2B57-3B5E-4A03-B476-9CE78C10953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90EC5-B296-496C-9BE6-FE27A8A4683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D3948-C0FF-4B21-9DE1-83DA822331A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05590-CBB3-4EC8-B248-7235AA93614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6E17E-2DF9-4CAB-A61E-60E7025A933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35454-5002-4370-B175-6CF8F3B44E0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2FCCB-599B-48AD-80F5-C176ECC0CAD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A316C-5B63-4FA9-BE19-1251A3B4420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81F7E-97D3-4EB6-A8EB-692AEF2BEAC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4EF47-F6BD-43E2-98C6-5803AF6579F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249FE-7100-41A0-9E32-9A52674DAC1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DF90D-15D7-41E6-B3C5-9D9C8378535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BEDF7-A9D9-4F28-81DA-38F39A6426C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FBA99-ECD0-4B4C-B192-76097D08059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89556-F5C7-49CC-8B5D-BCB51C3CF95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E5160-7758-4C5E-9A69-37899EBF2C2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D709F-5AB6-4639-AB0F-BD2831C8A27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37475-4EAE-4E4C-B19B-18B6E9CFA56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53117-1BAA-4251-BE5D-86020D69B87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F885F-9B36-408C-83CA-4B278EAF101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ED692-0B79-4F7D-9CAF-B18B9093E64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5B7AE-E29B-425A-8B59-DECDCBA5D81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3527A-58D6-49A0-8E53-19DE275D707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6670D-EBD5-441C-A9AB-4CBD7897426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09BDB-9FE8-428C-BCF2-07D46D660D7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A17A2-39C3-420C-A9AC-23E8BBFD3B3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9762C-12C1-43CE-AADA-78C82686F2D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45394-4DC0-481D-8443-74B65231D77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3033A-2838-4FC9-91F8-0D60FB816B0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949320" y="1779480"/>
            <a:ext cx="791532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1" name="图片 69633" descr=""/>
          <p:cNvPicPr/>
          <p:nvPr/>
        </p:nvPicPr>
        <p:blipFill>
          <a:blip r:embed="rId1"/>
          <a:stretch/>
        </p:blipFill>
        <p:spPr>
          <a:xfrm>
            <a:off x="566640" y="833400"/>
            <a:ext cx="8010720" cy="5191200"/>
          </a:xfrm>
          <a:prstGeom prst="rect">
            <a:avLst/>
          </a:prstGeom>
          <a:ln w="0">
            <a:noFill/>
          </a:ln>
        </p:spPr>
      </p:pic>
      <p:pic>
        <p:nvPicPr>
          <p:cNvPr id="952" name="Picture 1" descr=""/>
          <p:cNvPicPr/>
          <p:nvPr/>
        </p:nvPicPr>
        <p:blipFill>
          <a:blip r:embed="rId2"/>
          <a:stretch/>
        </p:blipFill>
        <p:spPr>
          <a:xfrm>
            <a:off x="1042920" y="1944720"/>
            <a:ext cx="7705800" cy="493560"/>
          </a:xfrm>
          <a:prstGeom prst="rect">
            <a:avLst/>
          </a:prstGeom>
          <a:ln w="0">
            <a:noFill/>
          </a:ln>
        </p:spPr>
      </p:pic>
      <p:pic>
        <p:nvPicPr>
          <p:cNvPr id="953" name="Picture 1" descr=""/>
          <p:cNvPicPr/>
          <p:nvPr/>
        </p:nvPicPr>
        <p:blipFill>
          <a:blip r:embed="rId3"/>
          <a:stretch/>
        </p:blipFill>
        <p:spPr>
          <a:xfrm>
            <a:off x="971640" y="2492280"/>
            <a:ext cx="7705800" cy="493920"/>
          </a:xfrm>
          <a:prstGeom prst="rect">
            <a:avLst/>
          </a:prstGeom>
          <a:ln w="0">
            <a:noFill/>
          </a:ln>
        </p:spPr>
      </p:pic>
      <p:pic>
        <p:nvPicPr>
          <p:cNvPr id="954" name="Picture 1" descr=""/>
          <p:cNvPicPr/>
          <p:nvPr/>
        </p:nvPicPr>
        <p:blipFill>
          <a:blip r:embed="rId4"/>
          <a:stretch/>
        </p:blipFill>
        <p:spPr>
          <a:xfrm>
            <a:off x="971640" y="3068640"/>
            <a:ext cx="7705800" cy="493560"/>
          </a:xfrm>
          <a:prstGeom prst="rect">
            <a:avLst/>
          </a:prstGeom>
          <a:ln w="0">
            <a:noFill/>
          </a:ln>
        </p:spPr>
      </p:pic>
      <p:pic>
        <p:nvPicPr>
          <p:cNvPr id="955" name="Picture 1" descr=""/>
          <p:cNvPicPr/>
          <p:nvPr/>
        </p:nvPicPr>
        <p:blipFill>
          <a:blip r:embed="rId5"/>
          <a:stretch/>
        </p:blipFill>
        <p:spPr>
          <a:xfrm>
            <a:off x="755640" y="5300640"/>
            <a:ext cx="7705800" cy="4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6" dur="5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1" dur="5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6" dur="5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1" dur="5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6" name="图片 68609" descr=""/>
          <p:cNvPicPr/>
          <p:nvPr/>
        </p:nvPicPr>
        <p:blipFill>
          <a:blip r:embed="rId1"/>
          <a:stretch/>
        </p:blipFill>
        <p:spPr>
          <a:xfrm>
            <a:off x="1166760" y="1341360"/>
            <a:ext cx="6810480" cy="2228760"/>
          </a:xfrm>
          <a:prstGeom prst="rect">
            <a:avLst/>
          </a:prstGeom>
          <a:ln w="0">
            <a:noFill/>
          </a:ln>
        </p:spPr>
      </p:pic>
      <p:pic>
        <p:nvPicPr>
          <p:cNvPr id="957" name="图片 68610" descr=""/>
          <p:cNvPicPr/>
          <p:nvPr/>
        </p:nvPicPr>
        <p:blipFill>
          <a:blip r:embed="rId2"/>
          <a:stretch/>
        </p:blipFill>
        <p:spPr>
          <a:xfrm>
            <a:off x="338040" y="3557520"/>
            <a:ext cx="8467920" cy="2247840"/>
          </a:xfrm>
          <a:prstGeom prst="rect">
            <a:avLst/>
          </a:prstGeom>
          <a:ln w="0">
            <a:noFill/>
          </a:ln>
        </p:spPr>
      </p:pic>
      <p:pic>
        <p:nvPicPr>
          <p:cNvPr id="958" name="Picture 1" descr=""/>
          <p:cNvPicPr/>
          <p:nvPr/>
        </p:nvPicPr>
        <p:blipFill>
          <a:blip r:embed="rId3"/>
          <a:stretch/>
        </p:blipFill>
        <p:spPr>
          <a:xfrm>
            <a:off x="4614840" y="1758960"/>
            <a:ext cx="576360" cy="493560"/>
          </a:xfrm>
          <a:prstGeom prst="rect">
            <a:avLst/>
          </a:prstGeom>
          <a:ln w="0">
            <a:noFill/>
          </a:ln>
        </p:spPr>
      </p:pic>
      <p:pic>
        <p:nvPicPr>
          <p:cNvPr id="959" name="Picture 1" descr=""/>
          <p:cNvPicPr/>
          <p:nvPr/>
        </p:nvPicPr>
        <p:blipFill>
          <a:blip r:embed="rId4"/>
          <a:stretch/>
        </p:blipFill>
        <p:spPr>
          <a:xfrm>
            <a:off x="7380360" y="1643040"/>
            <a:ext cx="576360" cy="720720"/>
          </a:xfrm>
          <a:prstGeom prst="rect">
            <a:avLst/>
          </a:prstGeom>
          <a:ln w="0">
            <a:noFill/>
          </a:ln>
        </p:spPr>
      </p:pic>
      <p:pic>
        <p:nvPicPr>
          <p:cNvPr id="960" name="Picture 1" descr=""/>
          <p:cNvPicPr/>
          <p:nvPr/>
        </p:nvPicPr>
        <p:blipFill>
          <a:blip r:embed="rId5"/>
          <a:stretch/>
        </p:blipFill>
        <p:spPr>
          <a:xfrm>
            <a:off x="4211640" y="2506680"/>
            <a:ext cx="576360" cy="720720"/>
          </a:xfrm>
          <a:prstGeom prst="rect">
            <a:avLst/>
          </a:prstGeom>
          <a:ln w="0">
            <a:noFill/>
          </a:ln>
        </p:spPr>
      </p:pic>
      <p:pic>
        <p:nvPicPr>
          <p:cNvPr id="961" name="Picture 1" descr=""/>
          <p:cNvPicPr/>
          <p:nvPr/>
        </p:nvPicPr>
        <p:blipFill>
          <a:blip r:embed="rId6"/>
          <a:stretch/>
        </p:blipFill>
        <p:spPr>
          <a:xfrm>
            <a:off x="7192800" y="2506680"/>
            <a:ext cx="576360" cy="720720"/>
          </a:xfrm>
          <a:prstGeom prst="rect">
            <a:avLst/>
          </a:prstGeom>
          <a:ln w="0">
            <a:noFill/>
          </a:ln>
        </p:spPr>
      </p:pic>
      <p:pic>
        <p:nvPicPr>
          <p:cNvPr id="962" name="Picture 1" descr=""/>
          <p:cNvPicPr/>
          <p:nvPr/>
        </p:nvPicPr>
        <p:blipFill>
          <a:blip r:embed="rId7"/>
          <a:stretch/>
        </p:blipFill>
        <p:spPr>
          <a:xfrm>
            <a:off x="1835280" y="3860640"/>
            <a:ext cx="576000" cy="720720"/>
          </a:xfrm>
          <a:prstGeom prst="rect">
            <a:avLst/>
          </a:prstGeom>
          <a:ln w="0">
            <a:noFill/>
          </a:ln>
        </p:spPr>
      </p:pic>
      <p:pic>
        <p:nvPicPr>
          <p:cNvPr id="963" name="Picture 1" descr=""/>
          <p:cNvPicPr/>
          <p:nvPr/>
        </p:nvPicPr>
        <p:blipFill>
          <a:blip r:embed="rId8"/>
          <a:stretch/>
        </p:blipFill>
        <p:spPr>
          <a:xfrm>
            <a:off x="5003640" y="3860640"/>
            <a:ext cx="576360" cy="720720"/>
          </a:xfrm>
          <a:prstGeom prst="rect">
            <a:avLst/>
          </a:prstGeom>
          <a:ln w="0">
            <a:noFill/>
          </a:ln>
        </p:spPr>
      </p:pic>
      <p:pic>
        <p:nvPicPr>
          <p:cNvPr id="964" name="Picture 1" descr=""/>
          <p:cNvPicPr/>
          <p:nvPr/>
        </p:nvPicPr>
        <p:blipFill>
          <a:blip r:embed="rId9"/>
          <a:stretch/>
        </p:blipFill>
        <p:spPr>
          <a:xfrm>
            <a:off x="7956720" y="3846600"/>
            <a:ext cx="576000" cy="720720"/>
          </a:xfrm>
          <a:prstGeom prst="rect">
            <a:avLst/>
          </a:prstGeom>
          <a:ln w="0">
            <a:noFill/>
          </a:ln>
        </p:spPr>
      </p:pic>
      <p:pic>
        <p:nvPicPr>
          <p:cNvPr id="965" name="Picture 1" descr=""/>
          <p:cNvPicPr/>
          <p:nvPr/>
        </p:nvPicPr>
        <p:blipFill>
          <a:blip r:embed="rId10"/>
          <a:stretch/>
        </p:blipFill>
        <p:spPr>
          <a:xfrm>
            <a:off x="1619280" y="4767120"/>
            <a:ext cx="576360" cy="720720"/>
          </a:xfrm>
          <a:prstGeom prst="rect">
            <a:avLst/>
          </a:prstGeom>
          <a:ln w="0">
            <a:noFill/>
          </a:ln>
        </p:spPr>
      </p:pic>
      <p:pic>
        <p:nvPicPr>
          <p:cNvPr id="966" name="Picture 1" descr=""/>
          <p:cNvPicPr/>
          <p:nvPr/>
        </p:nvPicPr>
        <p:blipFill>
          <a:blip r:embed="rId11"/>
          <a:stretch/>
        </p:blipFill>
        <p:spPr>
          <a:xfrm>
            <a:off x="4600440" y="4753080"/>
            <a:ext cx="576360" cy="720720"/>
          </a:xfrm>
          <a:prstGeom prst="rect">
            <a:avLst/>
          </a:prstGeom>
          <a:ln w="0">
            <a:noFill/>
          </a:ln>
        </p:spPr>
      </p:pic>
      <p:pic>
        <p:nvPicPr>
          <p:cNvPr id="967" name="Picture 1" descr=""/>
          <p:cNvPicPr/>
          <p:nvPr/>
        </p:nvPicPr>
        <p:blipFill>
          <a:blip r:embed="rId12"/>
          <a:stretch/>
        </p:blipFill>
        <p:spPr>
          <a:xfrm>
            <a:off x="7956720" y="4724280"/>
            <a:ext cx="936360" cy="7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8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3" dur="5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8" dur="5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3" dur="5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8" dur="5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3" dur="5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8" dur="5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3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8" dur="5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3" dur="5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2" name="图片 60428" descr=""/>
          <p:cNvPicPr/>
          <p:nvPr/>
        </p:nvPicPr>
        <p:blipFill>
          <a:blip r:embed="rId1"/>
          <a:stretch/>
        </p:blipFill>
        <p:spPr>
          <a:xfrm>
            <a:off x="271440" y="871560"/>
            <a:ext cx="8601120" cy="5581800"/>
          </a:xfrm>
          <a:prstGeom prst="rect">
            <a:avLst/>
          </a:prstGeom>
          <a:ln w="0">
            <a:noFill/>
          </a:ln>
        </p:spPr>
      </p:pic>
      <p:pic>
        <p:nvPicPr>
          <p:cNvPr id="923" name="Picture 1" descr=""/>
          <p:cNvPicPr/>
          <p:nvPr/>
        </p:nvPicPr>
        <p:blipFill>
          <a:blip r:embed="rId2"/>
          <a:stretch/>
        </p:blipFill>
        <p:spPr>
          <a:xfrm>
            <a:off x="3780000" y="4951440"/>
            <a:ext cx="1296720" cy="49356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1" descr=""/>
          <p:cNvPicPr/>
          <p:nvPr/>
        </p:nvPicPr>
        <p:blipFill>
          <a:blip r:embed="rId3"/>
          <a:stretch/>
        </p:blipFill>
        <p:spPr>
          <a:xfrm>
            <a:off x="6372360" y="4941720"/>
            <a:ext cx="1296720" cy="49392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1" descr=""/>
          <p:cNvPicPr/>
          <p:nvPr/>
        </p:nvPicPr>
        <p:blipFill>
          <a:blip r:embed="rId4"/>
          <a:stretch/>
        </p:blipFill>
        <p:spPr>
          <a:xfrm>
            <a:off x="6877080" y="5516640"/>
            <a:ext cx="1297080" cy="4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6" name="图片 59410" descr=""/>
          <p:cNvPicPr/>
          <p:nvPr/>
        </p:nvPicPr>
        <p:blipFill>
          <a:blip r:embed="rId1"/>
          <a:stretch/>
        </p:blipFill>
        <p:spPr>
          <a:xfrm>
            <a:off x="633240" y="2052720"/>
            <a:ext cx="7877520" cy="275256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1" descr=""/>
          <p:cNvPicPr/>
          <p:nvPr/>
        </p:nvPicPr>
        <p:blipFill>
          <a:blip r:embed="rId2"/>
          <a:stretch/>
        </p:blipFill>
        <p:spPr>
          <a:xfrm>
            <a:off x="3851280" y="2593800"/>
            <a:ext cx="936720" cy="493920"/>
          </a:xfrm>
          <a:prstGeom prst="rect">
            <a:avLst/>
          </a:prstGeom>
          <a:ln w="0">
            <a:noFill/>
          </a:ln>
        </p:spPr>
      </p:pic>
      <p:pic>
        <p:nvPicPr>
          <p:cNvPr id="928" name="Picture 1" descr=""/>
          <p:cNvPicPr/>
          <p:nvPr/>
        </p:nvPicPr>
        <p:blipFill>
          <a:blip r:embed="rId3"/>
          <a:stretch/>
        </p:blipFill>
        <p:spPr>
          <a:xfrm>
            <a:off x="3492360" y="3141720"/>
            <a:ext cx="936720" cy="49356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1" descr=""/>
          <p:cNvPicPr/>
          <p:nvPr/>
        </p:nvPicPr>
        <p:blipFill>
          <a:blip r:embed="rId4"/>
          <a:stretch/>
        </p:blipFill>
        <p:spPr>
          <a:xfrm>
            <a:off x="2627280" y="3659040"/>
            <a:ext cx="936720" cy="49392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1" descr=""/>
          <p:cNvPicPr/>
          <p:nvPr/>
        </p:nvPicPr>
        <p:blipFill>
          <a:blip r:embed="rId5"/>
          <a:stretch/>
        </p:blipFill>
        <p:spPr>
          <a:xfrm>
            <a:off x="6877080" y="3645000"/>
            <a:ext cx="936720" cy="493560"/>
          </a:xfrm>
          <a:prstGeom prst="rect">
            <a:avLst/>
          </a:prstGeom>
          <a:ln w="0">
            <a:noFill/>
          </a:ln>
        </p:spPr>
      </p:pic>
      <p:pic>
        <p:nvPicPr>
          <p:cNvPr id="931" name="Picture 1" descr=""/>
          <p:cNvPicPr/>
          <p:nvPr/>
        </p:nvPicPr>
        <p:blipFill>
          <a:blip r:embed="rId6"/>
          <a:stretch/>
        </p:blipFill>
        <p:spPr>
          <a:xfrm>
            <a:off x="2325600" y="4221000"/>
            <a:ext cx="936720" cy="493920"/>
          </a:xfrm>
          <a:prstGeom prst="rect">
            <a:avLst/>
          </a:prstGeom>
          <a:ln w="0">
            <a:noFill/>
          </a:ln>
        </p:spPr>
      </p:pic>
      <p:pic>
        <p:nvPicPr>
          <p:cNvPr id="932" name="Picture 1" descr=""/>
          <p:cNvPicPr/>
          <p:nvPr/>
        </p:nvPicPr>
        <p:blipFill>
          <a:blip r:embed="rId7"/>
          <a:stretch/>
        </p:blipFill>
        <p:spPr>
          <a:xfrm>
            <a:off x="4788000" y="4221000"/>
            <a:ext cx="1512720" cy="4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3" name="图片 58373" descr=""/>
          <p:cNvPicPr/>
          <p:nvPr/>
        </p:nvPicPr>
        <p:blipFill>
          <a:blip r:embed="rId1"/>
          <a:stretch/>
        </p:blipFill>
        <p:spPr>
          <a:xfrm>
            <a:off x="290520" y="907920"/>
            <a:ext cx="8562960" cy="5400720"/>
          </a:xfrm>
          <a:prstGeom prst="rect">
            <a:avLst/>
          </a:prstGeom>
          <a:ln w="0">
            <a:noFill/>
          </a:ln>
        </p:spPr>
      </p:pic>
      <p:pic>
        <p:nvPicPr>
          <p:cNvPr id="934" name="Picture 1" descr=""/>
          <p:cNvPicPr/>
          <p:nvPr/>
        </p:nvPicPr>
        <p:blipFill>
          <a:blip r:embed="rId2"/>
          <a:stretch/>
        </p:blipFill>
        <p:spPr>
          <a:xfrm>
            <a:off x="1116000" y="4076640"/>
            <a:ext cx="7056360" cy="493920"/>
          </a:xfrm>
          <a:prstGeom prst="rect">
            <a:avLst/>
          </a:prstGeom>
          <a:ln w="0">
            <a:noFill/>
          </a:ln>
        </p:spPr>
      </p:pic>
      <p:pic>
        <p:nvPicPr>
          <p:cNvPr id="935" name="Picture 1" descr=""/>
          <p:cNvPicPr/>
          <p:nvPr/>
        </p:nvPicPr>
        <p:blipFill>
          <a:blip r:embed="rId3"/>
          <a:stretch/>
        </p:blipFill>
        <p:spPr>
          <a:xfrm>
            <a:off x="971640" y="5719680"/>
            <a:ext cx="7056360" cy="4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5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0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6" name="图片 57352" descr=""/>
          <p:cNvPicPr/>
          <p:nvPr/>
        </p:nvPicPr>
        <p:blipFill>
          <a:blip r:embed="rId1"/>
          <a:stretch/>
        </p:blipFill>
        <p:spPr>
          <a:xfrm>
            <a:off x="662040" y="2562120"/>
            <a:ext cx="7819920" cy="1733760"/>
          </a:xfrm>
          <a:prstGeom prst="rect">
            <a:avLst/>
          </a:prstGeom>
          <a:ln w="0">
            <a:noFill/>
          </a:ln>
        </p:spPr>
      </p:pic>
      <p:pic>
        <p:nvPicPr>
          <p:cNvPr id="937" name="Picture 1" descr=""/>
          <p:cNvPicPr/>
          <p:nvPr/>
        </p:nvPicPr>
        <p:blipFill>
          <a:blip r:embed="rId2"/>
          <a:stretch/>
        </p:blipFill>
        <p:spPr>
          <a:xfrm>
            <a:off x="1116000" y="3616200"/>
            <a:ext cx="7488360" cy="4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7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图片 56324" descr=""/>
          <p:cNvPicPr/>
          <p:nvPr/>
        </p:nvPicPr>
        <p:blipFill>
          <a:blip r:embed="rId1"/>
          <a:stretch/>
        </p:blipFill>
        <p:spPr>
          <a:xfrm>
            <a:off x="247680" y="2014560"/>
            <a:ext cx="8648640" cy="282888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1" descr=""/>
          <p:cNvPicPr/>
          <p:nvPr/>
        </p:nvPicPr>
        <p:blipFill>
          <a:blip r:embed="rId2"/>
          <a:stretch/>
        </p:blipFill>
        <p:spPr>
          <a:xfrm>
            <a:off x="1258920" y="3773520"/>
            <a:ext cx="7634160" cy="493560"/>
          </a:xfrm>
          <a:prstGeom prst="rect">
            <a:avLst/>
          </a:prstGeom>
          <a:ln w="0">
            <a:noFill/>
          </a:ln>
        </p:spPr>
      </p:pic>
      <p:pic>
        <p:nvPicPr>
          <p:cNvPr id="940" name="Picture 1" descr=""/>
          <p:cNvPicPr/>
          <p:nvPr/>
        </p:nvPicPr>
        <p:blipFill>
          <a:blip r:embed="rId3"/>
          <a:stretch/>
        </p:blipFill>
        <p:spPr>
          <a:xfrm>
            <a:off x="1187280" y="4365720"/>
            <a:ext cx="7634520" cy="4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4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500"/>
                            </p:stCondLst>
                            <p:childTnLst>
                              <p:par>
                                <p:cTn id="77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8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1" name="图片 55300" descr=""/>
          <p:cNvPicPr/>
          <p:nvPr/>
        </p:nvPicPr>
        <p:blipFill>
          <a:blip r:embed="rId1"/>
          <a:stretch/>
        </p:blipFill>
        <p:spPr>
          <a:xfrm>
            <a:off x="600120" y="923760"/>
            <a:ext cx="7943760" cy="5457960"/>
          </a:xfrm>
          <a:prstGeom prst="rect">
            <a:avLst/>
          </a:prstGeom>
          <a:ln w="0">
            <a:noFill/>
          </a:ln>
        </p:spPr>
      </p:pic>
      <p:pic>
        <p:nvPicPr>
          <p:cNvPr id="942" name="Picture 1" descr=""/>
          <p:cNvPicPr/>
          <p:nvPr/>
        </p:nvPicPr>
        <p:blipFill>
          <a:blip r:embed="rId2"/>
          <a:stretch/>
        </p:blipFill>
        <p:spPr>
          <a:xfrm>
            <a:off x="826920" y="1484280"/>
            <a:ext cx="7848720" cy="936720"/>
          </a:xfrm>
          <a:prstGeom prst="rect">
            <a:avLst/>
          </a:prstGeom>
          <a:ln w="0">
            <a:noFill/>
          </a:ln>
        </p:spPr>
      </p:pic>
      <p:pic>
        <p:nvPicPr>
          <p:cNvPr id="943" name="Picture 1" descr=""/>
          <p:cNvPicPr/>
          <p:nvPr/>
        </p:nvPicPr>
        <p:blipFill>
          <a:blip r:embed="rId3"/>
          <a:stretch/>
        </p:blipFill>
        <p:spPr>
          <a:xfrm>
            <a:off x="971640" y="2521080"/>
            <a:ext cx="6480000" cy="493560"/>
          </a:xfrm>
          <a:prstGeom prst="rect">
            <a:avLst/>
          </a:prstGeom>
          <a:ln w="0">
            <a:noFill/>
          </a:ln>
        </p:spPr>
      </p:pic>
      <p:pic>
        <p:nvPicPr>
          <p:cNvPr id="944" name="Picture 1" descr=""/>
          <p:cNvPicPr/>
          <p:nvPr/>
        </p:nvPicPr>
        <p:blipFill>
          <a:blip r:embed="rId4"/>
          <a:stretch/>
        </p:blipFill>
        <p:spPr>
          <a:xfrm>
            <a:off x="611280" y="4738680"/>
            <a:ext cx="7848360" cy="936720"/>
          </a:xfrm>
          <a:prstGeom prst="rect">
            <a:avLst/>
          </a:prstGeom>
          <a:ln w="0">
            <a:noFill/>
          </a:ln>
        </p:spPr>
      </p:pic>
      <p:pic>
        <p:nvPicPr>
          <p:cNvPr id="945" name="Picture 1" descr=""/>
          <p:cNvPicPr/>
          <p:nvPr/>
        </p:nvPicPr>
        <p:blipFill>
          <a:blip r:embed="rId5"/>
          <a:stretch/>
        </p:blipFill>
        <p:spPr>
          <a:xfrm>
            <a:off x="684360" y="5734080"/>
            <a:ext cx="6480000" cy="4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5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0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5" dur="5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0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6" name="图片 54276" descr=""/>
          <p:cNvPicPr/>
          <p:nvPr/>
        </p:nvPicPr>
        <p:blipFill>
          <a:blip r:embed="rId1"/>
          <a:stretch/>
        </p:blipFill>
        <p:spPr>
          <a:xfrm>
            <a:off x="299880" y="1557360"/>
            <a:ext cx="8544240" cy="3743280"/>
          </a:xfrm>
          <a:prstGeom prst="rect">
            <a:avLst/>
          </a:prstGeom>
          <a:ln w="0">
            <a:noFill/>
          </a:ln>
        </p:spPr>
      </p:pic>
      <p:pic>
        <p:nvPicPr>
          <p:cNvPr id="947" name="Picture 1" descr=""/>
          <p:cNvPicPr/>
          <p:nvPr/>
        </p:nvPicPr>
        <p:blipFill>
          <a:blip r:embed="rId2"/>
          <a:stretch/>
        </p:blipFill>
        <p:spPr>
          <a:xfrm>
            <a:off x="5508720" y="4624560"/>
            <a:ext cx="576000" cy="493560"/>
          </a:xfrm>
          <a:prstGeom prst="rect">
            <a:avLst/>
          </a:prstGeom>
          <a:ln w="0">
            <a:noFill/>
          </a:ln>
        </p:spPr>
      </p:pic>
      <p:pic>
        <p:nvPicPr>
          <p:cNvPr id="948" name="Picture 1" descr=""/>
          <p:cNvPicPr/>
          <p:nvPr/>
        </p:nvPicPr>
        <p:blipFill>
          <a:blip r:embed="rId3"/>
          <a:stretch/>
        </p:blipFill>
        <p:spPr>
          <a:xfrm>
            <a:off x="7093080" y="4595760"/>
            <a:ext cx="576000" cy="4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7" dur="5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2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9" name="图片 52231" descr=""/>
          <p:cNvPicPr/>
          <p:nvPr/>
        </p:nvPicPr>
        <p:blipFill>
          <a:blip r:embed="rId1"/>
          <a:stretch/>
        </p:blipFill>
        <p:spPr>
          <a:xfrm>
            <a:off x="523800" y="1147680"/>
            <a:ext cx="8096400" cy="4562640"/>
          </a:xfrm>
          <a:prstGeom prst="rect">
            <a:avLst/>
          </a:prstGeom>
          <a:ln w="0">
            <a:noFill/>
          </a:ln>
        </p:spPr>
      </p:pic>
      <p:pic>
        <p:nvPicPr>
          <p:cNvPr id="950" name="图片 52232" descr=""/>
          <p:cNvPicPr/>
          <p:nvPr/>
        </p:nvPicPr>
        <p:blipFill>
          <a:blip r:embed="rId2"/>
          <a:stretch/>
        </p:blipFill>
        <p:spPr>
          <a:xfrm>
            <a:off x="1523880" y="2328840"/>
            <a:ext cx="6410520" cy="34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9" dur="5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18T08:02:06Z</dcterms:modified>
  <cp:revision>2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