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BDF-D137-47BD-877A-D7FBFD14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B345-96AC-4F3E-A8DF-08A498B4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667EF-18C6-4BCE-94A4-06113F42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82438-2B2D-4455-BA69-9B417223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AF457-9EA9-4B2F-8107-478B7F5A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91F28-A390-4884-8ACD-759C5EEC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4E8FC-9DEE-445B-844F-E451AD2F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1E420-CDFB-475B-8D92-B6FE0C03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ABF13-4B2F-47D0-AE5C-E2EADBDA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179B1-D2D6-49A5-A26F-F43D667C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6AC19-9F41-482D-BCB9-790F2CAB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4954B-E8F1-4AAA-A9C5-23EAFD9B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0E0-0D11-4ED0-AFD9-75E42DCD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1EB28-28BE-4D01-B59A-45491062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E8BEA-378D-4D55-B43E-FD9150C6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E0CC3-1AD1-49F6-9C5C-19E5D9FD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C8A71-06C0-4C91-955C-86C62884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79F80-0BE0-4E89-A322-13F81194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E7FE7-25EF-4E1F-BC2D-7E168BD1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77AFA-D5AA-4403-85C8-7EEF0515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58628-DA0C-4466-B90B-16B43351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0F326-CC2F-4012-A09E-5A0D3F63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5795E-4F91-4D75-8D39-BC8516B5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419-5A50-4E2E-B060-4A265414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B6248-97FB-42D0-B839-0E419C4D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B695A-F49E-46A7-A8FF-353540DB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6DF1E-0015-4430-9641-843A6D55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3B923-9DA7-41DB-AB9E-CA4ADBD3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DE399-8917-4783-99CA-B89C308F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DC678-CA46-449B-81E8-08101D32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C8ED1-D989-457D-B721-6E8E7142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5180F-105E-4E1C-8595-84DE97A3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9DAD5-AC70-442A-ABA2-19242A32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D8B69-6136-4AC5-9EFE-686FCAD1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F330-9FD4-4BF1-A2AF-FFEE9C26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90E41-578D-4BA1-936D-C213F099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E000E-03BA-4F19-A681-C9E1A71D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D8502-0F61-4061-AAC5-316C7CD4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6F548-4138-4EA3-97C5-B59FD38D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08050-4F46-4F9C-952F-963C6721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7DE76-8ABB-40FF-9FF1-CEA832E2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B9E4D-60E3-486B-A99F-062535FB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37E31-7E52-4427-AB07-34F5B677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3AF22-D40A-4473-A996-4AEE338D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5FEC0-EDE8-4C5B-BDDC-1C5311C0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1E25-8B72-4221-A304-F050143F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0E8D0-1D6E-4CD3-A0B1-0999C693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5F7AE-D8A7-45C5-9F24-A404F918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B542C-DEF5-4B88-B0B6-E15B3DBC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7FC96-D4FE-4F25-983A-7C70C2FB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20E66-3BC0-4914-804E-5D79A1DE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2E052-2C23-4733-AE59-AE75D31A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DE955-57AA-4E83-A01C-AD7A1A1A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12A195-7E50-406B-9A6E-F4599C55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D0DF50-2022-4D0E-8CB7-844D96BA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35A8F-1ACD-449F-962D-878AC1D1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C85C-DFDB-4088-9DD2-B42573EA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F0D9F-4DAC-4B48-891B-6485BF73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4AD23-FDF9-40DE-A022-9F8BEC02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92181-55A4-4E16-9CFF-3F909150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052C4-68BC-4D8D-9BEA-CC4A71E3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22C55-6B44-4A7F-B3D8-EE905596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BABB7-D57B-4BA6-8FA8-67F173B2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45985-D126-4934-A99F-931F98C1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9D665A-69E0-437D-9B78-EB71C2CC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A674EE-CA42-4806-9ECB-6A154A78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74B174-CE54-482B-9C3C-559BC8BD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C713-DB50-4E92-B939-008B5A82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E353A3-F36A-42C2-8779-323EA910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85ADA-6AEB-43AD-B5B7-79597731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A7CDB0-C4A1-4F35-831B-2C5575FF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5AC974-BA6C-4937-9397-D517685B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07369-1CD6-4817-A0DE-CBD7C2B1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A5B9B6-D711-43E8-8CC7-F97295CA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122331-3268-49B5-A402-C30D9B31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08E0BB-A620-4590-BBED-5600AC72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E46AEC-9E57-4E73-9867-A74F10AF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70B58C-36D3-45B2-905A-48540829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7931-D15B-4C32-AF73-9D1242D7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80DAD-5758-4BAB-B65C-26DD31A0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AC1652-7287-4ED8-83AA-68BD0611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1730A4-D8B0-44D1-B63A-3DAD3A99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88296A-AEAD-4E84-ACF5-801069FD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AF6E76-8C12-43CA-91E7-13975F2F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D1994C-561E-44F9-86DD-886770E5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70E0E0-7C38-4DCE-BAD5-5058BFDE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9C10DD-14A2-4C7E-8BD5-916B0513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9A4EA-59C2-40C9-A958-AD396524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660023-674E-4E1A-A811-B49A95BF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AFF1-5C19-4324-A5FB-E66A02C4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58063-C927-4882-A7F9-6A62D392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7D4BD0-F645-4C1C-A036-5FD26238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95F599-125D-4A7D-BC50-83608D86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3E12A4-E17E-4015-A8DA-2B9F3191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795408-C472-4B94-B7BB-1FC2E62B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5DC60C-CB56-47A4-967D-0F5F9436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22C536-A912-4D8B-90BD-B68FC9FF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8D8E05-CEF6-49CC-8391-CA92040E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1A9242-60DA-4F6D-9CF6-3ABE366B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1B4A3A-96E3-47B2-9A24-DF2667F1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8919-3BFB-4D7F-85F4-402DD7BF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45ABDB-E638-4136-A47A-D16FE440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C1C5BF-7AEC-4129-B5B1-C52BE8BB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1BF736-9B8A-42EB-B368-ADB8B324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997FC4-1063-47A9-ABE6-B39DA594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D4B32C-B885-44D5-84C6-FBB1CAD5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5940F9-0DA0-43FC-9644-56061553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427578-0C48-4343-A4CE-A97BBCFC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E8739C-83F4-4CD3-B4AB-298DE6C8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A6A377-2ED2-4987-BB8A-58D5960B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B8944F-FC74-4831-AE8A-FA362D9F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F07-7352-48D9-BB54-253C4631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C009-2E94-409B-BE34-072E4584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3D0AF2-09BC-4D12-BBF3-BC760080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BA7B0A-9334-4038-A1BA-8AF8CFBE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42EA78-27D5-464C-B1A6-D83F5F81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D9AAB4-FF94-4B63-9AAB-BAD467F3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62244B-7D0C-4292-8D81-A04623CC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67ED7C-E57C-44A1-90F9-04298DF6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9F3035-D981-406B-97F1-F14FEB36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E0909A-1E59-437B-9910-0A091D9A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68A443-F1FF-4F05-A4BD-409994E4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BB9027-F401-46D7-9B47-0F55C265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0271-1CBF-4220-840A-E12E8980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531470-D01D-4132-980C-F6D028A6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3FBA8F-BEF0-4F0B-849A-30CA4EBC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30766A-7E81-4F07-A6D5-F2192929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09BD39-8840-46AE-A568-BE9CA618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DAB8C9-E62F-4B89-A652-D3F2F90A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8F84C2-6295-4E35-BBF8-3D17B035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C1F74F-ED76-4BDD-89F3-B94CD409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D267EB-E84B-431E-B2BE-18C4A827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2A59BE-88E4-4DA1-896E-7E815232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BC936B-CE27-4A33-AF51-A03B7A4E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0F2C-84B6-4489-B918-425138ED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FE8875-BB00-4106-B0DB-32222D80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2212E9-B1F1-4F8C-A9F4-BE2C771B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18F93C-4DFA-4D10-9538-20C69B72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49F725-AEA8-4D23-9682-04D90467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ED7BF6-7D5F-4206-A022-1F506501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AA52D0-483A-4FD0-9E3E-2897A8CD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0299EB-B7DD-4C34-A653-5FE38269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C40569-89D7-4E71-9C48-E7971D3C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E8B50A-01D1-42D5-9403-10BA3B3A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C3E894-7B11-44EF-818F-39917AF1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EE49-E140-4356-94E3-8DA38120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45164E-C5B8-42B1-9253-D148CCAC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2A2255-64EC-425E-BCAE-C4212300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841550-F02F-4C07-8728-BE62434E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5E6F29-8891-41E2-8DAA-24676F13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C12CF8-A052-4E04-9BCA-E2F0C95D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3ADB86-A432-40A7-9A54-B83D4150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9DA520-ACB4-49A9-8D92-BD4FE771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85425C-1C95-4BE3-9EF9-EFB80296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977105-57E5-4153-9F0C-32D37514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542465-ECEA-49EF-A0CD-3E9FF93D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E220-E698-494F-A0CC-24CE3280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63F0B3-03E7-4135-BA19-79604B46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F6FE18-236E-4CED-A3B5-6EFBD243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E9CDB6-E038-4261-9949-1C45624A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DFE236-2E18-4C99-81B9-8126441F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A0FECB-E343-45F1-802D-FD0367F5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4FC301-D063-486F-8874-5242995A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99F0EB-C6CF-4B4C-8A7E-013BC85E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121AD8-7774-44A2-8D12-FC0AC99E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D16EC6-DD92-4DA8-BB36-CE705520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5053FE-9D33-4A22-92C9-1AA46049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287C5-25BA-4352-83EF-D3715347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297DEE-D447-4F6A-9D19-49DD8949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693007-AD0E-48DB-94C7-C6F59EC3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E114F9-BEC9-45FE-A9A6-9C9581CD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5957BB-6F98-4B23-822F-97B9DE19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B9CC12-BC1F-47BC-A868-033AA9C4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6F6949-D664-4D93-B370-DF8CE707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5026DB-7637-4F4E-9324-B14DEF70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30F39F-CDFE-4C56-A336-042D5827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938E37-2E4F-4807-BD0C-B574CC61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F3BE13-B25D-4082-B455-E5FF5075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E3794-CE30-4669-8232-B936F41D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0A7504-EC4A-48A3-877E-6224C52A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4DA8B3-DAD7-4179-BE39-9BEA1562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277950-CF50-44AC-98B0-3C45DC20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DEEDF6-E5FA-4898-8191-292535F6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530657-C09D-47A4-B1FF-CF8CB036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AE26D5-3FDB-4291-BB0C-31885E3A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509CB9-4ED9-42A3-90F8-4A2A7A15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A3005D-3227-41B6-A806-B573F3CA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84D3B2-0170-4836-A718-8F7E1943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51B209-050C-4BEF-A262-DF287522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B3B9E-F99C-4B33-8288-93B0E728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CA34CF-FD67-4963-A5E8-8A8F379F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27707B-6EB7-4E47-A3C7-0640A933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93A996-8F67-4830-8EEA-A145A5F1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DC6002-10D2-4DD9-B60D-7234338A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A53716-8B2E-4015-B75A-C7C7423F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B13028-2A1C-493F-814C-A154C07E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059BB5-A48F-456B-BB18-13E1902E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E0AF2-BC97-4DDA-BA49-448F5A45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8111-49B2-491B-8404-4E17BBEF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2D5A-8419-423E-8593-3CE229D5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1BAC8-A1B8-425F-A756-68EA1F44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2BA17-5CCA-4B56-924D-2307A44E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3D61A-ECAC-4D2E-87D4-22253EF1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72E5E-DEB8-46EE-9095-39CCC009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187CE-62E7-4875-9674-BF2EC1C9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AE017-F479-4556-B954-864C1F98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BD78C-B70F-4165-B389-A0725A4F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E8E9A-8782-4AB9-BBF6-8351C770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89770-BF51-455B-9936-FA5A05B2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25483-351C-4E0C-9CDA-3E6C8160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D2A4-7D38-4A75-A669-07025C11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7EF19-F88C-47D7-A1A9-AACFDB2A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920FB-DF97-4F1A-AC76-B77F8706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82676-15BE-46D2-85FC-FFACBE20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FEA44-4438-42A6-A4EF-9D2DDC24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93410-7CCB-43D5-8A15-E92F0D3C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B4FF6-3AC6-43BD-B02F-412253B3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96D7E-3459-48C4-9C1D-2FF285D9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F05B1-5D9A-45FF-B055-F7D6866D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9DEE1-8EE5-4043-B802-5CEA059C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AB0C1-B522-4310-8A92-48FEF875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80C-9528-4C49-8939-49E449B6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0320A-34A3-40B6-8265-F39134E7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683C2-2E46-4C88-8810-A3F3D890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BE7F6-C7AF-49ED-9771-FA29B13B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922BF-6483-4F07-A499-B2E9AFD3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DF9F6-DBAC-40F5-9D9A-479393DB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838D9-6542-4F0B-8532-E24D7A4A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59C02-57EA-40C7-A253-65AFCC09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0A961-4871-4C63-BE93-D24869F4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429F3-18E7-48BF-8134-3F76EC23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F9716-C887-46E6-8835-411A1395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80C-5ABC-47F2-BDB1-291C0E6B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6F8F6-240E-4F02-9110-408A10AB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F479F-51EE-4CB7-895C-74F30421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EE7EE-F7A7-4417-8618-05862F8D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AB402-5726-4419-AF5E-ADADD75B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76088-6156-4DF4-9F37-4A9340BC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0E007-87B2-47A5-981E-D1B30677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DBC84-AFDA-46FC-828E-E28A7AD2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FB149-B5FF-49F8-BE48-0F48D72B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81B1E-7A9C-4D21-90E5-C9312B2C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6837B-97A7-4E2D-A296-49B76E82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8F18-CD89-45A0-B307-0654E6BF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F0B8D-0041-4549-A682-E573D69A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59DD7-CF69-4CDB-AB6D-46C3CF97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89214-6141-47F1-AB40-DF548DA4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541B5-73AB-462E-AABC-07570AED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E186E-08EA-49F9-ACE3-18D1A975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D9AF3-E18A-4C4C-98B5-8C807114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86868-7DBF-4197-9912-F9637B6B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1804C-3A0D-4906-A5DD-F6E57EB7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155EA-8667-48E4-9A73-1D12554E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D885C-3078-4FAC-8BDC-68F826A2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134-6400-4915-9ECF-5244CDDF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D5BCF-52B9-4121-B08F-3C558EF9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996D7-83ED-4584-BF66-2DB2D512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F42F4-C22D-4371-97E0-AFD094ED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1C8AB-C47C-4703-A3B2-1A102287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8DF17-C686-4BD4-A581-DEC17516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12E60-BC58-4ECE-9B00-73AE866C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675F2-AA89-43F4-9938-CA588571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9A3E9-DD88-4023-9545-F989FC4E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0D640-CBEE-4191-BCAA-8432EE18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CA1C4-5DFA-404E-A9A1-9F6D6ACB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047-EA59-4CFD-9021-0E6762A9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D3538-E8FA-4ED5-A794-FA74D6DA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75C5D-1FF3-461D-8C8A-56A7E8CD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223B4-D8E7-4354-A780-5C722CAA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90840-B577-458E-B05C-16C2925F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719C4-7B46-41BD-A83B-A1916925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0E44B-EA9A-4A03-BAEE-CB90889A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555E2-2161-4AB3-9586-FFA83D86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C86D1-4B10-422C-B611-485E762F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99B39-6953-4AA3-B5B6-81C7C9D0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D60AD-F043-455B-A430-FBECAB21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82A7-4C1E-4077-A4F5-663CD5DEB4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89F9-FD05-49B3-BCE5-DF37E6937D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7F24-4BC4-48E1-B40E-A295648A3B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D73B-0406-42C4-9672-36DA6EFD17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275E-7101-4750-9403-EDF29E4A7D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3E3C-8DEE-45A1-AF0E-A92EBE53EE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B4A6-EAAA-4B5E-82AA-D2C8C9F590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5B64-03C7-4EA2-9519-700CAF881B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4A0B-6C18-42EF-AC94-DC08D2EF1D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9358-1C3E-4B44-AF4E-28F9E84037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D957-D56A-4963-B039-757A8461C9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9C00-CDCE-4471-9FBC-A168185140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D0DC-514E-4AE0-8DAC-0F75FC0854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1026-9DEC-4DC5-B9DB-C93CC3B15B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E4D0-4A86-4027-9864-A8EA3C614D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4414-C4EE-4C79-9E4C-A828F21A6C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DD13-D729-4FC7-B94F-DD2EF63A71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A060-B73B-40D0-A2CC-197903D54F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6D9E-3E84-4216-AD51-55E8B55DE2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24F3-160F-478B-9B7B-E3E5A12BE8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2273-C646-45D5-91E3-5671E9469B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1328-B46E-4D27-9047-D3E2BC1EBB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F616-DBC5-448A-AF6F-1C37EFB9B8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5BEE-9758-4F16-A317-ABA09445EB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EC53-10D0-4AA5-B8E9-F2C1C4F268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E0F7-3CDC-43AF-95FF-83185D69DA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0225-8E5C-4357-87AD-F0ABC738F9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A1D4-A08D-4BB2-9F74-492E3AE7C3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E906-FB08-45C6-856A-D3A281A659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F619-DC9E-475B-B528-8D6E326801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4C70-3993-4C68-AFD7-D71AFA8EA1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1D76-2644-4E80-8F6F-DE7369DF70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733F-C93B-47EB-8E58-FE55ECD5AA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75D5-1730-4AF8-8A97-E52EC28A093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82EC-E57D-495F-9E8E-E5C4E2EDCF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8BA5-0D20-419B-AB75-4A9D916D76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3458-E831-4C97-9D65-12A2D49A6F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DC55-4EBF-4C56-A075-1D5247A0EC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183C-9F2A-476B-9BB6-815D4BBB4F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AD9D-D276-44CB-82B2-C0B97F5EBF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82C4-2F2C-4ED6-8FBD-7F4FEAD4EF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075B-EF95-40C5-9D58-4FE7096FDB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52360" y="2981160"/>
            <a:ext cx="876132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20520" y="1639800"/>
            <a:ext cx="9102960" cy="181620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2" descr=""/>
          <p:cNvPicPr/>
          <p:nvPr/>
        </p:nvPicPr>
        <p:blipFill>
          <a:blip r:embed="rId2"/>
          <a:stretch/>
        </p:blipFill>
        <p:spPr>
          <a:xfrm>
            <a:off x="1400040" y="4000680"/>
            <a:ext cx="6343920" cy="2400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3102120" y="213372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2843280" y="26370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5796000" y="213372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6156360" y="26370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7"/>
          <a:stretch/>
        </p:blipFill>
        <p:spPr>
          <a:xfrm>
            <a:off x="8532720" y="2133720"/>
            <a:ext cx="58284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8"/>
          <a:stretch/>
        </p:blipFill>
        <p:spPr>
          <a:xfrm>
            <a:off x="8547120" y="2637000"/>
            <a:ext cx="582480" cy="447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9"/>
          <a:stretch/>
        </p:blipFill>
        <p:spPr>
          <a:xfrm>
            <a:off x="3189240" y="4653000"/>
            <a:ext cx="582840" cy="447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10"/>
          <a:stretch/>
        </p:blipFill>
        <p:spPr>
          <a:xfrm>
            <a:off x="3189240" y="5300640"/>
            <a:ext cx="582840" cy="447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11"/>
          <a:stretch/>
        </p:blipFill>
        <p:spPr>
          <a:xfrm>
            <a:off x="6084720" y="4653000"/>
            <a:ext cx="582840" cy="447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12"/>
          <a:stretch/>
        </p:blipFill>
        <p:spPr>
          <a:xfrm>
            <a:off x="6084720" y="5243400"/>
            <a:ext cx="93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347760" y="1281240"/>
            <a:ext cx="8448480" cy="42955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435640" y="4826160"/>
            <a:ext cx="3168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1" descr=""/>
          <p:cNvPicPr/>
          <p:nvPr/>
        </p:nvPicPr>
        <p:blipFill>
          <a:blip r:embed="rId1"/>
          <a:stretch/>
        </p:blipFill>
        <p:spPr>
          <a:xfrm>
            <a:off x="504720" y="1095480"/>
            <a:ext cx="8134560" cy="46670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24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24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4"/>
          <a:stretch/>
        </p:blipFill>
        <p:spPr>
          <a:xfrm>
            <a:off x="5364000" y="1916280"/>
            <a:ext cx="3095640" cy="4474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5"/>
          <a:stretch/>
        </p:blipFill>
        <p:spPr>
          <a:xfrm>
            <a:off x="5508720" y="2492280"/>
            <a:ext cx="309564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6"/>
          <a:stretch/>
        </p:blipFill>
        <p:spPr>
          <a:xfrm>
            <a:off x="755640" y="4537080"/>
            <a:ext cx="309564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7"/>
          <a:stretch/>
        </p:blipFill>
        <p:spPr>
          <a:xfrm>
            <a:off x="900000" y="5113440"/>
            <a:ext cx="309564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8"/>
          <a:stretch/>
        </p:blipFill>
        <p:spPr>
          <a:xfrm>
            <a:off x="5364000" y="4537080"/>
            <a:ext cx="309564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9"/>
          <a:stretch/>
        </p:blipFill>
        <p:spPr>
          <a:xfrm>
            <a:off x="5508720" y="5113440"/>
            <a:ext cx="3095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190440" y="914400"/>
            <a:ext cx="8763120" cy="502920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1042920" y="3240000"/>
            <a:ext cx="705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1042920" y="3860640"/>
            <a:ext cx="705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1042920" y="4581360"/>
            <a:ext cx="705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5"/>
          <a:stretch/>
        </p:blipFill>
        <p:spPr>
          <a:xfrm>
            <a:off x="1042920" y="5186520"/>
            <a:ext cx="7058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90440" y="1343160"/>
            <a:ext cx="8763120" cy="41716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971640" y="285264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971640" y="350028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971640" y="414972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900000" y="4869000"/>
            <a:ext cx="5184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181080" y="990720"/>
            <a:ext cx="8781840" cy="48765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792144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971640" y="3645000"/>
            <a:ext cx="792144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971640" y="4221000"/>
            <a:ext cx="792144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971640" y="4869000"/>
            <a:ext cx="792144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6"/>
          <a:stretch/>
        </p:blipFill>
        <p:spPr>
          <a:xfrm>
            <a:off x="900000" y="5386320"/>
            <a:ext cx="7921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295200" y="57240"/>
            <a:ext cx="8553600" cy="67435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971640" y="450864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042920" y="5084640"/>
            <a:ext cx="57610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1042920" y="573408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900000" y="6280200"/>
            <a:ext cx="576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366840" y="800280"/>
            <a:ext cx="8410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766800" y="1609560"/>
            <a:ext cx="7610400" cy="36388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755640" y="1685880"/>
            <a:ext cx="77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755640" y="2276640"/>
            <a:ext cx="777708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611280" y="2924280"/>
            <a:ext cx="777708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611280" y="3500280"/>
            <a:ext cx="77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684360" y="4064040"/>
            <a:ext cx="777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7:4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