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377-8B46-43E6-89ED-4A367D39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2F1-C63A-45C3-9787-02D41EDC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C5E14-A0AD-4C1F-8948-7F306FC5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64A1C-6386-409D-983E-CD15065A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9DC07-A26B-4EDA-BC7D-CBD5BC22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B8B6D-9FB3-4781-B32E-5F0DD45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DB283-C4C4-4406-90F6-A648424C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C8A28-143D-4547-A44D-A16017BA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5D09A-98A9-428A-9C4B-5435BAD6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DB966-A70A-4B22-9F7D-0CCEA0ED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3F22B-818F-4D8F-845C-62489C44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6ECEF-2E12-4953-9C12-8BF24B52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6C3-6427-4106-9E2E-5165C379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EAB8A-0606-4658-9F29-1B6BCCAF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52D77-E34B-426E-964D-3E9E6D27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D6253-7E41-43E3-B556-A7C128B4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AA525-A298-4B0E-8517-2B53540E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EDA93-2BFB-4AEE-94EF-8C047A16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D5156-3EC5-4850-9092-00218B0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F792F-CA32-40C9-ACEE-E9827DDD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71DEB-852A-4023-8820-99535EC0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874D4-EC9E-416B-9FDB-4B694EA0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BDC6C-FA79-4915-BF32-B2ED854A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B98-A7D5-45C3-B428-C8B412EA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2D1FD-0B03-4690-B562-9448C83D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25FD8-1E31-4BD6-B238-0D4C46DE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76D2E-B554-474E-AD31-086E38B3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15F65-6700-4967-9A85-9C1A8460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D0635-B7DB-400A-A46F-FCBD08BB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EF225-500D-4411-AE70-49B286A2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89E0A-AC48-4306-9A96-C1FE8026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C7F7D-9288-40F1-9EB6-032499F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02897-9ACA-48DF-BD19-FBF36004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EF986-06D9-4073-8E9F-8BA79BA4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6C84-7C5E-4CD1-9E6E-743AFAE5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4DC3A-6782-41C7-82F0-6208154F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3EBF7-6DFD-45E1-B3C9-6D5AE266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97E55-1DA3-42A8-AA9C-8D55B193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94E91-A80E-45AE-861C-E54D8EC1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D2794-EAAE-4577-8A32-03072093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6D47A-2D4C-4B89-AABA-8B683D6E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105F1-2F9D-4AF6-B927-728E3DAF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11FF2-12A0-4820-865F-D8006A9E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F9CB5-D1BB-470E-BC0A-D622807C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0556C-A4C9-49A5-8379-37F97707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09FE-DCF7-4396-9D1A-ABFE596D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16A71-6A8E-44F5-BCD6-43F6447B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E5214-D0BB-4859-9F45-15CE8DA7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C9819-2458-434A-A2B4-D612CCF4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28358-5A01-4C1C-8329-1A69CC56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13A4D-54A6-4E8A-B1CB-D065A113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3F54D-9077-4D3B-98B6-165C8C2A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B4DAF-C80A-496D-BBD1-87B735E9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D675A-A043-45FA-84AA-A571F9A4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16996-83F9-4226-806E-296F46D8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FD18C-456D-4C71-AAB3-87D029CE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484D-4518-4A72-9780-A62A53B5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23668-D594-41CF-A896-9F62CCE5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44CEF-1E14-402A-BE45-C2E78793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71196-BC61-4C47-977D-0ADDAE0B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F6851-935C-4DD0-8C39-AE966538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5494F-9FBB-4043-AE91-988B80D3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2C944-501B-4031-9519-C3F404D3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39927-6B02-475A-AE32-250114EB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372EF-A545-4184-9103-47376F62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AC26D-49FA-4F69-B461-A16616F5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C9ABD-89F0-4A6F-B863-0B8973A0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F3D5-4FC2-4FC4-8D8E-1022736F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9B863-AD59-44ED-BD47-D1770C9F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DE11D-547E-409A-BB44-C03E06F3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11067-68E9-4FFA-9838-0F144BF7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4B8E9F-38F6-4134-8066-95265C01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09127-8FBF-4612-9320-D4036A5B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FED14-1B0A-448F-A982-1AD45A48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D01646-7969-4815-BBF8-18B82EAB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42867-7899-4C27-B930-5369F38C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972F4-EAA1-4DF3-A8FD-5A1A85CA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6B2559-2008-4314-BE4A-C3070A78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11C8-ED35-4F5E-B6FB-6AFDB195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B9F0C-0720-4EB7-9383-97E4CC8E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60A2C-06CD-447B-95A8-43016A08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2BD99F-4A23-4AA1-880C-D235137C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093E08-2002-4FAD-86C9-895D9AF4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5AAB5-243E-49EC-BA79-787D768C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90410-C61E-4C82-9B1F-89AC70A1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3C088-7C9D-47C2-ACA4-C0E9CDBE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3FF9F-A5D4-451F-A95C-00EEC903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BCD86-674E-4C9E-B075-AD2E95F8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D726F-5558-40CF-8371-D0ABF7B8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FFB2-1589-4206-8297-7BA5D6BA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7E03D-0022-40AD-A301-95022231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D01460-4D71-461B-833F-D8453555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FCD9E-A520-4416-B445-7E861E29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D12C9-55BF-45AF-8622-6AEB5A2D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8EE5D-EC9E-48C0-8ED8-FEEA4475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A81FC-7847-49F5-8986-84A39340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0018EC-E092-4628-969A-758B0B0E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0C577-1EBB-4B4D-8A97-742A2292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8E4036-0251-4A1A-ADF2-B0327407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D60CE9-5F5D-41B4-BF55-ABD0684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2E8C-7935-4E0B-B314-07FC7530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51231-CEE2-4153-849C-7D1B8A08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413E5-5FA8-450F-9281-E1FF4C78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89FA0-AEC2-4D6C-B895-7E8A469D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4CCACA-3AA4-41DA-AE1B-FAA80BD6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52E8AC-2E96-43C4-ADEF-8215E348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2E407-7F25-4B55-99FF-C49B9F43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1B7B45-1660-451C-9FBD-1728B20D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384E72-D527-4975-B8D4-87134ACB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E7BA0-388A-4E13-971D-47D0C7AB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CCA791-E721-4DF1-AB9B-1B400D2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B94-B0E3-4F19-A30C-2019FBF5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9210-2AB6-4D56-9C82-3E9A55DC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2DE54-2810-48D7-9D42-1145089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3D6F3-A264-48FE-AAB7-7511C2DA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E17774-4813-4A46-A3F1-21C6BA9E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A35830-D839-459F-B5CC-22DC7807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E8D0A7-6016-46FC-A086-1E1C4F3D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E7536-61B6-427D-B096-A238CC4F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B8882-0BDD-4CC2-A362-27FEBEA7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41AC3-C82F-4EE1-82D1-E9CA9E5F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285715-DDE9-4F97-8E5A-27969E1F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B0B40D-1247-4A88-B054-F3BD7C79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BB54-5A93-4597-8036-2B66D27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3EDBA-BD2C-4F06-877B-6D928165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98FBC5-1B1F-449B-BF98-87A75B2B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9DC10D-1F01-436F-8AF3-E6B2FAE3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3793DD-4139-4017-A1DA-A62F818F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F1F20-F989-420C-BB4B-4EEDAFAA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7BD30-80AA-4685-9A18-4D911C5E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DB6E5A-ECF1-432D-8353-E802B1AD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A1AFD-9833-4CCE-B23E-F5D8AD87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276E99-BB9F-46AA-96CA-F7892964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DECD5A-A4D1-465D-8BD5-9F638745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7B58-5940-446E-A84E-5E855226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571B9D-B459-45E5-92BB-95B56ECA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D35A5F-481A-409F-AA20-7F18FE98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904B61-F1C2-47C2-BAC4-EAA89976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55A765-3B65-4EF4-B25D-3BD07578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076CDC-38AB-4234-8C19-10159B99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187ADA-99F5-4A1D-9165-A2B7CC24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5880CB-B889-41B5-96A5-4162B7A8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1ABC82-A1D9-4130-9A25-38024576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E24787-BEFA-4086-814D-546A2C62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C8F934-8F4F-4638-B922-FD817AC2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F665-079E-42CA-BF83-1AB3B987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281AE8-CF8C-4329-ABB0-8C9CDD6A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EFE749-9E5E-4A04-86BC-CE3CA787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DD53A-A79E-47C2-920D-FB1A5245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E69D5B-690C-4B8E-A890-3FF6C270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0AABAE-9E59-44B7-B813-DDC3EEB1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9773AF-9898-49CB-A1AF-CDBB4D25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A20369-A435-4490-BDE3-198D086C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B802A6-F5FA-4D98-B19B-D7EA0233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AE0264-8971-41CF-8E43-676D566C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3F1936-0280-4254-8E29-60EAB6DB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0AE7-E38C-49E2-BAFF-6B8190BC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7DCDB-7C58-4544-A2D2-1825C562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16F660-9470-4212-855D-61B0A1EB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7EF4B1-F1FD-4235-A7A6-B068E501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6622E3-3368-4A1B-8068-176FC786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BB5E0C-4F99-4884-8F08-46540682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6D3BE-71B6-4827-9531-7D3229BC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F8C9DB-DFCB-47E4-836C-6ECF0A9D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63E155-5F2D-48E8-938E-A775334A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D21AE6-E734-4178-B9B0-18FFF9A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7BB216-153B-43FE-AC42-DA72B3A1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2991-EFD6-4660-BD7B-85217FE3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D8813D-8344-40F6-ADC6-6C3A7DA8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13BF55-D115-4733-9C3E-6243349B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B43902-C57A-47D7-9B35-ED633EBF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F5444-B0EE-483B-9569-CD11026B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7A73-D53B-4588-89CE-244E42F8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D1A35-F517-4C1F-B1FC-C2424CBE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EAF7C-23D1-4B62-A2C6-6607FEE2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B36-E1FA-4841-9412-F8A70310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6B03-490D-4008-A79D-65246365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6A9C2-90F0-4A8A-91F0-C958B8F1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777EE-4D71-4AA8-B7BF-5887EB7A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AEAD-FED1-46E6-9C25-4BD848CF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37EE2-CAD6-4D49-83BF-BFE663DB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BC82-F762-4FF1-86BE-4A6F0156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9D9DC-9C87-4250-9CFA-C5E28116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EFAAE-BDE2-4B2E-B694-AE3BCF77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CACD-3E7E-46B4-8323-FA34572F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04B53-338E-405A-A8BE-C7ABD15A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185-A8CE-407A-969E-8F45CBD7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74288-A15E-4313-BC19-FEF2B4AF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AB68D-3D99-4375-9189-AD450C3B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D8D6A-B476-45D6-8F5E-B94036D5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6DAA3-BA50-428E-9540-4E326B01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C20C7-141B-482A-84C6-61098172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DB53F-5F7F-47A9-9076-EFC62BB3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E03B7-725C-4852-AA35-EC8E5966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8A2AE-69AC-471A-A325-D1272FB8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8B221-C0BE-4160-B035-B2C31F3D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7DE42-BF4D-4889-9AB6-E4DFE236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337-B97B-4682-8302-79191F25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B4E06-0992-4CC4-BC84-68BAC4BD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FED24-3F50-4BFC-B320-1FADE237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9509E-9B5F-4648-A603-8C72EAF1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C45FB-4B51-47D6-9C06-C2572158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C6C3A-D3C0-46BA-A30B-7C050000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AE0BD-6E44-4A40-9F12-E86863E3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A1E3F-76AF-4E01-9183-ECFF3DEA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EF90A-2B85-40A9-8825-87CC531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18279-1760-4418-9E00-B71E5CFB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E1C99-6F38-4A34-8574-E5E42869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373-2DA5-4A9B-A84D-8C580B48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890D4-7644-4A59-96FC-7AB2E086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4BD19-8053-4C69-8CEE-B1850CBC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FC439-25D3-444F-A6D8-E4376D11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81891-9F69-47A7-BF11-3556AB5F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97718-719B-4095-871C-8B0DA546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EEF65-B187-4391-81B0-874259C7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9728F-89CB-4365-A8DF-62EE7ED7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DB6D4-272F-446C-916B-C8758687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EDCC4-E781-429A-9C79-68201664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D744A-6E0C-44FE-B934-240C3106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0B8-527B-4C47-A1E7-9B090791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8D459-6F7B-43D4-A3FD-25FA3A00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F3F05-99DA-457A-B204-0636F02A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1F869-47E2-4B20-BA9B-065FA719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5F5D7-0EC2-4AF2-95FA-19BDEE36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1AF6C-86D5-44CC-BD8F-7C40636C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E1739-5BA0-46E8-9C82-307FED7E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427B3-7563-49F2-9561-E6E66DC3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B9E25-04C7-4E68-8897-F3D280C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1E936-B98D-48EF-BAB1-3593CD76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A5DEE-0C87-4516-9E36-1C94CE41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0FF-1E86-40A5-B9E5-811759A4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45A81-A135-4B8A-AD5A-3355C3A9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57529-57C3-4EFD-89F2-4D2D0AE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7A31D-788C-433E-87FB-5BEDB9DA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199AC-F236-41D3-9923-A7EBC805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57FCA-3C56-44F3-BC66-E9B25C25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DD065-F4CD-4011-BB1F-C6ED6B50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62DCD-32D0-4D48-A778-EE497AD0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73841-3F73-4ABB-8E37-B0B8FA8E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BDAE1-7C06-406D-8168-FC9FDF90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6D33A-BBFE-4213-AE60-F24F534A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00B-7388-4635-AFEA-C3281C26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8DA0B-2C0E-4C43-A933-2E4166A3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AFAC1-1459-4FF7-A621-CEECA2E5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F45B1-9187-464F-B75F-A5E08AD8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6409B-AAB0-4155-9BEB-77BDF3C4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E681C-8D4F-4D68-8AEC-53B2F2A9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BF457-A5EC-4B3C-9CAA-7794F0B4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F761D-72F0-4192-A37C-DAF1E10E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1F6C9-5A4B-48A7-A3C1-A97F7BDF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5E813-F3D5-49D4-A167-8C3AB67B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5E6A4-6B35-4DF0-85F6-AA68A98E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8566-8093-4173-BAD2-B850402996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F470-6EEE-46B4-AEE2-0FDE580C42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01DA-191C-4544-B9A8-6402FA8CE4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A36B-58E8-420E-BF09-7D1AE6A9C2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0765-2062-456B-B4F9-88F8CA2848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6587-C2A6-4E6B-8372-BDBF19E6D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773A-B79B-4A02-9404-1C3BDB4F63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9BA9-CF2E-480A-8F58-C56818EB01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5162-CAF8-4C77-BA58-32EC11D5A2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EBA5-F7E9-4E73-8169-A0B8A232B5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07A9-FCAF-4C2E-AE02-3748C4EB9D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2EBE-62E8-44B3-8179-E43CDEF60D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6881-82B1-455C-96A3-098ECDC26D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7A8E-31E4-4F19-BEB0-1C3A88211E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07E7-1640-4104-834A-B956BF6B6C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E4A7-773C-45EB-B793-CF9496D3FA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EEB4-E568-4CB6-9F28-A52BB156A6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54FC-63A0-4772-944F-E18C3EAE08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1370-42AF-4C2E-82E5-3F7F50740C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2BE4-C2EF-4451-85D1-D36B3D3F83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4470-CD03-45E2-A254-8FE2D97E8B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6F8B-15C9-4789-B6E5-66C9FBEFBF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BC55-423C-42AD-9872-9AC13B31D1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D2A2-0E97-426E-9972-520C967DB1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9ECD-25DF-4FE0-91E9-8B3B6282A5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54C8-AE6A-4F3B-8F3D-9090A506D6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BE55-B62D-498B-9A74-9283BFC993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B3F4-5758-4B0C-9485-30617F4423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BFFC-B5AB-4A2B-9210-3E20E40694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643B-35A3-4DC3-869B-EEFC0310F8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F201-89AF-417C-B17C-AEE2ECCD17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CF44-A3DC-4864-9D46-506DD2E954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A03D-FC66-484B-A4AB-C16476EDC1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3202-CAA7-47D5-AF0F-52B70F9C17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414E-FBB2-41C3-882A-C5B31DE574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28B6-0D27-4237-AF31-635667EBFA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8BD4-9BEF-4F1F-B497-2D8F8E2D95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D92A-40CF-498E-8B6F-67CEE398E6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BB46-3231-4715-8F80-87FEC4DE8D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E175-0DA1-4252-A825-C9EF4FE04C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84106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243000" y="771480"/>
            <a:ext cx="8658000" cy="56102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2340000" y="3170160"/>
            <a:ext cx="446400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2340000" y="380376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3059280" y="445140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2987640" y="511344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6084720" y="5791320"/>
            <a:ext cx="230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6760" y="573120"/>
            <a:ext cx="8610480" cy="6095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08360" y="1527120"/>
            <a:ext cx="230364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292720" y="23493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236000" y="22906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164360" y="387504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498920" y="4653000"/>
            <a:ext cx="100980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924360" y="540216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792440" y="6180120"/>
            <a:ext cx="100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566640" y="2738520"/>
            <a:ext cx="8010720" cy="1380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6689880" y="2781360"/>
            <a:ext cx="1539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281160" y="946080"/>
            <a:ext cx="8581680" cy="536256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8374" descr=""/>
          <p:cNvPicPr/>
          <p:nvPr/>
        </p:nvPicPr>
        <p:blipFill>
          <a:blip r:embed="rId2"/>
          <a:stretch/>
        </p:blipFill>
        <p:spPr>
          <a:xfrm>
            <a:off x="1504800" y="3905280"/>
            <a:ext cx="73440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738360" y="2557440"/>
            <a:ext cx="7667280" cy="17431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5003640" y="318456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2714760" y="3687840"/>
            <a:ext cx="287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590400" y="209520"/>
            <a:ext cx="7963200" cy="643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476360" y="2637000"/>
            <a:ext cx="259092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1533600" y="3371760"/>
            <a:ext cx="259056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5292720" y="2622600"/>
            <a:ext cx="259092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5392800" y="3357720"/>
            <a:ext cx="23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5435640" y="489744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1433520" y="5430960"/>
            <a:ext cx="155412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2556000" y="5992920"/>
            <a:ext cx="273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85840" y="809640"/>
            <a:ext cx="8572320" cy="5238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7596360" y="29973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7596360" y="43070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7667640" y="560376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223920" y="976320"/>
            <a:ext cx="8696160" cy="4905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2239920" y="2133720"/>
            <a:ext cx="432000" cy="382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2239920" y="2982960"/>
            <a:ext cx="432000" cy="382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692360" y="3832200"/>
            <a:ext cx="431640" cy="3826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2368440" y="3860640"/>
            <a:ext cx="432000" cy="3826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1692360" y="5343480"/>
            <a:ext cx="431640" cy="382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2368440" y="5372280"/>
            <a:ext cx="432000" cy="3823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8"/>
          <a:stretch/>
        </p:blipFill>
        <p:spPr>
          <a:xfrm>
            <a:off x="2987640" y="5345280"/>
            <a:ext cx="432000" cy="3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404640" y="843120"/>
            <a:ext cx="8334720" cy="51717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1042920" y="548784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05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