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A13-FF50-4D71-B5C2-5DE54F6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5F0-466A-4A6B-9444-FCC13D3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56D96-9B42-47BA-8CAB-3784B07F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81E1A-C81B-4B88-8D57-048FA791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2323C-1C91-42D5-8DD7-A94D03F2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4C989-6D54-4C3C-8933-BE9439FD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2E796-1C36-4772-B570-4B960D4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5B322-8127-44B7-AD50-10DA83D7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0F7F9-DC9C-4571-A42C-3DDEDBDF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E45DE-CE10-405C-BE90-2363858C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10F9B-1CEB-4EEF-8E28-947C97EB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D67E-AD67-424E-97B3-A3F6C74E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492-15BA-4D88-9FF7-72A70BB8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204B3-E02C-4FFA-B09A-B554069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E4579-1D94-4462-A2FF-30D2D55B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E1936-CABD-4529-9FEB-0DDB08EF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3224-3944-4A8F-999F-A05DFC3F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19B94-BBCB-4567-8527-920E0C1F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3931D-0BD5-4000-8C85-0EFAEA2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D3C7C-ECC4-4D1C-9ADC-36132FA1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FB0DD-2D9C-4231-B5C5-A9519C4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668D5-6AF0-4F30-A6EB-9862900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210C5-9D57-4EA0-B5CA-A2124FBC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7CA-6E1F-4D38-BE94-7A19F1E9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A3124-E8AC-44F6-922B-22C8BD0E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04A19-EA6A-45EE-9017-D859AC1D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E88B-69AD-4165-9A7E-F7C69482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45724-0113-4639-B9E5-6DA92C47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C10B-1EB4-4F0F-8C4C-48D0BBCC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17306-DAD1-4010-9F07-214ECD2E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475BA-AB3A-40B7-AB5C-9A77260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CED2C-8421-4B39-84E4-6634792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FB707-189E-4E87-9EB9-6A740B58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D6C8-481B-46AF-9175-F5F8D88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1D3-9D83-44C7-BCEE-2FC9E84E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5D988-6EC4-44F1-B0DF-F3E6DDE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2656B-C43E-4CE4-924B-7DB313DF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57486-8161-4A9F-AD8A-4B39138D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452A1-1769-486D-A4C6-968BC621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23108-E4BF-4154-90C1-B2008D48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87011-4532-405F-B38E-43936D9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E2BC8-6C11-48A4-B232-6427E21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1B008-B10D-4E56-B1B8-BCFD901A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4239-CBAF-450D-8D30-D231BA4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6687F-08DA-4370-8470-EC87421D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F55B-409D-4E44-A2B4-24F826E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8707E-AC17-4F19-A563-1C6A1D9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8918D-3981-4E51-9D8A-57B8DB9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B0E52-251C-4BF4-A9AC-55557AC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184D-C033-40B9-B6E3-3AFD30A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90431-9D21-46BB-BCFD-01578B19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5194E-10E9-44E7-99B5-90AA7B41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235F9-1AF2-4634-B1E7-92213BD6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7DA95-DECC-4C75-9C2F-7689AF3F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7CF8E-8B67-4793-90DB-9DF36A4A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7B8A9-CCD5-4931-98D0-DB102E47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635-84EB-4CD9-9CDA-431CFD2F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20BB3-9743-4E2C-8263-E887F95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5CE71-6B0F-4433-A9A1-C71DCBC0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5CAD7-0E3F-4487-B016-AC45C402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DCAD2-D231-470B-B68E-036D894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336C5-023F-4ABF-8B25-300095B2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A0B05-AD5A-4B04-8CE7-A510F659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5053E-02FF-47F1-BE91-178984FE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29CDE-34C8-41EF-AFC6-D064352E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109C4-3217-4A39-96AF-23DEF07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37201-DFD3-432B-81B1-953FFC0E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95E0-18B9-47AD-91D9-414D4BF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15371-D0D7-4C2F-995C-66BBE435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738EC-E8FA-405C-9DCB-E7CE786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6DD64-0C6B-4BF5-ABB3-A6E7AFA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BAF8E-E161-4798-A3B3-53CC7B0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1C273-EBF8-4D42-B67E-330DD86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143C5-92F7-4BFA-9E50-CE754D7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BFC8F-058B-49DF-A556-24CF62CA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CF235-67F7-4FC4-975D-F94318C3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C4A92-DED5-41A2-A915-5E0B1A7D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F0727-F644-44A8-9821-C25E9A4F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2D8-E169-4B07-9DC6-BC637E2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481C2-B753-4240-BC68-F8F6A678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793E6-0B83-46DB-83E9-CE7759B0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CEF00-69A1-48EF-AACA-6A9A0659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F4355-7F83-4FEC-ADDF-F66A14F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3A971-6774-44F1-A585-45E2180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BC897-2F8A-4219-8F92-9BB4B892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A65BA-296A-441E-8166-BD2BD63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1BC30-0EC0-4DD2-886B-A97DAC6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BDD5F-1E5A-4C9F-B491-E8FC1A7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2E015-E2B9-4627-A2A8-686A18DB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01BA-8EC5-4C41-976F-7EDD032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3C042-3C02-4834-87CF-843F9E16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EDF39-7849-47F2-B4CA-6BBBAE57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2A406-B831-4C70-BD15-EAAE3046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AB4EE-A123-4124-80C8-3CD860DF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242E9-9367-4DCE-81A3-8B86134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3ADCB-FDB7-4F2F-A49E-DDAEC1E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F4AC2-5EBE-4762-BC5F-023EDD91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A5571-9BA4-4E2B-B01B-463BE2A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35156-0A21-487D-B6AE-CB9DBF1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A7B0D-CD46-4E6F-8663-46C226D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54C6-D5C7-450F-B929-597CA23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549D7-4660-4665-8268-588069B7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B61C2-A384-46CB-87ED-20829ADC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C8135-E869-40B1-91CF-6071B4F3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DC638-7742-4921-91B6-4E5E2B77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C6391-11C3-4377-B8EF-2821656F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BCAFA-82A2-4768-9B58-952F2C8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B7227-64C1-49B3-BBE5-FF2EF20D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311B8-AD8F-4B0D-95DA-722CEC99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CD07A-2DB8-49C7-9818-07869340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CAF13-6FCF-4BE8-AB07-AE70CD8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3A4-0CB6-42FE-8334-B8767288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33B-19A4-4587-B4D0-C8867621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7F7B4-CF85-48A3-955B-424539C4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CC3CD-F0EE-4007-B522-ED17B3E1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D8EE8-BE11-43D5-9FFE-15303F8D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FC2F9-F541-4203-83BB-312CDDD3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94503-5251-40E6-9B60-D758A9EE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9A40E-757A-41C3-A1BD-7F7271CB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8970F-13EC-45FF-B3EA-5D13074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5733C-E7ED-4A73-A3EA-D02963E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9E0E7-1712-4900-B8D4-93386E2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9940A-E305-40D2-B183-340197D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EF5-5B20-4038-85F5-148208D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5316B-B213-4A83-A3DF-084AEDAC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1D0A0-E273-452F-A5FC-50F78CB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0BF40-4E02-4587-ACA4-48A10EA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C31E2-13BB-40DD-8FAA-E3CCBFF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854D4-A44D-40AD-AC09-446ABDE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E5685-E860-4A60-923B-887FF09F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7ABEE-1ACC-434D-ABEC-1A5EB1E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05FEC-9335-4CCB-9966-6E55151C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74F0F-22BF-44A9-89EC-9B61FF1C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AF4BF-D6EE-4716-AAB8-431861AB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DA1E-3D91-4202-99BC-AFC79982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35E8A-D30B-424A-85C1-AC991EE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E94DB-7415-4ABE-AF7E-A930669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F9746-9A42-4985-A1CD-03452C1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18EAB-1541-479B-B6FB-767699F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38077-E863-4638-BF64-D8521FB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34A1D-F4C3-407E-91E9-9F26F13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6DEA9-A464-441B-9E22-C7BEC79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A2775-9F12-46C4-ABD5-3B4B7015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945F1-D945-4C0B-8A0B-B3086374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8880F-564E-4AA4-905E-836A88AC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693F-BB30-490F-BF9F-B1390389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B0A25-9C2D-4EE4-92A1-9266CCF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55E6F-8F80-4A16-BDD9-2B6CE0D0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77FEA-52A1-4FF5-A518-BCC588AD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AC571-C004-447F-9A3A-99F4F61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DF017-3E5E-4EB5-BB3B-75212358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4EB84-03BC-459E-9174-EA33415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AFCB6-8B91-457F-B155-1109E4E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49461-C4C4-4696-B6D5-2AEDD7D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9F7DE-CF68-485C-8E14-074C205E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A4B6E-F731-4967-BF08-6BCC9E3F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6D0-B055-4F65-B19C-2A88589A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EF3D8-E6F1-425E-A3E2-3CE2B177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C3221-0F1F-4973-ACEC-941B1B1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2AE0B-C98A-47F5-A5DE-DEB1E06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4ACA8-FEF2-44D1-88A9-74A0A96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C3776-E1C6-4440-BC75-50A0D2B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8A549-04C0-49C3-9A51-C82E22A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CC17A-2EF4-411F-9B03-C5E9D43F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16D7D-216F-42BC-9F24-11E0535B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B43E9-4B9B-4A7B-8D62-D235ACA2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4C8F7-B552-4680-BCBA-EFA5AAB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42C6-2824-4341-B6BE-284CD346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CB8F6-DA57-4316-A594-E9BEC3B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A496C-6F24-49FD-A408-CE6D604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75032E-5CB1-4338-B435-9720CD0A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D314C-7392-4BEC-8E31-A18D7639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6CB74-D56C-492B-9E19-E28C206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7F74E-EEDC-4D2E-8C9F-BF5A5C3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E85FD2-5F1F-4DDF-BB60-2F6F8EA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69EC2-1E11-4D29-9F0B-CA3F185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26F86-E8FC-4700-B56F-A4962F1B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EB5568-C3E8-426C-8A8E-9C79FAC5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7CB2-D869-4E29-8627-1E7A4508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98E25-7647-4F86-969A-261C667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B9B622-C8B5-4AD5-9793-7A49E26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5A3F3-D535-4D80-A6F3-90EDE9F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38BEED-AFA5-42DF-AD82-9DF0DBD8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94A35-383C-4AF9-8C37-3A54EE77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078C-DD2D-4EF5-BC3C-77A5547F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9E73-B2AC-4C9B-8F3F-756BA6F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79AB-FCAC-4EBC-ADAE-9B171456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E1E-F703-4044-83B8-1EC6AB9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1B86-DDC9-413F-98A5-59EC9EA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EECC-91B9-4AB4-B132-6E028A2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F45C-C759-4151-9A56-7961C5B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3646-D87E-4631-9864-83B75B0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7474-E586-412A-9D82-B52C47C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2C805-DA5C-4148-813D-743F180B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D3B4-BAB2-4972-832E-CD6C28F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5522-D3A1-477A-BCCA-1FDD71B3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438D-EBBC-4C79-A8B6-8B5B568E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C46C-CCF0-4AF5-A49D-C010AB5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EC9-AFAD-4731-BEFB-FF34D480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302C-4F7B-49E5-BBD8-403E2AD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3A5B-3445-4A46-8053-4509441D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55D19-544B-4DF5-A411-1849355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0362-F6A4-4241-9A91-63ECC6E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5B9A-2AB0-4BAE-AA8F-5AC823E8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77E7-BA94-49B8-A471-14AA090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143A-D583-4D8C-9FE3-5D7E1835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9210-D4CC-4D1D-BA5A-8B9472BB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E0B5-EB66-41AD-9F47-19A1B070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5AE33-0CBE-40F3-9F7B-422211A3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C16-0F1A-4C01-A7BB-CFD799D1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9B40-FDE4-4107-812C-A30E91D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C2A9-D497-486A-A553-7EDC771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4AF8-98D9-4CDA-95FD-5F5B7CF8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006D-D91F-4D06-9FDB-03A8E779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597C-FE98-44C3-94AC-BC6BEDE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2DEB-0997-4603-8C81-AF4427E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C3A2-CB09-4FB7-8ACA-38797FC8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1838-9ED2-4EDA-905C-080F555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8BDA-F31C-45AE-94B9-209F46D3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015E-9D3B-40CA-990E-249CF251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92F-DC2A-4971-9C65-5505816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993B-D79C-4D10-A302-FA0A7585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83E02-4877-4E29-A3D2-3F8FBE80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866D3-0F51-4FC3-8C75-03DA4D4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136CE-6192-4F30-8296-4723C47D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D44C1-F0FD-4A4B-930E-281DC60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0A008-8685-47F6-AC2E-51A1EFF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7EDF2-7B08-493A-B59C-DFFCA00D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DC461-6A59-49FB-AEE2-F53B38C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48CC3-BDE9-4573-A265-77B2661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29C4F-EEF0-478F-99FE-BFE8A5B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26E-375F-4772-82FA-34556A7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2D826-FED6-4674-8350-C626957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C7729-D502-408A-B6C1-152C02AB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CE043-C1B5-447E-B089-6B9B8084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B9EB8-698B-4F23-811C-0B92BAFB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E4B2-AC92-41C3-8894-6F269B0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4531-DC78-46EB-A722-C84101A9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F239-ADA3-4F79-B62B-ED9E9FE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CF97-FEDA-4BCD-8634-09D9BC14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F86B-3C11-4031-92BB-574DAE29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5F1A-7C45-42DD-BE62-ACECCA7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890-81B6-4882-9FD5-79C6493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F0BD9-2DF8-4470-AC12-BA462E9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BF15B-EBC5-46E2-8E5C-548D6CE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1283-BEE4-4A3F-BBF0-B30A110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7A76-FA47-44EA-BCCE-2ABFE926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371B-D172-4DAC-A878-D33C4D8C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A5315-E56C-4B0B-AA3D-4131C8D6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B4A49-D19C-419A-A7BE-1E2588BF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BCE2-E752-4D7C-8C91-E9D9CF5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B351-A0E0-4175-B3FC-F25C7BB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C6FA-775C-4A16-BE4B-B7767D7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833-3D31-4C32-B7EF-4C50B53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E1A5B-1C4B-4F10-AB8D-2F26CC62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14604-C27B-4100-8BD1-6775EF6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D3F1C-E2EC-4F6F-8A13-C55C036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A78BA-ED89-4E3F-A5FB-F55AAE2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02BCE-B69E-4878-A901-A6094ABF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136AF-EBDC-4AA4-9AFB-6F874C36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51FA-307D-4EC7-8762-1BF45684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61409-A41D-4EC8-88A2-2C470AF6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4CE1B-8A26-4EB1-B1CB-F970E8C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DD411-9487-4514-B00C-FEA6673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BC60-537C-4914-A973-8E588CFB6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8B1-D835-4FEE-BEE0-6A4DEFDD7C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B09-EC55-46E2-A635-EC394AEA4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E574-D8E3-44F6-B480-FD3B31FE9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2F65-13A3-4D4A-89A0-19040B548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0DBA-5BF3-485D-85C4-1E57389ED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7B7B-4845-4515-B099-149204DC9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FB7-9DA0-45EB-9663-EBB14FC41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AFB4-94E2-4FC9-B677-1B18B46B9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E934-7CC5-45FD-9445-00938CD2F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189-BAE8-4019-8886-4993A9FCD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F19-31AA-4123-97DE-A2EE046A2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AF1C-83BF-4912-AA27-74309AA42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DEEE-43E4-4563-99F7-A19A8B426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4864-B660-42A5-8E94-F85676C3E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474-1FB5-42E6-8A1B-10D771FCA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F02-E80B-4C14-ACA9-54699F09FD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242-ECF7-42DC-A105-E1FC20CFA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DF31-BA52-4EC7-9E79-C86A4AC50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FD84-3E44-48DD-BA1B-206211C74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2095-1D50-4484-99D5-CB3396CD0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6E7D-5FC8-4FFB-833E-F166750B0F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09D2-DA87-4EE4-BE34-DB521F217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9130-AD6C-41C7-8C42-42F05B1CBF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BBDE-AED8-4252-9E7C-F149680F3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90C-45AE-40D3-AFE2-096378B64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8BCB-8C5D-454F-8194-6D55332A87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7338-6EC9-47B3-A736-325935BCDE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C0EF-8443-4A38-9495-152F0015C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B23-D142-4BDC-9274-779407AE3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246A-FF1E-46EE-A2DB-C8F8A8A2B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D33-3969-4337-ADE4-358A6DF24E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BE7E-8F6C-49A0-9EDD-D537AD4A2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C636-A48F-427E-9AE0-ABF6432EF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4868-AB24-4C80-946E-975D62CAB9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322-C1CC-45C7-B116-11A612F1A9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61C4-9DA8-4C97-99FA-F2615F6B2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63D9-7126-4E8F-8758-908B37445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BDE-87EA-43B8-96FC-3CD2C39FC9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FDA3-A375-4290-BEBF-EF7B503034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3926"/>
          <p:cNvPicPr/>
          <p:nvPr/>
        </p:nvPicPr>
        <p:blipFill>
          <a:blip r:embed="rId1"/>
          <a:stretch/>
        </p:blipFill>
        <p:spPr>
          <a:xfrm>
            <a:off x="193680" y="1695600"/>
            <a:ext cx="85820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85760" y="1195560"/>
            <a:ext cx="8772480" cy="4466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826920" y="3832200"/>
            <a:ext cx="7632720" cy="318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755640" y="4192560"/>
            <a:ext cx="7632720" cy="3189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7632720" cy="319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755640" y="4941720"/>
            <a:ext cx="7632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71440" y="123840"/>
            <a:ext cx="8601120" cy="6610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200720" cy="319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7201080" cy="3193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395280" y="170028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611280" y="247824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7"/>
          <a:stretch/>
        </p:blipFill>
        <p:spPr>
          <a:xfrm>
            <a:off x="684360" y="4840200"/>
            <a:ext cx="7200720" cy="3193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8"/>
          <a:stretch/>
        </p:blipFill>
        <p:spPr>
          <a:xfrm>
            <a:off x="611280" y="522936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9"/>
          <a:stretch/>
        </p:blipFill>
        <p:spPr>
          <a:xfrm>
            <a:off x="539640" y="563256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0"/>
          <a:stretch/>
        </p:blipFill>
        <p:spPr>
          <a:xfrm>
            <a:off x="611280" y="6021360"/>
            <a:ext cx="72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11"/>
          <a:stretch/>
        </p:blipFill>
        <p:spPr>
          <a:xfrm>
            <a:off x="611280" y="6380280"/>
            <a:ext cx="7200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图片 1" descr=""/>
          <p:cNvPicPr/>
          <p:nvPr/>
        </p:nvPicPr>
        <p:blipFill>
          <a:blip r:embed="rId1"/>
          <a:stretch/>
        </p:blipFill>
        <p:spPr>
          <a:xfrm>
            <a:off x="171360" y="2028960"/>
            <a:ext cx="8801280" cy="28000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6048360" cy="3193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6048360" cy="3189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6048360" cy="31932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6048360" cy="3193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6"/>
          <a:stretch/>
        </p:blipFill>
        <p:spPr>
          <a:xfrm>
            <a:off x="324000" y="4307040"/>
            <a:ext cx="8640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图片 1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34480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2"/>
          <a:stretch/>
        </p:blipFill>
        <p:spPr>
          <a:xfrm>
            <a:off x="539640" y="289404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6"/>
          <a:stretch/>
        </p:blipFill>
        <p:spPr>
          <a:xfrm>
            <a:off x="611280" y="4394160"/>
            <a:ext cx="7272360" cy="3189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7"/>
          <a:stretch/>
        </p:blipFill>
        <p:spPr>
          <a:xfrm>
            <a:off x="468360" y="4797360"/>
            <a:ext cx="7272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81000" y="981000"/>
            <a:ext cx="8982000" cy="4896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908000" y="13986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908000" y="18018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6012000" y="18446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4643280" y="22050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7093080" y="220500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4140360" y="2579760"/>
            <a:ext cx="71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7380360" y="26082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4557600" y="30258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7596360" y="3068640"/>
            <a:ext cx="93636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5724360" y="3860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3"/>
          <a:stretch/>
        </p:blipFill>
        <p:spPr>
          <a:xfrm>
            <a:off x="7885080" y="3860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4"/>
          <a:stretch/>
        </p:blipFill>
        <p:spPr>
          <a:xfrm>
            <a:off x="4932360" y="472428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5"/>
          <a:stretch/>
        </p:blipFill>
        <p:spPr>
          <a:xfrm>
            <a:off x="8028000" y="508464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66680" y="1857240"/>
            <a:ext cx="8810640" cy="31435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716120" y="24922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4427640" y="249228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7048440" y="248292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1609560" y="30160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4105440" y="301608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7164360" y="30160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8028000" y="3357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9"/>
          <a:stretch/>
        </p:blipFill>
        <p:spPr>
          <a:xfrm>
            <a:off x="2124000" y="378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0"/>
          <a:stretch/>
        </p:blipFill>
        <p:spPr>
          <a:xfrm>
            <a:off x="7380360" y="4221000"/>
            <a:ext cx="863640" cy="319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1"/>
          <a:stretch/>
        </p:blipFill>
        <p:spPr>
          <a:xfrm>
            <a:off x="1332000" y="4653000"/>
            <a:ext cx="863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131760" y="2225520"/>
            <a:ext cx="8880480" cy="2406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824400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824400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817236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8172360" y="3860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8172360" y="422100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38160" y="923760"/>
            <a:ext cx="9067680" cy="5010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3924360" y="134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971640" y="522936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1" descr=""/>
          <p:cNvPicPr/>
          <p:nvPr/>
        </p:nvPicPr>
        <p:blipFill>
          <a:blip r:embed="rId1"/>
          <a:stretch/>
        </p:blipFill>
        <p:spPr>
          <a:xfrm>
            <a:off x="457200" y="744480"/>
            <a:ext cx="8229600" cy="60199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2325600" y="1542960"/>
            <a:ext cx="446040" cy="3193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4902120" y="1484280"/>
            <a:ext cx="446040" cy="318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7308720" y="1557360"/>
            <a:ext cx="446040" cy="318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2382840" y="1873080"/>
            <a:ext cx="446040" cy="3193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6"/>
          <a:stretch/>
        </p:blipFill>
        <p:spPr>
          <a:xfrm>
            <a:off x="4932360" y="1887480"/>
            <a:ext cx="446040" cy="3193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7"/>
          <a:stretch/>
        </p:blipFill>
        <p:spPr>
          <a:xfrm>
            <a:off x="7581960" y="1916280"/>
            <a:ext cx="662040" cy="318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8"/>
          <a:stretch/>
        </p:blipFill>
        <p:spPr>
          <a:xfrm>
            <a:off x="1130400" y="335772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9"/>
          <a:stretch/>
        </p:blipFill>
        <p:spPr>
          <a:xfrm>
            <a:off x="2340000" y="266544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0"/>
          <a:stretch/>
        </p:blipFill>
        <p:spPr>
          <a:xfrm>
            <a:off x="3995640" y="342900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1"/>
          <a:stretch/>
        </p:blipFill>
        <p:spPr>
          <a:xfrm>
            <a:off x="5191200" y="267984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12"/>
          <a:stretch/>
        </p:blipFill>
        <p:spPr>
          <a:xfrm>
            <a:off x="6429240" y="3343320"/>
            <a:ext cx="2016360" cy="34718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13"/>
          <a:stretch/>
        </p:blipFill>
        <p:spPr>
          <a:xfrm>
            <a:off x="7581960" y="2637000"/>
            <a:ext cx="1008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1187280" y="1403280"/>
            <a:ext cx="7067880" cy="218124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2" descr=""/>
          <p:cNvPicPr/>
          <p:nvPr/>
        </p:nvPicPr>
        <p:blipFill>
          <a:blip r:embed="rId2"/>
          <a:stretch/>
        </p:blipFill>
        <p:spPr>
          <a:xfrm>
            <a:off x="1309680" y="3886200"/>
            <a:ext cx="6524640" cy="1590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3"/>
          <a:stretch/>
        </p:blipFill>
        <p:spPr>
          <a:xfrm>
            <a:off x="1403280" y="217656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4"/>
          <a:stretch/>
        </p:blipFill>
        <p:spPr>
          <a:xfrm>
            <a:off x="1403280" y="256536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5"/>
          <a:stretch/>
        </p:blipFill>
        <p:spPr>
          <a:xfrm>
            <a:off x="1403280" y="292428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6"/>
          <a:stretch/>
        </p:blipFill>
        <p:spPr>
          <a:xfrm>
            <a:off x="5580000" y="21765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7"/>
          <a:stretch/>
        </p:blipFill>
        <p:spPr>
          <a:xfrm>
            <a:off x="5580000" y="256536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8"/>
          <a:stretch/>
        </p:blipFill>
        <p:spPr>
          <a:xfrm>
            <a:off x="5580000" y="292428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9"/>
          <a:stretch/>
        </p:blipFill>
        <p:spPr>
          <a:xfrm>
            <a:off x="1258920" y="433548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10"/>
          <a:stretch/>
        </p:blipFill>
        <p:spPr>
          <a:xfrm>
            <a:off x="1258920" y="4724280"/>
            <a:ext cx="2448000" cy="3193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11"/>
          <a:stretch/>
        </p:blipFill>
        <p:spPr>
          <a:xfrm>
            <a:off x="1258920" y="508320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12"/>
          <a:stretch/>
        </p:blipFill>
        <p:spPr>
          <a:xfrm>
            <a:off x="5435640" y="433548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13"/>
          <a:stretch/>
        </p:blipFill>
        <p:spPr>
          <a:xfrm>
            <a:off x="5435640" y="4724280"/>
            <a:ext cx="2448000" cy="3193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14"/>
          <a:stretch/>
        </p:blipFill>
        <p:spPr>
          <a:xfrm>
            <a:off x="5435640" y="5083200"/>
            <a:ext cx="2448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738360" y="2305080"/>
            <a:ext cx="7667280" cy="22478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216072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3851280" y="313992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3851280" y="350028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443640" y="313992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8"/>
          <a:stretch/>
        </p:blipFill>
        <p:spPr>
          <a:xfrm>
            <a:off x="6443640" y="3500280"/>
            <a:ext cx="2160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90520" y="1495440"/>
            <a:ext cx="8562960" cy="38671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1892160" y="4683240"/>
            <a:ext cx="289080" cy="263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2340000" y="4678200"/>
            <a:ext cx="289080" cy="263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3836880" y="4672080"/>
            <a:ext cx="289080" cy="263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4284720" y="466740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5810400" y="465768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6257880" y="4653000"/>
            <a:ext cx="289080" cy="263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8"/>
          <a:stretch/>
        </p:blipFill>
        <p:spPr>
          <a:xfrm>
            <a:off x="7724880" y="467208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9"/>
          <a:stretch/>
        </p:blipFill>
        <p:spPr>
          <a:xfrm>
            <a:off x="8172360" y="4667400"/>
            <a:ext cx="289080" cy="263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0"/>
          <a:stretch/>
        </p:blipFill>
        <p:spPr>
          <a:xfrm>
            <a:off x="8201160" y="5013360"/>
            <a:ext cx="618840" cy="31896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13323" descr=""/>
          <p:cNvPicPr/>
          <p:nvPr/>
        </p:nvPicPr>
        <p:blipFill>
          <a:blip r:embed="rId11"/>
          <a:stretch/>
        </p:blipFill>
        <p:spPr>
          <a:xfrm>
            <a:off x="1979640" y="2016000"/>
            <a:ext cx="3457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40:4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