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3FA0-3EC2-4F18-821D-6663BC9F7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B271-E231-485D-82E2-31B0E23E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1A689-1B3E-4D30-8FA6-05F3164F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E428D-2664-45E9-A5BF-DEA418F6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4FEBA-8097-4264-803B-E0A019F1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2FAFA-F0F2-4A85-88AF-E96C1774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16A52-6BB9-44B2-88A1-03766CCD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6EC57-1173-4776-BDA1-9156A200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0099B-7084-450E-A496-EB3388C4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09BAA-D956-4192-A0DA-40B528C21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2FD0C-4C7B-4D37-88FD-7DD6EE09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B6479-7ECF-4F4A-BE66-5D5FA6BF6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CF9C-665D-4501-8691-B2518CB85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17070B-D8ED-4DE5-9B9A-29DF2590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9051B-D8CA-4D2C-B14B-8E0F28F2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FB9DD3-082D-483E-BD6B-52A222A0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BC799-CFC8-4B74-9E84-2FCC16E6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D962DF-215F-46ED-B7E5-666BC25B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C10A54-70E6-43B3-B7CF-2E217383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6E7B0-289F-458B-A90B-4F098CA6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2DA2D4-ACEF-475E-A2E8-6D34DF4F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37E70-A418-40E6-A7EC-93F3BEEB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2EC622-6F83-485F-A252-989B9F3AD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0A73-BDA7-4E29-988A-7EEC776F3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F5A11A-D1DC-467A-8EB8-49098E87A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82FE5-2581-4B8A-B801-E55D0A21E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40740-A7AA-4046-9ACA-89D36FCD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73372-E061-4C8D-9B1C-F0911B01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DDA35-E271-43D7-876D-9541E372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F8527-2ACA-4388-8A6A-C4E14327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C74E6-3E7A-48DA-A121-BD25CAA1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8FB90-0FD8-4DA7-B71F-291A4BDB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53562-50A3-4ACD-A764-9B08AD48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267D7-59C3-4AA2-92BA-EBB3A299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7E11-DD06-4459-A7F3-6C59C7488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C1680-39F9-4794-B747-2BB39070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4126D-DF84-4284-A3ED-75023E0EE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AD504-F74A-4E46-B44A-BF43B6292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ED2BAE-3FC8-4515-9CFC-0A11CD2EE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01332F-526E-4E72-A23C-6A26C516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D87CDE-668C-4057-A278-D6EE0E4B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791FA6-0742-4AC5-AC99-93FD182D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E3DFA7-83D2-4C68-9D25-4E0C226C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004A2F-B13C-4685-A9F3-A46497E3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447366-7336-4191-8202-AB03698D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4A50-D194-4AEA-A802-B333D447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BAEF0B-9B80-4D9B-8132-9D70CFA8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B052C9-79D5-4283-AF96-AD227B54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E74899-9006-41EF-8E97-E0F5E39C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77E31F-6CBD-4289-8406-C0C9BCABC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D3418E-290E-432E-9BE6-40AE76101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3897C8-0284-4376-B095-FF9F43586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28717D-6C14-4E99-A44A-F5BBBF87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2793DB-C387-4E24-A6B4-41522BCF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2FF288-CB86-4ADA-B024-3A29D55E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3CD536-D460-4D56-AC41-4656C038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7E6B-0A4A-4CF4-9560-ED1D45FD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1A60F9-8CD2-4674-A5C5-95CB5729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7A5BFD-1618-4A18-BB04-A9EA5037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E2AC54-0E72-4F83-9575-DCD097DA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5CD243-2684-41B6-9051-7A03D5A2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ECE61F-A923-4673-BBDB-184CA220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3AA26C-0843-47AB-AE67-F7A0D7608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6BA9C0-9429-4DB1-A50E-4DA1A8306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3DFDAD-DB4F-4C83-B571-8E30D59D3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FF44FD-B850-421A-AE54-D35FEC43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42A805-4384-485D-9983-21EBCF72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DF3E-4C0A-4FCB-BF99-7C4BBDD1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F35C37-1034-47A3-A74E-31776EF4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436EB6-4BB5-4252-9DB1-423C149D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CDC3EA-78FE-4208-8499-D2080FA0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E68F19-5352-4731-B39D-E3BDF6CB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DB44BB-087B-492B-A0F6-150BEB22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515960-4A08-477B-A230-3C98802D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E2EEF2-F63F-406E-809B-AC4E94E8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9AEE52-8CBC-475D-9550-D5910FD40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70EB9E-86D6-46E7-B35B-8C239561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546D78-063D-45F7-B77D-874E4B2F3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8C4B-0CAD-4EC6-B9B5-7BFCF4D2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3F1581-7696-45F0-ABE7-3B2AAFD3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239B12-0D49-42DC-94FE-06E8DD66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667215-5C1B-403C-A82C-194EDCDF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9B4AE2-19C4-42BD-9CD2-779EC7DE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1E25FA-88EA-4063-8F94-9C268AFE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08A475-2EF1-450B-8DEB-29194A0D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7B53CB-F9B7-4C82-8C95-281A4B85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DE9C52-F47E-4EC5-BA3B-9E2202C6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552F6E-872D-4359-9D84-82270EB3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AA1C72-A8FD-483F-925B-B0E38D7C9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C921-A359-4049-B994-B280A2CF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8E4F3F-1B65-4CED-977D-FECC82F3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B459ED-8B4C-4FAA-98A6-9439BDF22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3A2BA2-61D3-4BA8-ABF0-7B8184C5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0BD809-EF6D-4465-A09D-FB0F6F61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BC8A34-4A30-4826-B508-C95DF6F5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08097F-48A8-4318-B0FC-576B1C8C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727841-AE4B-4772-A3C1-B6DBC020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B32584-4DF5-4A5F-A1E1-01234503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F8D595-FFF8-4C06-BBE9-EB3F16E5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6C59F2-D64E-4C2F-A85B-2881B8D4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2A4D-B5EA-41C2-87AB-2F019832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12DE4F-7B5E-4280-8824-F8DF55A6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A51354-2B49-4028-89D3-AABCFD3AE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24A138-FB6C-403D-8B8C-1BAD59F76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DA19EA-5809-4519-B37B-607EDAE0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CA9259-D8D9-4C56-9ED8-28B24B46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CD6396-6473-4217-A3E5-57A03F65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64C2D3-93E8-4D04-8FB9-E5479D19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F86FAD-4E18-43E0-9E6E-94368FF5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801ACC-FB06-4465-9222-506D7E6B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455CA6-B083-475F-84B1-ECA1BAC0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77D2-6DE8-4C97-9862-9EB59C07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9195-A1F8-48A5-9FF2-2D3CA470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B17679-F9C7-44D1-87C6-D072D826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4F98BA-741B-470C-9607-23BAA1BF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CAB0DE-2788-4D65-B5B1-557546FF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20C194-782E-4883-AC8B-5485EA690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2E6834-09E0-4FFE-80DF-8A4979C28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98D93A-25C3-4AAE-A104-5E0F70255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9A1678-C2A8-4526-9C2F-1B985357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2B95B7-03E9-480B-B598-4CB74995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448919-5A1D-4822-ABB9-BD113355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879184-8409-46E0-95FB-1832BCF4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DB53-2392-4351-84EB-E5510CE6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487249-6923-4AA2-8DED-8E0B110E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CBCAEA-9679-499D-9C1F-C4EE4C1F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E629FF-989A-479D-BC12-41AA5AAA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111ECC-7BA3-42CF-B22C-3BEEFB01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10AA92-4623-4232-8F33-3B3D01C2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5D6036-CB95-4C00-92DC-A76F187C6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D80018-1288-48B7-8F85-C5A44A37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950EA2-0B43-4FDE-8DA6-D3FE6D7C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ED4425-137D-4795-9CA0-248F11FD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B9C1D1-9326-4810-9144-069BA347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9198-7936-493B-8ACE-035F68E2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D6C932-2AEE-4DEE-B53A-455AAC50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51666B-D3A2-4CA9-8D04-746AB7B0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FE6674-D086-46C9-8131-4976E471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516009-A77D-43C2-8B91-294A1A12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C33A12-2D02-4E70-8C2D-A759F92A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7E9BBD-C9BE-461D-9B7F-9280338D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E0831F-D270-4490-8164-63CCEA5A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C382A4-535E-46D9-8070-FA8C6F57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737F3A-09D1-4EC2-99A1-FA783F908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1B691B-60B3-4D02-99C1-8AB140C88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BE52-06C7-498C-8A14-81D9491F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DAE7A0-02F5-4C54-A1F3-EB4EF7C8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B916E5-37D8-4414-A9D7-19B5FADD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997C2C-D167-4DF6-A401-9D456A49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28EF7B-391D-4CB3-B550-2E98B212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8CF815-E8DF-42F1-A1DC-8C7AD37E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0D7E90-5BB8-4ED1-883E-CA5C004A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74B07B-7545-4C74-AE4C-736E6780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98D707-A0BE-4155-A103-9B3DB836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08E123-6708-4190-9D01-785814EF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C563CB-46B2-4D28-8C2F-776D8B230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885A-D1F7-421F-A14B-4E38D8E2F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F148CD-F3DC-472C-BC55-2822D65F4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999B6-6DE5-46B9-B8A9-D75565082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93927-4DCF-4281-8218-3BD8ED96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27C58-05BE-497C-A7AA-F25C7E39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1003E-937B-45E9-BD22-FD4927E7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CEECA-F2E0-4AAA-81BD-50303B5A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8896-72D1-4163-BA0E-497F6A5A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8937D-7BCA-4C04-B348-86CE9242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0B822-F6ED-4C11-89DB-5F062382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A0C9E-8E7F-4B6A-94B5-DD2335FE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2F9BC-48BA-4993-A798-5AA0504C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21E1E-3EF8-42FE-BA5A-F6B66352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70443-5887-493E-944F-F6ADF8075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4F927-2600-468B-B82F-A23BBDE88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13740B-2293-4B1F-A3AA-90FC0319B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22D68D-F160-4AE2-A3A4-753B8DD4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FB201A-45C8-4FB8-A6B8-645E6FDD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D7C5-2433-4D85-B34D-6EF80111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04201B-4A62-4203-A866-C8DB9CC7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4E2CC6-1AE1-400B-8BE5-DBDA9307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BDBCFC-B687-4E7D-997E-2E4F5B61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F56AF8-9FA3-4AA6-B7DD-71DDE4F0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158653-2DFD-432A-BCAA-2B676427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5592B8-CE53-4680-8BB3-1701F758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2DBAB7-0F6C-4DD8-9111-3C4FF082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533457-5C8E-4880-A229-17EA539DE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6EBEF0-65BD-419D-B338-CDC1FB28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0BE46-2941-4C3D-AE1D-EC168BB80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FD74-F567-4B66-9FD5-EA029636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F919E-166D-4ED6-992D-023661E4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9B01D-8052-4F86-8D87-263C568E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07EC5-AA88-442A-9785-14E78296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F1E03-19C3-401C-B7AF-C76EC9BB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6B334-9F15-4E69-9489-93D84EB8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AA074-6734-4B79-925A-655E24C3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AB2DA-3FA2-4EB7-A941-80DEBD81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B6850-5163-4EB7-9DBD-5EDCAE47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1FC2E-2216-418F-B969-ABD39A6D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8C4B3-2126-441E-BD71-CDBDF5137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7911-B83D-4CDE-8BC4-47BFF495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0A670-0D6E-4EF3-9904-049415A04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76EE4-F435-4EEA-BC8D-3B5446A7D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7B764-D89E-494A-A243-C9A124D1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23DD3-AA8A-4AD6-9671-92E32620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A4194-D602-4457-8E9D-A4312241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65199-E2CE-438D-8BD5-2D131175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F4299-A31A-454E-9109-BD9813C4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BD0BB-531B-4084-BAAF-AC34AD37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D336F-0E7F-4572-A5F5-402527FA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444C3-C5D5-49BA-84C6-E70D1083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00EA-3677-41E9-AF07-F83D9524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DE9F0-AA15-499C-8B1A-7B9FC45B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A6076-DC8A-4555-8528-F2D470F2F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DFE67-6D6C-4E91-BC5E-4100C4B72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B3513-58F4-49F7-8A78-4E626BF56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11374-0684-4F28-8EE0-1DE19314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36EA5-B9C9-4DE6-AE7B-E78A7652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3CEAC-33CA-45AE-81BD-1EC87AF2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3B3F3-B0B2-4EC8-AF87-3B53737C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0E94B-0257-4E18-8227-ABC3616B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6ED55-4323-4B9D-B3E1-48C82DFA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5A81-4357-4FFB-9F4B-A7908958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FADDF-52BE-40E4-A2FB-DE6FB832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3890E-C8F1-454E-8155-53761B93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7949C-96F9-4165-A0BF-EA3508D3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1151E-E7FC-4532-87EB-5F2F047BD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5CEF7-EEFF-4A20-A292-F46C3FAA8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99671-F412-4D9E-AEF7-92DFC7E5C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53A93-122E-484B-970C-FDA026F7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48464-F106-4C8F-93BA-B8CA5CDA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72E5E-DD0C-491C-9B44-11536700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72FE8-1D08-446C-BCF9-A0C57C72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0075-BB18-4EA9-858D-EC3346CC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A3E99-E1D1-465E-A3B9-F5D44F55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D35DA-08C9-4D5F-B338-AA3E07D3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6EB7C-0509-4798-99B4-2C545C66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54F36-2241-41CF-8352-15C10196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A4C34-3735-43EE-8730-CE4CD4FB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3F052-42E2-4C26-9E9D-92ADFFF31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579C2-1067-4043-BBEF-C3ABEAEAA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1362E-0A2D-40EE-9F3C-0692579DD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889638-ECCB-4DAF-B2BC-A2809DAD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0B82F-275A-4AB3-AD6F-02D37E32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864F-28B3-4E0B-8C3D-72E5BC8631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图片 7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8982-7780-4ECD-8302-979B97816B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DDFE-90E3-4D07-90B1-D2C177A83A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图片 7" descr=""/>
          <p:cNvPicPr/>
          <p:nvPr/>
        </p:nvPicPr>
        <p:blipFill>
          <a:blip r:embed="rId2"/>
          <a:stretch/>
        </p:blipFill>
        <p:spPr>
          <a:xfrm>
            <a:off x="58680" y="5235480"/>
            <a:ext cx="960480" cy="161604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C486-673C-4074-9E9B-67E35642FA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8F6B-2466-4249-8DB3-58B19679DA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图片 5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9620-4F18-49BF-B39E-F17B78F5CF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C203-49F3-43EB-8407-0A22B8816F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5"/>
          <p:cNvGrpSpPr/>
          <p:nvPr/>
        </p:nvGrpSpPr>
        <p:grpSpPr>
          <a:xfrm>
            <a:off x="-781200" y="3821040"/>
            <a:ext cx="10780920" cy="3041640"/>
            <a:chOff x="-781200" y="3821040"/>
            <a:chExt cx="10780920" cy="3041640"/>
          </a:xfrm>
        </p:grpSpPr>
        <p:sp>
          <p:nvSpPr>
            <p:cNvPr id="527" name="任意多边形: 形状 6"/>
            <p:cNvSpPr/>
            <p:nvPr/>
          </p:nvSpPr>
          <p:spPr>
            <a:xfrm>
              <a:off x="-781200" y="3821040"/>
              <a:ext cx="10780920" cy="3041640"/>
            </a:xfrm>
            <a:custGeom>
              <a:avLst/>
              <a:gdLst/>
              <a:ahLst/>
              <a:rect l="l" t="t" r="r" b="b"/>
              <a:pathLst>
                <a:path w="16099157" h="4574668">
                  <a:moveTo>
                    <a:pt x="0" y="4574667"/>
                  </a:moveTo>
                  <a:cubicBezTo>
                    <a:pt x="3044190" y="1857883"/>
                    <a:pt x="9254618" y="0"/>
                    <a:pt x="16099156" y="4574667"/>
                  </a:cubicBezTo>
                  <a:close/>
                </a:path>
              </a:pathLst>
            </a:custGeom>
            <a:solidFill>
              <a:srgbClr val="e77d5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任意多边形: 形状 7"/>
            <p:cNvSpPr/>
            <p:nvPr/>
          </p:nvSpPr>
          <p:spPr>
            <a:xfrm>
              <a:off x="-79200" y="4417560"/>
              <a:ext cx="9132840" cy="2445120"/>
            </a:xfrm>
            <a:custGeom>
              <a:avLst/>
              <a:gdLst/>
              <a:ahLst/>
              <a:rect l="l" t="t" r="r" b="b"/>
              <a:pathLst>
                <a:path w="13637642" h="3677413">
                  <a:moveTo>
                    <a:pt x="0" y="3677412"/>
                  </a:moveTo>
                  <a:cubicBezTo>
                    <a:pt x="2578735" y="1493520"/>
                    <a:pt x="7839583" y="0"/>
                    <a:pt x="13637641" y="3677412"/>
                  </a:cubicBezTo>
                  <a:close/>
                </a:path>
              </a:pathLst>
            </a:custGeom>
            <a:solidFill>
              <a:srgbClr val="919d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任意多边形: 形状 8"/>
            <p:cNvSpPr/>
            <p:nvPr/>
          </p:nvSpPr>
          <p:spPr>
            <a:xfrm>
              <a:off x="898200" y="4957560"/>
              <a:ext cx="7160040" cy="1905120"/>
            </a:xfrm>
            <a:custGeom>
              <a:avLst/>
              <a:gdLst/>
              <a:ahLst/>
              <a:rect l="l" t="t" r="r" b="b"/>
              <a:pathLst>
                <a:path w="10692004" h="2865502">
                  <a:moveTo>
                    <a:pt x="0" y="2865501"/>
                  </a:moveTo>
                  <a:cubicBezTo>
                    <a:pt x="2021713" y="1163701"/>
                    <a:pt x="6146292" y="0"/>
                    <a:pt x="10692003" y="2865501"/>
                  </a:cubicBezTo>
                  <a:close/>
                </a:path>
              </a:pathLst>
            </a:custGeom>
            <a:solidFill>
              <a:srgbClr val="c66b6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任意多边形: 形状 9"/>
            <p:cNvSpPr/>
            <p:nvPr/>
          </p:nvSpPr>
          <p:spPr>
            <a:xfrm>
              <a:off x="1163880" y="5419440"/>
              <a:ext cx="6534000" cy="1428840"/>
            </a:xfrm>
            <a:custGeom>
              <a:avLst/>
              <a:gdLst/>
              <a:ahLst/>
              <a:rect l="l" t="t" r="r" b="b"/>
              <a:pathLst>
                <a:path w="9757284" h="2148841">
                  <a:moveTo>
                    <a:pt x="0" y="2148840"/>
                  </a:moveTo>
                  <a:cubicBezTo>
                    <a:pt x="1662303" y="1125728"/>
                    <a:pt x="4767707" y="0"/>
                    <a:pt x="9757283" y="2148840"/>
                  </a:cubicBezTo>
                  <a:close/>
                </a:path>
              </a:pathLst>
            </a:custGeom>
            <a:solidFill>
              <a:srgbClr val="ebe46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任意多边形: 形状 10"/>
            <p:cNvSpPr/>
            <p:nvPr/>
          </p:nvSpPr>
          <p:spPr>
            <a:xfrm>
              <a:off x="2058480" y="5843880"/>
              <a:ext cx="4857840" cy="1004040"/>
            </a:xfrm>
            <a:custGeom>
              <a:avLst/>
              <a:gdLst/>
              <a:ahLst/>
              <a:rect l="l" t="t" r="r" b="b"/>
              <a:pathLst>
                <a:path w="7253987" h="1510158">
                  <a:moveTo>
                    <a:pt x="0" y="1510157"/>
                  </a:moveTo>
                  <a:cubicBezTo>
                    <a:pt x="1235837" y="791083"/>
                    <a:pt x="3544443" y="0"/>
                    <a:pt x="7253986" y="1510157"/>
                  </a:cubicBezTo>
                  <a:close/>
                </a:path>
              </a:pathLst>
            </a:custGeom>
            <a:solidFill>
              <a:srgbClr val="7fc26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任意多边形: 形状 11"/>
            <p:cNvSpPr/>
            <p:nvPr/>
          </p:nvSpPr>
          <p:spPr>
            <a:xfrm>
              <a:off x="3077280" y="6378840"/>
              <a:ext cx="2944440" cy="469440"/>
            </a:xfrm>
            <a:custGeom>
              <a:avLst/>
              <a:gdLst/>
              <a:ahLst/>
              <a:rect l="l" t="t" r="r" b="b"/>
              <a:pathLst>
                <a:path w="4396868" h="705994">
                  <a:moveTo>
                    <a:pt x="0" y="705993"/>
                  </a:moveTo>
                  <a:cubicBezTo>
                    <a:pt x="1465580" y="207518"/>
                    <a:pt x="2581021" y="0"/>
                    <a:pt x="4396867" y="705993"/>
                  </a:cubicBezTo>
                  <a:close/>
                </a:path>
              </a:pathLst>
            </a:custGeom>
            <a:solidFill>
              <a:srgbClr val="c284b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组合 12"/>
          <p:cNvGrpSpPr/>
          <p:nvPr/>
        </p:nvGrpSpPr>
        <p:grpSpPr>
          <a:xfrm>
            <a:off x="5151600" y="1397160"/>
            <a:ext cx="3411360" cy="4392360"/>
            <a:chOff x="5151600" y="1397160"/>
            <a:chExt cx="3411360" cy="4392360"/>
          </a:xfrm>
        </p:grpSpPr>
        <p:grpSp>
          <p:nvGrpSpPr>
            <p:cNvPr id="534" name="组合 13"/>
            <p:cNvGrpSpPr/>
            <p:nvPr/>
          </p:nvGrpSpPr>
          <p:grpSpPr>
            <a:xfrm>
              <a:off x="6642720" y="1397160"/>
              <a:ext cx="1920240" cy="4392360"/>
              <a:chOff x="6642720" y="1397160"/>
              <a:chExt cx="1920240" cy="4392360"/>
            </a:xfrm>
          </p:grpSpPr>
          <p:sp>
            <p:nvSpPr>
              <p:cNvPr id="535" name="任意多边形: 形状 44"/>
              <p:cNvSpPr/>
              <p:nvPr/>
            </p:nvSpPr>
            <p:spPr>
              <a:xfrm>
                <a:off x="7778160" y="4055760"/>
                <a:ext cx="293760" cy="1731960"/>
              </a:xfrm>
              <a:custGeom>
                <a:avLst/>
                <a:gdLst/>
                <a:ahLst/>
                <a:rect l="l" t="t" r="r" b="b"/>
                <a:pathLst>
                  <a:path w="552831" h="2443226">
                    <a:moveTo>
                      <a:pt x="337312" y="84328"/>
                    </a:moveTo>
                    <a:lnTo>
                      <a:pt x="552831" y="2443226"/>
                    </a:lnTo>
                    <a:lnTo>
                      <a:pt x="285369" y="2412365"/>
                    </a:lnTo>
                    <a:lnTo>
                      <a:pt x="0" y="0"/>
                    </a:lnTo>
                    <a:lnTo>
                      <a:pt x="337312" y="84328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任意多边形: 形状 45"/>
              <p:cNvSpPr/>
              <p:nvPr/>
            </p:nvSpPr>
            <p:spPr>
              <a:xfrm>
                <a:off x="7949520" y="4129920"/>
                <a:ext cx="172080" cy="1659600"/>
              </a:xfrm>
              <a:custGeom>
                <a:avLst/>
                <a:gdLst/>
                <a:ahLst/>
                <a:rect l="l" t="t" r="r" b="b"/>
                <a:pathLst>
                  <a:path w="324231" h="2341118">
                    <a:moveTo>
                      <a:pt x="324231" y="2290064"/>
                    </a:moveTo>
                    <a:lnTo>
                      <a:pt x="233426" y="2341118"/>
                    </a:lnTo>
                    <a:lnTo>
                      <a:pt x="0" y="0"/>
                    </a:lnTo>
                    <a:lnTo>
                      <a:pt x="95250" y="19558"/>
                    </a:lnTo>
                    <a:lnTo>
                      <a:pt x="324231" y="2290064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任意多边形: 形状 46"/>
              <p:cNvSpPr/>
              <p:nvPr/>
            </p:nvSpPr>
            <p:spPr>
              <a:xfrm>
                <a:off x="7783560" y="1410840"/>
                <a:ext cx="96480" cy="464040"/>
              </a:xfrm>
              <a:custGeom>
                <a:avLst/>
                <a:gdLst/>
                <a:ahLst/>
                <a:rect l="l" t="t" r="r" b="b"/>
                <a:pathLst>
                  <a:path w="181610" h="655066">
                    <a:moveTo>
                      <a:pt x="181610" y="58420"/>
                    </a:moveTo>
                    <a:lnTo>
                      <a:pt x="90805" y="0"/>
                    </a:lnTo>
                    <a:lnTo>
                      <a:pt x="0" y="645287"/>
                    </a:lnTo>
                    <a:lnTo>
                      <a:pt x="100584" y="655066"/>
                    </a:lnTo>
                    <a:lnTo>
                      <a:pt x="181610" y="58420"/>
                    </a:lnTo>
                  </a:path>
                </a:pathLst>
              </a:custGeom>
              <a:solidFill>
                <a:srgbClr val="aa79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任意多边形: 形状 47"/>
              <p:cNvSpPr/>
              <p:nvPr/>
            </p:nvSpPr>
            <p:spPr>
              <a:xfrm>
                <a:off x="6642720" y="4001400"/>
                <a:ext cx="592920" cy="1553760"/>
              </a:xfrm>
              <a:custGeom>
                <a:avLst/>
                <a:gdLst/>
                <a:ahLst/>
                <a:rect l="l" t="t" r="r" b="b"/>
                <a:pathLst>
                  <a:path w="1115315" h="2191894">
                    <a:moveTo>
                      <a:pt x="793242" y="0"/>
                    </a:moveTo>
                    <a:lnTo>
                      <a:pt x="0" y="2055749"/>
                    </a:lnTo>
                    <a:lnTo>
                      <a:pt x="285369" y="2191893"/>
                    </a:lnTo>
                    <a:lnTo>
                      <a:pt x="1067181" y="110236"/>
                    </a:lnTo>
                    <a:lnTo>
                      <a:pt x="1115314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任意多边形: 形状 48"/>
              <p:cNvSpPr/>
              <p:nvPr/>
            </p:nvSpPr>
            <p:spPr>
              <a:xfrm>
                <a:off x="7999920" y="4143960"/>
                <a:ext cx="331920" cy="1107720"/>
              </a:xfrm>
              <a:custGeom>
                <a:avLst/>
                <a:gdLst/>
                <a:ahLst/>
                <a:rect l="l" t="t" r="r" b="b"/>
                <a:pathLst>
                  <a:path w="624587" h="1562863">
                    <a:moveTo>
                      <a:pt x="371602" y="1562862"/>
                    </a:moveTo>
                    <a:lnTo>
                      <a:pt x="0" y="0"/>
                    </a:lnTo>
                    <a:lnTo>
                      <a:pt x="228981" y="26035"/>
                    </a:lnTo>
                    <a:lnTo>
                      <a:pt x="624586" y="1562862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任意多边形: 形状 49"/>
              <p:cNvSpPr/>
              <p:nvPr/>
            </p:nvSpPr>
            <p:spPr>
              <a:xfrm>
                <a:off x="8121960" y="4161960"/>
                <a:ext cx="254880" cy="1089720"/>
              </a:xfrm>
              <a:custGeom>
                <a:avLst/>
                <a:gdLst/>
                <a:ahLst/>
                <a:rect l="l" t="t" r="r" b="b"/>
                <a:pathLst>
                  <a:path w="479806" h="1537335">
                    <a:moveTo>
                      <a:pt x="479806" y="1476375"/>
                    </a:moveTo>
                    <a:lnTo>
                      <a:pt x="395605" y="1537335"/>
                    </a:lnTo>
                    <a:lnTo>
                      <a:pt x="0" y="508"/>
                    </a:lnTo>
                    <a:lnTo>
                      <a:pt x="83312" y="0"/>
                    </a:lnTo>
                    <a:lnTo>
                      <a:pt x="479806" y="1476375"/>
                    </a:lnTo>
                  </a:path>
                </a:pathLst>
              </a:custGeom>
              <a:solidFill>
                <a:srgbClr val="aa79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任意多边形: 形状 50"/>
              <p:cNvSpPr/>
              <p:nvPr/>
            </p:nvSpPr>
            <p:spPr>
              <a:xfrm>
                <a:off x="8332200" y="2079720"/>
                <a:ext cx="230760" cy="2114640"/>
              </a:xfrm>
              <a:custGeom>
                <a:avLst/>
                <a:gdLst/>
                <a:ahLst/>
                <a:rect l="l" t="t" r="r" b="b"/>
                <a:pathLst>
                  <a:path w="434467" h="2983103">
                    <a:moveTo>
                      <a:pt x="434467" y="58293"/>
                    </a:moveTo>
                    <a:lnTo>
                      <a:pt x="343662" y="0"/>
                    </a:lnTo>
                    <a:lnTo>
                      <a:pt x="0" y="2983103"/>
                    </a:lnTo>
                    <a:lnTo>
                      <a:pt x="77724" y="2957195"/>
                    </a:lnTo>
                    <a:lnTo>
                      <a:pt x="434467" y="58293"/>
                    </a:lnTo>
                  </a:path>
                </a:pathLst>
              </a:custGeom>
              <a:solidFill>
                <a:srgbClr val="b27d4d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任意多边形: 形状 51"/>
              <p:cNvSpPr/>
              <p:nvPr/>
            </p:nvSpPr>
            <p:spPr>
              <a:xfrm>
                <a:off x="7500960" y="1854360"/>
                <a:ext cx="358560" cy="217800"/>
              </a:xfrm>
              <a:custGeom>
                <a:avLst/>
                <a:gdLst/>
                <a:ahLst/>
                <a:rect l="l" t="t" r="r" b="b"/>
                <a:pathLst>
                  <a:path w="674497" h="307467">
                    <a:moveTo>
                      <a:pt x="57277" y="0"/>
                    </a:moveTo>
                    <a:lnTo>
                      <a:pt x="0" y="300990"/>
                    </a:lnTo>
                    <a:lnTo>
                      <a:pt x="648589" y="307467"/>
                    </a:lnTo>
                    <a:lnTo>
                      <a:pt x="674497" y="28829"/>
                    </a:lnTo>
                    <a:lnTo>
                      <a:pt x="57277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任意多边形: 形状 52"/>
              <p:cNvSpPr/>
              <p:nvPr/>
            </p:nvSpPr>
            <p:spPr>
              <a:xfrm>
                <a:off x="7845840" y="1872720"/>
                <a:ext cx="46800" cy="199440"/>
              </a:xfrm>
              <a:custGeom>
                <a:avLst/>
                <a:gdLst/>
                <a:ahLst/>
                <a:rect l="l" t="t" r="r" b="b"/>
                <a:pathLst>
                  <a:path w="88265" h="281559">
                    <a:moveTo>
                      <a:pt x="88265" y="50165"/>
                    </a:moveTo>
                    <a:lnTo>
                      <a:pt x="21971" y="0"/>
                    </a:lnTo>
                    <a:lnTo>
                      <a:pt x="0" y="281559"/>
                    </a:lnTo>
                    <a:lnTo>
                      <a:pt x="64770" y="277241"/>
                    </a:lnTo>
                    <a:lnTo>
                      <a:pt x="88265" y="50165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任意多边形: 形状 53"/>
              <p:cNvSpPr/>
              <p:nvPr/>
            </p:nvSpPr>
            <p:spPr>
              <a:xfrm>
                <a:off x="7609320" y="1397160"/>
                <a:ext cx="222120" cy="470880"/>
              </a:xfrm>
              <a:custGeom>
                <a:avLst/>
                <a:gdLst/>
                <a:ahLst/>
                <a:rect l="l" t="t" r="r" b="b"/>
                <a:pathLst>
                  <a:path w="418338" h="664718">
                    <a:moveTo>
                      <a:pt x="113538" y="0"/>
                    </a:moveTo>
                    <a:lnTo>
                      <a:pt x="418338" y="19431"/>
                    </a:lnTo>
                    <a:lnTo>
                      <a:pt x="327533" y="664718"/>
                    </a:lnTo>
                    <a:lnTo>
                      <a:pt x="0" y="656717"/>
                    </a:lnTo>
                    <a:lnTo>
                      <a:pt x="113538" y="0"/>
                    </a:lnTo>
                  </a:path>
                </a:pathLst>
              </a:custGeom>
              <a:solidFill>
                <a:srgbClr val="b29351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任意多边形: 形状 54"/>
              <p:cNvSpPr/>
              <p:nvPr/>
            </p:nvSpPr>
            <p:spPr>
              <a:xfrm>
                <a:off x="6794280" y="4079520"/>
                <a:ext cx="455040" cy="1475640"/>
              </a:xfrm>
              <a:custGeom>
                <a:avLst/>
                <a:gdLst/>
                <a:ahLst/>
                <a:rect l="l" t="t" r="r" b="b"/>
                <a:pathLst>
                  <a:path w="856107" h="2081657">
                    <a:moveTo>
                      <a:pt x="856107" y="8763"/>
                    </a:moveTo>
                    <a:lnTo>
                      <a:pt x="149352" y="2049272"/>
                    </a:lnTo>
                    <a:lnTo>
                      <a:pt x="0" y="2081657"/>
                    </a:lnTo>
                    <a:lnTo>
                      <a:pt x="781812" y="0"/>
                    </a:lnTo>
                    <a:lnTo>
                      <a:pt x="856107" y="8763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任意多边形: 形状 55"/>
              <p:cNvSpPr/>
              <p:nvPr/>
            </p:nvSpPr>
            <p:spPr>
              <a:xfrm>
                <a:off x="6887160" y="5075640"/>
                <a:ext cx="1018800" cy="427320"/>
              </a:xfrm>
              <a:custGeom>
                <a:avLst/>
                <a:gdLst/>
                <a:ahLst/>
                <a:rect l="l" t="t" r="r" b="b"/>
                <a:pathLst>
                  <a:path w="1916303" h="602996">
                    <a:moveTo>
                      <a:pt x="1916303" y="602996"/>
                    </a:moveTo>
                    <a:lnTo>
                      <a:pt x="0" y="217932"/>
                    </a:lnTo>
                    <a:lnTo>
                      <a:pt x="81407" y="0"/>
                    </a:lnTo>
                    <a:lnTo>
                      <a:pt x="1888490" y="319913"/>
                    </a:lnTo>
                    <a:lnTo>
                      <a:pt x="1916303" y="602996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任意多边形: 形状 56"/>
              <p:cNvSpPr/>
              <p:nvPr/>
            </p:nvSpPr>
            <p:spPr>
              <a:xfrm>
                <a:off x="6930360" y="5066280"/>
                <a:ext cx="960480" cy="235800"/>
              </a:xfrm>
              <a:custGeom>
                <a:avLst/>
                <a:gdLst/>
                <a:ahLst/>
                <a:rect l="l" t="t" r="r" b="b"/>
                <a:pathLst>
                  <a:path w="1807083" h="332994">
                    <a:moveTo>
                      <a:pt x="115697" y="0"/>
                    </a:moveTo>
                    <a:lnTo>
                      <a:pt x="0" y="13081"/>
                    </a:lnTo>
                    <a:lnTo>
                      <a:pt x="1807083" y="332994"/>
                    </a:lnTo>
                    <a:lnTo>
                      <a:pt x="1800606" y="272415"/>
                    </a:lnTo>
                    <a:lnTo>
                      <a:pt x="115697" y="0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任意多边形: 形状 57"/>
              <p:cNvSpPr/>
              <p:nvPr/>
            </p:nvSpPr>
            <p:spPr>
              <a:xfrm>
                <a:off x="6732360" y="2056680"/>
                <a:ext cx="1782360" cy="2137680"/>
              </a:xfrm>
              <a:custGeom>
                <a:avLst/>
                <a:gdLst/>
                <a:ahLst/>
                <a:rect l="l" t="t" r="r" b="b"/>
                <a:pathLst>
                  <a:path w="3352800" h="3015488">
                    <a:moveTo>
                      <a:pt x="427990" y="0"/>
                    </a:moveTo>
                    <a:lnTo>
                      <a:pt x="0" y="2671826"/>
                    </a:lnTo>
                    <a:lnTo>
                      <a:pt x="3009138" y="3015488"/>
                    </a:lnTo>
                    <a:lnTo>
                      <a:pt x="3352800" y="32385"/>
                    </a:lnTo>
                    <a:lnTo>
                      <a:pt x="427990" y="0"/>
                    </a:lnTo>
                  </a:path>
                </a:pathLst>
              </a:custGeom>
              <a:solidFill>
                <a:srgbClr val="bc99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任意多边形: 形状 58"/>
              <p:cNvSpPr/>
              <p:nvPr/>
            </p:nvSpPr>
            <p:spPr>
              <a:xfrm>
                <a:off x="6794280" y="2121120"/>
                <a:ext cx="1613520" cy="1958400"/>
              </a:xfrm>
              <a:custGeom>
                <a:avLst/>
                <a:gdLst/>
                <a:ahLst/>
                <a:rect l="l" t="t" r="r" b="b"/>
                <a:pathLst>
                  <a:path w="3035046" h="2762758">
                    <a:moveTo>
                      <a:pt x="402082" y="0"/>
                    </a:moveTo>
                    <a:lnTo>
                      <a:pt x="0" y="2464435"/>
                    </a:lnTo>
                    <a:lnTo>
                      <a:pt x="2717292" y="2762758"/>
                    </a:lnTo>
                    <a:lnTo>
                      <a:pt x="3035046" y="42164"/>
                    </a:lnTo>
                    <a:lnTo>
                      <a:pt x="402082" y="0"/>
                    </a:lnTo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任意多边形: 形状 59"/>
              <p:cNvSpPr/>
              <p:nvPr/>
            </p:nvSpPr>
            <p:spPr>
              <a:xfrm>
                <a:off x="7462080" y="2038320"/>
                <a:ext cx="452880" cy="105480"/>
              </a:xfrm>
              <a:custGeom>
                <a:avLst/>
                <a:gdLst/>
                <a:ahLst/>
                <a:rect l="l" t="t" r="r" b="b"/>
                <a:pathLst>
                  <a:path w="851916" h="149225">
                    <a:moveTo>
                      <a:pt x="0" y="0"/>
                    </a:moveTo>
                    <a:lnTo>
                      <a:pt x="0" y="130429"/>
                    </a:lnTo>
                    <a:lnTo>
                      <a:pt x="851916" y="149225"/>
                    </a:lnTo>
                    <a:lnTo>
                      <a:pt x="851916" y="260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任意多边形: 形状 60"/>
              <p:cNvSpPr/>
              <p:nvPr/>
            </p:nvSpPr>
            <p:spPr>
              <a:xfrm>
                <a:off x="7093080" y="3831120"/>
                <a:ext cx="721800" cy="340200"/>
              </a:xfrm>
              <a:custGeom>
                <a:avLst/>
                <a:gdLst/>
                <a:ahLst/>
                <a:rect l="l" t="t" r="r" b="b"/>
                <a:pathLst>
                  <a:path w="1357630" h="479933">
                    <a:moveTo>
                      <a:pt x="25908" y="0"/>
                    </a:moveTo>
                    <a:lnTo>
                      <a:pt x="0" y="324231"/>
                    </a:lnTo>
                    <a:lnTo>
                      <a:pt x="1318641" y="479933"/>
                    </a:lnTo>
                    <a:lnTo>
                      <a:pt x="1357630" y="160020"/>
                    </a:lnTo>
                    <a:lnTo>
                      <a:pt x="25908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任意多边形: 形状 61"/>
              <p:cNvSpPr/>
              <p:nvPr/>
            </p:nvSpPr>
            <p:spPr>
              <a:xfrm>
                <a:off x="7778160" y="3943080"/>
                <a:ext cx="87120" cy="225000"/>
              </a:xfrm>
              <a:custGeom>
                <a:avLst/>
                <a:gdLst/>
                <a:ahLst/>
                <a:rect l="l" t="t" r="r" b="b"/>
                <a:pathLst>
                  <a:path w="164339" h="317755">
                    <a:moveTo>
                      <a:pt x="164338" y="15113"/>
                    </a:moveTo>
                    <a:lnTo>
                      <a:pt x="67057" y="0"/>
                    </a:lnTo>
                    <a:lnTo>
                      <a:pt x="0" y="317754"/>
                    </a:lnTo>
                    <a:cubicBezTo>
                      <a:pt x="59309" y="300736"/>
                      <a:pt x="103759" y="288163"/>
                      <a:pt x="121032" y="283210"/>
                    </a:cubicBezTo>
                    <a:close/>
                  </a:path>
                </a:pathLst>
              </a:custGeom>
              <a:solidFill>
                <a:srgbClr val="ae7b4c"/>
              </a:solidFill>
              <a:ln w="1260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任意多边形: 形状 62"/>
              <p:cNvSpPr/>
              <p:nvPr/>
            </p:nvSpPr>
            <p:spPr>
              <a:xfrm>
                <a:off x="7263360" y="2787840"/>
                <a:ext cx="682560" cy="717120"/>
              </a:xfrm>
              <a:custGeom>
                <a:avLst/>
                <a:gdLst/>
                <a:ahLst/>
                <a:rect l="l" t="t" r="r" b="b"/>
                <a:pathLst>
                  <a:path w="1283970" h="1011682">
                    <a:moveTo>
                      <a:pt x="1225677" y="1011682"/>
                    </a:moveTo>
                    <a:lnTo>
                      <a:pt x="1283970" y="84328"/>
                    </a:lnTo>
                    <a:lnTo>
                      <a:pt x="77851" y="0"/>
                    </a:lnTo>
                    <a:lnTo>
                      <a:pt x="0" y="880618"/>
                    </a:lnTo>
                    <a:lnTo>
                      <a:pt x="1225677" y="1011682"/>
                    </a:lnTo>
                  </a:path>
                </a:pathLst>
              </a:custGeom>
              <a:solidFill>
                <a:srgbClr val="e76f0b"/>
              </a:solidFill>
              <a:ln w="6480">
                <a:solidFill>
                  <a:srgbClr val="fac5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任意多边形: 形状 63"/>
              <p:cNvSpPr/>
              <p:nvPr/>
            </p:nvSpPr>
            <p:spPr>
              <a:xfrm>
                <a:off x="7216560" y="2451960"/>
                <a:ext cx="756720" cy="395280"/>
              </a:xfrm>
              <a:custGeom>
                <a:avLst/>
                <a:gdLst/>
                <a:ahLst/>
                <a:rect l="l" t="t" r="r" b="b"/>
                <a:pathLst>
                  <a:path w="1423543" h="557784">
                    <a:moveTo>
                      <a:pt x="729615" y="0"/>
                    </a:moveTo>
                    <a:lnTo>
                      <a:pt x="0" y="463677"/>
                    </a:lnTo>
                    <a:lnTo>
                      <a:pt x="1423543" y="557784"/>
                    </a:lnTo>
                    <a:lnTo>
                      <a:pt x="729615" y="0"/>
                    </a:lnTo>
                  </a:path>
                </a:pathLst>
              </a:custGeom>
              <a:solidFill>
                <a:srgbClr val="a842d9"/>
              </a:solidFill>
              <a:ln w="6480">
                <a:solidFill>
                  <a:srgbClr val="cb8e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任意多边形: 形状 64"/>
              <p:cNvSpPr/>
              <p:nvPr/>
            </p:nvSpPr>
            <p:spPr>
              <a:xfrm>
                <a:off x="7390440" y="2824920"/>
                <a:ext cx="246960" cy="293040"/>
              </a:xfrm>
              <a:custGeom>
                <a:avLst/>
                <a:gdLst/>
                <a:ahLst/>
                <a:rect l="l" t="t" r="r" b="b"/>
                <a:pathLst>
                  <a:path w="465075" h="413640">
                    <a:moveTo>
                      <a:pt x="26289" y="229616"/>
                    </a:moveTo>
                    <a:cubicBezTo>
                      <a:pt x="16637" y="127635"/>
                      <a:pt x="0" y="21082"/>
                      <a:pt x="162433" y="35052"/>
                    </a:cubicBezTo>
                    <a:cubicBezTo>
                      <a:pt x="232410" y="2159"/>
                      <a:pt x="298323" y="0"/>
                      <a:pt x="356997" y="51308"/>
                    </a:cubicBezTo>
                    <a:cubicBezTo>
                      <a:pt x="416433" y="63246"/>
                      <a:pt x="443484" y="90170"/>
                      <a:pt x="438023" y="132334"/>
                    </a:cubicBezTo>
                    <a:cubicBezTo>
                      <a:pt x="462788" y="166116"/>
                      <a:pt x="465074" y="198628"/>
                      <a:pt x="438023" y="229616"/>
                    </a:cubicBezTo>
                    <a:cubicBezTo>
                      <a:pt x="370967" y="223774"/>
                      <a:pt x="324612" y="257302"/>
                      <a:pt x="292100" y="317119"/>
                    </a:cubicBezTo>
                    <a:cubicBezTo>
                      <a:pt x="274447" y="386334"/>
                      <a:pt x="234442" y="413639"/>
                      <a:pt x="172085" y="399161"/>
                    </a:cubicBezTo>
                    <a:cubicBezTo>
                      <a:pt x="82423" y="353568"/>
                      <a:pt x="12827" y="302514"/>
                      <a:pt x="26289" y="229616"/>
                    </a:cubicBezTo>
                    <a:close/>
                  </a:path>
                </a:pathLst>
              </a:custGeom>
              <a:solidFill>
                <a:srgbClr val="f8a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6" name="组合 14"/>
            <p:cNvGrpSpPr/>
            <p:nvPr/>
          </p:nvGrpSpPr>
          <p:grpSpPr>
            <a:xfrm>
              <a:off x="5151600" y="1931400"/>
              <a:ext cx="2343240" cy="3803040"/>
              <a:chOff x="5151600" y="1931400"/>
              <a:chExt cx="2343240" cy="3803040"/>
            </a:xfrm>
          </p:grpSpPr>
          <p:grpSp>
            <p:nvGrpSpPr>
              <p:cNvPr id="557" name="组合 15"/>
              <p:cNvGrpSpPr/>
              <p:nvPr/>
            </p:nvGrpSpPr>
            <p:grpSpPr>
              <a:xfrm>
                <a:off x="5151600" y="1931400"/>
                <a:ext cx="2343240" cy="3803040"/>
                <a:chOff x="5151600" y="1931400"/>
                <a:chExt cx="2343240" cy="3803040"/>
              </a:xfrm>
            </p:grpSpPr>
            <p:sp>
              <p:nvSpPr>
                <p:cNvPr id="558" name="任意多边形: 形状 23"/>
                <p:cNvSpPr/>
                <p:nvPr/>
              </p:nvSpPr>
              <p:spPr>
                <a:xfrm>
                  <a:off x="6028560" y="4867200"/>
                  <a:ext cx="162720" cy="527400"/>
                </a:xfrm>
                <a:custGeom>
                  <a:avLst/>
                  <a:gdLst/>
                  <a:ahLst/>
                  <a:rect l="l" t="t" r="r" b="b"/>
                  <a:pathLst>
                    <a:path w="331471" h="804800">
                      <a:moveTo>
                        <a:pt x="46101" y="791210"/>
                      </a:moveTo>
                      <a:cubicBezTo>
                        <a:pt x="149987" y="804799"/>
                        <a:pt x="247650" y="779526"/>
                        <a:pt x="331470" y="729615"/>
                      </a:cubicBezTo>
                      <a:cubicBezTo>
                        <a:pt x="268224" y="537972"/>
                        <a:pt x="263144" y="281178"/>
                        <a:pt x="279527" y="0"/>
                      </a:cubicBezTo>
                      <a:lnTo>
                        <a:pt x="13716" y="0"/>
                      </a:lnTo>
                      <a:cubicBezTo>
                        <a:pt x="4318" y="325247"/>
                        <a:pt x="0" y="653034"/>
                        <a:pt x="46101" y="79121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任意多边形: 形状 24"/>
                <p:cNvSpPr/>
                <p:nvPr/>
              </p:nvSpPr>
              <p:spPr>
                <a:xfrm>
                  <a:off x="5348160" y="2207520"/>
                  <a:ext cx="1347840" cy="1426680"/>
                </a:xfrm>
                <a:custGeom>
                  <a:avLst/>
                  <a:gdLst/>
                  <a:ahLst/>
                  <a:rect l="l" t="t" r="r" b="b"/>
                  <a:pathLst>
                    <a:path w="2741677" h="2176146">
                      <a:moveTo>
                        <a:pt x="2379980" y="632333"/>
                      </a:moveTo>
                      <a:cubicBezTo>
                        <a:pt x="2741676" y="1211580"/>
                        <a:pt x="2441194" y="1634998"/>
                        <a:pt x="1689354" y="1951990"/>
                      </a:cubicBezTo>
                      <a:cubicBezTo>
                        <a:pt x="1648587" y="1981962"/>
                        <a:pt x="1633728" y="2048129"/>
                        <a:pt x="1627759" y="2127123"/>
                      </a:cubicBezTo>
                      <a:cubicBezTo>
                        <a:pt x="1548892" y="2176145"/>
                        <a:pt x="1481836" y="2170049"/>
                        <a:pt x="1430020" y="2091436"/>
                      </a:cubicBezTo>
                      <a:cubicBezTo>
                        <a:pt x="1436751" y="2009394"/>
                        <a:pt x="1390904" y="1966468"/>
                        <a:pt x="1319784" y="1942338"/>
                      </a:cubicBezTo>
                      <a:cubicBezTo>
                        <a:pt x="940435" y="1919605"/>
                        <a:pt x="578739" y="1948180"/>
                        <a:pt x="466979" y="1760728"/>
                      </a:cubicBezTo>
                      <a:lnTo>
                        <a:pt x="0" y="1096010"/>
                      </a:lnTo>
                      <a:lnTo>
                        <a:pt x="350139" y="463677"/>
                      </a:lnTo>
                      <a:lnTo>
                        <a:pt x="1089406" y="285369"/>
                      </a:lnTo>
                      <a:lnTo>
                        <a:pt x="1549908" y="0"/>
                      </a:lnTo>
                      <a:lnTo>
                        <a:pt x="1890395" y="29210"/>
                      </a:ln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任意多边形: 形状 25"/>
                <p:cNvSpPr/>
                <p:nvPr/>
              </p:nvSpPr>
              <p:spPr>
                <a:xfrm>
                  <a:off x="5697000" y="4937400"/>
                  <a:ext cx="183240" cy="633960"/>
                </a:xfrm>
                <a:custGeom>
                  <a:avLst/>
                  <a:gdLst/>
                  <a:ahLst/>
                  <a:rect l="l" t="t" r="r" b="b"/>
                  <a:pathLst>
                    <a:path w="373000" h="967106">
                      <a:moveTo>
                        <a:pt x="97409" y="0"/>
                      </a:moveTo>
                      <a:cubicBezTo>
                        <a:pt x="53340" y="333121"/>
                        <a:pt x="0" y="647954"/>
                        <a:pt x="19558" y="882015"/>
                      </a:cubicBezTo>
                      <a:cubicBezTo>
                        <a:pt x="86995" y="967105"/>
                        <a:pt x="193802" y="919480"/>
                        <a:pt x="288671" y="865759"/>
                      </a:cubicBezTo>
                      <a:cubicBezTo>
                        <a:pt x="287147" y="524002"/>
                        <a:pt x="302006" y="211582"/>
                        <a:pt x="372999" y="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任意多边形: 形状 26"/>
                <p:cNvSpPr/>
                <p:nvPr/>
              </p:nvSpPr>
              <p:spPr>
                <a:xfrm>
                  <a:off x="5678280" y="3740400"/>
                  <a:ext cx="165600" cy="110880"/>
                </a:xfrm>
                <a:custGeom>
                  <a:avLst/>
                  <a:gdLst/>
                  <a:ahLst/>
                  <a:rect l="l" t="t" r="r" b="b"/>
                  <a:pathLst>
                    <a:path w="337186" h="169165">
                      <a:moveTo>
                        <a:pt x="142621" y="0"/>
                      </a:moveTo>
                      <a:lnTo>
                        <a:pt x="0" y="169164"/>
                      </a:lnTo>
                      <a:cubicBezTo>
                        <a:pt x="100457" y="136779"/>
                        <a:pt x="337185" y="113411"/>
                        <a:pt x="337185" y="113411"/>
                      </a:cubicBezTo>
                      <a:cubicBezTo>
                        <a:pt x="337185" y="113411"/>
                        <a:pt x="260731" y="19812"/>
                        <a:pt x="142621" y="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任意多边形: 形状 27"/>
                <p:cNvSpPr/>
                <p:nvPr/>
              </p:nvSpPr>
              <p:spPr>
                <a:xfrm>
                  <a:off x="6404040" y="3046320"/>
                  <a:ext cx="587520" cy="640440"/>
                </a:xfrm>
                <a:custGeom>
                  <a:avLst/>
                  <a:gdLst/>
                  <a:ahLst/>
                  <a:rect l="l" t="t" r="r" b="b"/>
                  <a:pathLst>
                    <a:path w="1195197" h="977266">
                      <a:moveTo>
                        <a:pt x="64516" y="977265"/>
                      </a:moveTo>
                      <a:cubicBezTo>
                        <a:pt x="306324" y="854456"/>
                        <a:pt x="553085" y="663702"/>
                        <a:pt x="754126" y="429387"/>
                      </a:cubicBezTo>
                      <a:cubicBezTo>
                        <a:pt x="834136" y="402463"/>
                        <a:pt x="874522" y="361950"/>
                        <a:pt x="870839" y="306197"/>
                      </a:cubicBezTo>
                      <a:cubicBezTo>
                        <a:pt x="981075" y="279146"/>
                        <a:pt x="1060577" y="166751"/>
                        <a:pt x="1039495" y="150495"/>
                      </a:cubicBezTo>
                      <a:cubicBezTo>
                        <a:pt x="1018414" y="134238"/>
                        <a:pt x="919988" y="183769"/>
                        <a:pt x="841756" y="234823"/>
                      </a:cubicBezTo>
                      <a:cubicBezTo>
                        <a:pt x="892556" y="178563"/>
                        <a:pt x="927734" y="114173"/>
                        <a:pt x="1123823" y="124587"/>
                      </a:cubicBezTo>
                      <a:lnTo>
                        <a:pt x="1195196" y="111633"/>
                      </a:lnTo>
                      <a:cubicBezTo>
                        <a:pt x="1170939" y="48387"/>
                        <a:pt x="1066545" y="0"/>
                        <a:pt x="948817" y="56515"/>
                      </a:cubicBezTo>
                      <a:cubicBezTo>
                        <a:pt x="861313" y="62992"/>
                        <a:pt x="809751" y="116459"/>
                        <a:pt x="760730" y="173228"/>
                      </a:cubicBezTo>
                      <a:cubicBezTo>
                        <a:pt x="573913" y="450469"/>
                        <a:pt x="323088" y="650875"/>
                        <a:pt x="0" y="764413"/>
                      </a:cubicBezTo>
                      <a:cubicBezTo>
                        <a:pt x="21717" y="837438"/>
                        <a:pt x="24130" y="915924"/>
                        <a:pt x="64516" y="977265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任意多边形: 形状 28"/>
                <p:cNvSpPr/>
                <p:nvPr/>
              </p:nvSpPr>
              <p:spPr>
                <a:xfrm>
                  <a:off x="5669640" y="3520800"/>
                  <a:ext cx="788400" cy="1060200"/>
                </a:xfrm>
                <a:custGeom>
                  <a:avLst/>
                  <a:gdLst/>
                  <a:ahLst/>
                  <a:rect l="l" t="t" r="r" b="b"/>
                  <a:pathLst>
                    <a:path w="1604011" h="1616965">
                      <a:moveTo>
                        <a:pt x="99441" y="337185"/>
                      </a:moveTo>
                      <a:cubicBezTo>
                        <a:pt x="210439" y="357759"/>
                        <a:pt x="315341" y="407162"/>
                        <a:pt x="410718" y="501523"/>
                      </a:cubicBezTo>
                      <a:lnTo>
                        <a:pt x="0" y="1292733"/>
                      </a:lnTo>
                      <a:cubicBezTo>
                        <a:pt x="271272" y="1474089"/>
                        <a:pt x="661035" y="1560957"/>
                        <a:pt x="1089533" y="1616964"/>
                      </a:cubicBezTo>
                      <a:cubicBezTo>
                        <a:pt x="1203452" y="1285621"/>
                        <a:pt x="1279779" y="930402"/>
                        <a:pt x="1301369" y="540385"/>
                      </a:cubicBezTo>
                      <a:cubicBezTo>
                        <a:pt x="1301242" y="423799"/>
                        <a:pt x="1425067" y="367157"/>
                        <a:pt x="1604010" y="337185"/>
                      </a:cubicBezTo>
                      <a:lnTo>
                        <a:pt x="1478661" y="0"/>
                      </a:lnTo>
                      <a:cubicBezTo>
                        <a:pt x="1231264" y="74676"/>
                        <a:pt x="1042289" y="85979"/>
                        <a:pt x="987298" y="38862"/>
                      </a:cubicBezTo>
                      <a:cubicBezTo>
                        <a:pt x="967359" y="224790"/>
                        <a:pt x="772794" y="140462"/>
                        <a:pt x="765048" y="26035"/>
                      </a:cubicBezTo>
                      <a:cubicBezTo>
                        <a:pt x="445770" y="36068"/>
                        <a:pt x="249936" y="183134"/>
                        <a:pt x="99441" y="337185"/>
                      </a:cubicBezTo>
                      <a:close/>
                    </a:path>
                  </a:pathLst>
                </a:custGeom>
                <a:solidFill>
                  <a:srgbClr val="a49dc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任意多边形: 形状 29"/>
                <p:cNvSpPr/>
                <p:nvPr/>
              </p:nvSpPr>
              <p:spPr>
                <a:xfrm>
                  <a:off x="5679720" y="4401360"/>
                  <a:ext cx="578520" cy="569160"/>
                </a:xfrm>
                <a:custGeom>
                  <a:avLst/>
                  <a:gdLst/>
                  <a:ahLst/>
                  <a:rect l="l" t="t" r="r" b="b"/>
                  <a:pathLst>
                    <a:path w="1176783" h="868046">
                      <a:moveTo>
                        <a:pt x="64897" y="0"/>
                      </a:moveTo>
                      <a:cubicBezTo>
                        <a:pt x="17272" y="261620"/>
                        <a:pt x="0" y="523240"/>
                        <a:pt x="16256" y="784733"/>
                      </a:cubicBezTo>
                      <a:cubicBezTo>
                        <a:pt x="167259" y="836549"/>
                        <a:pt x="341503" y="868045"/>
                        <a:pt x="625856" y="804164"/>
                      </a:cubicBezTo>
                      <a:cubicBezTo>
                        <a:pt x="789432" y="852551"/>
                        <a:pt x="951484" y="850900"/>
                        <a:pt x="1112266" y="804164"/>
                      </a:cubicBezTo>
                      <a:cubicBezTo>
                        <a:pt x="1167384" y="594233"/>
                        <a:pt x="1176782" y="337566"/>
                        <a:pt x="1160907" y="55118"/>
                      </a:cubicBezTo>
                      <a:cubicBezTo>
                        <a:pt x="821817" y="181610"/>
                        <a:pt x="455803" y="183388"/>
                        <a:pt x="64897" y="0"/>
                      </a:cubicBezTo>
                      <a:close/>
                    </a:path>
                  </a:pathLst>
                </a:custGeom>
                <a:solidFill>
                  <a:srgbClr val="d57f3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任意多边形: 形状 30"/>
                <p:cNvSpPr/>
                <p:nvPr/>
              </p:nvSpPr>
              <p:spPr>
                <a:xfrm>
                  <a:off x="5799240" y="3547440"/>
                  <a:ext cx="585720" cy="1506600"/>
                </a:xfrm>
                <a:custGeom>
                  <a:avLst/>
                  <a:gdLst/>
                  <a:ahLst/>
                  <a:rect l="l" t="t" r="r" b="b"/>
                  <a:pathLst>
                    <a:path w="1191516" h="2297812">
                      <a:moveTo>
                        <a:pt x="203328" y="32385"/>
                      </a:moveTo>
                      <a:lnTo>
                        <a:pt x="348870" y="0"/>
                      </a:lnTo>
                      <a:cubicBezTo>
                        <a:pt x="460376" y="126746"/>
                        <a:pt x="518796" y="242951"/>
                        <a:pt x="521082" y="347980"/>
                      </a:cubicBezTo>
                      <a:cubicBezTo>
                        <a:pt x="636906" y="317500"/>
                        <a:pt x="752984" y="310515"/>
                        <a:pt x="869062" y="326390"/>
                      </a:cubicBezTo>
                      <a:cubicBezTo>
                        <a:pt x="863347" y="201549"/>
                        <a:pt x="835661" y="95631"/>
                        <a:pt x="776098" y="17272"/>
                      </a:cubicBezTo>
                      <a:lnTo>
                        <a:pt x="890652" y="28067"/>
                      </a:lnTo>
                      <a:cubicBezTo>
                        <a:pt x="1166749" y="377952"/>
                        <a:pt x="1191515" y="1202055"/>
                        <a:pt x="1118743" y="2210308"/>
                      </a:cubicBezTo>
                      <a:cubicBezTo>
                        <a:pt x="878840" y="2297811"/>
                        <a:pt x="409194" y="2271649"/>
                        <a:pt x="0" y="2236216"/>
                      </a:cubicBezTo>
                      <a:cubicBezTo>
                        <a:pt x="201550" y="1260221"/>
                        <a:pt x="441453" y="379857"/>
                        <a:pt x="203328" y="32385"/>
                      </a:cubicBezTo>
                      <a:close/>
                    </a:path>
                  </a:pathLst>
                </a:custGeom>
                <a:solidFill>
                  <a:srgbClr val="e7e875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任意多边形: 形状 31"/>
                <p:cNvSpPr/>
                <p:nvPr/>
              </p:nvSpPr>
              <p:spPr>
                <a:xfrm>
                  <a:off x="5655240" y="5505120"/>
                  <a:ext cx="397800" cy="229320"/>
                </a:xfrm>
                <a:custGeom>
                  <a:avLst/>
                  <a:gdLst/>
                  <a:ahLst/>
                  <a:rect l="l" t="t" r="r" b="b"/>
                  <a:pathLst>
                    <a:path w="809753" h="350267">
                      <a:moveTo>
                        <a:pt x="98425" y="9779"/>
                      </a:moveTo>
                      <a:cubicBezTo>
                        <a:pt x="0" y="218186"/>
                        <a:pt x="279527" y="350266"/>
                        <a:pt x="724281" y="278892"/>
                      </a:cubicBezTo>
                      <a:cubicBezTo>
                        <a:pt x="809752" y="243205"/>
                        <a:pt x="809752" y="132969"/>
                        <a:pt x="743712" y="90805"/>
                      </a:cubicBezTo>
                      <a:cubicBezTo>
                        <a:pt x="664083" y="20066"/>
                        <a:pt x="520827" y="8382"/>
                        <a:pt x="374015" y="0"/>
                      </a:cubicBezTo>
                      <a:cubicBezTo>
                        <a:pt x="291211" y="60579"/>
                        <a:pt x="197231" y="50419"/>
                        <a:pt x="98425" y="9779"/>
                      </a:cubicBezTo>
                      <a:close/>
                    </a:path>
                  </a:pathLst>
                </a:custGeom>
                <a:solidFill>
                  <a:srgbClr val="89b8d7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任意多边形: 形状 32"/>
                <p:cNvSpPr/>
                <p:nvPr/>
              </p:nvSpPr>
              <p:spPr>
                <a:xfrm>
                  <a:off x="6047280" y="5318280"/>
                  <a:ext cx="336960" cy="176040"/>
                </a:xfrm>
                <a:custGeom>
                  <a:avLst/>
                  <a:gdLst/>
                  <a:ahLst/>
                  <a:rect l="l" t="t" r="r" b="b"/>
                  <a:pathLst>
                    <a:path w="686055" h="268606">
                      <a:moveTo>
                        <a:pt x="14097" y="103251"/>
                      </a:moveTo>
                      <a:cubicBezTo>
                        <a:pt x="0" y="175768"/>
                        <a:pt x="55626" y="232791"/>
                        <a:pt x="205359" y="268605"/>
                      </a:cubicBezTo>
                      <a:cubicBezTo>
                        <a:pt x="366649" y="265176"/>
                        <a:pt x="520319" y="256413"/>
                        <a:pt x="626872" y="213487"/>
                      </a:cubicBezTo>
                      <a:cubicBezTo>
                        <a:pt x="673354" y="197231"/>
                        <a:pt x="686054" y="141224"/>
                        <a:pt x="648970" y="103251"/>
                      </a:cubicBezTo>
                      <a:cubicBezTo>
                        <a:pt x="569849" y="0"/>
                        <a:pt x="431673" y="2159"/>
                        <a:pt x="297815" y="10795"/>
                      </a:cubicBezTo>
                      <a:cubicBezTo>
                        <a:pt x="260477" y="116586"/>
                        <a:pt x="144526" y="102616"/>
                        <a:pt x="14097" y="103251"/>
                      </a:cubicBezTo>
                      <a:close/>
                    </a:path>
                  </a:pathLst>
                </a:custGeom>
                <a:solidFill>
                  <a:srgbClr val="87b2c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任意多边形: 形状 33"/>
                <p:cNvSpPr/>
                <p:nvPr/>
              </p:nvSpPr>
              <p:spPr>
                <a:xfrm>
                  <a:off x="5315400" y="3680640"/>
                  <a:ext cx="995400" cy="833400"/>
                </a:xfrm>
                <a:custGeom>
                  <a:avLst/>
                  <a:gdLst/>
                  <a:ahLst/>
                  <a:rect l="l" t="t" r="r" b="b"/>
                  <a:pathLst>
                    <a:path w="2025016" h="1271398">
                      <a:moveTo>
                        <a:pt x="1597787" y="341376"/>
                      </a:moveTo>
                      <a:cubicBezTo>
                        <a:pt x="1130046" y="0"/>
                        <a:pt x="0" y="384048"/>
                        <a:pt x="267589" y="768858"/>
                      </a:cubicBezTo>
                      <a:cubicBezTo>
                        <a:pt x="669671" y="1271397"/>
                        <a:pt x="2025015" y="1255268"/>
                        <a:pt x="1908810" y="752602"/>
                      </a:cubicBezTo>
                      <a:cubicBezTo>
                        <a:pt x="1853565" y="648081"/>
                        <a:pt x="1751203" y="600329"/>
                        <a:pt x="1620012" y="587248"/>
                      </a:cubicBezTo>
                      <a:cubicBezTo>
                        <a:pt x="1567180" y="568452"/>
                        <a:pt x="1567815" y="484378"/>
                        <a:pt x="1584071" y="477012"/>
                      </a:cubicBezTo>
                      <a:cubicBezTo>
                        <a:pt x="1600327" y="469645"/>
                        <a:pt x="1621282" y="389509"/>
                        <a:pt x="1597787" y="341376"/>
                      </a:cubicBezTo>
                      <a:close/>
                    </a:path>
                  </a:pathLst>
                </a:custGeom>
                <a:solidFill>
                  <a:srgbClr val="dac4a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任意多边形: 形状 34"/>
                <p:cNvSpPr/>
                <p:nvPr/>
              </p:nvSpPr>
              <p:spPr>
                <a:xfrm>
                  <a:off x="6611040" y="3066840"/>
                  <a:ext cx="622800" cy="144000"/>
                </a:xfrm>
                <a:custGeom>
                  <a:avLst/>
                  <a:gdLst/>
                  <a:ahLst/>
                  <a:rect l="l" t="t" r="r" b="b"/>
                  <a:pathLst>
                    <a:path w="1267080" h="219838">
                      <a:moveTo>
                        <a:pt x="93218" y="203327"/>
                      </a:moveTo>
                      <a:cubicBezTo>
                        <a:pt x="0" y="189992"/>
                        <a:pt x="371602" y="123571"/>
                        <a:pt x="1244346" y="0"/>
                      </a:cubicBezTo>
                      <a:lnTo>
                        <a:pt x="1267079" y="34671"/>
                      </a:lnTo>
                      <a:cubicBezTo>
                        <a:pt x="788162" y="161036"/>
                        <a:pt x="393573" y="219837"/>
                        <a:pt x="93218" y="203327"/>
                      </a:cubicBezTo>
                      <a:close/>
                    </a:path>
                  </a:pathLst>
                </a:custGeom>
                <a:solidFill>
                  <a:srgbClr val="b3433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任意多边形: 形状 35"/>
                <p:cNvSpPr/>
                <p:nvPr/>
              </p:nvSpPr>
              <p:spPr>
                <a:xfrm>
                  <a:off x="7218360" y="2991240"/>
                  <a:ext cx="195480" cy="144000"/>
                </a:xfrm>
                <a:custGeom>
                  <a:avLst/>
                  <a:gdLst/>
                  <a:ahLst/>
                  <a:rect l="l" t="t" r="r" b="b"/>
                  <a:pathLst>
                    <a:path w="398273" h="219965">
                      <a:moveTo>
                        <a:pt x="5842" y="98425"/>
                      </a:moveTo>
                      <a:cubicBezTo>
                        <a:pt x="0" y="27559"/>
                        <a:pt x="158750" y="9906"/>
                        <a:pt x="362585" y="0"/>
                      </a:cubicBezTo>
                      <a:lnTo>
                        <a:pt x="398272" y="115570"/>
                      </a:lnTo>
                      <a:cubicBezTo>
                        <a:pt x="273685" y="167513"/>
                        <a:pt x="149098" y="219964"/>
                        <a:pt x="31877" y="150241"/>
                      </a:cubicBezTo>
                      <a:cubicBezTo>
                        <a:pt x="17526" y="134620"/>
                        <a:pt x="10160" y="116967"/>
                        <a:pt x="5842" y="98425"/>
                      </a:cubicBezTo>
                      <a:close/>
                    </a:path>
                  </a:pathLst>
                </a:custGeom>
                <a:solidFill>
                  <a:srgbClr val="78201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任意多边形: 形状 36"/>
                <p:cNvSpPr/>
                <p:nvPr/>
              </p:nvSpPr>
              <p:spPr>
                <a:xfrm>
                  <a:off x="7332480" y="2902680"/>
                  <a:ext cx="162360" cy="193320"/>
                </a:xfrm>
                <a:custGeom>
                  <a:avLst/>
                  <a:gdLst/>
                  <a:ahLst/>
                  <a:rect l="l" t="t" r="r" b="b"/>
                  <a:pathLst>
                    <a:path w="330709" h="295022">
                      <a:moveTo>
                        <a:pt x="330708" y="0"/>
                      </a:moveTo>
                      <a:cubicBezTo>
                        <a:pt x="301498" y="250571"/>
                        <a:pt x="155575" y="295021"/>
                        <a:pt x="86487" y="182626"/>
                      </a:cubicBezTo>
                      <a:cubicBezTo>
                        <a:pt x="0" y="46482"/>
                        <a:pt x="254000" y="120523"/>
                        <a:pt x="330708" y="0"/>
                      </a:cubicBezTo>
                      <a:close/>
                    </a:path>
                  </a:pathLst>
                </a:custGeom>
                <a:solidFill>
                  <a:srgbClr val="da6634"/>
                </a:solidFill>
                <a:ln w="12600">
                  <a:solidFill>
                    <a:srgbClr val="fac5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任意多边形: 形状 37"/>
                <p:cNvSpPr/>
                <p:nvPr/>
              </p:nvSpPr>
              <p:spPr>
                <a:xfrm>
                  <a:off x="5151600" y="1931400"/>
                  <a:ext cx="1384200" cy="1485720"/>
                </a:xfrm>
                <a:custGeom>
                  <a:avLst/>
                  <a:gdLst/>
                  <a:ahLst/>
                  <a:rect l="l" t="t" r="r" b="b"/>
                  <a:pathLst>
                    <a:path w="2815591" h="2266189">
                      <a:moveTo>
                        <a:pt x="782574" y="437388"/>
                      </a:moveTo>
                      <a:cubicBezTo>
                        <a:pt x="0" y="1125093"/>
                        <a:pt x="240792" y="1710690"/>
                        <a:pt x="782574" y="2266188"/>
                      </a:cubicBezTo>
                      <a:cubicBezTo>
                        <a:pt x="839597" y="2193544"/>
                        <a:pt x="889000" y="2117979"/>
                        <a:pt x="889635" y="2022983"/>
                      </a:cubicBezTo>
                      <a:cubicBezTo>
                        <a:pt x="558927" y="1977644"/>
                        <a:pt x="555625" y="1607947"/>
                        <a:pt x="986917" y="1731137"/>
                      </a:cubicBezTo>
                      <a:cubicBezTo>
                        <a:pt x="1129284" y="1503680"/>
                        <a:pt x="1164844" y="1229487"/>
                        <a:pt x="1084199" y="904240"/>
                      </a:cubicBezTo>
                      <a:cubicBezTo>
                        <a:pt x="1323594" y="1020064"/>
                        <a:pt x="1466596" y="1219835"/>
                        <a:pt x="1551178" y="1439291"/>
                      </a:cubicBezTo>
                      <a:lnTo>
                        <a:pt x="1896491" y="1327404"/>
                      </a:lnTo>
                      <a:cubicBezTo>
                        <a:pt x="1923161" y="1138682"/>
                        <a:pt x="1827530" y="922020"/>
                        <a:pt x="1706753" y="690245"/>
                      </a:cubicBezTo>
                      <a:cubicBezTo>
                        <a:pt x="1869440" y="902589"/>
                        <a:pt x="1977136" y="1106678"/>
                        <a:pt x="1969389" y="1293368"/>
                      </a:cubicBezTo>
                      <a:lnTo>
                        <a:pt x="2212594" y="1205865"/>
                      </a:lnTo>
                      <a:cubicBezTo>
                        <a:pt x="2230628" y="1053719"/>
                        <a:pt x="2138807" y="846328"/>
                        <a:pt x="2001774" y="602742"/>
                      </a:cubicBezTo>
                      <a:cubicBezTo>
                        <a:pt x="2168270" y="752856"/>
                        <a:pt x="2279903" y="945769"/>
                        <a:pt x="2368169" y="1157224"/>
                      </a:cubicBezTo>
                      <a:lnTo>
                        <a:pt x="2504313" y="1118362"/>
                      </a:lnTo>
                      <a:cubicBezTo>
                        <a:pt x="2525268" y="939292"/>
                        <a:pt x="2427351" y="734568"/>
                        <a:pt x="2261108" y="515239"/>
                      </a:cubicBezTo>
                      <a:cubicBezTo>
                        <a:pt x="2465197" y="698119"/>
                        <a:pt x="2614041" y="877570"/>
                        <a:pt x="2659888" y="1050290"/>
                      </a:cubicBezTo>
                      <a:lnTo>
                        <a:pt x="2815590" y="1011428"/>
                      </a:lnTo>
                      <a:cubicBezTo>
                        <a:pt x="2559431" y="456946"/>
                        <a:pt x="2058035" y="0"/>
                        <a:pt x="1152144" y="291592"/>
                      </a:cubicBezTo>
                      <a:cubicBezTo>
                        <a:pt x="1048385" y="301371"/>
                        <a:pt x="989203" y="204978"/>
                        <a:pt x="957580" y="126239"/>
                      </a:cubicBezTo>
                      <a:cubicBezTo>
                        <a:pt x="932942" y="204344"/>
                        <a:pt x="947547" y="279019"/>
                        <a:pt x="1006221" y="350013"/>
                      </a:cubicBezTo>
                      <a:cubicBezTo>
                        <a:pt x="947547" y="280290"/>
                        <a:pt x="860298" y="250699"/>
                        <a:pt x="743585" y="262510"/>
                      </a:cubicBezTo>
                      <a:cubicBezTo>
                        <a:pt x="817880" y="307341"/>
                        <a:pt x="869442" y="352680"/>
                        <a:pt x="889508" y="398654"/>
                      </a:cubicBezTo>
                      <a:cubicBezTo>
                        <a:pt x="786892" y="347854"/>
                        <a:pt x="718820" y="364110"/>
                        <a:pt x="613918" y="427864"/>
                      </a:cubicBezTo>
                      <a:cubicBezTo>
                        <a:pt x="698119" y="412496"/>
                        <a:pt x="758952" y="412623"/>
                        <a:pt x="782574" y="437388"/>
                      </a:cubicBezTo>
                      <a:close/>
                    </a:path>
                  </a:pathLst>
                </a:custGeom>
                <a:solidFill>
                  <a:srgbClr val="d8660a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任意多边形: 形状 38"/>
                <p:cNvSpPr/>
                <p:nvPr/>
              </p:nvSpPr>
              <p:spPr>
                <a:xfrm>
                  <a:off x="5824080" y="3879720"/>
                  <a:ext cx="113040" cy="77400"/>
                </a:xfrm>
                <a:custGeom>
                  <a:avLst/>
                  <a:gdLst/>
                  <a:ahLst/>
                  <a:rect l="l" t="t" r="r" b="b"/>
                  <a:pathLst>
                    <a:path w="230125" h="118365">
                      <a:moveTo>
                        <a:pt x="230124" y="44577"/>
                      </a:moveTo>
                      <a:cubicBezTo>
                        <a:pt x="230124" y="66421"/>
                        <a:pt x="202565" y="118364"/>
                        <a:pt x="115062" y="108585"/>
                      </a:cubicBezTo>
                      <a:cubicBezTo>
                        <a:pt x="15748" y="109982"/>
                        <a:pt x="0" y="68072"/>
                        <a:pt x="0" y="44577"/>
                      </a:cubicBezTo>
                      <a:cubicBezTo>
                        <a:pt x="0" y="21082"/>
                        <a:pt x="51562" y="0"/>
                        <a:pt x="115062" y="0"/>
                      </a:cubicBezTo>
                      <a:cubicBezTo>
                        <a:pt x="178562" y="0"/>
                        <a:pt x="230124" y="22733"/>
                        <a:pt x="230124" y="44577"/>
                      </a:cubicBezTo>
                      <a:close/>
                    </a:path>
                  </a:pathLst>
                </a:custGeom>
                <a:solidFill>
                  <a:srgbClr val="a842d9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任意多边形: 形状 39"/>
                <p:cNvSpPr/>
                <p:nvPr/>
              </p:nvSpPr>
              <p:spPr>
                <a:xfrm>
                  <a:off x="5644440" y="3908160"/>
                  <a:ext cx="103320" cy="64800"/>
                </a:xfrm>
                <a:custGeom>
                  <a:avLst/>
                  <a:gdLst/>
                  <a:ahLst/>
                  <a:rect l="l" t="t" r="r" b="b"/>
                  <a:pathLst>
                    <a:path w="210821" h="98934">
                      <a:moveTo>
                        <a:pt x="210820" y="36449"/>
                      </a:moveTo>
                      <a:cubicBezTo>
                        <a:pt x="210820" y="0"/>
                        <a:pt x="163576" y="0"/>
                        <a:pt x="105410" y="0"/>
                      </a:cubicBezTo>
                      <a:cubicBezTo>
                        <a:pt x="47244" y="0"/>
                        <a:pt x="0" y="45847"/>
                        <a:pt x="0" y="66040"/>
                      </a:cubicBezTo>
                      <a:cubicBezTo>
                        <a:pt x="0" y="98933"/>
                        <a:pt x="47244" y="98933"/>
                        <a:pt x="105410" y="98933"/>
                      </a:cubicBezTo>
                      <a:cubicBezTo>
                        <a:pt x="163576" y="98933"/>
                        <a:pt x="210820" y="72898"/>
                        <a:pt x="210820" y="36449"/>
                      </a:cubicBezTo>
                      <a:close/>
                    </a:path>
                  </a:pathLst>
                </a:custGeom>
                <a:solidFill>
                  <a:srgbClr val="e76f0b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任意多边形: 形状 40"/>
                <p:cNvSpPr/>
                <p:nvPr/>
              </p:nvSpPr>
              <p:spPr>
                <a:xfrm>
                  <a:off x="5513760" y="4030920"/>
                  <a:ext cx="109800" cy="73080"/>
                </a:xfrm>
                <a:custGeom>
                  <a:avLst/>
                  <a:gdLst/>
                  <a:ahLst/>
                  <a:rect l="l" t="t" r="r" b="b"/>
                  <a:pathLst>
                    <a:path w="223775" h="111761">
                      <a:moveTo>
                        <a:pt x="223774" y="66421"/>
                      </a:moveTo>
                      <a:cubicBezTo>
                        <a:pt x="223774" y="111760"/>
                        <a:pt x="168656" y="111760"/>
                        <a:pt x="111887" y="111760"/>
                      </a:cubicBezTo>
                      <a:cubicBezTo>
                        <a:pt x="50165" y="111760"/>
                        <a:pt x="0" y="110109"/>
                        <a:pt x="0" y="66421"/>
                      </a:cubicBezTo>
                      <a:cubicBezTo>
                        <a:pt x="0" y="22733"/>
                        <a:pt x="50038" y="0"/>
                        <a:pt x="111887" y="0"/>
                      </a:cubicBezTo>
                      <a:cubicBezTo>
                        <a:pt x="173736" y="0"/>
                        <a:pt x="223774" y="21082"/>
                        <a:pt x="223774" y="66421"/>
                      </a:cubicBezTo>
                      <a:close/>
                    </a:path>
                  </a:pathLst>
                </a:custGeom>
                <a:solidFill>
                  <a:srgbClr val="60b74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任意多边形: 形状 41"/>
                <p:cNvSpPr/>
                <p:nvPr/>
              </p:nvSpPr>
              <p:spPr>
                <a:xfrm>
                  <a:off x="5568840" y="4150800"/>
                  <a:ext cx="115560" cy="80640"/>
                </a:xfrm>
                <a:custGeom>
                  <a:avLst/>
                  <a:gdLst/>
                  <a:ahLst/>
                  <a:rect l="l" t="t" r="r" b="b"/>
                  <a:pathLst>
                    <a:path w="235713" h="123191">
                      <a:moveTo>
                        <a:pt x="235712" y="55118"/>
                      </a:moveTo>
                      <a:cubicBezTo>
                        <a:pt x="235712" y="103759"/>
                        <a:pt x="183007" y="123190"/>
                        <a:pt x="117856" y="123190"/>
                      </a:cubicBezTo>
                      <a:cubicBezTo>
                        <a:pt x="52832" y="123190"/>
                        <a:pt x="0" y="92329"/>
                        <a:pt x="0" y="55118"/>
                      </a:cubicBezTo>
                      <a:cubicBezTo>
                        <a:pt x="0" y="17780"/>
                        <a:pt x="52705" y="0"/>
                        <a:pt x="117856" y="0"/>
                      </a:cubicBezTo>
                      <a:cubicBezTo>
                        <a:pt x="183007" y="0"/>
                        <a:pt x="235712" y="6477"/>
                        <a:pt x="235712" y="55118"/>
                      </a:cubicBezTo>
                      <a:close/>
                    </a:path>
                  </a:pathLst>
                </a:custGeom>
                <a:solidFill>
                  <a:srgbClr val="87adb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任意多边形: 形状 42"/>
                <p:cNvSpPr/>
                <p:nvPr/>
              </p:nvSpPr>
              <p:spPr>
                <a:xfrm>
                  <a:off x="5717160" y="4214520"/>
                  <a:ext cx="109800" cy="89280"/>
                </a:xfrm>
                <a:custGeom>
                  <a:avLst/>
                  <a:gdLst/>
                  <a:ahLst/>
                  <a:rect l="l" t="t" r="r" b="b"/>
                  <a:pathLst>
                    <a:path w="223775" h="136272">
                      <a:moveTo>
                        <a:pt x="223774" y="58420"/>
                      </a:moveTo>
                      <a:cubicBezTo>
                        <a:pt x="223774" y="17907"/>
                        <a:pt x="173736" y="0"/>
                        <a:pt x="111887" y="0"/>
                      </a:cubicBezTo>
                      <a:cubicBezTo>
                        <a:pt x="50038" y="0"/>
                        <a:pt x="0" y="47625"/>
                        <a:pt x="0" y="58420"/>
                      </a:cubicBezTo>
                      <a:cubicBezTo>
                        <a:pt x="0" y="103759"/>
                        <a:pt x="50038" y="136271"/>
                        <a:pt x="111887" y="136271"/>
                      </a:cubicBezTo>
                      <a:cubicBezTo>
                        <a:pt x="173736" y="136271"/>
                        <a:pt x="223774" y="98933"/>
                        <a:pt x="223774" y="58420"/>
                      </a:cubicBezTo>
                      <a:close/>
                    </a:path>
                  </a:pathLst>
                </a:custGeom>
                <a:solidFill>
                  <a:srgbClr val="8e93c8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任意多边形: 形状 43"/>
                <p:cNvSpPr/>
                <p:nvPr/>
              </p:nvSpPr>
              <p:spPr>
                <a:xfrm>
                  <a:off x="5880600" y="4219560"/>
                  <a:ext cx="120240" cy="83880"/>
                </a:xfrm>
                <a:custGeom>
                  <a:avLst/>
                  <a:gdLst/>
                  <a:ahLst/>
                  <a:rect l="l" t="t" r="r" b="b"/>
                  <a:pathLst>
                    <a:path w="244857" h="128144">
                      <a:moveTo>
                        <a:pt x="244856" y="60833"/>
                      </a:moveTo>
                      <a:cubicBezTo>
                        <a:pt x="244856" y="94107"/>
                        <a:pt x="189992" y="128143"/>
                        <a:pt x="122428" y="128143"/>
                      </a:cubicBezTo>
                      <a:cubicBezTo>
                        <a:pt x="54864" y="128143"/>
                        <a:pt x="0" y="95758"/>
                        <a:pt x="0" y="60833"/>
                      </a:cubicBezTo>
                      <a:cubicBezTo>
                        <a:pt x="0" y="45212"/>
                        <a:pt x="54864" y="0"/>
                        <a:pt x="122428" y="0"/>
                      </a:cubicBezTo>
                      <a:cubicBezTo>
                        <a:pt x="189992" y="0"/>
                        <a:pt x="244856" y="27559"/>
                        <a:pt x="244856" y="60833"/>
                      </a:cubicBezTo>
                      <a:close/>
                    </a:path>
                  </a:pathLst>
                </a:custGeom>
                <a:solidFill>
                  <a:srgbClr val="eae630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组合 16"/>
              <p:cNvGrpSpPr/>
              <p:nvPr/>
            </p:nvGrpSpPr>
            <p:grpSpPr>
              <a:xfrm>
                <a:off x="6001200" y="2765880"/>
                <a:ext cx="520920" cy="522000"/>
                <a:chOff x="6001200" y="2765880"/>
                <a:chExt cx="520920" cy="522000"/>
              </a:xfrm>
            </p:grpSpPr>
            <p:sp>
              <p:nvSpPr>
                <p:cNvPr id="580" name="任意多边形: 形状 17"/>
                <p:cNvSpPr/>
                <p:nvPr/>
              </p:nvSpPr>
              <p:spPr>
                <a:xfrm>
                  <a:off x="6001200" y="2895120"/>
                  <a:ext cx="130680" cy="225360"/>
                </a:xfrm>
                <a:custGeom>
                  <a:avLst/>
                  <a:gdLst/>
                  <a:ahLst/>
                  <a:rect l="l" t="t" r="r" b="b"/>
                  <a:pathLst>
                    <a:path w="265939" h="343663">
                      <a:moveTo>
                        <a:pt x="265938" y="171831"/>
                      </a:moveTo>
                      <a:cubicBezTo>
                        <a:pt x="265938" y="266700"/>
                        <a:pt x="217297" y="343662"/>
                        <a:pt x="143891" y="343662"/>
                      </a:cubicBezTo>
                      <a:cubicBezTo>
                        <a:pt x="70485" y="343662"/>
                        <a:pt x="0" y="266700"/>
                        <a:pt x="0" y="171831"/>
                      </a:cubicBezTo>
                      <a:cubicBezTo>
                        <a:pt x="0" y="76962"/>
                        <a:pt x="49403" y="0"/>
                        <a:pt x="122809" y="0"/>
                      </a:cubicBezTo>
                      <a:cubicBezTo>
                        <a:pt x="196342" y="0"/>
                        <a:pt x="265938" y="76962"/>
                        <a:pt x="265938" y="1718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任意多边形: 形状 18"/>
                <p:cNvSpPr/>
                <p:nvPr/>
              </p:nvSpPr>
              <p:spPr>
                <a:xfrm>
                  <a:off x="6392880" y="2765880"/>
                  <a:ext cx="124560" cy="225360"/>
                </a:xfrm>
                <a:custGeom>
                  <a:avLst/>
                  <a:gdLst/>
                  <a:ahLst/>
                  <a:rect l="l" t="t" r="r" b="b"/>
                  <a:pathLst>
                    <a:path w="253493" h="343663">
                      <a:moveTo>
                        <a:pt x="253492" y="171831"/>
                      </a:moveTo>
                      <a:cubicBezTo>
                        <a:pt x="253492" y="266700"/>
                        <a:pt x="206375" y="343662"/>
                        <a:pt x="132969" y="343662"/>
                      </a:cubicBezTo>
                      <a:cubicBezTo>
                        <a:pt x="59563" y="343662"/>
                        <a:pt x="0" y="266700"/>
                        <a:pt x="0" y="171831"/>
                      </a:cubicBezTo>
                      <a:cubicBezTo>
                        <a:pt x="0" y="76962"/>
                        <a:pt x="59563" y="0"/>
                        <a:pt x="132969" y="0"/>
                      </a:cubicBezTo>
                      <a:cubicBezTo>
                        <a:pt x="206375" y="0"/>
                        <a:pt x="253492" y="76835"/>
                        <a:pt x="253492" y="1718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任意多边形: 形状 19"/>
                <p:cNvSpPr/>
                <p:nvPr/>
              </p:nvSpPr>
              <p:spPr>
                <a:xfrm>
                  <a:off x="6060600" y="2940480"/>
                  <a:ext cx="73080" cy="118080"/>
                </a:xfrm>
                <a:custGeom>
                  <a:avLst/>
                  <a:gdLst/>
                  <a:ahLst/>
                  <a:rect l="l" t="t" r="r" b="b"/>
                  <a:pathLst>
                    <a:path w="149226" h="180468">
                      <a:moveTo>
                        <a:pt x="108077" y="0"/>
                      </a:moveTo>
                      <a:cubicBezTo>
                        <a:pt x="149225" y="50800"/>
                        <a:pt x="148463" y="111125"/>
                        <a:pt x="126365" y="176276"/>
                      </a:cubicBezTo>
                      <a:cubicBezTo>
                        <a:pt x="19431" y="180467"/>
                        <a:pt x="0" y="17018"/>
                        <a:pt x="108077" y="0"/>
                      </a:cubicBezTo>
                      <a:close/>
                    </a:path>
                  </a:pathLst>
                </a:custGeom>
                <a:solidFill>
                  <a:srgbClr val="35332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任意多边形: 形状 20"/>
                <p:cNvSpPr/>
                <p:nvPr/>
              </p:nvSpPr>
              <p:spPr>
                <a:xfrm>
                  <a:off x="6444000" y="2809080"/>
                  <a:ext cx="78120" cy="122760"/>
                </a:xfrm>
                <a:custGeom>
                  <a:avLst/>
                  <a:gdLst/>
                  <a:ahLst/>
                  <a:rect l="l" t="t" r="r" b="b"/>
                  <a:pathLst>
                    <a:path w="159259" h="187199">
                      <a:moveTo>
                        <a:pt x="119761" y="0"/>
                      </a:moveTo>
                      <a:cubicBezTo>
                        <a:pt x="159258" y="52070"/>
                        <a:pt x="156591" y="112268"/>
                        <a:pt x="132334" y="176784"/>
                      </a:cubicBezTo>
                      <a:cubicBezTo>
                        <a:pt x="24003" y="187198"/>
                        <a:pt x="0" y="2921"/>
                        <a:pt x="119761" y="0"/>
                      </a:cubicBezTo>
                      <a:close/>
                    </a:path>
                  </a:pathLst>
                </a:custGeom>
                <a:solidFill>
                  <a:srgbClr val="35332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任意多边形: 形状 21"/>
                <p:cNvSpPr/>
                <p:nvPr/>
              </p:nvSpPr>
              <p:spPr>
                <a:xfrm>
                  <a:off x="6292800" y="2991240"/>
                  <a:ext cx="63720" cy="86040"/>
                </a:xfrm>
                <a:custGeom>
                  <a:avLst/>
                  <a:gdLst/>
                  <a:ahLst/>
                  <a:rect l="l" t="t" r="r" b="b"/>
                  <a:pathLst>
                    <a:path w="130176" h="131573">
                      <a:moveTo>
                        <a:pt x="0" y="0"/>
                      </a:moveTo>
                      <a:cubicBezTo>
                        <a:pt x="130175" y="19939"/>
                        <a:pt x="98171" y="70231"/>
                        <a:pt x="7239" y="131572"/>
                      </a:cubicBezTo>
                      <a:cubicBezTo>
                        <a:pt x="109474" y="56261"/>
                        <a:pt x="102108" y="25527"/>
                        <a:pt x="0" y="0"/>
                      </a:cubicBezTo>
                      <a:close/>
                    </a:path>
                  </a:pathLst>
                </a:custGeom>
                <a:solidFill>
                  <a:srgbClr val="2a2a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任意多边形: 形状 22"/>
                <p:cNvSpPr/>
                <p:nvPr/>
              </p:nvSpPr>
              <p:spPr>
                <a:xfrm>
                  <a:off x="6133680" y="3191760"/>
                  <a:ext cx="215640" cy="96120"/>
                </a:xfrm>
                <a:custGeom>
                  <a:avLst/>
                  <a:gdLst/>
                  <a:ahLst/>
                  <a:rect l="l" t="t" r="r" b="b"/>
                  <a:pathLst>
                    <a:path w="438532" h="146686">
                      <a:moveTo>
                        <a:pt x="0" y="106172"/>
                      </a:moveTo>
                      <a:cubicBezTo>
                        <a:pt x="161290" y="146685"/>
                        <a:pt x="366903" y="126238"/>
                        <a:pt x="438531" y="0"/>
                      </a:cubicBezTo>
                      <a:cubicBezTo>
                        <a:pt x="353441" y="105283"/>
                        <a:pt x="178308" y="134493"/>
                        <a:pt x="0" y="106172"/>
                      </a:cubicBezTo>
                      <a:close/>
                    </a:path>
                  </a:pathLst>
                </a:custGeom>
                <a:solidFill>
                  <a:srgbClr val="2c2b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86" name="组合 65"/>
          <p:cNvGrpSpPr/>
          <p:nvPr/>
        </p:nvGrpSpPr>
        <p:grpSpPr>
          <a:xfrm>
            <a:off x="7912080" y="4732200"/>
            <a:ext cx="839880" cy="1203480"/>
            <a:chOff x="7912080" y="4732200"/>
            <a:chExt cx="839880" cy="1203480"/>
          </a:xfrm>
        </p:grpSpPr>
        <p:grpSp>
          <p:nvGrpSpPr>
            <p:cNvPr id="587" name="组合 66"/>
            <p:cNvGrpSpPr/>
            <p:nvPr/>
          </p:nvGrpSpPr>
          <p:grpSpPr>
            <a:xfrm>
              <a:off x="8082360" y="5505120"/>
              <a:ext cx="421200" cy="430560"/>
              <a:chOff x="8082360" y="5505120"/>
              <a:chExt cx="421200" cy="430560"/>
            </a:xfrm>
          </p:grpSpPr>
          <p:sp>
            <p:nvSpPr>
              <p:cNvPr id="588" name="任意多边形: 形状 73"/>
              <p:cNvSpPr/>
              <p:nvPr/>
            </p:nvSpPr>
            <p:spPr>
              <a:xfrm>
                <a:off x="8367120" y="5505120"/>
                <a:ext cx="136440" cy="420840"/>
              </a:xfrm>
              <a:custGeom>
                <a:avLst/>
                <a:gdLst/>
                <a:ahLst/>
                <a:rect l="l" t="t" r="r" b="b"/>
                <a:pathLst>
                  <a:path w="98934" h="228474">
                    <a:moveTo>
                      <a:pt x="98933" y="183134"/>
                    </a:moveTo>
                    <a:cubicBezTo>
                      <a:pt x="87630" y="217170"/>
                      <a:pt x="22733" y="228473"/>
                      <a:pt x="0" y="183134"/>
                    </a:cubicBezTo>
                    <a:lnTo>
                      <a:pt x="8128" y="6477"/>
                    </a:lnTo>
                    <a:lnTo>
                      <a:pt x="75565" y="0"/>
                    </a:lnTo>
                    <a:close/>
                  </a:path>
                </a:pathLst>
              </a:custGeom>
              <a:solidFill>
                <a:srgbClr val="591f12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任意多边形: 形状 74"/>
              <p:cNvSpPr/>
              <p:nvPr/>
            </p:nvSpPr>
            <p:spPr>
              <a:xfrm>
                <a:off x="8082360" y="5551920"/>
                <a:ext cx="128880" cy="383760"/>
              </a:xfrm>
              <a:custGeom>
                <a:avLst/>
                <a:gdLst/>
                <a:ahLst/>
                <a:rect l="l" t="t" r="r" b="b"/>
                <a:pathLst>
                  <a:path w="93346" h="208281">
                    <a:moveTo>
                      <a:pt x="93345" y="165735"/>
                    </a:moveTo>
                    <a:cubicBezTo>
                      <a:pt x="83185" y="196850"/>
                      <a:pt x="22225" y="208280"/>
                      <a:pt x="0" y="167386"/>
                    </a:cubicBezTo>
                    <a:lnTo>
                      <a:pt x="4699" y="6985"/>
                    </a:lnTo>
                    <a:lnTo>
                      <a:pt x="68199" y="0"/>
                    </a:lnTo>
                    <a:close/>
                  </a:path>
                </a:pathLst>
              </a:custGeom>
              <a:solidFill>
                <a:srgbClr val="591f12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组合 67"/>
            <p:cNvGrpSpPr/>
            <p:nvPr/>
          </p:nvGrpSpPr>
          <p:grpSpPr>
            <a:xfrm>
              <a:off x="7912080" y="4732200"/>
              <a:ext cx="839880" cy="954360"/>
              <a:chOff x="7912080" y="4732200"/>
              <a:chExt cx="839880" cy="954360"/>
            </a:xfrm>
          </p:grpSpPr>
          <p:sp>
            <p:nvSpPr>
              <p:cNvPr id="591" name="任意多边形: 形状 71"/>
              <p:cNvSpPr/>
              <p:nvPr/>
            </p:nvSpPr>
            <p:spPr>
              <a:xfrm>
                <a:off x="8098560" y="4732200"/>
                <a:ext cx="653400" cy="785160"/>
              </a:xfrm>
              <a:custGeom>
                <a:avLst/>
                <a:gdLst/>
                <a:ahLst/>
                <a:rect l="l" t="t" r="r" b="b"/>
                <a:pathLst>
                  <a:path w="473330" h="426086">
                    <a:moveTo>
                      <a:pt x="210693" y="0"/>
                    </a:moveTo>
                    <a:cubicBezTo>
                      <a:pt x="403606" y="0"/>
                      <a:pt x="473329" y="401701"/>
                      <a:pt x="236601" y="426085"/>
                    </a:cubicBezTo>
                    <a:cubicBezTo>
                      <a:pt x="0" y="426085"/>
                      <a:pt x="48514" y="38608"/>
                      <a:pt x="210693" y="0"/>
                    </a:cubicBezTo>
                    <a:close/>
                  </a:path>
                </a:pathLst>
              </a:custGeom>
              <a:solidFill>
                <a:srgbClr val="2aac38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任意多边形: 形状 72"/>
              <p:cNvSpPr/>
              <p:nvPr/>
            </p:nvSpPr>
            <p:spPr>
              <a:xfrm>
                <a:off x="7912080" y="5051520"/>
                <a:ext cx="510480" cy="635040"/>
              </a:xfrm>
              <a:custGeom>
                <a:avLst/>
                <a:gdLst/>
                <a:ahLst/>
                <a:rect l="l" t="t" r="r" b="b"/>
                <a:pathLst>
                  <a:path w="369952" h="344679">
                    <a:moveTo>
                      <a:pt x="126238" y="19685"/>
                    </a:moveTo>
                    <a:cubicBezTo>
                      <a:pt x="277876" y="0"/>
                      <a:pt x="369951" y="278892"/>
                      <a:pt x="186182" y="320421"/>
                    </a:cubicBezTo>
                    <a:cubicBezTo>
                      <a:pt x="0" y="344678"/>
                      <a:pt x="2413" y="63754"/>
                      <a:pt x="126238" y="19685"/>
                    </a:cubicBezTo>
                    <a:close/>
                  </a:path>
                </a:pathLst>
              </a:custGeom>
              <a:solidFill>
                <a:srgbClr val="2aac38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3" name="组合 68"/>
            <p:cNvGrpSpPr/>
            <p:nvPr/>
          </p:nvGrpSpPr>
          <p:grpSpPr>
            <a:xfrm>
              <a:off x="8059320" y="5056920"/>
              <a:ext cx="484920" cy="447480"/>
              <a:chOff x="8059320" y="5056920"/>
              <a:chExt cx="484920" cy="447480"/>
            </a:xfrm>
          </p:grpSpPr>
          <p:sp>
            <p:nvSpPr>
              <p:cNvPr id="594" name="椭圆 69"/>
              <p:cNvSpPr/>
              <p:nvPr/>
            </p:nvSpPr>
            <p:spPr>
              <a:xfrm>
                <a:off x="8398440" y="5056920"/>
                <a:ext cx="145800" cy="268560"/>
              </a:xfrm>
              <a:prstGeom prst="ellipse">
                <a:avLst/>
              </a:prstGeom>
              <a:solidFill>
                <a:srgbClr val="f0dee5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椭圆 70"/>
              <p:cNvSpPr/>
              <p:nvPr/>
            </p:nvSpPr>
            <p:spPr>
              <a:xfrm>
                <a:off x="8059320" y="5288040"/>
                <a:ext cx="112320" cy="216360"/>
              </a:xfrm>
              <a:prstGeom prst="ellipse">
                <a:avLst/>
              </a:prstGeom>
              <a:solidFill>
                <a:srgbClr val="f0dee5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6" name="Freeform 106"/>
          <p:cNvSpPr/>
          <p:nvPr/>
        </p:nvSpPr>
        <p:spPr>
          <a:xfrm>
            <a:off x="6539040" y="1101600"/>
            <a:ext cx="62676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106"/>
          <p:cNvSpPr/>
          <p:nvPr/>
        </p:nvSpPr>
        <p:spPr>
          <a:xfrm>
            <a:off x="4297320" y="306360"/>
            <a:ext cx="62568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106"/>
          <p:cNvSpPr/>
          <p:nvPr/>
        </p:nvSpPr>
        <p:spPr>
          <a:xfrm>
            <a:off x="2327400" y="955800"/>
            <a:ext cx="952200" cy="56340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组合 78"/>
          <p:cNvGrpSpPr/>
          <p:nvPr/>
        </p:nvGrpSpPr>
        <p:grpSpPr>
          <a:xfrm>
            <a:off x="297000" y="290520"/>
            <a:ext cx="1295280" cy="1623960"/>
            <a:chOff x="297000" y="290520"/>
            <a:chExt cx="1295280" cy="1623960"/>
          </a:xfrm>
        </p:grpSpPr>
        <p:sp>
          <p:nvSpPr>
            <p:cNvPr id="600" name="任意多边形: 形状 79"/>
            <p:cNvSpPr/>
            <p:nvPr/>
          </p:nvSpPr>
          <p:spPr>
            <a:xfrm>
              <a:off x="586440" y="754920"/>
              <a:ext cx="602280" cy="678960"/>
            </a:xfrm>
            <a:custGeom>
              <a:avLst/>
              <a:gdLst/>
              <a:ahLst/>
              <a:rect l="l" t="t" r="r" b="b"/>
              <a:pathLst>
                <a:path w="665227" h="562103">
                  <a:moveTo>
                    <a:pt x="665226" y="298958"/>
                  </a:moveTo>
                  <a:cubicBezTo>
                    <a:pt x="665226" y="446405"/>
                    <a:pt x="513842" y="562102"/>
                    <a:pt x="366395" y="562102"/>
                  </a:cubicBezTo>
                  <a:cubicBezTo>
                    <a:pt x="218948" y="562102"/>
                    <a:pt x="47498" y="532257"/>
                    <a:pt x="47498" y="384810"/>
                  </a:cubicBezTo>
                  <a:cubicBezTo>
                    <a:pt x="0" y="160020"/>
                    <a:pt x="218948" y="0"/>
                    <a:pt x="366395" y="0"/>
                  </a:cubicBezTo>
                  <a:cubicBezTo>
                    <a:pt x="513842" y="127"/>
                    <a:pt x="665226" y="69342"/>
                    <a:pt x="665226" y="298958"/>
                  </a:cubicBezTo>
                  <a:close/>
                </a:path>
              </a:pathLst>
            </a:custGeom>
            <a:solidFill>
              <a:srgbClr val="d8660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直接连接符 80"/>
            <p:cNvSpPr/>
            <p:nvPr/>
          </p:nvSpPr>
          <p:spPr>
            <a:xfrm>
              <a:off x="371160" y="551520"/>
              <a:ext cx="105480" cy="266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任意多边形: 形状 81"/>
            <p:cNvSpPr/>
            <p:nvPr/>
          </p:nvSpPr>
          <p:spPr>
            <a:xfrm>
              <a:off x="655560" y="290520"/>
              <a:ext cx="52200" cy="229680"/>
            </a:xfrm>
            <a:custGeom>
              <a:avLst/>
              <a:gdLst/>
              <a:ahLst/>
              <a:rect l="l" t="t" r="r" b="b"/>
              <a:pathLst>
                <a:path w="57660" h="190247">
                  <a:moveTo>
                    <a:pt x="5715" y="0"/>
                  </a:moveTo>
                  <a:cubicBezTo>
                    <a:pt x="0" y="63373"/>
                    <a:pt x="17272" y="126873"/>
                    <a:pt x="57659" y="190246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直接连接符 82"/>
            <p:cNvSpPr/>
            <p:nvPr/>
          </p:nvSpPr>
          <p:spPr>
            <a:xfrm>
              <a:off x="997560" y="316440"/>
              <a:ext cx="3600" cy="24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任意多边形: 形状 83"/>
            <p:cNvSpPr/>
            <p:nvPr/>
          </p:nvSpPr>
          <p:spPr>
            <a:xfrm>
              <a:off x="1361520" y="883800"/>
              <a:ext cx="230760" cy="69480"/>
            </a:xfrm>
            <a:custGeom>
              <a:avLst/>
              <a:gdLst/>
              <a:ahLst/>
              <a:rect l="l" t="t" r="r" b="b"/>
              <a:pathLst>
                <a:path w="255145" h="57659">
                  <a:moveTo>
                    <a:pt x="0" y="18796"/>
                  </a:moveTo>
                  <a:cubicBezTo>
                    <a:pt x="85090" y="0"/>
                    <a:pt x="170053" y="13081"/>
                    <a:pt x="255144" y="5765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直接连接符 84"/>
            <p:cNvSpPr/>
            <p:nvPr/>
          </p:nvSpPr>
          <p:spPr>
            <a:xfrm>
              <a:off x="1290960" y="1460160"/>
              <a:ext cx="97560" cy="245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直接连接符 85"/>
            <p:cNvSpPr/>
            <p:nvPr/>
          </p:nvSpPr>
          <p:spPr>
            <a:xfrm flipH="1">
              <a:off x="707400" y="1684800"/>
              <a:ext cx="97560" cy="229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直接连接符 86"/>
            <p:cNvSpPr/>
            <p:nvPr/>
          </p:nvSpPr>
          <p:spPr>
            <a:xfrm>
              <a:off x="297000" y="1298520"/>
              <a:ext cx="152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2B8C-08E4-4A5A-95B2-0A8E761345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4919-460B-4159-84E2-A5921A073C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2"/>
          <a:stretch/>
        </p:blipFill>
        <p:spPr>
          <a:xfrm>
            <a:off x="8290080" y="5703840"/>
            <a:ext cx="617400" cy="10857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2E8B-DEEC-435C-BF42-E9521ED9D1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C145-E014-47C8-9678-D790064B35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图片 9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20F3-B3DA-47D3-8B84-5C7CEF43A5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59E9-FACB-4714-8A5F-3A65CDE2BC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9" descr=""/>
          <p:cNvPicPr/>
          <p:nvPr/>
        </p:nvPicPr>
        <p:blipFill>
          <a:blip r:embed="rId2"/>
          <a:stretch/>
        </p:blipFill>
        <p:spPr>
          <a:xfrm>
            <a:off x="58680" y="5235480"/>
            <a:ext cx="960480" cy="1616040"/>
          </a:xfrm>
          <a:prstGeom prst="rect">
            <a:avLst/>
          </a:prstGeom>
          <a:ln w="0">
            <a:noFill/>
          </a:ln>
        </p:spPr>
      </p:pic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7870-D807-4756-9F8E-44FE0B156C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8346-0F90-4399-BBBA-28B17A108B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图片 10" descr=""/>
          <p:cNvPicPr/>
          <p:nvPr/>
        </p:nvPicPr>
        <p:blipFill>
          <a:blip r:embed="rId2"/>
          <a:stretch/>
        </p:blipFill>
        <p:spPr>
          <a:xfrm>
            <a:off x="7891560" y="141120"/>
            <a:ext cx="1014480" cy="1328760"/>
          </a:xfrm>
          <a:prstGeom prst="rect">
            <a:avLst/>
          </a:prstGeom>
          <a:ln w="0">
            <a:noFill/>
          </a:ln>
        </p:spPr>
      </p:pic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F5B0-D3A3-4621-AA0C-2FD7C1A989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4860-E886-4977-B165-71B7B32616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组合 145" descr=""/>
          <p:cNvPicPr/>
          <p:nvPr/>
        </p:nvPicPr>
        <p:blipFill>
          <a:blip r:embed="rId2"/>
          <a:stretch/>
        </p:blipFill>
        <p:spPr>
          <a:xfrm>
            <a:off x="1158840" y="782640"/>
            <a:ext cx="614520" cy="588960"/>
          </a:xfrm>
          <a:prstGeom prst="rect">
            <a:avLst/>
          </a:prstGeom>
          <a:ln w="0">
            <a:noFill/>
          </a:ln>
        </p:spPr>
      </p:pic>
      <p:pic>
        <p:nvPicPr>
          <p:cNvPr id="827" name="组合 153" descr=""/>
          <p:cNvPicPr/>
          <p:nvPr/>
        </p:nvPicPr>
        <p:blipFill>
          <a:blip r:embed="rId3"/>
          <a:stretch/>
        </p:blipFill>
        <p:spPr>
          <a:xfrm>
            <a:off x="2023920" y="396720"/>
            <a:ext cx="473040" cy="4827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9" descr=""/>
          <p:cNvPicPr/>
          <p:nvPr/>
        </p:nvPicPr>
        <p:blipFill>
          <a:blip r:embed="rId4"/>
          <a:stretch/>
        </p:blipFill>
        <p:spPr>
          <a:xfrm>
            <a:off x="243000" y="338040"/>
            <a:ext cx="923760" cy="115884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9F86-BB90-45E8-B536-B928B281F6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C129-774E-4268-AF63-0787EF9709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7" descr=""/>
          <p:cNvPicPr/>
          <p:nvPr/>
        </p:nvPicPr>
        <p:blipFill>
          <a:blip r:embed="rId2"/>
          <a:stretch/>
        </p:blipFill>
        <p:spPr>
          <a:xfrm rot="1241400">
            <a:off x="7940160" y="-56880"/>
            <a:ext cx="776520" cy="104940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3190-0A82-4AB0-B3B2-8D87571038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6C86-962F-416C-824F-A8927D8D93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A118-698A-480F-A216-57639AAEF2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F1CF-29BD-4668-A92C-ECF18A4449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图片 31" descr=""/>
          <p:cNvPicPr/>
          <p:nvPr/>
        </p:nvPicPr>
        <p:blipFill>
          <a:blip r:embed="rId2"/>
          <a:stretch/>
        </p:blipFill>
        <p:spPr>
          <a:xfrm>
            <a:off x="415800" y="254160"/>
            <a:ext cx="8650440" cy="6565680"/>
          </a:xfrm>
          <a:prstGeom prst="rect">
            <a:avLst/>
          </a:prstGeom>
          <a:ln w="0">
            <a:noFill/>
          </a:ln>
        </p:spPr>
      </p:pic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DA19-4B9C-48E2-A4E4-CBB4EB1E37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3AF0-1605-47B1-ACAA-7EC7C6EB25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BF37-798C-4F30-AED2-D681D04711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97" descr=""/>
          <p:cNvPicPr/>
          <p:nvPr/>
        </p:nvPicPr>
        <p:blipFill>
          <a:blip r:embed="rId2"/>
          <a:stretch/>
        </p:blipFill>
        <p:spPr>
          <a:xfrm>
            <a:off x="0" y="500076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95" descr=""/>
          <p:cNvPicPr/>
          <p:nvPr/>
        </p:nvPicPr>
        <p:blipFill>
          <a:blip r:embed="rId3"/>
          <a:stretch/>
        </p:blipFill>
        <p:spPr>
          <a:xfrm>
            <a:off x="5292720" y="1400040"/>
            <a:ext cx="3282840" cy="460404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99" descr=""/>
          <p:cNvPicPr/>
          <p:nvPr/>
        </p:nvPicPr>
        <p:blipFill>
          <a:blip r:embed="rId4"/>
          <a:stretch/>
        </p:blipFill>
        <p:spPr>
          <a:xfrm>
            <a:off x="390600" y="433440"/>
            <a:ext cx="1298520" cy="163332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101" descr=""/>
          <p:cNvPicPr/>
          <p:nvPr/>
        </p:nvPicPr>
        <p:blipFill>
          <a:blip r:embed="rId5"/>
          <a:stretch/>
        </p:blipFill>
        <p:spPr>
          <a:xfrm>
            <a:off x="2604960" y="398520"/>
            <a:ext cx="4965840" cy="12985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B03F-A8E9-4823-843A-42BC29E559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1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A648-C31F-48CE-88E9-F4FD3E008F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6" descr=""/>
          <p:cNvPicPr/>
          <p:nvPr/>
        </p:nvPicPr>
        <p:blipFill>
          <a:blip r:embed="rId2"/>
          <a:stretch/>
        </p:blipFill>
        <p:spPr>
          <a:xfrm>
            <a:off x="8290080" y="5703840"/>
            <a:ext cx="617400" cy="10857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7597-FED9-495E-901E-35655E6FAB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F094-26BF-4B1F-BD48-E31AD8628A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图片 87" descr=""/>
          <p:cNvPicPr/>
          <p:nvPr/>
        </p:nvPicPr>
        <p:blipFill>
          <a:blip r:embed="rId2"/>
          <a:stretch/>
        </p:blipFill>
        <p:spPr>
          <a:xfrm>
            <a:off x="0" y="500076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89" descr=""/>
          <p:cNvPicPr/>
          <p:nvPr/>
        </p:nvPicPr>
        <p:blipFill>
          <a:blip r:embed="rId3"/>
          <a:stretch/>
        </p:blipFill>
        <p:spPr>
          <a:xfrm>
            <a:off x="627120" y="1398600"/>
            <a:ext cx="2886120" cy="482292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91" descr=""/>
          <p:cNvPicPr/>
          <p:nvPr/>
        </p:nvPicPr>
        <p:blipFill>
          <a:blip r:embed="rId4"/>
          <a:stretch/>
        </p:blipFill>
        <p:spPr>
          <a:xfrm>
            <a:off x="7232760" y="4189320"/>
            <a:ext cx="1687320" cy="2041560"/>
          </a:xfrm>
          <a:prstGeom prst="rect">
            <a:avLst/>
          </a:prstGeom>
          <a:ln w="0">
            <a:noFill/>
          </a:ln>
        </p:spPr>
      </p:pic>
      <p:sp>
        <p:nvSpPr>
          <p:cNvPr id="219" name="Freeform 106"/>
          <p:cNvSpPr/>
          <p:nvPr/>
        </p:nvSpPr>
        <p:spPr>
          <a:xfrm>
            <a:off x="7777080" y="1486080"/>
            <a:ext cx="625680" cy="42192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06"/>
          <p:cNvSpPr/>
          <p:nvPr/>
        </p:nvSpPr>
        <p:spPr>
          <a:xfrm>
            <a:off x="6904080" y="741240"/>
            <a:ext cx="62532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9279-F626-4683-8C3E-6490DD9F8C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A8FE-5DB9-4477-967A-2F9DDF1B0D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片 7" descr=""/>
          <p:cNvPicPr/>
          <p:nvPr/>
        </p:nvPicPr>
        <p:blipFill>
          <a:blip r:embed="rId2"/>
          <a:stretch/>
        </p:blipFill>
        <p:spPr>
          <a:xfrm rot="1241400">
            <a:off x="7940160" y="-56880"/>
            <a:ext cx="776520" cy="10494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CE22-B0CE-4ED6-B290-87E382310D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E3AE-C5E6-48DB-A13D-D4023D1CEB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图片 9" descr=""/>
          <p:cNvPicPr/>
          <p:nvPr/>
        </p:nvPicPr>
        <p:blipFill>
          <a:blip r:embed="rId2"/>
          <a:stretch/>
        </p:blipFill>
        <p:spPr>
          <a:xfrm>
            <a:off x="7891560" y="141120"/>
            <a:ext cx="1014480" cy="13287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5CBF-F7AC-4059-B266-2E026BDA5D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16F6-03F3-4ED7-93D0-E3E6C55003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106"/>
          <p:cNvSpPr/>
          <p:nvPr/>
        </p:nvSpPr>
        <p:spPr>
          <a:xfrm>
            <a:off x="2527200" y="638280"/>
            <a:ext cx="62568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06"/>
          <p:cNvSpPr/>
          <p:nvPr/>
        </p:nvSpPr>
        <p:spPr>
          <a:xfrm>
            <a:off x="1692360" y="1231920"/>
            <a:ext cx="952560" cy="56520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图片 90" descr=""/>
          <p:cNvPicPr/>
          <p:nvPr/>
        </p:nvPicPr>
        <p:blipFill>
          <a:blip r:embed="rId2"/>
          <a:stretch/>
        </p:blipFill>
        <p:spPr>
          <a:xfrm>
            <a:off x="417600" y="257040"/>
            <a:ext cx="1298520" cy="1635120"/>
          </a:xfrm>
          <a:prstGeom prst="rect">
            <a:avLst/>
          </a:prstGeom>
          <a:ln w="0">
            <a:noFill/>
          </a:ln>
        </p:spPr>
      </p:pic>
      <p:pic>
        <p:nvPicPr>
          <p:cNvPr id="352" name="图片 92" descr=""/>
          <p:cNvPicPr/>
          <p:nvPr/>
        </p:nvPicPr>
        <p:blipFill>
          <a:blip r:embed="rId3"/>
          <a:stretch/>
        </p:blipFill>
        <p:spPr>
          <a:xfrm>
            <a:off x="0" y="5214960"/>
            <a:ext cx="9144000" cy="164304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94" descr=""/>
          <p:cNvPicPr/>
          <p:nvPr/>
        </p:nvPicPr>
        <p:blipFill>
          <a:blip r:embed="rId4"/>
          <a:stretch/>
        </p:blipFill>
        <p:spPr>
          <a:xfrm>
            <a:off x="7278840" y="4546440"/>
            <a:ext cx="1842840" cy="2262240"/>
          </a:xfrm>
          <a:prstGeom prst="rect">
            <a:avLst/>
          </a:prstGeom>
          <a:ln w="0">
            <a:noFill/>
          </a:ln>
        </p:spPr>
      </p:pic>
      <p:pic>
        <p:nvPicPr>
          <p:cNvPr id="354" name="图片 96" descr=""/>
          <p:cNvPicPr/>
          <p:nvPr/>
        </p:nvPicPr>
        <p:blipFill>
          <a:blip r:embed="rId5"/>
          <a:stretch/>
        </p:blipFill>
        <p:spPr>
          <a:xfrm>
            <a:off x="8134200" y="3645000"/>
            <a:ext cx="777960" cy="10476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9844-9A8A-4D62-9ECB-A0F08996FB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BE8A-E0C9-4905-8630-EAF6E8FEDD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2.png"/><Relationship Id="rId17" Type="http://schemas.openxmlformats.org/officeDocument/2006/relationships/image" Target="../media/image22.png"/><Relationship Id="rId18" Type="http://schemas.openxmlformats.org/officeDocument/2006/relationships/image" Target="../media/image22.png"/><Relationship Id="rId1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2.png"/><Relationship Id="rId17" Type="http://schemas.openxmlformats.org/officeDocument/2006/relationships/image" Target="../media/image22.png"/><Relationship Id="rId18" Type="http://schemas.openxmlformats.org/officeDocument/2006/relationships/image" Target="../media/image22.png"/><Relationship Id="rId19" Type="http://schemas.openxmlformats.org/officeDocument/2006/relationships/image" Target="../media/image22.png"/><Relationship Id="rId20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1" descr="QQ图片20200803095524"/>
          <p:cNvPicPr/>
          <p:nvPr/>
        </p:nvPicPr>
        <p:blipFill>
          <a:blip r:embed="rId1"/>
          <a:stretch/>
        </p:blipFill>
        <p:spPr>
          <a:xfrm>
            <a:off x="117360" y="1604880"/>
            <a:ext cx="87440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69633" descr=""/>
          <p:cNvPicPr/>
          <p:nvPr/>
        </p:nvPicPr>
        <p:blipFill>
          <a:blip r:embed="rId1"/>
          <a:stretch/>
        </p:blipFill>
        <p:spPr>
          <a:xfrm>
            <a:off x="376200" y="1123920"/>
            <a:ext cx="8391600" cy="46101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611280" y="2060640"/>
            <a:ext cx="865080" cy="5047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1547640" y="2070000"/>
            <a:ext cx="7201080" cy="5050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468360" y="2646360"/>
            <a:ext cx="8351640" cy="5047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5"/>
          <a:stretch/>
        </p:blipFill>
        <p:spPr>
          <a:xfrm>
            <a:off x="539640" y="3213000"/>
            <a:ext cx="8353440" cy="2793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6"/>
          <a:stretch/>
        </p:blipFill>
        <p:spPr>
          <a:xfrm>
            <a:off x="684360" y="4888080"/>
            <a:ext cx="8353440" cy="2793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7"/>
          <a:stretch/>
        </p:blipFill>
        <p:spPr>
          <a:xfrm>
            <a:off x="611280" y="5229360"/>
            <a:ext cx="835344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3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3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8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3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68609" descr=""/>
          <p:cNvPicPr/>
          <p:nvPr/>
        </p:nvPicPr>
        <p:blipFill>
          <a:blip r:embed="rId1"/>
          <a:stretch/>
        </p:blipFill>
        <p:spPr>
          <a:xfrm>
            <a:off x="552600" y="1743120"/>
            <a:ext cx="8038800" cy="33717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826920" y="2171880"/>
            <a:ext cx="7848720" cy="2793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826920" y="2502000"/>
            <a:ext cx="7848720" cy="2793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4"/>
          <a:stretch/>
        </p:blipFill>
        <p:spPr>
          <a:xfrm>
            <a:off x="755640" y="2852640"/>
            <a:ext cx="7848720" cy="2793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5"/>
          <a:stretch/>
        </p:blipFill>
        <p:spPr>
          <a:xfrm>
            <a:off x="684360" y="3213000"/>
            <a:ext cx="7848360" cy="2793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6"/>
          <a:stretch/>
        </p:blipFill>
        <p:spPr>
          <a:xfrm>
            <a:off x="826920" y="4211640"/>
            <a:ext cx="7848720" cy="2793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7"/>
          <a:stretch/>
        </p:blipFill>
        <p:spPr>
          <a:xfrm>
            <a:off x="755640" y="4518000"/>
            <a:ext cx="784872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5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0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5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0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5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0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图片 67585" descr=""/>
          <p:cNvPicPr/>
          <p:nvPr/>
        </p:nvPicPr>
        <p:blipFill>
          <a:blip r:embed="rId1"/>
          <a:stretch/>
        </p:blipFill>
        <p:spPr>
          <a:xfrm>
            <a:off x="404640" y="1447920"/>
            <a:ext cx="8334720" cy="39621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2"/>
          <a:stretch/>
        </p:blipFill>
        <p:spPr>
          <a:xfrm>
            <a:off x="611280" y="2492280"/>
            <a:ext cx="6481800" cy="5050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3"/>
          <a:stretch/>
        </p:blipFill>
        <p:spPr>
          <a:xfrm>
            <a:off x="684360" y="3068640"/>
            <a:ext cx="6481440" cy="5047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4"/>
          <a:stretch/>
        </p:blipFill>
        <p:spPr>
          <a:xfrm>
            <a:off x="468360" y="3645000"/>
            <a:ext cx="6481800" cy="5047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5"/>
          <a:stretch/>
        </p:blipFill>
        <p:spPr>
          <a:xfrm>
            <a:off x="611280" y="4230720"/>
            <a:ext cx="6481800" cy="5047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6"/>
          <a:stretch/>
        </p:blipFill>
        <p:spPr>
          <a:xfrm>
            <a:off x="611280" y="4807080"/>
            <a:ext cx="648180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7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2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7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2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7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60428" descr=""/>
          <p:cNvPicPr/>
          <p:nvPr/>
        </p:nvPicPr>
        <p:blipFill>
          <a:blip r:embed="rId1"/>
          <a:stretch/>
        </p:blipFill>
        <p:spPr>
          <a:xfrm>
            <a:off x="233280" y="833400"/>
            <a:ext cx="8677440" cy="56199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"/>
          <a:stretch/>
        </p:blipFill>
        <p:spPr>
          <a:xfrm>
            <a:off x="1332000" y="2421000"/>
            <a:ext cx="360360" cy="5032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3492360" y="2421000"/>
            <a:ext cx="360360" cy="5032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4"/>
          <a:stretch/>
        </p:blipFill>
        <p:spPr>
          <a:xfrm>
            <a:off x="6084720" y="2492280"/>
            <a:ext cx="360360" cy="5032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5"/>
          <a:stretch/>
        </p:blipFill>
        <p:spPr>
          <a:xfrm>
            <a:off x="6877080" y="270828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6"/>
          <a:stretch/>
        </p:blipFill>
        <p:spPr>
          <a:xfrm>
            <a:off x="6877080" y="237816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7"/>
          <a:stretch/>
        </p:blipFill>
        <p:spPr>
          <a:xfrm>
            <a:off x="2843280" y="2997360"/>
            <a:ext cx="360360" cy="5029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8"/>
          <a:stretch/>
        </p:blipFill>
        <p:spPr>
          <a:xfrm>
            <a:off x="4427640" y="2997360"/>
            <a:ext cx="360360" cy="5029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9"/>
          <a:stretch/>
        </p:blipFill>
        <p:spPr>
          <a:xfrm>
            <a:off x="1908000" y="177336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0"/>
          <a:stretch/>
        </p:blipFill>
        <p:spPr>
          <a:xfrm>
            <a:off x="1692360" y="351936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11"/>
          <a:stretch/>
        </p:blipFill>
        <p:spPr>
          <a:xfrm>
            <a:off x="2843280" y="385128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12"/>
          <a:stretch/>
        </p:blipFill>
        <p:spPr>
          <a:xfrm>
            <a:off x="3851280" y="3673440"/>
            <a:ext cx="649440" cy="2793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13"/>
          <a:stretch/>
        </p:blipFill>
        <p:spPr>
          <a:xfrm>
            <a:off x="6732720" y="414036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4"/>
          <a:stretch/>
        </p:blipFill>
        <p:spPr>
          <a:xfrm>
            <a:off x="1116000" y="4456080"/>
            <a:ext cx="503280" cy="2793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5"/>
          <a:stretch/>
        </p:blipFill>
        <p:spPr>
          <a:xfrm>
            <a:off x="6659640" y="4807080"/>
            <a:ext cx="503280" cy="56664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6"/>
          <a:stretch/>
        </p:blipFill>
        <p:spPr>
          <a:xfrm>
            <a:off x="2762280" y="5373720"/>
            <a:ext cx="503280" cy="5666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17"/>
          <a:stretch/>
        </p:blipFill>
        <p:spPr>
          <a:xfrm>
            <a:off x="1042920" y="622764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18"/>
          <a:stretch/>
        </p:blipFill>
        <p:spPr>
          <a:xfrm>
            <a:off x="1042920" y="5896080"/>
            <a:ext cx="36036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图片 59410" descr=""/>
          <p:cNvPicPr/>
          <p:nvPr/>
        </p:nvPicPr>
        <p:blipFill>
          <a:blip r:embed="rId1"/>
          <a:stretch/>
        </p:blipFill>
        <p:spPr>
          <a:xfrm>
            <a:off x="223920" y="1133640"/>
            <a:ext cx="8696160" cy="45907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360360" cy="27972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3"/>
          <a:stretch/>
        </p:blipFill>
        <p:spPr>
          <a:xfrm>
            <a:off x="7596360" y="1125360"/>
            <a:ext cx="360360" cy="27972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4"/>
          <a:stretch/>
        </p:blipFill>
        <p:spPr>
          <a:xfrm>
            <a:off x="1835280" y="1465200"/>
            <a:ext cx="576000" cy="27936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5"/>
          <a:stretch/>
        </p:blipFill>
        <p:spPr>
          <a:xfrm>
            <a:off x="4932360" y="1465200"/>
            <a:ext cx="576360" cy="27936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6"/>
          <a:stretch/>
        </p:blipFill>
        <p:spPr>
          <a:xfrm>
            <a:off x="7812000" y="1455840"/>
            <a:ext cx="432000" cy="27936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7"/>
          <a:stretch/>
        </p:blipFill>
        <p:spPr>
          <a:xfrm>
            <a:off x="971640" y="2098800"/>
            <a:ext cx="431640" cy="27936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8"/>
          <a:stretch/>
        </p:blipFill>
        <p:spPr>
          <a:xfrm>
            <a:off x="5724360" y="2781360"/>
            <a:ext cx="432000" cy="27936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9"/>
          <a:stretch/>
        </p:blipFill>
        <p:spPr>
          <a:xfrm>
            <a:off x="8139240" y="3770280"/>
            <a:ext cx="431640" cy="27936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10"/>
          <a:stretch/>
        </p:blipFill>
        <p:spPr>
          <a:xfrm>
            <a:off x="8172360" y="4105440"/>
            <a:ext cx="432000" cy="27936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11"/>
          <a:stretch/>
        </p:blipFill>
        <p:spPr>
          <a:xfrm>
            <a:off x="8172360" y="4437000"/>
            <a:ext cx="432000" cy="27936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12"/>
          <a:stretch/>
        </p:blipFill>
        <p:spPr>
          <a:xfrm>
            <a:off x="8172360" y="4788000"/>
            <a:ext cx="432000" cy="27936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13"/>
          <a:stretch/>
        </p:blipFill>
        <p:spPr>
          <a:xfrm>
            <a:off x="8244000" y="5445000"/>
            <a:ext cx="43164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0" name="图片 58373" descr=""/>
          <p:cNvPicPr/>
          <p:nvPr/>
        </p:nvPicPr>
        <p:blipFill>
          <a:blip r:embed="rId1"/>
          <a:stretch/>
        </p:blipFill>
        <p:spPr>
          <a:xfrm>
            <a:off x="266760" y="1147680"/>
            <a:ext cx="8610480" cy="456264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1" descr=""/>
          <p:cNvPicPr/>
          <p:nvPr/>
        </p:nvPicPr>
        <p:blipFill>
          <a:blip r:embed="rId2"/>
          <a:stretch/>
        </p:blipFill>
        <p:spPr>
          <a:xfrm>
            <a:off x="1908000" y="192564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1" descr=""/>
          <p:cNvPicPr/>
          <p:nvPr/>
        </p:nvPicPr>
        <p:blipFill>
          <a:blip r:embed="rId3"/>
          <a:stretch/>
        </p:blipFill>
        <p:spPr>
          <a:xfrm>
            <a:off x="7885080" y="278136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1" descr=""/>
          <p:cNvPicPr/>
          <p:nvPr/>
        </p:nvPicPr>
        <p:blipFill>
          <a:blip r:embed="rId4"/>
          <a:stretch/>
        </p:blipFill>
        <p:spPr>
          <a:xfrm>
            <a:off x="5364000" y="407664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1" descr=""/>
          <p:cNvPicPr/>
          <p:nvPr/>
        </p:nvPicPr>
        <p:blipFill>
          <a:blip r:embed="rId5"/>
          <a:stretch/>
        </p:blipFill>
        <p:spPr>
          <a:xfrm>
            <a:off x="2214720" y="4869000"/>
            <a:ext cx="36036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5" name="图片 57352" descr=""/>
          <p:cNvPicPr/>
          <p:nvPr/>
        </p:nvPicPr>
        <p:blipFill>
          <a:blip r:embed="rId1"/>
          <a:stretch/>
        </p:blipFill>
        <p:spPr>
          <a:xfrm>
            <a:off x="247680" y="849240"/>
            <a:ext cx="8648640" cy="581976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1" descr=""/>
          <p:cNvPicPr/>
          <p:nvPr/>
        </p:nvPicPr>
        <p:blipFill>
          <a:blip r:embed="rId2"/>
          <a:stretch/>
        </p:blipFill>
        <p:spPr>
          <a:xfrm>
            <a:off x="2050920" y="119700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1" descr=""/>
          <p:cNvPicPr/>
          <p:nvPr/>
        </p:nvPicPr>
        <p:blipFill>
          <a:blip r:embed="rId3"/>
          <a:stretch/>
        </p:blipFill>
        <p:spPr>
          <a:xfrm>
            <a:off x="684360" y="1873080"/>
            <a:ext cx="6983280" cy="279720"/>
          </a:xfrm>
          <a:prstGeom prst="rect">
            <a:avLst/>
          </a:prstGeom>
          <a:ln w="0">
            <a:noFill/>
          </a:ln>
        </p:spPr>
      </p:pic>
      <p:pic>
        <p:nvPicPr>
          <p:cNvPr id="998" name="Picture 1" descr=""/>
          <p:cNvPicPr/>
          <p:nvPr/>
        </p:nvPicPr>
        <p:blipFill>
          <a:blip r:embed="rId4"/>
          <a:stretch/>
        </p:blipFill>
        <p:spPr>
          <a:xfrm>
            <a:off x="1701720" y="2852640"/>
            <a:ext cx="360360" cy="505080"/>
          </a:xfrm>
          <a:prstGeom prst="rect">
            <a:avLst/>
          </a:prstGeom>
          <a:ln w="0">
            <a:noFill/>
          </a:ln>
        </p:spPr>
      </p:pic>
      <p:pic>
        <p:nvPicPr>
          <p:cNvPr id="999" name="Picture 1" descr=""/>
          <p:cNvPicPr/>
          <p:nvPr/>
        </p:nvPicPr>
        <p:blipFill>
          <a:blip r:embed="rId5"/>
          <a:stretch/>
        </p:blipFill>
        <p:spPr>
          <a:xfrm>
            <a:off x="3635280" y="2852640"/>
            <a:ext cx="360360" cy="50508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1" descr=""/>
          <p:cNvPicPr/>
          <p:nvPr/>
        </p:nvPicPr>
        <p:blipFill>
          <a:blip r:embed="rId6"/>
          <a:stretch/>
        </p:blipFill>
        <p:spPr>
          <a:xfrm>
            <a:off x="5867280" y="2852640"/>
            <a:ext cx="360360" cy="505080"/>
          </a:xfrm>
          <a:prstGeom prst="rect">
            <a:avLst/>
          </a:prstGeom>
          <a:ln w="0">
            <a:noFill/>
          </a:ln>
        </p:spPr>
      </p:pic>
      <p:pic>
        <p:nvPicPr>
          <p:cNvPr id="1001" name="Picture 1" descr=""/>
          <p:cNvPicPr/>
          <p:nvPr/>
        </p:nvPicPr>
        <p:blipFill>
          <a:blip r:embed="rId7"/>
          <a:stretch/>
        </p:blipFill>
        <p:spPr>
          <a:xfrm>
            <a:off x="7731000" y="2852640"/>
            <a:ext cx="360360" cy="505080"/>
          </a:xfrm>
          <a:prstGeom prst="rect">
            <a:avLst/>
          </a:prstGeom>
          <a:ln w="0">
            <a:noFill/>
          </a:ln>
        </p:spPr>
      </p:pic>
      <p:pic>
        <p:nvPicPr>
          <p:cNvPr id="1002" name="Picture 1" descr=""/>
          <p:cNvPicPr/>
          <p:nvPr/>
        </p:nvPicPr>
        <p:blipFill>
          <a:blip r:embed="rId8"/>
          <a:stretch/>
        </p:blipFill>
        <p:spPr>
          <a:xfrm>
            <a:off x="1673280" y="3429000"/>
            <a:ext cx="360360" cy="50472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1" descr=""/>
          <p:cNvPicPr/>
          <p:nvPr/>
        </p:nvPicPr>
        <p:blipFill>
          <a:blip r:embed="rId9"/>
          <a:stretch/>
        </p:blipFill>
        <p:spPr>
          <a:xfrm>
            <a:off x="3564000" y="3429000"/>
            <a:ext cx="431640" cy="50472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1" descr=""/>
          <p:cNvPicPr/>
          <p:nvPr/>
        </p:nvPicPr>
        <p:blipFill>
          <a:blip r:embed="rId10"/>
          <a:stretch/>
        </p:blipFill>
        <p:spPr>
          <a:xfrm>
            <a:off x="5651640" y="3429000"/>
            <a:ext cx="431640" cy="50472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1" descr=""/>
          <p:cNvPicPr/>
          <p:nvPr/>
        </p:nvPicPr>
        <p:blipFill>
          <a:blip r:embed="rId11"/>
          <a:stretch/>
        </p:blipFill>
        <p:spPr>
          <a:xfrm>
            <a:off x="7740720" y="3429000"/>
            <a:ext cx="431640" cy="50472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1" descr=""/>
          <p:cNvPicPr/>
          <p:nvPr/>
        </p:nvPicPr>
        <p:blipFill>
          <a:blip r:embed="rId12"/>
          <a:stretch/>
        </p:blipFill>
        <p:spPr>
          <a:xfrm>
            <a:off x="1042920" y="5032440"/>
            <a:ext cx="1657440" cy="50472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13"/>
          <a:stretch/>
        </p:blipFill>
        <p:spPr>
          <a:xfrm>
            <a:off x="1042920" y="5599080"/>
            <a:ext cx="1008000" cy="27936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14"/>
          <a:stretch/>
        </p:blipFill>
        <p:spPr>
          <a:xfrm>
            <a:off x="971640" y="5950080"/>
            <a:ext cx="1008000" cy="27936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15"/>
          <a:stretch/>
        </p:blipFill>
        <p:spPr>
          <a:xfrm>
            <a:off x="3348000" y="5022720"/>
            <a:ext cx="1944720" cy="5050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16"/>
          <a:stretch/>
        </p:blipFill>
        <p:spPr>
          <a:xfrm>
            <a:off x="3276720" y="5589720"/>
            <a:ext cx="1944720" cy="50472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17"/>
          <a:stretch/>
        </p:blipFill>
        <p:spPr>
          <a:xfrm>
            <a:off x="5796000" y="5013360"/>
            <a:ext cx="1944720" cy="50472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18"/>
          <a:stretch/>
        </p:blipFill>
        <p:spPr>
          <a:xfrm>
            <a:off x="5796000" y="5589720"/>
            <a:ext cx="1944720" cy="50472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19"/>
          <a:stretch/>
        </p:blipFill>
        <p:spPr>
          <a:xfrm>
            <a:off x="5867280" y="6175440"/>
            <a:ext cx="19447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图片 56324" descr=""/>
          <p:cNvPicPr/>
          <p:nvPr/>
        </p:nvPicPr>
        <p:blipFill>
          <a:blip r:embed="rId1"/>
          <a:stretch/>
        </p:blipFill>
        <p:spPr>
          <a:xfrm>
            <a:off x="876240" y="2343240"/>
            <a:ext cx="7391520" cy="21715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2"/>
          <a:stretch/>
        </p:blipFill>
        <p:spPr>
          <a:xfrm>
            <a:off x="971640" y="3284640"/>
            <a:ext cx="2736720" cy="57600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3"/>
          <a:stretch/>
        </p:blipFill>
        <p:spPr>
          <a:xfrm>
            <a:off x="1042920" y="3933720"/>
            <a:ext cx="2737080" cy="57636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4"/>
          <a:stretch/>
        </p:blipFill>
        <p:spPr>
          <a:xfrm>
            <a:off x="4140360" y="3348000"/>
            <a:ext cx="2087280" cy="57636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5"/>
          <a:stretch/>
        </p:blipFill>
        <p:spPr>
          <a:xfrm>
            <a:off x="4211640" y="3933720"/>
            <a:ext cx="2087640" cy="5763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6"/>
          <a:stretch/>
        </p:blipFill>
        <p:spPr>
          <a:xfrm>
            <a:off x="6588000" y="3284640"/>
            <a:ext cx="2087640" cy="57600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7"/>
          <a:stretch/>
        </p:blipFill>
        <p:spPr>
          <a:xfrm>
            <a:off x="6732720" y="3889440"/>
            <a:ext cx="208728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图片 55300" descr=""/>
          <p:cNvPicPr/>
          <p:nvPr/>
        </p:nvPicPr>
        <p:blipFill>
          <a:blip r:embed="rId1"/>
          <a:stretch/>
        </p:blipFill>
        <p:spPr>
          <a:xfrm>
            <a:off x="328680" y="1009800"/>
            <a:ext cx="8486640" cy="4838400"/>
          </a:xfrm>
          <a:prstGeom prst="rect">
            <a:avLst/>
          </a:prstGeom>
          <a:ln w="0">
            <a:noFill/>
          </a:ln>
        </p:spPr>
      </p:pic>
      <p:pic>
        <p:nvPicPr>
          <p:cNvPr id="1022" name="图片 55301" descr=""/>
          <p:cNvPicPr/>
          <p:nvPr/>
        </p:nvPicPr>
        <p:blipFill>
          <a:blip r:embed="rId2"/>
          <a:stretch/>
        </p:blipFill>
        <p:spPr>
          <a:xfrm>
            <a:off x="3763800" y="1762200"/>
            <a:ext cx="4419720" cy="1438200"/>
          </a:xfrm>
          <a:prstGeom prst="rect">
            <a:avLst/>
          </a:prstGeom>
          <a:ln w="0">
            <a:noFill/>
          </a:ln>
        </p:spPr>
      </p:pic>
      <p:pic>
        <p:nvPicPr>
          <p:cNvPr id="1023" name="图片 55302" descr=""/>
          <p:cNvPicPr/>
          <p:nvPr/>
        </p:nvPicPr>
        <p:blipFill>
          <a:blip r:embed="rId3"/>
          <a:stretch/>
        </p:blipFill>
        <p:spPr>
          <a:xfrm>
            <a:off x="2714760" y="3767040"/>
            <a:ext cx="452412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8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3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54276" descr=""/>
          <p:cNvPicPr/>
          <p:nvPr/>
        </p:nvPicPr>
        <p:blipFill>
          <a:blip r:embed="rId1"/>
          <a:stretch/>
        </p:blipFill>
        <p:spPr>
          <a:xfrm>
            <a:off x="928800" y="1509840"/>
            <a:ext cx="7286400" cy="383832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54277" descr=""/>
          <p:cNvPicPr/>
          <p:nvPr/>
        </p:nvPicPr>
        <p:blipFill>
          <a:blip r:embed="rId2"/>
          <a:stretch/>
        </p:blipFill>
        <p:spPr>
          <a:xfrm>
            <a:off x="3772080" y="3349800"/>
            <a:ext cx="340992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0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图片 52231" descr=""/>
          <p:cNvPicPr/>
          <p:nvPr/>
        </p:nvPicPr>
        <p:blipFill>
          <a:blip r:embed="rId1"/>
          <a:stretch/>
        </p:blipFill>
        <p:spPr>
          <a:xfrm>
            <a:off x="514440" y="2171880"/>
            <a:ext cx="8115120" cy="1257120"/>
          </a:xfrm>
          <a:prstGeom prst="rect">
            <a:avLst/>
          </a:prstGeom>
          <a:ln w="0">
            <a:noFill/>
          </a:ln>
        </p:spPr>
      </p:pic>
      <p:pic>
        <p:nvPicPr>
          <p:cNvPr id="1027" name="图片 52232" descr=""/>
          <p:cNvPicPr/>
          <p:nvPr/>
        </p:nvPicPr>
        <p:blipFill>
          <a:blip r:embed="rId2"/>
          <a:stretch/>
        </p:blipFill>
        <p:spPr>
          <a:xfrm>
            <a:off x="228600" y="3735360"/>
            <a:ext cx="8686800" cy="16383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3"/>
          <a:stretch/>
        </p:blipFill>
        <p:spPr>
          <a:xfrm>
            <a:off x="4427640" y="2205000"/>
            <a:ext cx="504720" cy="2793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4"/>
          <a:stretch/>
        </p:blipFill>
        <p:spPr>
          <a:xfrm>
            <a:off x="8056440" y="2214720"/>
            <a:ext cx="287640" cy="2793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5"/>
          <a:stretch/>
        </p:blipFill>
        <p:spPr>
          <a:xfrm>
            <a:off x="1835280" y="2565360"/>
            <a:ext cx="287280" cy="2793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6"/>
          <a:stretch/>
        </p:blipFill>
        <p:spPr>
          <a:xfrm>
            <a:off x="4716360" y="3213000"/>
            <a:ext cx="287280" cy="2793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7"/>
          <a:stretch/>
        </p:blipFill>
        <p:spPr>
          <a:xfrm>
            <a:off x="4749840" y="2871720"/>
            <a:ext cx="287280" cy="2793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8"/>
          <a:stretch/>
        </p:blipFill>
        <p:spPr>
          <a:xfrm>
            <a:off x="698400" y="4724280"/>
            <a:ext cx="8388360" cy="2793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9"/>
          <a:stretch/>
        </p:blipFill>
        <p:spPr>
          <a:xfrm>
            <a:off x="684360" y="5051520"/>
            <a:ext cx="838836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7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2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6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1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3T01:57:16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