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2CF-6381-4CE2-9D7D-6DD6B307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94F-747C-4C41-8DE6-5C28062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CBFB7-4E36-4A30-BAF6-AB5F2983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43D7-71D5-46FB-AB8E-9780AA20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BBA9-ED92-49D4-92C5-75A664F5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748F4-630B-4845-9AC0-709C99D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17D08-AB47-4A34-8D5C-E40557C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00BBE-CFA1-4CCE-A0C0-76CB5AB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7D968-D72D-474E-8B19-13E2582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FDC8C-4783-4DC0-8408-30845DC2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1C020-BC6F-4183-ACCF-4E1E993B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633C2-2BAC-4ED7-8F92-78EDE941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6F8-14C3-4340-A22D-19D5DA06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CB72B-504C-4849-94BE-B2D32A7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7E69-1E27-4744-9764-72C52CBB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1C4BA-FE16-46A7-A46A-A3847B1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7FCA3-6F8E-4285-A432-BFE8C0BB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36C2F-2574-4CF5-9ACF-8A9FEC2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F63C4-598B-4301-9228-7DDE477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F473-9AB3-459C-AA4E-04A61D89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45A5-042C-47B9-8B0D-CBC2903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48CE-121B-4B37-B3C3-803E555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F5816-04C2-452C-863B-D3EE2963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43D-7721-4007-BF2E-58BDAE8E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3D46-1D57-4DC2-B906-BC0507A5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6900E-DC1E-41B5-8150-96007F5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946A-FD01-4ECE-AA2E-AC6BF16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8CA27-5C1E-4F7E-99E0-9191DAF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A5151-1EC2-45C1-AF79-25B3FEF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02D06-3D65-4FC7-98CD-7A7EECB9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8613-2CC1-41A5-AF93-7A0A20C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34D9-4958-4A82-B384-EBE5FAC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04F7E-DCBA-476F-9369-E6DC6E5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0977-6AE9-4C17-8BA1-C5649E7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2C2-C722-43BB-8A9F-B8364F5E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48242-1FD8-435B-806C-434FF03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845D4-4264-4EF8-A7F9-CC6C27C7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F9E4-EBBB-4FE5-9601-B57F0AC6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72FC-CAC2-4BDB-A885-E6BED26B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C781E-0D92-455C-85BD-AAC3A14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3B41-2D09-43D6-A40E-33EF84DF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725FE-02D4-45B8-9EC7-A1A3E81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DB322-E88C-4CEA-904B-76A209A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FE6EE-7EC0-4C40-A2E2-C7D8074F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4D479-5CD7-4DFC-A716-3490E81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63B-36BB-4B16-9C66-1FD5540F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31FC-3FB1-43D7-AF9F-DD32CA9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1A75D-F23C-40A4-BC67-6F43D3EC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D5175-F649-4968-9A8C-7A9B3E3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21440-5E87-4FCF-9243-0671C66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07F7F-891F-4905-957E-ED110F3B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83C49-7273-42D8-BAB2-92BB57CB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8AB9C-1835-4CDB-8E6F-968672BE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22F32-944A-4143-A57A-6A72502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696ED-4CA2-4A7C-88BC-C6995E9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3C134-355D-4AD6-B3BE-92059DA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B4FD-9D35-4CD2-831A-9EBD6E5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9BDF2-7B41-44DC-B6C7-E591FB4D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6C519-2AE5-4564-A82A-5FE617B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279EC-3844-41D9-9A9C-5501449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F44C8-CCC4-4148-968C-B6C9E82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B0F87-42FF-4EAB-BBE3-62FBCD8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28F8D-DE1D-4C26-A9EF-1A34269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E00BB-94E2-473D-B528-C2656972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F4811-A351-41E6-87C6-25F77756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497CF-B745-4E9F-AB44-42C5B42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59A3F-A90E-4A57-BE6E-9D68F5D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4CC-B2D9-43ED-9B3C-1C30DC66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ACD0C-5C0A-4614-A0D5-7ED14329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28FA2-3393-47FD-A55D-E8A891DB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04EA6-0921-4EFD-BD62-28DAD4F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A9D15-7DAC-4EE0-8F58-64D3EC2C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717B1-3C9E-4794-B6B0-425865A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790E7-44D8-49EF-BEE9-9C943A5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D33E0-598C-40AE-93EA-91C9165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C3239-C591-4314-92F6-4271EB2B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A5DBB-772C-46F7-BAB3-7A03DBA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3254A-E904-4333-9CE0-DF5E1E41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C6A1-1B85-402B-A99F-5BF8C705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B126D-FC9C-4404-ADC1-495ECAD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ABF92-C45E-4C2A-92D2-643765F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B2B29-284C-4BD4-A381-6575884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3F637-E9EC-4E5A-A6FE-B062BC1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DE8C9-7389-495A-9EDF-6E35236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3432D-2199-4DC2-9485-48CEA10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0DFAA-A0AE-4B41-8334-795B7BF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D3F61-22FE-431B-8B41-E26DE6E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48FDD-0F29-4982-BBC4-A183BC6B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715B7-F202-4A3D-9A09-B32657E3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AA0-4DC3-44BF-B8EF-8CF6B3ED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1D315-1BDC-4D18-B2FF-4500E5EA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A2BCE-CE17-4ADE-B73D-492520C6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6E305-D4B5-432E-9BBD-A388436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B3889-11FA-40C4-94AD-F4A7659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CA1EE-9CF5-4308-A634-63F9A29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F61BE-3569-4DDF-AE2B-F2A7FB69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9BFA2-106C-409F-9478-FBFA8F0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6010A-5256-4CD5-B203-0FBAAAF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BA4BD-60CF-4B0A-B4BF-B03CDC6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6CA57-E93D-446C-AAAE-4722F46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1C4-3B8C-4EFC-A8D4-6BFB85F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43984-CD1D-4908-A19E-8BA2E7F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578E3-F486-444A-9F75-D7ECC5D7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BF3C5-6601-4E1A-819F-C1A681E1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14F1C-EFCA-45F1-9EF4-7C138608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9802D-07AE-425F-B3B3-407FDE06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082EA-B01A-4298-A665-7B657C8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578D3-C824-4FF8-88B7-20C471E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A1FC1-38CB-46A2-A392-A80B8AD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410D8-DDFF-4A3E-BD5C-D67B828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A0247-F82C-47BC-98CC-2DE2428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543-69AD-4085-B0A2-FE58242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9F4-C386-4900-A691-6F704BEC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46EB1-601E-4F61-9657-1C036C9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5727D-932E-450B-AC48-7040341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8E77F-F9E9-418F-B5B9-E86E89C9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70D66-7ABF-4FD8-9811-3057094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97B32-DB19-4F23-9A80-1727FC95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C24A1-92BF-4460-82DF-E5C1CA62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79D78-9033-41BF-B202-DBC66A3A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BB792-D2F6-4422-9406-8CDE0ECB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22663-2EFA-4E0D-8F7D-D5CFEF2F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9399B-055B-4ABD-921D-24F780E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5334-4B56-4548-B7FF-9587FC1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2306E-EACA-46D3-84C3-7AEB1DD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235FA-B586-4801-9EFE-79122E4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057F4-63B0-4237-BD6A-5CC8B05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1E6CA-3FC4-4930-B49D-1EE70CF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FA73F-BAEF-4369-8D01-9C0937EE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1FBBB-523D-4371-A17D-CC0BCCB1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EFCFA-9343-4F1A-AE0F-D2B1C643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96789-AF4D-4562-B835-D325808A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DD20E-F749-4F78-854C-E84C9C9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B0EA9-B803-4C8F-8975-2554CEB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E82-4409-4A1A-8072-8F7B115B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3D3AC-91FB-4854-9841-6B94868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576CF-AF63-404B-BC66-81EFD29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AAAF6-7F9A-49A1-BC1F-F0492F36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4729E-4F56-4772-9770-F34EE54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3F404B-D4BC-44EA-9CE6-CA3A5DE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2EFA3-94C4-48FF-B3F2-A023BFA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AA0C9-2151-4256-80A0-3BECFFA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75390-655E-44D9-B2DB-F750102A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0BCBE-F783-4A70-A804-A9AC39DA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102EA-80F5-40C8-918C-4D794F5E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96DA-9B36-45B2-B0D4-45101DBD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D0BF2-392A-4B58-B4CC-F62857F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EA62A-EC0F-417D-AB99-8CBC0E99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7C600-90A6-42E9-A0C7-D6955D5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B758F-C575-40D9-AA15-0161F65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27E2B-98AE-4F28-9414-1D80B8F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442C6-F9A0-490A-A388-F205052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80BA4-A5C0-452B-B138-7CA6BCE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72181-6039-4F5B-B38A-AA225F8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9B01F-B931-4A49-A1BD-C25703A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66D27-A40B-40B6-BAA5-0772E5B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876-037A-487E-87DF-22F9612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12BF5-584F-4782-B111-EA1040E0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C598E-E1AC-4AD2-B6F4-6F646407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EEC48-EFCE-4DE8-BD46-3F85889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CD365-2AE0-4692-B7F8-10E93C8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304D1-F67C-4687-8450-6986797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E75AF-1C08-4DE8-944E-F20C3025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99067-5EB0-436B-82D0-C1DB6CBD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8D47A-B90A-4986-B201-84F18D2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AB060-CA08-474A-8406-5C71B4E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7E54F-A6DB-418D-9A74-EAC10E1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1F4A-33F3-4874-8F68-7631F162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282A8-D2F2-4206-9EEE-E9E22C1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39672-CAAF-4302-B4B5-8669ABC4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BD2740-BE69-4FF6-ACB3-3DC6EED8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1828-6D4A-433C-869D-A027352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A5E47-005D-4AF5-A47D-DF37C75A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4622-C559-4B61-9C04-FF0DA16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3BB9-69F1-459A-9DA3-4FE71191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336-D669-4D39-B3B6-10CE66C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6B87-EB65-46FB-A297-F8806C8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8017-7FD8-43B1-BFBE-42A979A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7AA2-0AAB-44A8-9DD0-281F292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C5DB-8DC9-4C68-BBC1-93AFEFC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F071-8134-4C48-97D8-A9A1664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8483-184E-4541-93CF-78B9A876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4A7D-8A9A-49D3-9C35-1AA22C79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81A2-3129-4224-884B-A9F6DD9D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0190-E280-49C4-BD10-314B4CC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7D72-29E8-4ACF-BBB2-9DB62EB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817-3EAA-4F56-9168-AD961CE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A5FB-B902-4A9B-9552-3186C3E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3DD1-1C45-46B2-B70B-7AD4BCD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7697-39C1-405C-A0FE-98A5F80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8CC2-82C4-4DB5-B6E6-019A821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D6F9-C63E-45B7-84B2-0643BEE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0FC0-CD8A-4C9F-8D59-ACFA45C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85AD-A8F7-4398-8191-DB6C5ADB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1783-857E-4F5C-B489-7675B6D1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BE20-B10F-49BB-9E41-3648F087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E052-35AC-441F-BA5D-AABC608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236-96C7-44D4-81E3-416E066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1899-D287-43AC-97AA-F8DB6371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4DB1-5B45-49A6-9A2F-3F61B47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328F-7AB5-48E6-BB4F-B087FCA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BC14-EA8B-46FC-80DD-6B15BCA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C8037-C8D0-418E-9C48-BF09F264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15DA-9159-40CB-ADF7-6326DE3D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4C2F-40E0-4566-8B4C-A22DFDF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3C97A-72DE-4E1B-81F0-332A938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DD4F-9FBD-4D8B-9CE7-D332E620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A042-49B9-403C-B209-3EC3C1D0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FD8-01E8-4312-AFB0-FFEC05E0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6B96-DBDC-4029-A67F-7524ED6F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64D5-789C-4D5B-9112-2E47E957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9D1C-ACB6-4738-9D0E-9F74827C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67F8A-76D1-44EB-8D53-2F46EDCD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6729-6FFF-4C08-B9D4-63ECE03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EFAF-E41A-44EE-B77E-C75C730B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699F-CC9C-4EDF-AB6D-321AEE92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A624-3D8C-4529-8C69-21128C8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88D1-6CA0-4501-AB13-FB7FA62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F6E6C-B3EE-41A8-A09C-84A2FAC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74E-55F6-470B-B053-B27DC88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5AB1-C820-47B4-BFDB-2CEF22B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7C9B3-9279-4FF3-AE7C-7F8BB3EA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8A07-B91D-487F-A2F3-7E4AD422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80AB-0D51-421A-87EF-37DE2E0C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CB82-42E4-4511-BE63-EE879E42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7A96-3ADB-4250-9C01-547B019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576E-4B98-42CD-B788-C5CD26E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9AC5-38BD-4D29-B9E9-9122824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504C-31E0-4070-8226-B796D93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238E-6C71-44A9-8F3D-DB7C6C3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8AF-D4E7-4090-8E8F-CD8327C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5A1A8-3669-4BED-9F7A-CEC4C15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8843-D4D8-4DA8-BCF9-2E93963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2A74-8F51-44E7-BB6C-9CD0CBD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C671-E110-44F3-B6E5-D573F49E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E5B0A-D9C2-49BB-8082-210E37D6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7E7DC-070D-4901-9D0E-E65D217F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CA7DC-085D-4F7C-B825-5674D31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3F5AF-3C4D-4325-AA72-FB40DDF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0307B-4831-4EF8-BDDE-0CFCDC6D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0DC7-9B7C-4974-8625-EF0F048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2C0-9F03-4AB2-8D47-6ED0227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5408-0E66-4159-8642-5786B7D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0FB8-D098-438F-94F5-4230227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6044-ED45-447E-B655-ECBB800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0BDD-51AE-419D-A53A-B5C6751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F2E7-4A1D-4B5E-97FC-8D96F80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C37AF-C79D-4FC1-9157-AFCAEA67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E8225-9245-4309-974B-7597A7B2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96418-3BE3-4C67-A7F4-FD2F1998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82D71-C1B5-4E81-81C3-445A91D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7F6D-0B92-4767-A2D3-0D1E696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1A4-E61A-4E4C-A742-EE7EDA254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4BD-F020-49B7-9E8B-5730BB639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C6C8-A6A2-4977-BC49-101034960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BB8-1817-47A0-80BC-9FA8263CC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DE9-E90B-475B-9F2D-629FC414A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929-5F3C-41A5-90A7-9C5BB1723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D0BA-C3C4-472A-B2E9-E7243494D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7C97-1C02-48D3-9BE0-FC584CD8F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4F6-6C70-4AD7-B8FE-1A002C1FB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3A2B-53B5-46B2-B169-FA0A6A3D3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46E-448D-49D9-8AC6-D4908D370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128E-6DBD-4172-BBF5-02E1819A7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22A-2881-4B04-92BC-2DA8A30F91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1BA-AA61-4036-A451-F0CCFC6A9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3252-1CDD-44FC-BB55-C33EE8B69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8298-0992-4EFD-A752-F181E1BB6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1A6B-C0EA-42E6-AF6B-630E0D038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FC5-6CC9-4914-849F-F46A3DE6D0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9A9-8E2B-40FA-A237-058EB2C79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C8BD-5426-4802-8252-F3FFF928D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3416-27AB-4AD1-A6BB-D8945EF21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5768-D9C3-4CEF-B8E3-4F5939E83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9AB-72DB-4877-A30C-50E4E5B31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F68-1923-40FB-975D-B6A7704F5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E3E6-B294-460C-984C-64DA31C6B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59A-CF5A-4FAE-9440-B01B0DA2A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0A8-5B74-4F34-BCEC-33ACA5FC0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F9E0-6FB4-4258-A663-2F3AF6C343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A3BC-841B-4BB7-B753-224C3DE1C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1DC-FECE-441E-8E1B-C4041B5D5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93E6-8C08-418A-A4E7-1D31099F6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9E5-ADE0-4189-ABF0-20B578001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BB8A-39DB-41AA-A1EA-258A01968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60D-C763-409A-BD21-74941E9E3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60F-2A6B-43D0-8AAB-2FA490F6D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6F0-E8FB-44FD-B99F-184DEB518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0C7-9620-432C-B7E3-F1C6E72AB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556-2F80-4FC4-8B56-E7C2332CF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B202-9587-4110-BE85-64E15A9C7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D02-08B4-47B2-9849-7DFDC19CE9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52400" y="3048120"/>
            <a:ext cx="76392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1076400" y="1125360"/>
            <a:ext cx="6991200" cy="208620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52232" descr=""/>
          <p:cNvPicPr/>
          <p:nvPr/>
        </p:nvPicPr>
        <p:blipFill>
          <a:blip r:embed="rId2"/>
          <a:stretch/>
        </p:blipFill>
        <p:spPr>
          <a:xfrm>
            <a:off x="338040" y="3489480"/>
            <a:ext cx="8467920" cy="2171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4"/>
          <a:stretch/>
        </p:blipFill>
        <p:spPr>
          <a:xfrm>
            <a:off x="4716360" y="221940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5"/>
          <a:stretch/>
        </p:blipFill>
        <p:spPr>
          <a:xfrm>
            <a:off x="7524720" y="170028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6"/>
          <a:stretch/>
        </p:blipFill>
        <p:spPr>
          <a:xfrm>
            <a:off x="7667640" y="223344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7"/>
          <a:stretch/>
        </p:blipFill>
        <p:spPr>
          <a:xfrm>
            <a:off x="1692360" y="404820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8"/>
          <a:stretch/>
        </p:blipFill>
        <p:spPr>
          <a:xfrm>
            <a:off x="1692360" y="461016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9"/>
          <a:stretch/>
        </p:blipFill>
        <p:spPr>
          <a:xfrm>
            <a:off x="4932360" y="407664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0"/>
          <a:stretch/>
        </p:blipFill>
        <p:spPr>
          <a:xfrm>
            <a:off x="4716360" y="465300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1"/>
          <a:stretch/>
        </p:blipFill>
        <p:spPr>
          <a:xfrm>
            <a:off x="7956720" y="407664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2"/>
          <a:stretch/>
        </p:blipFill>
        <p:spPr>
          <a:xfrm>
            <a:off x="7682040" y="4595760"/>
            <a:ext cx="1008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7040" y="905040"/>
            <a:ext cx="8629920" cy="5047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885080" y="364500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85080" y="42210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885080" y="4797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85080" y="537372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304920" y="985680"/>
            <a:ext cx="8534160" cy="4886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971640" y="411948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900000" y="530064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5176800" y="357336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5248440" y="411948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5248440" y="472428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9"/>
          <a:stretch/>
        </p:blipFill>
        <p:spPr>
          <a:xfrm>
            <a:off x="5176800" y="5300640"/>
            <a:ext cx="381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76801" descr=""/>
          <p:cNvPicPr/>
          <p:nvPr/>
        </p:nvPicPr>
        <p:blipFill>
          <a:blip r:embed="rId1"/>
          <a:stretch/>
        </p:blipFill>
        <p:spPr>
          <a:xfrm>
            <a:off x="809640" y="1604880"/>
            <a:ext cx="7524720" cy="364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167280" cy="479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16728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3167280" cy="479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5292720" y="2781360"/>
            <a:ext cx="316692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5292720" y="3357720"/>
            <a:ext cx="3166920" cy="479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292720" y="3933720"/>
            <a:ext cx="316692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5292720" y="4508640"/>
            <a:ext cx="31669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433440" y="176040"/>
            <a:ext cx="8277120" cy="6505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59236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59236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85680" y="2722680"/>
            <a:ext cx="2592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580000" y="1557360"/>
            <a:ext cx="295272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5580000" y="2133720"/>
            <a:ext cx="2952720" cy="479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5522760" y="2722680"/>
            <a:ext cx="2953080" cy="479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1042920" y="4508640"/>
            <a:ext cx="295272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1042920" y="5084640"/>
            <a:ext cx="295272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985680" y="5673600"/>
            <a:ext cx="295308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5580000" y="450864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2"/>
          <a:stretch/>
        </p:blipFill>
        <p:spPr>
          <a:xfrm>
            <a:off x="5580000" y="508464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3"/>
          <a:stretch/>
        </p:blipFill>
        <p:spPr>
          <a:xfrm>
            <a:off x="5522760" y="56736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4"/>
          <a:stretch/>
        </p:blipFill>
        <p:spPr>
          <a:xfrm>
            <a:off x="5364000" y="6264360"/>
            <a:ext cx="2953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7352" descr=""/>
          <p:cNvPicPr/>
          <p:nvPr/>
        </p:nvPicPr>
        <p:blipFill>
          <a:blip r:embed="rId1"/>
          <a:stretch/>
        </p:blipFill>
        <p:spPr>
          <a:xfrm>
            <a:off x="328680" y="760320"/>
            <a:ext cx="8486640" cy="5981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02400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302436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971640" y="5084640"/>
            <a:ext cx="3024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900000" y="5661000"/>
            <a:ext cx="3024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900000" y="6251400"/>
            <a:ext cx="5472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947880" y="835200"/>
            <a:ext cx="7248240" cy="5762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1547640" y="4365720"/>
            <a:ext cx="3240360" cy="47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1476360" y="49417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1476360" y="54450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1476360" y="6093000"/>
            <a:ext cx="4608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290520" y="1357200"/>
            <a:ext cx="8562960" cy="4143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826920" y="2085840"/>
            <a:ext cx="4321440" cy="479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684360" y="2708280"/>
            <a:ext cx="432108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4321080" cy="479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684360" y="3860640"/>
            <a:ext cx="432108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4321080" cy="479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684360" y="5013360"/>
            <a:ext cx="4321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4276" descr=""/>
          <p:cNvPicPr/>
          <p:nvPr/>
        </p:nvPicPr>
        <p:blipFill>
          <a:blip r:embed="rId1"/>
          <a:stretch/>
        </p:blipFill>
        <p:spPr>
          <a:xfrm>
            <a:off x="538200" y="824040"/>
            <a:ext cx="8067600" cy="52099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667640" y="3083040"/>
            <a:ext cx="649440" cy="479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64944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6516720" y="5186520"/>
            <a:ext cx="649080" cy="479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7812000" y="5229360"/>
            <a:ext cx="64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5:1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