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4C9-C195-469F-B682-DFE47F58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4FF-0262-4562-964E-24A86100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8AE86-909F-46B6-8C7B-BE0904B8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6FE30-9A03-4438-B822-225E20B4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18087-9D58-42A2-9E43-5F0DADCA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88C7C-2867-4592-85F5-C9B52C8B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61EB9-9A02-4EE2-82F2-52DD40D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A1DA1-51D9-42AC-BA49-83E0BFF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2D83D-4B6F-443B-BA67-2B66C5D8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4AEBA-F015-4D3B-9209-D1B2FD3B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EE087-149C-416B-AB5C-DF4AE8EA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B0A70-C747-48E4-9DB0-B1C05F6F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BF7-695B-44D6-9F3A-5BFEA342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12073-5C0B-4524-A549-E08F25BA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671F-178D-4097-95DC-3B1BCB5F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6B1FE-F8BD-4E9B-B656-B0E966E8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A49B5-7741-49EB-818D-618999D3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63F47-DAD3-4D51-BD12-7AF8ADCD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7F497-D4EA-4660-905C-5861FD4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6AF8C-0FAB-4591-99CA-5066A5A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946E4-9BD2-4F0A-861F-C85330D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12269-075B-4DD0-8955-BC012FC3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A1DE3-BF43-40DC-B80D-EA211BBE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638-B511-4FA8-9419-CD33EBE1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27B31-5A89-408D-B2FA-98CE0A01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33C32-14CA-4BC8-B461-36BD0B2B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D23DD-6EED-4174-BC70-021B8B7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F129E-4B79-4758-9909-2B6CF01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E1E4A-A6D1-4803-8815-B281D42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FE7A3-BE0F-47B2-84C2-F04796C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CD55C-72FC-4120-ABEF-530F81C2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1A5B3-E8FA-427B-ACD7-4DEE4966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52831-35BA-4137-8DD7-8001A5EB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F6DDD-1296-41D6-9F89-7538950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4314-4BF2-4D1A-BD42-BBC02D7C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A7305-3CF5-4B9E-BC1E-FB9A4CB8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573E1-1358-44D1-AA05-8226592E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EA53B-9162-44DE-87E0-48FFD372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68E32-A0D9-464E-8C84-BF4D71D6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CD0EE-B20F-408F-B9A1-498ADCBF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44A70-7A18-4DC3-A135-52A26588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5DD50-0769-4CE5-9C79-3E504B2A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BB988-F9A8-48C0-A66E-DB78A6B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4E5D0-4FE6-49D8-B63B-C12F40C6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29432-6CE0-45B3-839C-4C7C495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329E-BD9B-4905-92C5-2CC32F17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B00D4-EA78-489D-95FC-DF0E78B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271C1-2224-4255-8DFC-798E7CE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D1E58-A2A3-4025-8968-15BF741A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90CBD-ACEE-4A5A-B8E3-BA2DD663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52313-3153-4F4D-A032-C2B63AE3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AE496-B405-4FD4-B03A-E4E6696A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8924E-0556-4550-974D-985CE446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D88BE-3952-4A2B-B2EA-68E5A157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E06DC-14DE-4B5D-AEEA-2670FEE6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E8540-6340-4DDF-920A-CCD293FE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CFF6-309E-4810-AD38-BDD59D9A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34E14-322D-42D3-87FF-BCD2E6A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7FC5F-6070-4D51-A9D4-0F51FDEB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7014A-DAFF-444A-AC1B-83CA8AB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99FB3-E637-4A1E-9104-C8B36C1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CD282-B416-420B-80F7-9D33C351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85F2C-CF3E-4304-9A93-DDE5E48A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6A789-9114-43AE-9BB4-200915FF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6AE74-A499-4147-BCD3-7AB38155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6A4ED-A458-442C-90FF-33542545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FA8E0-5BC6-4784-BC09-03927D5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421D-75E0-4D9F-91F4-4FB6AC2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227A1-E69E-425C-84D2-AC69E4E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C3CE4-F29D-43D6-B4B4-D030FE1E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DA695-545A-4126-8FE2-014034CD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E494D-3179-4A84-A1BD-17F52E95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43449-941F-4CD1-BE3D-CA89A60C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99DF3-0844-4121-81CB-BFBD894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A87DF-7F94-4230-8676-6F492A6C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1C9B6-4AFC-4EE7-B5D1-65A72D60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A38F2-8DAE-4EE9-B562-A05BB5A7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BA47E-5C85-48B6-91DA-684FB2CF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6FB2-41D1-40B3-BDE1-364ED135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97466-B19C-4EBC-A1A3-3F03F49B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17E79-91CB-439B-8F47-2FA86A6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446BE-43AE-4D5B-8AB3-CB7E9A52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9800A-0201-43B1-872A-27475351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4765B-C6DF-4759-A660-EDBB7D1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C8CCC-42AA-4A59-BB5F-E011A03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05995-5AF8-496F-8848-F228B6A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99716-6C9F-4F78-8954-6446D4D6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6DD05-3E39-4C59-B1F3-A35A1E19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41CC3F-DA3D-4A2E-8BE0-87989653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8A75-B378-4691-AA3C-AB6FEF31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F885A-8FA2-4A4B-8D98-27EC7B64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5DD95-AC00-4A7E-8CC7-A253D8CE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8B4B0-421D-412B-B40A-2A95B990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7FCB7-8150-44F0-B997-3A35D364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D22A3-FB12-4944-ADA0-FA332904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18D87-FD80-475F-9B78-DE7EDBB2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600B0-7886-4075-ABA9-E6D2E68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EA875-168B-476B-AFFF-36F4172B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7B285-D0F5-4F1C-B9FB-AA5E717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94FCF-8B2E-465D-8878-56AA7B93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9C9B-F267-437C-B9D4-A0AF5F2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6C429-3EC9-4B5B-8D40-CA44AAAA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F9835-7D63-4DAE-84A7-81D31D4B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8EBB4-24BA-457D-A034-FBFC4953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3F4F3-0D7F-44AA-B433-8D134A7B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4348E-6A57-4E05-A902-ACF8FC0A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47CF7-39D2-466E-848D-C56BACE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BA127-2442-4D9E-8721-41D38DE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B974A-C55B-476F-89D1-44E0DE69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BE2C69-1D06-4748-8AE3-AC6AD1FA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0CF7F-E7BE-41AC-AEEE-2193242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7B2-15DE-4656-987F-B78E360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625F-C71E-4E18-8FFA-F305E55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B7F33-49CA-49C8-91C2-A3591745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C4869-6072-4043-96E6-48248D3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1D88F-F15E-46E4-8197-66D68E85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64C5B-A8A3-4A1A-B0BD-8E84E77D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1567F-0E5C-4185-8BFF-114CB0C7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A5A662-6930-4954-8B07-6EED08EA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A09F5-3F82-4E39-B2EA-68E2C2A2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1AC13-5E7C-4CDB-90C2-6E656433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94BAF-FC02-4E08-B902-3ED5190A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DDBD7-228E-44B2-B391-010AD91C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3A4B-67FA-45A4-A7CE-99440AF1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BEBD0-E8C6-4E7D-A657-EE042566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2BD0C-63CB-4AF4-BED4-A886AEB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71DF6-7246-4F7C-9A0D-C31838DD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E2334-A613-4990-BC8D-155DDC6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7248D-A3AF-4CFA-96BB-E665FF78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5B71B-BFA0-44F0-AC41-393FC651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03850-4EA9-440D-B69B-6B300CE4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26481A-45D4-4197-87AF-BA7601AB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8363C5-5B23-4C74-B0C1-1EFC90C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075033-F6EB-4012-A5A0-97CD5357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7880-84C9-4D0F-9A93-3E9A82EE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83192-8EB5-46D6-AC48-EABD2E05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ADCA77-FD1E-4057-92D5-AB3DE4F6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78AFF-C8E8-4A35-BEA8-33E06A0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818F6-B241-4046-8849-F689FB8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29308-27CD-478D-96F7-8A48EF6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41B3F-36D3-41DE-B7E5-3D8C631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0001B-5C9D-4489-80B8-A4A1F3B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0B6DA-7810-4874-B146-5F51D1A4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EB248-FB0F-4BB0-B0CD-D1278DCC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4EEFA-74EB-44B6-8877-E1EF75EF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AE4D-1B41-4BCF-8AEE-C4E051C2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D24E3-8938-4CE0-9C4A-248688E9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7E3BE-BF74-4C53-8BFF-5FE85F03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F4AF4-DA25-481C-B0C7-A467F5E1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975FD-848A-44B0-8857-3565027B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05C619-FB61-4BD5-9383-56F712A9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2983D-C8F8-4BF3-B610-F90C90BA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E95B8-392A-48BC-81BF-2B5DF5C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139C3-D8E0-4800-B0EB-AD40303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CBE89-B344-4CDD-980B-DC97CD75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87609-97B5-49CD-B5FA-ED930BAC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220A-1460-460C-AFB2-7941B7F6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0E624A-CB7D-45E2-8FA8-A1CA5241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636B1-3DA7-4C83-8A45-AFA6EAAA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A9DE3-6059-4C01-B457-E1B15057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70F31-3901-4A60-9199-4DD19582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C9C53-1D8C-4797-B777-A9C4FEAA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B9FFD-A85F-4EA4-B0B3-5B460386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37F48-58FC-4C50-B06B-0AA47494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70F73-3ED0-4A4C-AD2A-37A9A083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17146B-0F96-4B2D-990E-3D5D3AC3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49898-7597-4BB6-B399-3714AAE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40BC-C081-4109-BE73-C8398633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C078C-5C68-4EAB-AB85-273C8F68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E9841-4286-4D03-9E3E-3066BF08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64523-565A-4B64-8262-060B958B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577B-7E59-4888-B961-EAC10FE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C01B-1147-408E-8214-9417967E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CC45-CEB5-43B9-A7CA-432F70BC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9CD9-A1DB-4477-9F5A-AE616115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3B8-C0CD-44D7-B5D2-F762C132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86A88-9090-4F97-B6A1-EC182F67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B52E-8AC2-46DC-AE7E-CA81D3D6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2879-A98F-45C2-A9FD-23E2FB59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B902-3C8D-46E2-9190-98F75DE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4C28-9035-4BBB-8B4D-796F26D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3D90-91E7-44D4-B553-FC8D83D6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664B-FFE9-4B61-884C-4B5D4476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3228C-4AE5-44A4-B475-C1DF8E3E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CCBC-2182-4A3C-8B3B-638BF210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FE04-55A2-465A-BF48-63B12A8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D9A-772A-4E27-8370-0C43D58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F891-944F-40E5-88AE-6C45A54A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C6C5-AD97-4CD6-B6B5-E9FBABB7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1715-E4F3-4AF9-B72F-70FCA2EB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0261C-2819-461E-B50E-6DDAB3E9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4C98-72AD-485F-A0C0-9C45BE53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017F-CA39-46F0-AE21-B411F51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7D27-BCF3-4791-8785-43ACA396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587A-847E-44EE-BA64-8726A3FC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6CBA7-3534-4834-B84F-EB15858F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8EF3-BC26-4E89-991C-A723217B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C72-C841-4FC0-B23A-4E250E65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D425D-3103-49EB-9FDB-4499D25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464B-1525-4E1B-BC65-737FB8B5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93BD3-E148-4353-BA9F-103723FC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5AF5-792C-4863-BDFA-012D5FB1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C9000-5B0C-4680-AE11-5ED3A831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EC681-E827-4CC9-8D59-7027672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E1595-0528-47CF-A054-EA8547A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A155-EF46-4311-A5C0-0787F87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FFD9-02CB-4C60-BB51-43FC5812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3A45-88B7-4D8B-B8A7-F1CACA4C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8DB-27EA-41B1-94D3-BFEA9C6E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C5708-427D-4B59-885B-06406464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71790-56EF-4799-AD1A-191E4060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9552C-F586-4317-8C54-F97477FA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27155-173B-409C-B030-B32C6DAB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7F22-327D-42A8-B374-43D48F3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D40C-DB14-4C4A-981E-97C86232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EAACB-7279-4077-8DBC-8CDCFED2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95FDB-00B6-443A-A8C2-6AB18C9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FE74-75D7-4233-9B23-0B5EE573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63088-C400-4130-978C-CD80D71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9A0-98DE-4330-BEB6-D2BF464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8E1CB-2A4D-4B86-ABF5-B4210128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369C4-B499-4EE8-B39A-3A06A00C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CB821-EE2D-4CE2-9F89-F1295E52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B06A-8831-4F4C-BDCB-8B94FE70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B972-46EB-402C-8E6B-7EDF026B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AF97-3C66-4821-B4C3-64ABD58F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F6F0-80EE-489F-8046-2B34A67D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7394F-0DF6-49F0-A307-C723AEE4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14F8B-DD95-41DD-9AC5-AFF09B7D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47A1-B112-4B3A-A558-0745483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CE7-AB27-4640-B945-E63A35E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D021-F409-4727-9390-5AE354BB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96BB-DC6B-486F-9B99-FD394E5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08A1-4C3E-4D86-85A6-0B28394A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4FB9-2F8F-4662-BC6E-135455BB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711F6-56B1-4090-8703-1CA42D2E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3E178-F540-459C-9ED7-D8D8E615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E845A-7679-4792-90FE-35A885EA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C88E-8EE7-4E8E-8F2F-AD95779A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16AA1-55F4-451D-8111-E865A8B4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846E1-F528-40DB-8DA6-B49141F2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CD0-0E63-4C33-8525-1E6DDE21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9FE93-6FCC-419F-B8E2-1A19EB63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4FF76-149C-4335-8E24-38C8053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D1684-7486-42E2-BEF1-1C33197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A1DF3-5FFF-49DE-BE08-C0CADD7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E7094-F1F2-48DB-B30A-973A99ED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4D56E-AF47-4A71-93F1-55EC9F8B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C8E9-9678-43E3-B46C-2A348F56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EFA88-26A0-47AB-8701-ABFD0DD8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5C9FC-7320-49B5-A4E8-2ADAB147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89C48-7118-4E3D-B0F0-2D58CBF2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9AA1-B78C-4361-9ADB-B844F47B44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D497-B349-4836-B8DA-30C19DA490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869E-BF25-4587-BF96-BB119751FF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EA2E-DF85-4BA8-AD44-B0E8A9FFA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0A45-E1DC-4754-89CD-1CCB2C6D0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B22B-196B-4CD8-84C3-02F14BD2E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BB6C-4281-4C7A-A306-28DABC7D89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8482-5C3D-4086-8B69-D3B239EAC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990C-EB2A-41D9-83E1-A9AD5CDC30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C335-2654-4D4F-A571-6FF2D0217B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C285-8183-48D9-9D3E-332F3FFED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780C-BE34-4FCE-BAB9-D5CBDD1F2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2AF2-697E-4B54-BCDF-19DA46F08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C4C1-14F2-41E6-8C4F-7DD0050B7F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CDBC-E2C8-488E-9831-474DA9C8A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633C-8D92-4D29-8A6C-F2EF750B3B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C215-6F60-429D-98F1-6D6CF81702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A9A0-5620-40F4-A82E-5857A94C59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6CB1-CF1E-4968-8502-A8521BEE42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E20-9166-46A3-8E31-EB11B1D093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A23E-CC25-4418-B5D6-7EE40053A1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E0FE-7605-43DF-9DEC-5EBE9C044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087F-8593-4387-BC17-FAC2054919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6A45-A450-47BD-8C16-E59FFD045D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6795-2F43-4FFA-8B83-534C8891A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2E85-01E8-4417-8D1E-802381237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365D-CEA0-41C5-B8D9-A1667625BC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4F3-F9F3-4CEA-8FE0-9203176190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93FF-59F5-44DE-AB95-1CDD6EF255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408F-5940-47BD-A4A1-9FEB50D072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4AF2-BD19-4B88-8DFD-BE0B4B9DFD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292C-B484-4277-BA6A-F2919329F1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DCC9-DE12-40B4-A447-ED45DD8A44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92AA-F35E-4F1C-AE2C-3669260E1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901B-CD71-4EE0-9662-ED44609237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7C4-BD3E-4728-9E46-A50A314A11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2A95-7381-439A-86AB-5FA0956B2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CB19-A40C-4ECA-8348-EACF0974D9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27DA-2E1B-4C39-856D-48D9DE145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6CF4-F5AF-4EE7-963B-2D22301606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85880" y="2900520"/>
            <a:ext cx="757224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8600" y="861840"/>
            <a:ext cx="8686800" cy="5591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79640" y="5877000"/>
            <a:ext cx="172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561960" y="1019160"/>
            <a:ext cx="8020080" cy="4819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1066680"/>
            <a:ext cx="158436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7236000" y="2421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3924360" y="4508640"/>
            <a:ext cx="2808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2484360" y="515772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85840" y="1009800"/>
            <a:ext cx="8572320" cy="4838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55640" y="324180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84360" y="3933720"/>
            <a:ext cx="518472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18508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971640" y="5257800"/>
            <a:ext cx="5184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95200" y="995400"/>
            <a:ext cx="8553600" cy="48672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042920" y="450864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900000" y="5229360"/>
            <a:ext cx="504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276120" y="833400"/>
            <a:ext cx="8591760" cy="5619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332000" y="3773520"/>
            <a:ext cx="669600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332000" y="4451400"/>
            <a:ext cx="669600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1116000" y="5199120"/>
            <a:ext cx="669600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116000" y="5877000"/>
            <a:ext cx="669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619200" y="1033560"/>
            <a:ext cx="7905600" cy="47908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00000" y="2449440"/>
            <a:ext cx="676764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676728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00000" y="3889440"/>
            <a:ext cx="676764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971640" y="4581360"/>
            <a:ext cx="67672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900000" y="5243400"/>
            <a:ext cx="6767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247680" y="588960"/>
            <a:ext cx="8648640" cy="61531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1042920" y="5673600"/>
            <a:ext cx="49690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1187280" y="6321600"/>
            <a:ext cx="4969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828720" y="1268280"/>
            <a:ext cx="7486560" cy="224820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52232" descr=""/>
          <p:cNvPicPr/>
          <p:nvPr/>
        </p:nvPicPr>
        <p:blipFill>
          <a:blip r:embed="rId2"/>
          <a:stretch/>
        </p:blipFill>
        <p:spPr>
          <a:xfrm>
            <a:off x="181080" y="3297240"/>
            <a:ext cx="8781840" cy="2219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097160" y="1643040"/>
            <a:ext cx="9795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451640" y="1671480"/>
            <a:ext cx="97956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4140360" y="2392200"/>
            <a:ext cx="979200" cy="74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164360" y="2378160"/>
            <a:ext cx="979560" cy="749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2311560" y="3645000"/>
            <a:ext cx="979200" cy="749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205240" y="3630600"/>
            <a:ext cx="979560" cy="749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8221680" y="3645000"/>
            <a:ext cx="799920" cy="749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461960" y="4437000"/>
            <a:ext cx="800280" cy="74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5364000" y="4508640"/>
            <a:ext cx="800280" cy="749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8346960" y="4653000"/>
            <a:ext cx="611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1:0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