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FD08-A5C7-4FF3-AD5B-45ABFCF6E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D906-EB9E-4E1B-9B5F-3892EFBC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46A2A-FB02-443F-A226-FA2A2281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2C61CF-DE6F-44AF-8E47-25FDD21E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66193-61B3-42B9-87A7-DC13E02F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7F655-E2E0-4AB5-B589-C6AEA49D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3E611-335E-425C-A31B-32075CA5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B84389-7B79-4337-8C68-617C4966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4F1BE-D6F9-49CD-80E3-1AFA98B1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1882F-A185-4053-A56A-767CE7663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0E045-5F7E-4950-A67C-1B683EED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02503-63C7-442B-AF56-077D3C8FC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F4E8-9D03-44B3-AE49-D7D50898F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73E94D-B8CB-418F-8086-08E7C556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347C3C-71BA-4A5A-9D79-E8EE0EB4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CB1E1B-7725-4215-B2E0-6B1BF8FE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E65F7-1C92-4044-A809-689DBDEC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815B7-04A8-4AE6-8E34-A88FF687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EA304C-9BCB-4C8D-8B8B-1B8EED41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2B4AB7-187B-4811-BF44-2A56CB2C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21B675-B003-43BD-896A-25C20906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E233E-DC29-4AAD-B647-8D8BD20B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FFA97B-EFF8-4932-91E5-8106C8AA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1F10-380F-4949-A311-AF7D968B6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C344E-94F0-4CCD-900F-AC321E3B7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97C0D-A4D0-41AF-8DD6-C3918A27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6A08F-CF5D-4723-8C73-765416D0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C02D5-3EFD-495E-8DA1-A9E25EB8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1D180-6EC5-4167-9925-F3A9ECE3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D8CF6-CED9-43DB-BE6F-4996248D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61307-8138-4F8B-ACF9-ADF03126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5311E-9543-42EE-A886-4AC374AF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6F087-0977-4522-BE13-79D46968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D72D8-0719-452F-AD15-B7F29F1D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B524-418A-4F79-B5F9-9EE8DCDCA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B35C4-6B51-43F3-A526-A707B954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B6F1C-1967-4026-A5BF-9D44A969A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2F205-384D-4B2E-8389-1817DD874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A26EC1-C66A-4538-A773-28E7C79C7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E9A9EC-A94D-4992-A36E-F32B5F57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596878-9D21-44AA-9A59-DFC33A2B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D4DEDC-9C2F-4DEA-8143-F4CC2A23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C5FAE3-49FE-4E4E-9B9A-9E7D074F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B285C6-6872-406F-B0D3-63B30D88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FB5F6F-A45B-454E-908D-9B332C15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7AEC-E3F2-4ECB-8A05-45787695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E6ADF5-9769-4F74-9F5A-5F5A248E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CA7388-52CF-4816-8518-A3671512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957EBB-F924-4438-B571-431B4C76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482A78-B9E3-4FE2-B7B2-CD8EF527B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B5835D-925B-45F0-83D0-4CF97F626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660C5C-1682-40C7-8044-31398202A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53E362-5F7A-4A70-BD79-C620A2F8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7143AD-0602-40E1-B3D1-B0EFDFDB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154A2A-3D09-440A-9A97-E3851642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80B508-B85B-4C45-867D-EC4159EC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17DE-99A0-4EB0-98B9-634737EB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9B9770-B681-4340-9B06-BC3F812D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E7EC84-F45F-4589-A724-2A3430F2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AD2CF6-0D59-4549-9777-9770E990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BEEFCF-9CE7-428D-9BE5-BF52A9AB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6091BA-06D4-469C-B561-F36B0EAC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004F47-7771-4AB7-B9FF-37BF9C76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1EB13E-257A-4661-8365-CA8664DAE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5F2371-1AE7-4065-A8C2-B8063412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8E741D-1E84-43D1-8B65-0C5BDDF5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D94667-F896-4F9B-9B39-743726B8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4BF1-EC76-45FD-9F9C-55CF9158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B902FE-DDE8-408C-8B97-8CF2835C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10930A-7EE7-4CA0-95F0-910E49C7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871911-386B-41C9-BF60-DB0690F1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B3466F-A9C6-4B54-B858-4D8C7A9E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B0E488-A70A-4496-B6C3-E346F938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1A78D1-A19E-421B-869C-1FFADE06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D7872F-F57B-4561-90A7-F0EAB7EE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5FC86B-D2BF-4D97-A1E2-AB644A72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CA142C-C166-4C2D-8347-09E761723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2CB7BB-71B7-4FAD-B63B-7EB0AD47A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CEEC-9969-471E-B348-A3C574A8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C04047-A2CE-485D-96DC-0F8F6947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B1C669-1A3F-46E5-8B5A-FB2D8CD5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FE8C7A-5DAF-4ED1-B7CE-45F23E0C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F02393-1AF8-4A08-9848-1EA69359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7610A5-4B98-4356-AE92-A1DC4FF0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EB3D99-30DE-457F-B072-BE2AD865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448D48-F443-4DCF-867C-152A8183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7B8FD4-0A32-4DC9-90BC-C322D899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58A912-44FE-4E57-9CE8-D381262B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A220B0-48A9-4576-8CD0-BBFA412A4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D626-090F-4BA3-A778-AD5685D9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3BA645-64BD-4CE8-ACC5-A63315C53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EDA22F-FE8C-4A27-850D-AC3847DFB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68B1E8-D955-4FA2-8194-4DF77B78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86177B-683F-4D0E-93A6-1E10F3B8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90FCC8-79ED-406B-873B-DA375FBA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76FB45-C96C-4A2F-9401-061F83FD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A8E755-F36F-4C24-8B7C-17537BC9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A04724-E4E9-4430-A588-D1E8BF73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2E4EC4-781B-4DB6-B400-9CB83920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E543B4-725C-403D-97A1-0F1F0137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1B2B-5B46-4C09-BED5-6D461E88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3C3651-1E1A-44BD-A498-4459DE04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D876F4-56DD-4089-80A8-4E76C8BDC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A6A4A8-5A55-46DF-8C81-755605D5C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4A1C09-6595-431F-8339-8FC5418FE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2C61DD-7564-4B17-9F98-D8348BAC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CC0CDA-1C92-4D27-9910-C98E15CF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0814E4-D838-4AB0-9B0D-74CC3DC2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FD0177-20B0-40CD-BB15-67D223E9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B40C51-5B41-4ABD-A6CB-B3018C5D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76594F-6442-4B6C-A63B-5C0C8905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1BD5-EDAC-4688-B0CC-B56EB079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B55F-7D7C-4944-992E-C88E8111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FC60B1-3DE5-4FB5-B830-F30A1FF3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D6E377-ECCB-4D30-B0C4-F139A685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037117-F4D3-46AD-8BB7-BF52E19E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7B345A-E17F-436C-998C-8B0C639A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CFF0E7-29DB-4FF3-B86E-61EE2DA15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378B47-79B7-4C23-8449-CEA66A19A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6A8325-36B2-4443-A51A-2EDBFBC0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46244E-6F37-4E29-B6C7-C9F383AF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B577A6-6876-4DBB-A473-359DAB73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BC4B52-34F3-43E1-B9F2-4A12106E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02B5-F2E0-40E6-9E35-87B5CAF2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CCE867-97F4-4828-B460-1334CC31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9ECE6F-32BF-4EFC-AA42-0BC172F0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CBEA7F-D74D-4E00-A53C-1DDFFD72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70CE51-BB02-4531-ACA9-0E93F1C4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24B32D-0226-451E-B550-3969B6D4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C653B3-0256-490A-933C-2E567E5F1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045412-AEF0-4E97-9C08-CC3AE0E56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C1134F-5E4F-498C-83B0-4F9D853DB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F5F793-3B27-4397-8931-1D37F396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A288E9-A331-4BCB-A5A1-19DBC58A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FFB0-FD28-4B78-8B92-6E910D02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C7319D-C3D4-4004-897C-C332AA5D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9BF7B8-9071-47F6-91BE-6BE2F0A3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7EA814-BD8A-43A1-92C7-38E584C7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E5C35A-A27B-4F2F-AA01-9E080F2F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2A2473-7A0B-43D8-8072-BB994DE5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0831D5-AE89-47BB-AFA4-CD7078A6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D6379E-A58B-467D-B381-01CE4E2B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3508DB-71FD-4898-9898-2FFB1677E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DC9029-734E-4BAE-962A-C5AAD1ED0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3596BB-82AA-41F4-A06C-DD0F7BFD0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79FF-E79F-4211-88AA-27071A013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8107DD-4FC9-4EF7-BA04-CB0CFCAA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465ED5-6BA6-48E5-856A-68B5D591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9292AE-0E3C-4A99-A4E8-2920D466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2B9AB1-F70D-475B-831D-3B3FA64F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036D05-51D5-4636-ACE1-52D1CA00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E38582-3D3D-4540-9AC9-E0935836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2946A4-FF9E-415D-9F3E-F7BD3619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E97346-2691-4794-B173-A1922FBE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EA2863-A7A4-40ED-B9A9-64A4C986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1A50A7-27D5-454E-A4D2-B92F30288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F5FC-D37F-4709-9367-BF683EE83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269206-E05B-4F54-80CF-B3DC1C76F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B2A93F-993D-422F-AF21-CC14FD2A4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1E8678-2BB5-45F5-B0C7-A9C19039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206F1B-D554-4431-96E2-29BA6B4C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AC6A9E-255B-46E4-84D6-699F6B26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AFB7CA-8315-480B-A9F5-968CA8B3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075A71-4107-41F3-98B2-D01891E0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772A68-84A4-469A-BE39-1ADD2C40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1E3412-F937-4F4B-AB95-0F76DB4D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79A844-9B8B-4225-BB28-DB81B5C5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6BF48-B3F4-4AD3-80CD-6A2BC186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EBD04D-DE5D-4FB4-BA2F-68F58979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C48BFB-AD2D-489F-902A-BA382BF0C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AB3B2A-A98F-4D9A-B68B-40AE45B7D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2D7F8-D9F3-432B-97B8-84104147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AC318-16D5-447E-AEAC-7D150374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380E5-2C93-451E-A7E5-24B6CE77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8F068-1902-4BA6-89A1-FF6F47AB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9C72-1209-4B60-A42A-4D7B4CC0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10BAA-7263-471A-B2BA-236899F3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130D5-1B83-43BA-B232-10EB9830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47B6D-5601-40E7-9BB5-2CF13093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6C218-34E9-4F53-8314-5B87A6AE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176F2-C846-43D3-93EF-80C5FD4A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C375E-67E6-4738-836F-A7A2BEEA3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C2C5E-8E71-4521-95FD-09B1A99BB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3BA20-0FCC-4FC7-802B-417C9E146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B923A-AA0C-460C-826B-272A13F1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67F11-6858-460C-ABF0-6C573643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186F-BCA4-47B6-9F18-5E7AEA87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BE29A-197C-4E56-8655-F55A756D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8F376-5081-4854-94F2-78C3C069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E6A83-2430-48A1-AF1C-3DD74CB4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A5F9F-3E25-45D7-9737-D23FD955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A0373-F132-4AC7-BE43-0CF3FF7C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7B1AD-9830-4778-9F17-D880EFE7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FC5C8-958C-4E92-9979-ADE51A1F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8F9D4-898F-40CE-B785-AA9E26261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F7A9F-9FF6-4143-BBAF-834955DFF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9A695-F3EB-4C1C-A210-EB61EE11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ECBE-93AE-409C-A432-398E4CE4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6D962-623B-427B-9F05-58738D76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9B477-E1DF-4C44-A81C-9F4ACCE4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8E8CF-D13B-4963-B517-B88AA451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71EA7-6CC6-4D8E-BC5D-78CC7C0E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9FB7D-DB5D-4E03-84EE-EFED7ECF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655A7-41D0-4D8A-8F6C-D81F50B8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18C0A-672C-4189-A468-914990BA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CE9FB-DDE8-47EA-8C49-F51DC3DE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35DA3-8F69-454F-BF47-F94134FC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3246A-F0B6-4AB7-B45A-C6CCE1A1D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3552-3F1A-4E14-B77F-3824360D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B263B-4EED-4096-806B-826B75B8B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A7791-659A-4D3C-8895-F3A40FD82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61ACC-24CB-4433-AE38-36F7DF2E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C1357-E0EC-44DA-9FDC-8168CC57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D60A6-3E3A-4ED3-87ED-172CDF21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4E2BA-B066-4116-AE16-724A7299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85D27-5F9E-47E9-ADA5-E41B3BCE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B21CE-C8D3-45F3-91F5-CE979655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6DFBD-FAE3-488A-8F8E-337D7352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4A831-1CFE-4337-B6E6-DEB160E3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3213-3287-40B5-95EE-59047930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330E5-7C9E-422E-86FA-1D9F84EB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CBAA1-5F44-4580-9388-DBAF7449E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52EC9-AEEF-47D1-9DAE-E25AE95BF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A6706-37CF-4BAA-8D8B-2C7C7CFAF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6A656-A634-4714-901C-35CA6C67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0B036-74BE-466E-AE4A-A8554C99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95533-3F05-40FA-9642-D0393F8B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2CD4C-B9AA-4B17-B73F-544D849C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C681F-34ED-4926-8DC1-7764AEB9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C206C-3AC0-496C-B4FA-6EE0F600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DCD3-E106-4A32-BEB8-5E0608CA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3E3A2-A13E-41D4-B97F-58767340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8EDE9-9900-4146-89BB-257D3E7A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1B2CF-B023-43F8-905B-4C4A5F4D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47B45-6F4B-499D-85CF-C4F39B1B3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7F54A-84F9-42DD-9FF9-B15B64597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38A2C-8401-4EDE-9B9A-A59A35B05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662B5-5BA9-4974-AA85-A9ECAA28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F5203-E053-4BB2-AE88-46540F2A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5733C-65F9-4D26-97D1-9FDFBFBD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889A8-728B-4EFA-B6F1-F6370936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DF4A-E1AF-4EAD-BC25-D0D87A7C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EE8AA-1F38-4C08-8F9C-426C2314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B0247-5A59-4187-85EF-8F12952E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48343-4F88-472B-9051-A0063F99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0D2D6-5939-463B-A358-2D1C4DA2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C4C87-8F7A-42AE-98FD-F92D54CB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92987-FE4C-4F19-9E2C-423F17067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E124F-6CC3-4A68-8998-393F2DC2F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64F7D-1243-48E5-B2D7-1CCA3572A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DCAD5-0611-44B5-B651-7A8592F9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1F9029-6FF6-465E-8E26-376F0133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9833-5D45-49E4-976E-5E402F2BAC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6433-CF3C-4198-A9D6-ADCA926090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7974-5A03-415E-BFD4-E123D076E6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4030-A5B3-42C7-A76F-884617C1A0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E4FC-D0A1-4559-90B1-5476D63E88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C838-CA83-4E95-BBA7-83BCD398A8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4AFA-7B72-4412-91A5-6C3F303E8A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1B5A-1A16-4B76-B652-AF3B02F3C2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7C70-B46A-409F-BE58-5B43A8FD6E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6E20-903F-4D1C-86DB-91ED16F5A7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7F13-ADC2-4521-892B-E9A7303A4D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58A5-5FF4-41CC-B1E3-62482BAFB9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9773-B704-4796-89CE-C1977578ED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CF9D-3C0A-444E-9C70-E83C076CAD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3278-CC4C-4C94-9D7B-D48C2EEB4E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F15F-0BC2-4E95-9C2B-87F5410731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A30E-FACA-48DA-A398-AB19126E00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B784-EA46-4368-A8AA-B07F935314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0C3E-5065-48B7-8046-BBEFBBE579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7A34-42BE-4156-8A1F-65E030825C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CED4-D73A-4DA0-AE4E-12C292D40C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E847-34CE-4C4F-8EA9-4E18DB35C9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DF7D-AD17-4AD3-A907-5C48524A86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44EA-5CC1-4874-83DF-01200CCF1D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6D04-D816-4F6F-9526-0A12BB048B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FB66-B360-4F4C-8D00-ECC246F3BC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308C-248E-4547-9470-93918BAA4A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52F0-57C3-4BDA-9E9E-9C698F5342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4915-0EF5-4C86-8DF5-64EB0D63F3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206D-5A87-4B47-9C9F-358B7D3E39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DF22-7E84-47BC-ACDE-03740411EE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C866-B715-453D-B547-6AD73C93F9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684D-6B5C-4CA0-A2C5-BB13971867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1D2B-D731-4A36-9794-A55C8D74A0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AC6A-E0F2-4109-8732-90E6CF62D9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7C46-D9EF-4DF7-823D-2058E4B541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7A98-C273-4B24-BC97-1FC628AEE4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0ADF-631E-4D39-8DBB-51A388DDEA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FA1F-3369-4DD4-9706-9085D795A0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A3B6-E04D-4525-ADFC-F9B47A1E36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662120" y="2604960"/>
            <a:ext cx="581976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69633" descr=""/>
          <p:cNvPicPr/>
          <p:nvPr/>
        </p:nvPicPr>
        <p:blipFill>
          <a:blip r:embed="rId1"/>
          <a:stretch/>
        </p:blipFill>
        <p:spPr>
          <a:xfrm>
            <a:off x="633240" y="1181160"/>
            <a:ext cx="7877520" cy="44956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2"/>
          <a:stretch/>
        </p:blipFill>
        <p:spPr>
          <a:xfrm>
            <a:off x="755640" y="1211400"/>
            <a:ext cx="7201080" cy="4474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3"/>
          <a:stretch/>
        </p:blipFill>
        <p:spPr>
          <a:xfrm>
            <a:off x="468360" y="1859040"/>
            <a:ext cx="4464000" cy="44748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4"/>
          <a:stretch/>
        </p:blipFill>
        <p:spPr>
          <a:xfrm>
            <a:off x="539640" y="2549520"/>
            <a:ext cx="4896000" cy="4478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5"/>
          <a:stretch/>
        </p:blipFill>
        <p:spPr>
          <a:xfrm>
            <a:off x="684360" y="3213000"/>
            <a:ext cx="7200720" cy="4478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6"/>
          <a:stretch/>
        </p:blipFill>
        <p:spPr>
          <a:xfrm>
            <a:off x="539640" y="3860640"/>
            <a:ext cx="4464000" cy="44784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7"/>
          <a:stretch/>
        </p:blipFill>
        <p:spPr>
          <a:xfrm>
            <a:off x="539640" y="4508640"/>
            <a:ext cx="79930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09600" y="880920"/>
            <a:ext cx="8524800" cy="50961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908000" y="2205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4140360" y="191628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6443640" y="1916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7667640" y="1916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1908000" y="2781360"/>
            <a:ext cx="100836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4284720" y="2752560"/>
            <a:ext cx="1079280" cy="4478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3564000" y="3645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6948360" y="3573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2050920" y="5459400"/>
            <a:ext cx="792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9410" descr=""/>
          <p:cNvPicPr/>
          <p:nvPr/>
        </p:nvPicPr>
        <p:blipFill>
          <a:blip r:embed="rId1"/>
          <a:stretch/>
        </p:blipFill>
        <p:spPr>
          <a:xfrm>
            <a:off x="285840" y="990720"/>
            <a:ext cx="8572320" cy="55339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3203640" y="1052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6516720" y="1052640"/>
            <a:ext cx="1079640" cy="4474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7769160" y="3025800"/>
            <a:ext cx="576360" cy="4474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5"/>
          <a:stretch/>
        </p:blipFill>
        <p:spPr>
          <a:xfrm>
            <a:off x="7885080" y="4221000"/>
            <a:ext cx="576360" cy="4478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6"/>
          <a:stretch/>
        </p:blipFill>
        <p:spPr>
          <a:xfrm>
            <a:off x="7812000" y="6078600"/>
            <a:ext cx="576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8373" descr=""/>
          <p:cNvPicPr/>
          <p:nvPr/>
        </p:nvPicPr>
        <p:blipFill>
          <a:blip r:embed="rId1"/>
          <a:stretch/>
        </p:blipFill>
        <p:spPr>
          <a:xfrm>
            <a:off x="628560" y="2238480"/>
            <a:ext cx="7886880" cy="23810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7596360" y="292428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7653240" y="410544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7352" descr=""/>
          <p:cNvPicPr/>
          <p:nvPr/>
        </p:nvPicPr>
        <p:blipFill>
          <a:blip r:embed="rId1"/>
          <a:stretch/>
        </p:blipFill>
        <p:spPr>
          <a:xfrm>
            <a:off x="314280" y="1285920"/>
            <a:ext cx="8515440" cy="42861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900000" y="3284640"/>
            <a:ext cx="5400720" cy="4474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900000" y="3860640"/>
            <a:ext cx="5400720" cy="447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900000" y="4508640"/>
            <a:ext cx="5400720" cy="4474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971640" y="5084640"/>
            <a:ext cx="6192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6324" descr=""/>
          <p:cNvPicPr/>
          <p:nvPr/>
        </p:nvPicPr>
        <p:blipFill>
          <a:blip r:embed="rId1"/>
          <a:stretch/>
        </p:blipFill>
        <p:spPr>
          <a:xfrm>
            <a:off x="333360" y="1243080"/>
            <a:ext cx="8477280" cy="4371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900000" y="3284640"/>
            <a:ext cx="4680000" cy="4474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826920" y="3860640"/>
            <a:ext cx="4680000" cy="4478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4"/>
          <a:stretch/>
        </p:blipFill>
        <p:spPr>
          <a:xfrm>
            <a:off x="826920" y="4465800"/>
            <a:ext cx="4680000" cy="4474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5"/>
          <a:stretch/>
        </p:blipFill>
        <p:spPr>
          <a:xfrm>
            <a:off x="900000" y="5084640"/>
            <a:ext cx="5327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5300" descr=""/>
          <p:cNvPicPr/>
          <p:nvPr/>
        </p:nvPicPr>
        <p:blipFill>
          <a:blip r:embed="rId1"/>
          <a:stretch/>
        </p:blipFill>
        <p:spPr>
          <a:xfrm>
            <a:off x="299880" y="752400"/>
            <a:ext cx="8544240" cy="53532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1042920" y="3645000"/>
            <a:ext cx="4969080" cy="4474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900000" y="4292640"/>
            <a:ext cx="4969080" cy="4474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971640" y="4941720"/>
            <a:ext cx="4968720" cy="4478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5"/>
          <a:stretch/>
        </p:blipFill>
        <p:spPr>
          <a:xfrm>
            <a:off x="971640" y="5603760"/>
            <a:ext cx="4968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4276" descr=""/>
          <p:cNvPicPr/>
          <p:nvPr/>
        </p:nvPicPr>
        <p:blipFill>
          <a:blip r:embed="rId1"/>
          <a:stretch/>
        </p:blipFill>
        <p:spPr>
          <a:xfrm>
            <a:off x="285840" y="128520"/>
            <a:ext cx="8389800" cy="65437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1116000" y="4292640"/>
            <a:ext cx="7128000" cy="4474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971640" y="4941720"/>
            <a:ext cx="7127640" cy="4478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826920" y="5589720"/>
            <a:ext cx="7128000" cy="44748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826920" y="6237360"/>
            <a:ext cx="7128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52231" descr=""/>
          <p:cNvPicPr/>
          <p:nvPr/>
        </p:nvPicPr>
        <p:blipFill>
          <a:blip r:embed="rId1"/>
          <a:stretch/>
        </p:blipFill>
        <p:spPr>
          <a:xfrm>
            <a:off x="338040" y="2076480"/>
            <a:ext cx="84679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1:45:19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