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A1D-46CC-4E0F-8B42-7635AFE5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1CE-234C-4CE3-8F56-17F5CF96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40593-132E-4089-A451-24B8EFE3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8B180-52E3-4114-9770-D5CA53E9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47F4B-0667-4432-A9B7-916A6359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6A304-348E-42AE-A2FC-9911990E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2B4D5-812B-4319-BB20-5AC4E4FF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3269C-EC6D-434C-B8C4-4E47E49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8E0EE-38D8-4CF7-A02B-6C2671FE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2A614-1761-4E6A-B2D5-F4842557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3B2C3-89E6-4749-B86C-6BE428B0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9F1E6-FE7C-4710-BF15-2D58DFA1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9C3-CFF4-48EE-98E6-55B97907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62DC7-F936-471C-99BC-706E10E2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10287-C6D6-4E28-9219-27068EA4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17116-85B2-4BD3-AA6B-C04F8DDF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BF199-C17C-46C9-8696-6165B3D5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86A67-DF1A-4AF0-89A9-3D9F1BD1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4497B-934D-47C6-B2C4-3199BD10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B5A4A-B66F-493A-81ED-328C7A5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B66CD-74D8-4793-97EF-5965DC0A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C51A9-033F-4A23-B5DE-2326C976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EA22E-1FB5-4967-A65C-81E0BEA3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575-7A6C-4049-9195-C76E327A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4FD81-C561-4166-BAAE-D3FCD592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8448A-AA70-4D1A-AF91-217E6F38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9EA90-BCAB-4B60-9518-AFC52312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4226A-AA03-4A2C-9DB4-B47CD1EF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16734-EAAF-457F-A3C6-EC6139BA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2FBBD-0E26-42BB-93F3-20E0955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515FD-73D1-4C34-93C3-1431820F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EDBE9-B21B-4CC4-ADBA-56758518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99089-09A5-44A0-9B06-40EDD340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69B04-E9AE-4968-B8ED-E6D31B50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DEE8-4BED-4572-925B-1FE9B7D5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34EC8-D1AE-49DC-B8C1-0FDC1F8D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3E0C9-1D83-4CC3-A3DC-88191C6F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1E272-E703-47D3-ADF8-6FAA552E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74209-20F4-4D22-BE0B-6FAB9F72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4FA1F-0EB5-4A7E-BB37-D8D8266C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BFEA1-DB68-4613-9BDF-4FEEB672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C326E-4582-4D25-9CA6-073AC4A9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85C0C-AA14-4166-912F-278BE9EB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1C292-B58A-4B22-A7FA-8B1B4766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F0785-7BE7-4FD5-A166-FF733A12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2F28-B03B-4A0F-83E8-1583ADA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21091-1B8B-41A8-913E-CE5EA690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5637D-4B6C-4142-A8FA-924C32A0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2ED77-F6DC-4F60-A771-900BE8D4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F3ACE-BA7A-4B0A-995E-F9FC77A5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F0354-57EA-41EE-B111-30528BCF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9383D-647F-466D-8C24-42F793A4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D470C-9DC6-49BC-8CEE-AC14780E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BEC3C-5325-4672-94F9-AF5EE9C6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DAB5F-BD92-4982-BAAB-289438A9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D202A-B994-45F8-8334-78DD7ECE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3170-B26D-4873-B991-545BA761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D9FD5-7863-44B8-AEC9-3B8EB21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E2DE2-65DD-414E-B9D3-39300B28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4A8ECD-7951-46A1-AADD-4DEF6D7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3A4DA-2FAF-4DD5-BFC6-53EEF07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AF8DD-84C8-4940-9795-AA2E496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88E9D-DE07-4B68-B40E-0044B04B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E26E7-F776-4D4D-8944-425E0CEE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81A8F-B2BE-4512-B6BB-D434C044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79514-C649-4A04-A04B-BBDAF3B5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02AC5-3839-45C4-B0B7-FA7FED6D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8F6C-9555-4545-9886-8E6CDE27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60F66-E1B4-478E-B83D-47DCC89C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51944-8CC8-4F59-A195-044F9A5D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51C17-456B-4A91-B66D-55233555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F22A9-D423-4C8B-8CDB-E30B9323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7CF19-FFA5-47D2-82C3-080E0E8C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E5FB8-9D5A-49C1-A032-ED4577A7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76FA8-964A-407A-8635-F4CC4C3B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A8884A-5845-40E9-9939-638CF183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71FD3-BF29-41D1-A297-7AA5136D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FA9DF-BB6F-470D-BE89-AC59BD1C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B963-D4B8-4853-9BCD-065D22A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FA5F6A-77C4-4E0D-8B54-4AC18847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6D557-8972-41E9-8102-8DE1B878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09C05A-5129-4D14-9ABB-34FE8DD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74E48-C8EF-4F1E-A426-A14EF05E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CF7F19-726A-476F-B8C3-4CE2BB71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B84E7-DD40-40AC-9295-F038974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E52CE-8492-4B24-954E-FBC915F1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13A00-CF95-4B8A-8891-A3C6E456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77337-9CE7-4D5B-84A9-5EAB138D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30D0F-68A1-4E5D-96BE-E4543662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2E83-A9F2-49A6-A741-C41B8BF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41CC7-C3BB-4FAE-ADF8-609E21DD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04797-A6A0-45CC-B2C7-94909FDE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C1605-6811-4EA7-BF89-DD5E9CC9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7C254-88E5-4959-A777-543FF88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67FB1-B50F-417D-AB7A-C74D53FC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30334-C755-47A8-A66D-CB0B193E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DA64F-7157-4972-98EC-141970A2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17C2A-C2B0-4E09-870A-D3E251E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40687-39C5-489F-A5CA-2366137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69460-890F-4859-AD9A-DFF9E428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CA0A-DB55-47E5-86BE-B29F9F27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5E200-3AED-4815-86D9-31DD42ED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72DFC-4495-409A-BFE1-FFFB9F25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1F039-2217-4D43-8B6C-02FD1206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D41FD-5686-4689-BEBE-9E5DA3F1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2ECC1-CB91-47CD-8014-BB3C779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31190-4D6A-41B7-A1FD-DAE0275F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02A10-8527-42A5-88E9-AA4153C3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08B44-2696-4E05-A273-18DD6E75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2F39F-F154-4AC8-8CE5-366F6D20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9E9FB-7C02-4A08-AF55-455DFE8B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799-516E-4E52-AD16-55161439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0AEB-4886-418E-977F-D052879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8F6024-F595-441F-A27F-AA19A43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00BE8-B090-42F5-9BB3-9F806020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0BF9A-264F-44A5-9628-3FB47D19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691D43-49BE-45C4-9341-ADA3814B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76ED6-3F1A-4C36-AD31-161F2C0E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3D890-C5F9-43AD-B1B6-78E9DA9C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C56DCB-6BAD-4E48-9016-0EEBD10D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2073F-EBB4-4B48-879F-5F986CA8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AE8142-FCF2-49CB-9B94-3841990A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6187CA-386B-441F-AEBE-50D7E697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85FA-818A-4B67-865E-079AAC4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41DB3A-6398-44BE-B017-C3B4BBA7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A3C2A6-C88D-4667-91B7-4CDE650E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2C0A7-D7D8-438D-A82D-07AC42F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FF31FB-E137-4141-80FC-29AFD496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830CE-CA54-4A22-B9DA-5CE78BE9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71A53-7AE2-46A2-A668-E5925CFE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2EB45-47B9-49BC-A2CC-4088C344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D86E7-C6F8-4603-B20D-37630CC8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5907B-B861-42F4-AF07-743D0622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2D13AA-F516-403D-97C7-F78682E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B37C-B17C-4B05-A7B1-00734291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D00AF-BEFF-4F9B-8E41-42793754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28C97-E88D-4AB1-99CF-45C27DDE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7547F-473C-4F55-B382-2997A49C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ED66A1-1AB5-4AE1-A5E3-31AED40F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A0054B-DDBC-4DF3-BFFF-0D61A147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B5ED46-0692-4A96-B9DC-9177B8C7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DD2263-44CF-4751-9F49-2AAFE50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4D1D4E-6769-49DF-ADA4-46E01319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6A09EF-CAA2-4FCF-A6F6-908BE612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C1705-A60B-4741-8717-4AAA5525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D804-208F-427C-965B-19DCA55C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522E0-4F84-4828-96A0-403FF1AB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B8203-25EF-44DF-BCE4-429AC532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012A49-AB6F-42F1-A5F6-C04DB84F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9D1E4-1C49-4BA1-A683-0F51E2E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C659E1-D3CA-4055-9B39-B6727AF4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F4626D-8084-4D4B-BECC-00DDACA1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308BE3-834B-4478-A817-FA8F4A3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9447C-BA99-4D35-9C4B-F2D98DB2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18FCB7-8267-41CB-A15D-2812ED43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0A392-C7C9-4119-9743-2D255060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81A3-601F-45E4-8D45-07304EDC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ACFD05-D728-405E-9C41-13BA9B06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86A1F1-7CE3-48FF-A712-5CD452A3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C9DCD-9D29-4A8D-976D-58786B9F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54A34-2146-436D-A635-3988B3F3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DF400-3E64-420C-8FF0-346A982E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6F254-EE3B-4478-AD9C-BB3F3EBD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AD313-53AF-40BD-9699-B507565B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B0F469-2019-4B41-B1FB-5F9E461B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FD88C5-B1A9-4CF3-82C7-08649E21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198190-C2DA-430A-808A-3BC7C76A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2B2B-18EE-460E-8473-3643E467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4EA78-D987-469E-9462-9C1D33DE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3F8727-E3BA-4CD1-B348-EB8CBDF7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4F7F75-90FD-4B35-A58A-C7B34968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F798-468A-4E34-8017-A651637F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1351D-8EEC-428E-AF37-18379C2D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C0DA-E8F6-4112-B9F6-A9431798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1FBC-96AE-4508-9A16-651DF613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A48-6C90-41FA-94B2-33889C84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88CD7-CBCC-4CA1-82A6-2B5394A5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7FD52-AA9E-48BB-B693-C60C5A15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329C-49AE-4639-ADD1-3B10237E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0B1B-FB5A-494E-B3CF-9D8311F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0BFD-6A9D-4488-992D-FBED0A12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00D8-F86B-4663-8F0E-6BE0719B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1ADA0-BE2E-42F4-AA3D-161C5CED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89E81-8F85-4377-991D-4EF424C8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B0E85-B6A5-4A2A-88DB-B5BB7548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C061-EFAC-4DB9-A8C4-E36062F7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90F-F080-4991-BBFB-17E813D0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6072-B560-418B-A694-D2BFE527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52F80-102A-44EC-ABA2-6667F160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545ED-CC8C-47D7-AD07-15E7BE0C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0040-65EB-4948-AD61-2FF67D4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EC77-D5D5-4C09-BCA1-5440D707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DFD9-CC8E-41BF-9801-05C74364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AF991-E514-48D0-BDF6-218F2EA9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B7346-1870-40EB-84DF-9FF8ED78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0F68-6FD4-4231-AEE1-077AC1A1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94425-972F-4DD5-AEBF-A896D6A2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4197-827E-4A27-8FB1-D72474BB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0DE4-E354-4B20-B51C-E77C38BA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8C327-864E-4E9A-AD7C-72FA4406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61A34-DA6F-4275-B582-54C671CC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AA61-989C-4021-B61F-4715189A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FEF2-E407-4F08-BD54-5AE135F3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2D157-57CA-442F-8A7C-590A49F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66C73-5F5F-4BA8-B88D-C8CECF9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9B0D-390F-493E-A05B-73697DA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357B6-CC7C-496F-8539-F7EF6A68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EA79-FD55-43A1-B036-4746ABC0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A55-E690-45D9-A3FD-B615EA10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90442-FBD1-40B3-BCAF-3AAE8285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8BF63-319A-447C-A71B-FDE4962D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C442A-B86B-4E09-B40C-F1553794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3B0C2-C29C-470D-97BE-1E818682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44FE-C2F6-4D63-9EDD-8BAC48DF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AEEFA-0122-4A09-99AC-367B2F7A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B90E8-606F-4915-9899-A949FF2D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03F3-894E-4989-B49D-18BECC55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6EACF-3904-4D59-9338-B37D2DAF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0D98B-ED44-46E2-8186-7709B774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A60-81B4-4495-950F-B8BE2A8D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56150-E8C7-4390-83AC-BBBDA7DD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14FBE-3150-4BFC-9B3A-5FB4364A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DA455-5C3C-4F48-B1BE-0A20C00B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9898-D708-459F-BA28-4464BF41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E6E30-EE9C-462F-8C21-511D5A0D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EC4BE-E689-4903-81F3-282E309AA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D7A39-D451-4B17-992B-5B1CE56C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03847-AEFA-4DD7-86CA-02718E1A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E1F3-D20A-4854-831B-FD8726B9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C1D92-46A6-4D2E-AA02-C104DE72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A2D-C126-4660-96C2-27D24E5E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CA995-94E8-4CE1-B9C0-BD468462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96EE-E298-4905-B9C6-B6309994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440A-16FC-435B-9025-81D5AD2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029E3-57DE-43E8-B58D-1BC15BC4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FBB58-E1C9-4C9C-9DE1-F178595D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0BDE8-4659-4564-B2CD-084CF6CE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02291-9A40-429B-AF90-11DF34D5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7C575-B9E1-4462-8A00-CAE2E299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85975-598D-42D3-B8A3-5F3F3A2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82E13-F25E-45F2-BFDA-B664389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204-F7E6-4959-8780-0E67E999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6B958-BA33-49A8-A6F0-D764D501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3C0F2-FB25-4BA4-9055-163F8AA6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DA7D2-AF39-43A3-99E7-5737018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5D9FF-1E09-4960-980F-898B1100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09BC-0D55-4E9C-ADFD-EED0C4BD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B435A-B69B-448E-A95F-EE84D02F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CF5AF-CB93-41E6-ACDE-7CA75AC5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E7752-BDFC-4336-B7A5-4A1E8B6C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75A8C-81DC-4F8D-A20B-7B6656E1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0FF67-ACC4-42BC-923A-AE31CA0D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362F-7478-49C1-8216-D23A270D2F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9FC5-7B53-4C9C-B22A-04DF3EF06A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669B-50AB-44A6-81A5-D623EFF9A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5682-33A1-4858-A778-1D006C1D0C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9D58-DCDB-4A5F-8B11-F784646BC7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6796-4342-405F-BB9D-EEA6480E17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1EA8-8468-4899-9681-772777D8AB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D1F6-1B37-4771-8416-A24905994F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AE68-92C3-4468-9A82-5972CEE44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047B-3496-44F7-B45A-56378E47B5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CF4A-CAD9-4B68-A34C-8F33954F26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3FF5-A93D-4D7D-952B-6D0BF148E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0403-15C3-4A25-B8EA-30A22AF8D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6E16-D3BD-4029-BEDE-F675F9A6A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CD49-6DE1-44D9-B7FB-4B474AD94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2DBA-5402-4945-BBBC-1CB36AEF9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D9CA-E254-4B51-ADE9-7C13D4945B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E636-D744-4BA4-A4AB-50771332CD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2403-C35F-4FBD-814B-6D578A0ECB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1A3B-3F1C-4771-BC74-DA8F499CB1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ED75-5C23-4074-9C66-C77273A148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96D9-ED70-4BF6-BF90-30AF28C948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14E2-2246-4BF0-B95D-49DF73A196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777C-25F8-4803-B327-ED9146EB3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0222-CFB1-4B1C-8DBB-5AEF03524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25A1-6804-42EE-8E94-AF50924C51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0427-0782-4329-94B1-50579F1BD3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1567-79F3-42B2-9E35-96AE3F78C8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295A-DF77-4263-95F2-78A320E48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BE42-D19E-4603-A2FB-994697F6C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1E8E-B662-4D0C-988C-D5C7F09389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0A61-6598-460A-B0BA-84B16B6658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4676-115B-42E6-B4E8-7B544A2764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9205-07F6-4E81-A694-70726BA664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BC30-1BF7-4CF1-A93F-8A106F648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0D8D-D7CE-482F-9E4C-891C77B9C6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D6F8-7F09-420D-A4F9-BC004F59F0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5A93-BB79-40D7-9678-EC851C50E4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62DA-A66A-41E1-9356-F6476BF4DF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FB9B-1B92-4644-951A-FD64631F0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600" y="2986200"/>
            <a:ext cx="86868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871560"/>
            <a:ext cx="8524800" cy="51148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788000" y="55306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59410" descr=""/>
          <p:cNvPicPr/>
          <p:nvPr/>
        </p:nvPicPr>
        <p:blipFill>
          <a:blip r:embed="rId1"/>
          <a:stretch/>
        </p:blipFill>
        <p:spPr>
          <a:xfrm>
            <a:off x="690480" y="1009800"/>
            <a:ext cx="7763040" cy="5514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2"/>
          <a:stretch/>
        </p:blipFill>
        <p:spPr>
          <a:xfrm>
            <a:off x="1835280" y="1773360"/>
            <a:ext cx="3744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3"/>
          <a:stretch/>
        </p:blipFill>
        <p:spPr>
          <a:xfrm>
            <a:off x="7135920" y="2508120"/>
            <a:ext cx="151128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20890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5"/>
          <a:stretch/>
        </p:blipFill>
        <p:spPr>
          <a:xfrm>
            <a:off x="3132000" y="4638600"/>
            <a:ext cx="338472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6"/>
          <a:stretch/>
        </p:blipFill>
        <p:spPr>
          <a:xfrm>
            <a:off x="6934320" y="5373720"/>
            <a:ext cx="1511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7"/>
          <a:stretch/>
        </p:blipFill>
        <p:spPr>
          <a:xfrm>
            <a:off x="539640" y="6021360"/>
            <a:ext cx="28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352440" y="2009880"/>
            <a:ext cx="8439120" cy="2838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4067280" y="257796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932360" y="30528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5724360" y="34574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6084720" y="3903840"/>
            <a:ext cx="187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7352" descr=""/>
          <p:cNvPicPr/>
          <p:nvPr/>
        </p:nvPicPr>
        <p:blipFill>
          <a:blip r:embed="rId1"/>
          <a:stretch/>
        </p:blipFill>
        <p:spPr>
          <a:xfrm>
            <a:off x="1116000" y="201600"/>
            <a:ext cx="6546960" cy="66121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3981600" y="2133720"/>
            <a:ext cx="16556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266760" y="1147680"/>
            <a:ext cx="8610480" cy="4562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971640" y="278136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424836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971640" y="4365720"/>
            <a:ext cx="42480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5"/>
          <a:stretch/>
        </p:blipFill>
        <p:spPr>
          <a:xfrm>
            <a:off x="900000" y="5070600"/>
            <a:ext cx="50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309600" y="852480"/>
            <a:ext cx="8524800" cy="51530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51134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51130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511344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5"/>
          <a:stretch/>
        </p:blipFill>
        <p:spPr>
          <a:xfrm>
            <a:off x="971640" y="5373720"/>
            <a:ext cx="67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314280" y="871560"/>
            <a:ext cx="8515440" cy="51148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1042920" y="3197160"/>
            <a:ext cx="619308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971640" y="3889440"/>
            <a:ext cx="619272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971640" y="4638600"/>
            <a:ext cx="619272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1014480" y="5300640"/>
            <a:ext cx="6437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314280" y="1228680"/>
            <a:ext cx="8515440" cy="44006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2895480"/>
            <a:ext cx="7488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748836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826920" y="4292640"/>
            <a:ext cx="748836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900000" y="5013360"/>
            <a:ext cx="748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0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