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9CE-2321-4D18-AF89-723FF720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B06-C52A-474E-893D-381DA4C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7E419-B4CF-47A2-8941-D5363D9F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E6359-47F9-41BA-A2C3-AF65C0E2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B033B-0B1E-404B-BBF4-66518139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6713B-21C0-46A8-84B4-AC2BDBF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C29A2-87FF-40D4-B768-B43E22D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0F229-E880-49D5-A651-DA5EF0C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A333A-6CFE-4B75-B319-6C0713C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DF81-D109-48F7-B2DB-E886F125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47755-6BE7-438E-B21A-0A71F1CA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6769D-C791-4023-B7AF-5BB33E0A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8A6-5D7F-4283-BB39-D83D23FC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60382-6DFF-45D3-826E-DDABBCB4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E27AE-2606-4B85-9368-24500DBB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FCCAB-18C0-4F27-97F3-05B815FF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9A828-6AC6-4FC9-89A0-C773D4AE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9B8E1-07DA-4E47-953F-32A6678E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BE9EF-75BC-48E3-8655-BCB8C38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87ECC-07CB-4B2D-8301-8CE061CE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D58D1-D563-4C23-A89C-4C91F71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9BFA5-AE24-4B7B-B675-11834B6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26A33-0D88-496B-BC6B-A497A00C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3D9-1851-4E8A-8677-13AB28A0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E82C8-FBC0-4F30-B08B-346CF033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55AF9-AB72-4529-B026-75813590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086C3-7CFD-4CCA-B4EE-936254A4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5DB4F-A175-4333-963B-1868477C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43658-0D0B-4D53-8982-5E0B9B29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B67E7-640E-4E98-BFF6-FF7E9822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2B85A-0119-4108-A44F-F94A3BF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77A65-A664-4E73-82BB-B2EDD63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06E29-5C6D-4A12-9806-3F8B609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F945C-D5CD-4EE1-82DB-C5728168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76B4-E9F7-4CCC-8403-213A0D32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9E22F-6ED3-40B1-AA7B-3681880E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E4376-37A9-47F9-B67A-501EA29C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BB3A2-B5D0-44A9-9439-B5C3F446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486F5-CA10-4B72-A2AB-5570E79A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595D5-8BCD-4F51-BE57-879EDCA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4DB1-0B31-4AD8-90EB-0DCC465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E4EEF-26B8-45F1-B23F-BD6B17BC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43635-094B-4141-8712-242BB61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A2102-A550-4F65-873D-6BCFD36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0351D-5972-41B2-9CA8-4A816E5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14A3-0E64-4C8C-911B-9EE5F759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92CC2-B70E-46CE-B9EB-CB61C39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97203-280F-498C-9E4F-634E89E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3FC4D-ABD7-4B39-94DC-BBF78FA9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7F645-18CA-4891-B378-DBB19A41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23F89-2A61-420D-9243-50CBE875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ABB66-7949-4E5C-881A-E6A4E27B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92C5D-58D1-42EF-8066-29EE4B7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548E1-61A4-4665-9E18-9C6F684C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7AB8F-28DC-4B7C-8F79-C0F3BD9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42C6E-152D-4F51-BF65-521BCF7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6B6-6FF9-4B1F-8446-DA6B6F8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CDDFE-FC86-456B-B6E6-A6EABF9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3218A-F7FA-435B-B4C8-9F99F9F4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B957E-8F5C-4025-9641-776533E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239B3-A2E2-4175-8DBE-91488543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7424C-EB40-4A2A-A464-0F715E5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380E6-D474-4267-85A2-3FD80367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BF653-52A5-4549-9BEB-34ADB199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4CC96-B64E-454F-BE74-0584413C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D5EC2-99EC-4255-9886-2D5F139D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FE8CC-6566-4162-B6FC-7FDD419A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3D0D-1BC1-4DF4-9B71-9D913DDD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4400B-3094-47B9-BDEF-5CC66074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5BC44-064D-4B6A-B8C3-8F940B3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0C05F-8740-4EF6-B4DB-6D73EE3E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2C951-E4CA-4F8F-A5CE-93C985F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E031B-583E-424B-B2BD-D8D44010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291D4-6C94-4E99-9B3E-CD49AE3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399B0-D148-46D5-AEAA-AF72E6DC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86C20-9F4C-4390-A481-3B2D64A0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20519-2D98-4955-B425-E15C6888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85B6D-344E-4CC3-B273-459214FB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69DE-CBFF-4579-A0BD-A27531DD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DD724-980D-47B7-9F15-A473B6C5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043BB-55EE-4B10-94F3-3E35A430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DC37B-DF1D-4834-82E8-3A10C9B6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E9329-B704-495A-9992-D3492290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1B71B-6884-4EB5-8515-C514BD0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138A9-B795-4F03-94A2-2A46C11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9A5D6-A56C-4ECF-A0DB-C6D5DD5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0139E-778C-45DB-B02F-51D6D1A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1FE7E-265D-4F4C-87FA-AB9A38D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33CD3-0D96-4B78-91FF-F9D429E9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21CF-C55A-4533-B14C-EEB84EFC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E24D3-530C-4487-923C-04F1BE47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9ABBF5-AFB4-4F11-B4D3-36E37FF2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3C563-5790-438B-9ACB-16C6BB06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32DBF-93F8-4571-B7C2-BBF3E85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D408E-B5B1-4A3C-989D-42070D14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0D97E-EC16-4A24-9796-DFE08486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A5EBE-7B6E-46C5-ABCB-2F3AF1A1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48D0C-C13F-45E0-A679-8911012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C1B9C6-42AA-43F8-952F-438D648D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5B33D-109C-42DB-BA40-48F8ECA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C63-1D8E-42E0-8C14-53652EF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D27F2-734E-4E1A-B183-0EC6A7CB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865CA-0439-4790-8AA5-8B64F8C1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BA19B-8C8B-4806-9F8F-0EA9F770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42AEF-C250-420F-AF8E-262361B2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39EEB-B989-4065-A49F-08D2C603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A46BA-5566-4EBC-AE8F-D1C3258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CF8CB-61C5-41E9-8B48-2A63805D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C34482-4740-469B-A57E-7D7391B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C41CB-04BD-45A1-9DED-0261441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A8E6A-FE72-4DB6-9229-C671AD5A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AB9-FC9C-4E4C-B743-3991CDEC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B40C-7840-47BA-8CE8-8733162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992A6-3A36-4F92-A826-0979D68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4A74B-A537-4D49-9E9B-04CD39B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FA0C9-08B8-403D-BA29-194B75D8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4DE1A-7367-4D75-AC00-DFB068DB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AC52B-6524-4799-AFF3-EC165653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ED7CE-8537-42AD-B2F3-348A3FB6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F78AD-9446-4641-AA5A-075AADEB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F7D0E-41CD-4180-9703-55F77B78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C5B56-AD09-4572-BF98-EDFFA25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89D43-B9FE-4B42-BCD7-C750368F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F9F-FF78-4C37-8DE1-E548887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CA13E-5B6A-43AA-B145-4C37075D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7ECB9-0033-4873-9D02-580304F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FF9C0-B76E-4838-BE2F-14D02789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5FD57-173F-43D8-A277-16FF5B0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1E52C-F5CC-43E9-9017-C5D7B0F5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0C88B-26E7-49FB-B767-762B20BE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D4028-2369-4E7A-A5BA-FC4AE842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911C0-8649-43B8-8F71-50EA6FDF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67B9F-91F7-41CC-93B6-8AE0FB32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E1701-FE7A-431C-B95D-62F00D32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A8B0-06AC-478F-9574-A5A07482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95C3A-02F5-4E43-B66E-70E3C76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7DE26-7F95-4870-B281-5D1C4A0E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B818D-656E-45A1-8EDC-E296ABB5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3073C-4F35-4540-8A0B-26A5CFF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6A45A-6103-4CB8-8483-0882D7A8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45C62-BC9D-4271-9B1F-5C78D88C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C536A-7EF1-4272-A00A-8F0F47F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91DC2-3D38-44A6-A7B1-C8B7BCAB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F34F9-3030-4099-87ED-7B4811AF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9EF97-0241-499D-B600-F4DCDB70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6F25-0E76-4F2B-8ECF-7DFDDCCE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C1053-249F-46EC-A74E-8A5DD29E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A39AF-CC72-4C9C-BDAC-D9243788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5FEC3-24AA-49E1-BC08-CC6B941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B9E7D-BC30-446D-94C8-69AC6FFC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DA848-60F2-4912-AFB0-3F8A3C8F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248DC-C653-4F01-96EE-479CBDFB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15D37-0382-4309-89AD-9770D6C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46AC2-FFCA-4D2A-93B9-F955F1F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D68E6-38C5-4AAC-8448-70A871FF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36F2F-E766-4F47-88C4-22BE43E3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B57-D401-4C33-A61D-B9C02E7D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73BE5-63EE-4CE7-8164-63977011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F3D3D-7B4B-4C04-9B1B-5A8EBCE3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7E398B-41FF-489D-8BF9-A5AC4B6F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0078F-D0AD-4A91-B2A2-636FC8CD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1AD7E-AC51-427D-9A07-EAC0986A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DA31A7-B2B7-4652-B4F9-99E67A1A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FFA64-0540-4CB3-913A-5D0169E5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AA115-597D-4AE0-B062-0DEA839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6C31D-DBDA-4DE7-8A0A-0D89CEC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E9E78-54D0-4BEE-8B06-F38D9C1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B2DA-3DEC-4956-B269-F1B5A27E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CFDBF-CD81-49F6-9EE6-3A0ECB9A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477D1-7F73-4D40-9DC3-447E2428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96428-57F7-48FC-B9E7-958BE91D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CBF845-F46E-4C5D-8253-E6F8B6BA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E672B-06F0-40D6-8753-7F0E785A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91E47-63C7-4A50-9912-13769030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E4B73-4B8E-46EE-BED6-FB81BD30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EB228-742E-4188-8EB9-447F5044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6C7DA-D940-4DAF-BF8D-12056047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DF473B-5B48-4BFC-B1AF-E47691A6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5746-3186-4833-84DD-67C2D7EE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9C1CDC-0136-4FEE-A09F-A5389FB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818D99-0A26-443E-8AF8-B1BC8BB9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592AA-E055-468D-BA5C-C3B85164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220BD0-68FA-4B54-94E6-04ACF426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6AC4B5-1CAD-47F7-92C9-2928F406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9C0D1A-5FEF-41B7-A864-27E2DBC1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7A8E5F-F797-46EF-A809-B71CFA2A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344D82-F603-4FF9-916C-C66F6EF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4D011-FE2E-4B5F-A835-E91DF00D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CABCB-B516-401D-9890-CDD6A5F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E9A9-F3DB-41D2-9C5C-2F5251AC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1BD5F-C38B-450B-A1BB-A31E140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A9A389-6F49-4559-B762-243DE08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C99DA-BE6F-4026-92D5-213A24C7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24BFBA-B577-4503-A0D9-738CE024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9C5F4-D291-455F-B9B5-2E786A79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39B7C3-54C6-456E-ADDA-C783C46A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871FC0-5EDF-48B4-B5E0-FDD5610F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430F-D6C5-41BD-8A49-D9BB0A8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009F-5A24-4B03-B3B1-FFD56CD2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EBA-B05D-4B50-B203-5925751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6D83-E678-47D8-B633-1CE8EC7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D733-153E-442C-BF70-41D4A6D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478B-C175-47A5-8A58-0707894D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568D-83CA-406E-8247-EC33681D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06B9-F687-499D-8505-59E29D0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3530-BFDE-458C-B119-B08286DE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91D8-253B-440C-AA9B-518BFBD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4D98-F24A-4733-94BA-23FD7EDD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DC6E-F83A-4A5F-9E5A-DD4D6AC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C350-F2FF-4CFE-A314-3FA06C4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63D-8E4D-4654-B8E8-444444D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9843-7A53-45BA-9F66-E24A0101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EC44-FC4B-431F-A24C-52957FDE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ED0C-EF17-454B-8B6C-8CDBA7AB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DD7C-592B-4F12-B600-44900CB8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2501-3A9A-434B-B02B-C13F352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834D-C22C-473D-B07F-A506BB44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54E2-5E81-4D7A-9463-635ACB0A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1FA7-B41B-48EA-A4CE-F51F4781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ABBB-5939-4077-9D7D-DAAD64FD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024C-19E5-491A-9735-127CBFE1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2C3-D1C4-43C4-BA0A-4D3E2CD7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452E-4DE0-4DD0-B15E-8D12E53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A4E6-BD3C-404E-914F-F0AEB2F4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5A0C4-340C-4A72-8179-FF530C7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B0B50-7A5A-475A-B0EE-FECDBAD7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A2AD-2C26-4BC9-8795-D3203FF8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99430-DCD9-4B66-A949-8AD6B45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BE13E-4E41-45E3-AD6C-1D01C93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74B3-C83B-4723-BC31-D0123FBB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ED35-C290-4113-8444-7D9561AD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B1CC3-EE46-477C-9197-A3CCAC90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E80-68ED-4BA3-A123-E2B0DA4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188B-D8B6-42B3-9222-993D59E1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AA9C2-22EB-4BFE-8290-DB8EE7F4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8C336-3221-4266-B45C-58A9EAE5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73850-7B06-489B-B133-97A508FE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37ED-9922-4E40-842C-19F769FA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3484-82D3-48AA-BD6C-79511CF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1026-F2E2-4ABA-9983-161CCE5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EF0C-C9BF-4170-97FF-0F60BB7A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42F8A-3BF2-4055-A629-8E090837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D1B3C-482E-48DC-A186-FFB21EE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41A-927F-4732-8D0F-55DC08C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9988-9D4C-43C7-A317-AC158023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F55D-6973-46F8-ABB8-1AC75EBC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E23F4-BEFA-4949-AEE3-106BFEE7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7DCCA-F3FD-4FD7-83B1-A3DA730C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B33C8-7340-4A38-8C08-CF6F459E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52D9A-679C-431F-983E-54D1BAA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5BB6-DF7D-4724-BD7A-FFC8D776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0A0F-C55F-4C3A-8DCC-3305976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797B6-3FD1-4158-9AD3-AEDEDA19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000C6-44A9-4417-8680-7D23928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AEC-05CD-4A10-B209-88056F1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513BC-75F3-49DA-9944-C510995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875B-9102-4B3B-8CEE-2CEE82FC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1152-2E46-433C-896D-E8989DC9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0A45-B925-49DE-BAED-FF627E6A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43BBC-C642-41A2-8868-2C020A4C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B90E7-7E19-4B65-9636-81CAD01D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2D24E-BC02-4394-A36E-251A390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A68A1-3698-4230-83E4-B8584E7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2CEE5-63BF-46A3-A472-B388A22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8C45-B86A-4ECE-994F-1261209E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9AA-5CA1-48CE-B134-052C4E2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DEC5D-E97B-4147-A71C-D5551492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992C0-C435-44B6-9E6A-BAFCD49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4184-DB7C-487D-9F4C-BCA7FC82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9717-5ECD-426B-852B-BA2ED4C8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41534-A942-4579-B954-37F307A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FB95-4CFD-4E90-846C-BFA5B44E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CF3C9-C8FA-4DD4-9F9C-A14C9D0D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CA109-7BC4-43BC-97C6-317A9A87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5C737-BC57-4084-9C82-6FD7CCCB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EE1B2-9218-4154-BD99-2013AC4B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22E0-D552-45E8-8D94-2E92E3F1B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3090-7FE4-47B8-A906-A2C6E8CD8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2C2F-9EE7-4801-95F1-42B05659A5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E9F0-1527-4191-8E17-C45FFD3F59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515-3AEF-40FE-AB66-3CD781FD5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B29A-DFD1-412F-80F2-6C766793C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2FA-D415-40C5-B89D-63038409C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BBB-A227-4EF7-888B-56ABA5D18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4C51-3016-40BF-AEB7-C4903CD280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4503-AF7C-4A59-911A-7F047B5E8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BD0-164C-45CE-A1DA-F7DE52A36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AFC5-A4C8-48C0-9148-651C79F099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76C4-F4FA-4CC6-8980-CB450FEB4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9098-B381-422E-A417-CB1E94524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3CDA-1F9A-4A7B-B0F2-C2905C292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23D0-CA30-41ED-9DF6-54F722D1A8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954-E7D2-4D7A-8B3B-753F808DC1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087D-9C6D-4AF5-8C72-FC5ACE76F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A154-41D2-46CF-A389-BFD97B3B0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F998-E4E5-40CC-840A-C772CED10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4170-E8A3-4146-8D3C-950F2953BC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7C11-31DD-48BA-B895-68A4314622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D76-0C73-4C7D-96EC-46B4AAB359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C692-252A-49DD-BBB0-FEC6BC91C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0FA0-4554-484F-A5FD-9F5B1B5FB1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6539-F2DF-4289-B899-E17220F8B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3B01-4616-4131-A49D-42E3F8AFED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37F-EBC7-4024-B017-01E368B91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5D1F-B650-4B22-B23C-DC297B9E5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42D3-EDF9-4124-80D4-36751578A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51A4-6AE8-49BE-A68D-73CBBA9F4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D1B5-A20D-47D7-A537-36B81B37A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19C-E0BB-4BE8-B931-48878E7347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B4CA-8129-4933-BDFB-01677AC856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5589-8391-41B2-A111-91BB9F068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D5B8-0CD4-4758-AEE8-8E90CBA0B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D062-92F7-4DA4-B111-536F4258B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AAAD-0CF8-4CCB-8F78-A26B03F602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EFB5-C500-4AE3-B892-48586E359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6294-2761-4C52-AC1F-77082C3B0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006C-9E95-410C-9428-D25C62626F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A6F0-B90F-4D1A-98D2-BB8B9E3A2F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57120" y="3102120"/>
            <a:ext cx="856152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5760" y="938160"/>
            <a:ext cx="8772480" cy="533412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6" descr=""/>
          <p:cNvPicPr/>
          <p:nvPr/>
        </p:nvPicPr>
        <p:blipFill>
          <a:blip r:embed="rId2"/>
          <a:stretch/>
        </p:blipFill>
        <p:spPr>
          <a:xfrm>
            <a:off x="2957400" y="3813120"/>
            <a:ext cx="4505400" cy="10857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651640" y="573408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1895400" y="2009880"/>
            <a:ext cx="5353200" cy="28382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2771640" y="197316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1979640" y="270828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4"/>
          <a:stretch/>
        </p:blipFill>
        <p:spPr>
          <a:xfrm>
            <a:off x="1979640" y="3386160"/>
            <a:ext cx="33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5"/>
          <a:stretch/>
        </p:blipFill>
        <p:spPr>
          <a:xfrm>
            <a:off x="2050920" y="4105440"/>
            <a:ext cx="4465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177920" y="647640"/>
            <a:ext cx="6788160" cy="6114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3492360" y="508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1547640" y="5734080"/>
            <a:ext cx="410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1619280" y="6265800"/>
            <a:ext cx="410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8198" descr=""/>
          <p:cNvPicPr/>
          <p:nvPr/>
        </p:nvPicPr>
        <p:blipFill>
          <a:blip r:embed="rId6"/>
          <a:stretch/>
        </p:blipFill>
        <p:spPr>
          <a:xfrm>
            <a:off x="1735200" y="2968560"/>
            <a:ext cx="6121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28600" y="809640"/>
            <a:ext cx="8686800" cy="5238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900000" y="5373720"/>
            <a:ext cx="59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00160" y="1171440"/>
            <a:ext cx="8743680" cy="4515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55752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5905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38240" y="771480"/>
            <a:ext cx="8867520" cy="5315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826920" y="452268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755640" y="524340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252360" y="223920"/>
            <a:ext cx="8639280" cy="64101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374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900000" y="537372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900000" y="6093000"/>
            <a:ext cx="468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85760" y="984240"/>
            <a:ext cx="8772480" cy="5505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4862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51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971640" y="558972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1:5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