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7B6-40B0-47E4-A490-FBE9E350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F2B-00E5-43C3-8F59-7AEF6BC6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9F522-B6C7-4764-9C0E-8687575C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EEA5B-27DC-4D36-8DC0-270A6147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F3B70-5EDF-49D6-9E1C-996AFE6A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99A24-72F7-4DA4-92FA-1D65633D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D8A49-FE62-4FFD-9B5F-61C619C0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95402-236B-401C-8B1A-E56F0707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5C70B-5923-430F-8C8E-6E82AD41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3A273-FAAC-48DC-9A13-2A0A4A3B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A4337-E371-4CDA-B5F2-FF5271AE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086C9-822D-44E7-AEC5-E9AFF3C4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E3E-B95F-4913-A09A-5B5483F4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0C121-E243-4BC6-BA25-BDB9B613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E417F-9D6C-47F0-9CD8-B5A1AA73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35F67-8A36-4D81-ACB2-2CE9EBE4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FEF90-BEB4-4B78-BEA1-FB4E0CF7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D3FC6-4795-457D-B76E-3D547BE2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A58AE-76FB-4B14-A615-B0890E3F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EEAF0-AE22-40D8-9D78-C61397D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80A78-D641-4438-B993-3D717591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70F2E-1064-48BC-96C1-C8B14739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FFEE7-362B-4F60-84F7-8570D487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638-01FF-48FC-8B4F-9A8D6C9E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423E5-F3CA-4098-A037-2B3F10E7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9FD87-D0F8-4CA5-A69F-744754A4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5AAF0-5089-4E26-A7F3-5CD014E8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17881-F7F4-41C2-B4AA-2D8BFFCD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6C3C6-6C02-4A7D-9BC1-D3F005FE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DE260-E635-45E8-9F21-19475C6A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B7875-1D8D-454D-BA3B-6690DB8A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84FB9-11BE-4C3A-B405-F66E6DB4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C7D27-816C-43C0-8AFD-DB95F3A0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84977-8AD8-4E5E-B1B9-FFCD9FEE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B762-4151-4648-8864-3C181A58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75A67-6407-4D6C-8E78-B9A4CA20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3D0C8-77D1-4809-946A-C2BCA321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A3075-072E-46EE-9505-8804D7B6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A41B8-90EF-4BD8-9A19-8EA4A3ED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992D5-6275-494F-B907-4BBB172E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6A459-DFB2-484F-8E72-95762107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6E881-E680-4B3D-AEC3-6586F81C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1B0BE-3FD3-4618-A8F8-ED8E3DD8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997F8-6CF3-41A5-A728-2ED81574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726F6-92A5-40DB-B536-1CCE0C73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E599-E192-4898-BE9D-514F5EF3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8EF80-368F-4650-8C2E-7F8F2A2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F639C-3446-43BD-BF5F-E8045E38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7D511-0991-4885-AAF6-7B24E395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8E3FD-2F83-4955-8391-C7315904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D38D6-8139-49F9-A3C5-A532E768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6A9E8-626A-4B21-9F09-6FFCFF5E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4E33A-A383-405C-A8A6-2175485D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8D719-03E3-4CC2-991E-A33F7E32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F64A2-6D41-4D54-B896-F3070CCF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07B4A-963A-426E-A422-7CEE4D77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6257-141C-4263-A42F-7D8EE2FD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0EA04-9E5D-42F5-ACFF-05C09A47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60DD7-9C51-47EE-BA7E-0D813BA2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66045-5AD3-433F-B220-E40CC3BC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E5628-0336-4B0A-9294-88C327B0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D878B-C2EE-4371-A6DD-32AD5746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865B8-5436-442D-A973-0034B735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774C4-47AF-4F4C-BA75-ED9EA346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3B3C0-901A-4F48-9FEB-19070224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A504A-9361-45A7-8DDF-57415123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D0FDD-4F4B-4C4D-81FA-3750617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3624-F7EA-48CF-9B68-5BAA4BC2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309B3-047F-40B3-9FD1-7883E5E4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D4858-9FBF-49E3-A889-E0F985DD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4F52F-13C6-42E2-A6F3-682D9F67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97D2A-9E9A-4B93-BFD7-6E07FD4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A931C-5F35-4725-BB61-95567BE8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07942-08DC-4B15-BC97-120741BB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FDD15-D146-4209-B38A-570EC08A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B15768-B440-43EE-8692-64A97221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44D91-AC1A-4BD0-9DF2-28E0E492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B8115-0872-4643-875B-1C89A1A4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ED24-A715-4F4D-BEAB-99182888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97A32-C41D-4B16-B19F-E1777BCC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F354C-7AF4-4723-A8A7-1E93BEEA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3CE61-B4C2-415C-8FBD-84E3D689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BFC55-7E09-4BDE-82B0-AF5F5078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0D6BC-94C9-4023-BBF0-445C8EE9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6F8F4-E9D6-4AF5-A149-4B6BB0BD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050CD-B9DA-498A-AB38-7BB1B2A5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F3DA8-5604-478A-878E-5BB5951C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5A651-604B-4627-B0AF-F5F2E462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47357-0C66-47E9-82FE-FD673117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8EE8-9046-4281-A73F-C20FE541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AB90D-2B2F-4194-B683-6EFB6578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54EEB-9B88-4892-B44F-0B2035FD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81636-CF62-4299-A6B3-0C021A64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073AE-60EE-43F2-883E-86465C43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EF0ED-9A18-4965-90F9-BD8E31C0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3B417-CB0E-47BC-A04A-BB02B5B4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F151A-CCE9-4B2E-BA9E-A466893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35FA5-AF22-4005-AEE0-17BD3D4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DA564-7E9A-4FBE-B807-39C053E9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ADC59-0BA7-4ECF-BD96-0C748B4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FD88-BCBD-42DB-831D-CDED75E4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68226-D331-4BCC-8324-D94F86B7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6DCFE4-7ADB-4FFB-8575-C59B211D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7271E-2157-46C0-B932-23E24C88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3D71A-2A73-4DA2-9BF0-424BD23C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0F65D-314E-47C7-BAD1-088504E0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DFBD2-7DB8-44F3-812F-272D23EE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565A3-E86D-448A-8798-7F348654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C39B2-E85F-447D-8261-B981956E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6F9DE-E36A-4EEE-AF47-0743CEDF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4ED64-AAFA-4F61-9414-191D96C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F0E-6F3C-4A9E-A933-79305370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FD9C-DA64-4920-94B0-DAB171B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D92B7-141F-4C9D-9419-B6DE1092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0FD47-E047-4C35-A83F-AAC1C731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7847B-A48C-431D-97CD-48DD90D0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FA952-48FE-48D4-9EE7-B98A1281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AAE6E-4933-4A63-8E29-43FA62D7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1C0E9-E804-4A0D-9F8A-0D7B4B1A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84A150-3284-44FE-AD0D-1B70D65D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210327-8FAA-4B4E-B974-B0AE157F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F84D4-8F49-4657-BD9D-3904BFE2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A00AE-3A0E-4DDB-AA71-DE99E314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AE35-0C24-46B5-A71D-59607DE0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45293-CDB2-44D5-B937-FD5CDCC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0078B-0194-43E4-9D1C-EDC7B465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5951F-02AC-42BF-BD4F-08494DC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9543D3-299D-4035-9B82-A8405A8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BEBF5-C313-493C-B4BF-451F13DC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D150F-1BDF-457C-98FF-F9541666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136CF-D5AB-4B52-8657-FE1A425E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D6BA2E-448B-4BC8-B57F-33C60B6C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03D35-2EFC-4FFF-9578-137C2623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20A1F-EB27-4600-B1F5-84291C2E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79F8-347D-4E2F-8BA1-A7E5E71B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4A4B9-D307-418F-81B3-FDBC660E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A4ABA2-5D59-4890-9372-1A808749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3C57A-BD81-4CF7-8048-9EA99015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29B56E-20AD-435D-9392-E2B6B509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8FEF4F-ABC4-4307-B44A-DC923104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A11EF1-9DFF-4174-9C8C-73659071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468FC-4356-44F7-8E34-3B73270C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B9E62-40CC-46E5-98FE-76804E7A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3AB3E-F248-4144-BCB3-7F2139B3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804DF0-76E3-46DE-A408-56F621AB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95A-65CF-4FE5-9BB5-06A921D1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E6E62-6E0F-457F-B294-38C4592C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CB5FA2-825C-41D2-B3EA-57CFF70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F86AF1-96A1-48DE-A7A4-E0252B82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68EB64-5189-43E6-979A-525BC15E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2D2382-964B-4466-8BC5-C896C6AF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8C1CC-E164-4084-99C0-3BBDB959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03222-887C-415F-A0F7-81C1602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0B08A-8ECE-402A-B133-D8C2DE5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0FEA6-1777-49A7-B5AA-D388E376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DE2FF-FB99-44FD-B0A3-B61C3480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BE68-ED1C-4EA3-9FA0-379DA16B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CD91B-768C-4C47-96AD-7B8D5394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37A5B-06E5-416E-B444-773E49B0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C652B-2936-43C2-9D70-9BDA4ADD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15DA1-F065-4AE5-8545-1A259676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77AEB-A325-42C9-8C2F-05F8D121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42D1AF-D956-4757-A9B5-6DAE6EF7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424054-6CD9-45E8-8E3F-2847DADA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B7AAA3-1EEE-44CD-BB1A-991E008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31AF0-7241-4309-96EF-EC29C98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6526A4-5DA4-46DD-AA94-045739DD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B893-D1F7-4640-9077-8FFFBDF0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6D67B9-090E-40B8-B1F5-1A18D749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325C66-4D90-4EF0-BECA-941DDDAF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4582EA-D21A-4538-8964-C8A6720D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F332-172C-4053-9796-C6C6C486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6BC0-749D-44C7-BF60-602D33FC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6326-EC2B-4CF2-A605-7ED51BB0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36D0-25B2-4A5D-834D-71B3EFBF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642-73DD-40DE-99D9-FA676F4D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BFB5-E6C2-4DA2-A022-6E0FC25F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6886-8B4C-422E-B882-01E258B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5507-20EC-48EF-ACDD-B75F934F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A480-2BC5-4510-9963-9B2A072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82B2-4B6B-433D-BBF4-154B0932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0A81-A501-4E4E-85F1-85240ACF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8E82-46AC-465C-8354-E2284E91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BE0C-9CCE-4E0C-90F0-16D880E0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FC20-968C-4AB3-9D0A-ACE9649F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8A9E7-F52B-4D02-880C-6BFCB874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168-F43D-4C61-9C2A-4268C286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3728-71F6-45EB-84C6-DEB9095B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95A2-0895-4CC5-90A9-A150B162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16A61-B4FB-4280-9EEB-C0E671B7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1E45-3B70-4970-B9D6-22CBB6A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93BF-8A24-4FED-9A37-6B65845E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D9AD4-01B9-4D0C-82D1-D8A169D8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0D75-4C6E-42F2-BD81-484B1259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BF573-48F8-4232-B6BA-EC00F8E2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6DB0-610B-44AD-8CE7-51833104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F70CA-E811-4801-947F-29095AB4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A1D-F68E-447B-A06C-C117F788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DDB9C-E0D1-46F3-9FD6-1FD48FE7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7E1D-0C2B-4A99-9700-81F39F79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8510-04FE-4C5C-8103-054609E5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3ACB-56C6-4A30-B046-3F7A554B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4D144-DE61-45D7-BCC4-7E226C96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42188-D4BD-4A59-A120-616507C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60E87-466C-4145-84AB-28E4550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9CB59-BD73-40B3-996C-DA8F651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8BACA-8738-4A48-B827-B5F8CD2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8E9C5-3AA8-4969-86F6-3DD9CF98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550-A8E2-4F4C-B40D-B9CEDB42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91162-C340-4F5F-9598-A11B8741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4ACAD-E22B-498E-8563-228852B2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96937-FBD1-44F2-A5F6-8EC7D41E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2690B-0B0A-47B3-BD4E-9789299D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C4F5-F99B-4598-86BB-B650078E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9DCC2-2124-45F3-AA53-841E105C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98BA4-13D6-4F4A-A964-388968B9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B035-FD32-445F-920B-5A254C7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4ED77-E56E-413A-9F60-5686BA19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A1C82-1F45-4330-BD90-31E13F28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689-9912-4B3C-919C-AFABD4D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20A6-FFAC-48DD-9A6D-D57F8EAF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F4AF5-6A00-47B0-8787-1186015A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2C51-DCD4-4403-9866-2EF658E0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435BB-8071-4693-A8E9-28A023D3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F6CF9-F91F-4426-86AB-40C1848F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35870-9027-48C8-8F29-0D875EB3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EAB2B-1770-4B60-B4C1-C794F13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31E42-9A6C-4CF7-B76A-632BF3A2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3296E-9FDC-472E-9E80-B28FB0E5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DB4F4-5228-4D33-8790-56EBA86B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8A7-26EB-47A2-886B-57BC9ABA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DE3AF-0B5A-40D9-BC4A-B7721F16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06452-ACAE-4880-8223-DF14F264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2FE3D-9CD7-45FE-BFB1-A197ECAF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CF638-BE66-44F2-A1E1-8F4F3ADD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E638E-F617-4E3F-A9F9-9A1C18C3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CC17-1887-405B-B0A9-D8B9BBBF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CF10A-7CFD-4CAD-96DD-9D382846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D71B1-95EF-4117-AC57-6B484ED5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BE07C-441F-466E-BE8A-17132C17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8297C-F1DC-42E1-9525-500CDC11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ECC-85BF-4FF3-B7B1-CC36A89F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51BEC-38F1-4958-AECC-E44D518B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86F4B-E212-4823-A0AF-B0936677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78A02-D07F-4D5A-84A1-5EAFA790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A1476-A583-475E-8FB4-C0DF1649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C297-BBA6-46FD-A733-682DF2F3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FD480-4E43-493B-ABE2-7207DBD9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4853-972C-42A3-935B-A777889D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52DE0-26F9-4A62-9A78-489C3F4F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39158-CFB1-4D3B-A4A2-DA63FB5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CC0DE-83F8-40C3-9BDA-1FCBF2E6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97D3-C9BA-4FC7-AEB0-4F92A38AF3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05C7-731F-487D-84E4-94E3BEB637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20C9-0E73-4DAD-B2A1-6618190CD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9B05-C770-48C2-90A0-5544798F6C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F11C-67B2-474C-ABB4-B5985D781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4315-C4F1-4C5E-90D1-DBE1D60B20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21EF-4A39-4A44-A15D-C97C9A1B4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71E6-7C00-41FA-A486-6C6EE67B35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AA1D-8700-4D3A-9B8B-603D4B7A2C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FA6-5517-44CF-A846-73AD407D4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EBB9-02C1-4DB0-B7F0-2C5AA862F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4AA7-3652-486F-A2FA-E7E2651F8B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CE8B-153A-4B43-9911-DCDD0ECD22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4680-9368-4D23-8FC5-1C251B5632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6554-BAEA-45EC-90CF-A4DE2476B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3D63-989D-45C1-ADDE-FDC96F1175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7DAD-4E70-43B5-A925-D1CF78B590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AB78-8EA4-4995-995B-AC79A8DC9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20C3-5B5C-4F0E-B23A-5612B39A05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BC6B-44FE-4E18-A41C-9D4A31F876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4DA6-A718-4F67-A1B2-CABA903B3F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3A3A-2666-4145-9553-178572DCDB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2D11-085B-422E-AFA0-C905828CB5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BDC4-DBC9-4B6A-B3AD-400042996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1FF2-BB92-4F37-BFAF-5533730C4B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EB73-B6AA-48D2-AFDB-1C36D16290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F348-27DD-4E9B-9B6C-9EFE59D685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43B2-9747-4AD2-8013-2999AAB27E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1FCA-51D2-4CE3-AF5C-4C372ED424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1439-4F8C-44D1-9BF6-C39EDDC457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5113-6735-46A4-87C4-BCF340922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40C-A9AC-48F0-80AF-EB0CA2386F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3242-1F81-45BB-92F4-D5759AEAB2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440F-2877-4055-9ADC-7E2E85505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5A10-E2BB-45F1-82E7-AAFC2A38C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CD4D-445E-43C6-8F90-AF218CACDC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977E-98EA-4256-9817-E20BA66D5D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F042-63F7-4E1E-866E-500F0286C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78D6-8434-4CC4-9FD8-84565B6A2E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841D-6C5C-498E-9E90-8943E99742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43720" cy="1314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7886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324000" y="946080"/>
            <a:ext cx="8496000" cy="5362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284720" y="4235400"/>
            <a:ext cx="453528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1042920" y="5013360"/>
            <a:ext cx="792180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900000" y="5805360"/>
            <a:ext cx="7921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99880" y="838080"/>
            <a:ext cx="8544240" cy="5181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780000" y="4264200"/>
            <a:ext cx="467964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411280" y="5330880"/>
            <a:ext cx="309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04800" y="981000"/>
            <a:ext cx="7934400" cy="4896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940360" y="1873080"/>
            <a:ext cx="216072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340000" y="50418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4500720" y="5084640"/>
            <a:ext cx="122364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6588000" y="481176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6588000" y="532908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695160" y="2414520"/>
            <a:ext cx="7753680" cy="202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136872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7164360" y="2708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252520" y="32130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2987640" y="365904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5450040" y="367344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76120" y="1166760"/>
            <a:ext cx="8591760" cy="45244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7353" descr=""/>
          <p:cNvPicPr/>
          <p:nvPr/>
        </p:nvPicPr>
        <p:blipFill>
          <a:blip r:embed="rId2"/>
          <a:stretch/>
        </p:blipFill>
        <p:spPr>
          <a:xfrm>
            <a:off x="885960" y="4076640"/>
            <a:ext cx="7429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476280" y="758880"/>
            <a:ext cx="8191440" cy="5838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4500720" y="580536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6326" descr=""/>
          <p:cNvPicPr/>
          <p:nvPr/>
        </p:nvPicPr>
        <p:blipFill>
          <a:blip r:embed="rId3"/>
          <a:stretch/>
        </p:blipFill>
        <p:spPr>
          <a:xfrm>
            <a:off x="723960" y="836640"/>
            <a:ext cx="7362720" cy="148572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6328" descr=""/>
          <p:cNvPicPr/>
          <p:nvPr/>
        </p:nvPicPr>
        <p:blipFill>
          <a:blip r:embed="rId4"/>
          <a:stretch/>
        </p:blipFill>
        <p:spPr>
          <a:xfrm>
            <a:off x="689040" y="2324160"/>
            <a:ext cx="797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314280" y="1100160"/>
            <a:ext cx="8515440" cy="4657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284720" y="208908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284720" y="3645000"/>
            <a:ext cx="33116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4284720" y="442260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4313160" y="5186520"/>
            <a:ext cx="3714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304920" y="1081080"/>
            <a:ext cx="8534160" cy="4695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6372360" y="211932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6372360" y="289548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372360" y="3673440"/>
            <a:ext cx="17287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6443640" y="4451400"/>
            <a:ext cx="172872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6386400" y="5243400"/>
            <a:ext cx="17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2231" descr=""/>
          <p:cNvPicPr/>
          <p:nvPr/>
        </p:nvPicPr>
        <p:blipFill>
          <a:blip r:embed="rId1"/>
          <a:stretch/>
        </p:blipFill>
        <p:spPr>
          <a:xfrm>
            <a:off x="343080" y="728640"/>
            <a:ext cx="8458200" cy="572472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52232" descr=""/>
          <p:cNvPicPr/>
          <p:nvPr/>
        </p:nvPicPr>
        <p:blipFill>
          <a:blip r:embed="rId2"/>
          <a:stretch/>
        </p:blipFill>
        <p:spPr>
          <a:xfrm>
            <a:off x="1116000" y="2406600"/>
            <a:ext cx="3257640" cy="323856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52233" descr=""/>
          <p:cNvPicPr/>
          <p:nvPr/>
        </p:nvPicPr>
        <p:blipFill>
          <a:blip r:embed="rId3"/>
          <a:stretch/>
        </p:blipFill>
        <p:spPr>
          <a:xfrm>
            <a:off x="5478480" y="2406600"/>
            <a:ext cx="32576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21:3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