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F4B-25DB-48D3-8667-BBEEC091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675-027F-49BC-A7BC-247E2B78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6B6D5-77AD-4391-B9DB-49783267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851C1-D38E-4FF4-97BF-584AB1C9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31E66-FD45-49AD-B5D2-B08C1BD2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C2727-8C11-4E53-9F46-19EE614C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D52CF-66E1-4C6B-A3C1-517E9350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FFF0A-7A64-4F02-97B1-F18D49C0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8F10B-D28D-445D-A254-26BF026B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14331-9014-4A15-B66D-4CED7997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12565-6147-46B7-8387-DFE18BA7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FFA12-47C4-4635-BBF9-0311D162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F95-122F-4878-B3C2-64C0AFCC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F36BF-6626-4FF9-B608-DA585721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CC239-9CF8-4507-ACCA-4F6A2C8E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7C219-FFE6-444C-8746-61A72DB9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17A0B-76AE-4A91-B4BB-1F750D81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6DA71-E070-48E6-B6EE-E53D7F93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6E803-800E-4188-82B5-9ABBE16D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19336-88EF-4320-BFDE-E38CD85C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3DB4D-0F25-4DFD-A035-9D87AD12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E5BA1-28EE-41D2-9341-EBDB5AA0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6FEE9-73A3-4E38-81B3-44BB311E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6ED-51A2-4AAB-8EA8-79F6BE9B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37D48-B96A-4CB9-9CB2-45E07187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7025F-79CF-420F-B7DD-53E7BD98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D13F5-29F4-4B8C-A554-56930CFF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F360D-AE48-4077-A324-3C616E05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1330F-0B4B-47F5-9DAE-7EF433FC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4389E-3665-4A03-818C-D5EF5D53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3367E-B7DC-405B-BBB7-B196A2C8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637FA-2E51-4C08-8AC9-C84DDACD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DA04D-0AC7-4A80-A10F-C7DC1018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799BC-BC36-42A3-A8C1-C874D0DC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3196-3211-4332-A99A-608FCFC0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BE007-79C9-439F-8844-E20ADE2E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C7B65-EB65-4D08-9C3C-C7FFDE8B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380E5-5817-4457-A84D-A822B624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C0DA6-57AD-42F5-ACF5-84C8E054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4A129-A28C-4611-893F-CC7772FE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2B460-BC69-45AB-A701-552B0102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7CA71-0585-4183-8762-BD5780B2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7A293-601E-450F-B9EF-8FF765A1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CAD1C-8350-467F-960C-54EFE982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20F46-AD12-4E45-B9AB-E30F7490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889B-EAA4-46F2-8889-19C6DE90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5B0AE-DDB5-4DCF-AFF3-AC28D3CF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E4997-3E24-4239-8EDE-6D740436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1656E-472E-4A79-944B-F310BAD4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EE14E-1AFC-4B8B-8460-09A0AEC2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9FCBB-2CD0-4105-AD38-5009FEB8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D9E21-0B3B-4ADA-855F-064AF530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A0FDD-B9F5-446D-A8F1-BA1CF273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F6FE9-C05B-4BF6-80E6-6EB4393C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383F9-F75F-4442-B6B4-831B3F35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4932F-63B5-4F8D-9220-3F7FF25D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4586-72E3-4422-B816-9653CF49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008C0-9B6B-4CA5-9350-1A09FF88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D3DC3-6FA4-4468-ADA8-3A7BBE23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2A5D4-DB3D-49C3-AFF5-1D10F0E4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7E174-B922-4764-9967-9E351C81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D1667-B32C-420C-9B52-B29CEF50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2CD04-4140-4AB4-B1AE-BCFFB040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0AF0C-8147-4401-9ADF-59618447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CF4C8-585F-4485-87ED-FB7B026A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90FF2-0525-41FC-B545-F79826B2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C61D7-2A07-494B-9DC2-F0D8C1DE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815E-6230-4ECB-9571-94FE4063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988B7-FB1D-4736-8598-32D06092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69822-9B7B-481F-BCC4-F4AE6600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FFD87-6E9F-4447-8DEA-A4B6C780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7C6D0E-8727-4A0C-91BE-ABE94608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8897F7-7DA8-421E-98FD-97CDF6B8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9314B-8526-4229-A3A5-1B6B3ADC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95E51-FE96-40B4-83E1-33BF965C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D86BA-1640-495E-8917-CB7FB47E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AD5A5-FB02-48EE-A0EB-D0FE5322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0E88B4-6821-461C-AC6C-D280A7E7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ABD8-AD37-4ECE-910D-64DBC5E7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0E65F-2378-4795-B144-B503FF82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64E9E-D237-4730-9691-E3326570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A8154E-5696-4C93-BBE8-E7564871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35715C-3FB6-41A9-91A1-F6039193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6169DD-36E8-4B13-B6A4-BEC43F22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D79F2-7113-45D2-A5BB-38CE3A1A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A06D0D-1AC7-4325-8D22-D2AD51BF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8D634A-9859-43D3-A200-3BB5F4FA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096723-431B-4616-814C-711E5D89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C35CAB-769C-4588-AE29-5FFA4FC6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A205-C3F8-4DC4-B08A-5F042CA8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835C65-19C5-45F9-8B3C-9A0B7EA0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3151D1-0CED-46B9-AC3C-9A48D56C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B28DC5-F4B3-4DAD-B4C0-FEBC889A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58E21E-7E2A-4A33-8449-7319A782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532B0-EFBD-40C1-8D51-6AFD7233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6A754-6689-4538-8BDA-145B468A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EAE6F3-7BAC-4D64-BBA3-426107D4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42822C-BA3A-44F0-BAAD-DA0BAC08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54873-7E67-404D-A889-25C833F0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02B206-F8A5-439A-8B53-49181B0F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EA7C-EB97-4B74-9F70-63327340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3712A-3AA5-4234-AF49-E6A57C2B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79D299-C76D-49EE-B2CD-E2DC8CA0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9FFF26-5828-422E-8040-1C4BB875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48275-8D75-4676-8E29-66DBCF55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C31D28-506E-4922-AD02-292D6B8B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B3153A-B55D-44AA-A0D3-27074E1D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EA5F57-BE1B-485F-9DEC-ED10A778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B2330-34CA-415A-9286-41A7458D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4C89A5-2F36-4A60-87A6-20C627DB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4B6A54-750A-4E96-889C-D6DF6BD2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E92-3763-46CA-8495-264216B9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EBE4-DF54-412D-8D6B-7AB92936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0872C4-2330-43C0-B5C5-73DCF740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E2F67B-65F2-489E-BC1D-857C057A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1CD8A-16B9-44E2-88A3-8439D0F6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A09754-8E46-4E3F-923C-F1E0F4F3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60956-D140-4D67-9F94-91EC9360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1F0169-6B18-44AA-BF24-6AE9A67B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CC6288-29F0-4853-9BB7-E0D0B65B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27F7C7-8DCA-4436-9F44-44602FCC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D9A060-8412-4510-B7D3-62A49334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0084A0-BDC6-4906-8363-E8D32A68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063A-8DDE-48DA-9214-44C779B7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01E4CA-07E8-456C-9AC0-8C047C53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835EF2-79E0-43D8-AF15-6304E7BB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940622-E222-456B-AB0D-561A82A1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8D972D-7A18-405D-8D9A-5C7522C7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95C28A-5225-4EEE-BD4F-E3D822FC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018428-F9CA-4236-9463-255CFEC5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5602A6-8A52-49DF-9D45-BBE77214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BBCC5C-9A94-4591-A79C-A5DE9F9D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0C800F-C1E1-4B67-9858-542459DA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099DCE-7CF8-4BF7-A353-CD582411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6CA0-4DDF-450A-A391-C8BD0B78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2ACA9-7D41-4053-84E3-777857FE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AEA23D-8DA8-4DA1-9E61-24E6D5FC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D49D68-42DD-42F7-8667-922C9F5F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FEA79F-B61A-42E8-97ED-2A77A844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9B780D-6521-4E08-9EA7-3D0F273A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2E4AF3-036E-4E30-9346-FC001F09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7EB909-57A3-475F-80CA-A469DDC5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603026-1B08-400A-BBD3-932F876F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8038BB-927A-472F-9CE2-21DF8171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0B66FF-4CD2-402D-BCA1-36053140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23FE-35E3-42CE-938C-F9CFCAF9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A61C07-6AB5-4E1D-AE8C-41501EC5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8103F8-53C0-4FA2-9FDA-BF0FB162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4B36BA-7108-4B54-8B08-EA93E9F6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6DE02B-E592-4420-83B2-F8B669CD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34012E-0F43-4CB1-8891-30859C04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ADBD6F-B3FD-4B26-9B82-9D8A143D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B408C6-8D93-4DA3-A95A-A90305F4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53BF9E-44E6-4D07-9277-8A675820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C57C1C-DEF3-4B98-9E70-5654B081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2A46D9-4F33-44F1-B3C0-D84035A0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156A-938E-4C22-8FB9-D2C95591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C3D450-DAED-4244-91DF-98AC739E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808C99-B751-41F0-8A33-BCEE2D7C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528024-5280-40F6-BAE3-9F6DF89E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81EE7E-95F7-4668-B9F5-D5617C14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CC445B-6916-4633-BB8C-9E01A6B7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29496-ADD0-45B2-AC54-5C952155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CB4230-B01D-46CB-97FC-FEDC9D20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83C06D-C30D-4D6C-9A20-146EB94E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FDD97A-83A0-4777-BD57-D5B8D0D2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361388-E5DF-49D8-A8E5-3444A881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1102D-E5B9-45A1-82A4-590EC869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FD527D-8E6A-482A-BFBA-3E0A40E3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B49249-B6D0-41E8-87F1-C89582A4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64DFA5-5957-4393-A75F-6B9E3FD3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323B-A798-4571-AF58-0B9B80D2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30B5A-BAF1-4F6F-9704-AEBDE2E6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6A9F6-CA0C-4AFD-B730-281B777B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49A17-6C9E-4A14-8380-C23F91D6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ECD-D7DE-4292-815E-180C51D6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5CF4F-B4D8-43A5-9AFC-591163CB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13888-DE8A-4C74-9487-38583E72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84B4B-ADF8-4D11-AB7A-CF6B12CE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00AFB-177E-4958-A581-9757AA03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F65E-28B3-44AB-B235-0EE4F4C0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C8C25-58EC-4D29-A5EF-2D182277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5DFCD-4ACF-4749-A748-982472BC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CD7A-A8D7-430A-B33C-1B3C770C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D9BBE-D0BF-441B-BD62-91A24E2D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932B-BD3E-45AC-9570-E22A9BFA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9C5-8739-42A6-8079-F2494992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D20A2-43DF-47CA-8711-D8FA90DA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5EA12-366B-4115-9B53-971043A0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0E046-37F4-4965-B21E-35D03CE5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2D82B-3807-4B2B-A1DB-0C0C34F7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24562-C220-4482-8764-57744B31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D810F-7356-483E-9789-ADF7DFF3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78020-90D6-444E-89AB-EE3D8236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67ADF-EDB6-46AC-8567-66BEE64B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951A2-8944-421C-BCE4-F43F8AE9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3D378-48C1-4EF1-B1D5-CE430473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9AB-FBAE-4286-8D8B-421BC7EC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46B48-A4F8-4EB9-BE3D-FED452FE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D1695-FB22-4D63-8AD5-BA60D373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AD824-D4CC-4BE6-9B0B-6930E2EB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C3AAD-BE97-4F00-A33C-198823EF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DA4B5-14E5-41FC-AD1A-0FEA4BA4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7D7F2-B4A0-4C9D-9ADB-01BEF4D9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DB9F4-1CFB-4EAA-B14D-000F5639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95CE2-CA67-457A-8E66-95F392D4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9650D-D144-418E-B483-5E5F3C49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D6F93-90B4-494B-A54C-254DFB5E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EC7-322F-47A0-8E30-2D5328E2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CCF29-005F-4C20-A729-D9FDC7BA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C9383-95A4-466C-8576-E89418C7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55F2C-C64C-4B98-B3CD-7439786F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11D25-54F7-4A94-A2D5-C4BA6B0F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233A7-50B7-4EBF-AF60-8AA44A3D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22027-43FA-424D-AA5E-4FA4285F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34E6B-55C6-4D6E-8E7B-133CA17E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D4D44-E38D-4046-BD92-5CC1D696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3C391-8374-4E1D-91B2-5E760101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B8DED-2839-4EE7-9DC5-743F7176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E9C-8697-48FA-9969-FDB345AE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67E77-A51B-4407-93AC-233F4E33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9E4BB-8446-4FE9-AD8D-3864EA9C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34985-DC0C-45E6-8E59-B09BB61E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AACA3-E8DF-4225-B774-404BA0DB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0F4E6-E39B-4E87-8D29-F1A430A2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3B4F7-0353-405C-9875-7AFA98C0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7FE08-97AE-4DF3-9D66-FC73ACB7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421CE-568B-49A1-890C-DCD7A0B3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9D6AD-71AD-4D2F-8ABB-523444F9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F492C-CC11-4B0D-BB48-417C7FF9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216F-CC6A-4D1E-9111-A34C0C38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A85A6-30B7-4FAA-A98C-A303253F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1D522-40A0-4E1E-AECB-0AE18958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E6517-E287-44DA-B5B7-6A2B3C5F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530D7-7EA7-480C-AC30-60C1D022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C3F14-A4D4-4ED2-9BB1-88DAB12E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D69FC-9884-4332-807B-4CB79B80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379D6-BAB2-4FA5-8AFB-E02A0302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4BAF6-8AF6-4F61-AC9F-8EB217D8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E7307-B8D3-43B3-AF77-D98DEEB4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A11F3-2E45-4B82-B9D1-80AA3D04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DE6-064C-46AC-9FAE-5FA4B634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14002-3A4C-4D93-93BF-74FE0827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1FA7E-19C9-4B77-9598-EB8B7159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9673A-006F-463D-B803-27A414A0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672DF-7708-4D2F-9A9A-99FB37D7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F771E-19FA-4727-8735-48F7E524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48149-AE45-4CA4-9882-0F10A05C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3083D-BDD3-42F1-97FB-ED4FFB3F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605E4-E3E8-4338-9DB1-C33BE790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6023A-A5B3-4778-A0B6-4B7976D5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8E502-B260-4C6A-B7A3-149EDEFA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6A07-7725-4FFB-8CA4-BA9EA75134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7203-4D5E-47E6-B95C-233F51F535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8967-CB36-4BC9-80F7-693ECB8178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4EE1-A93B-4C5D-A392-F74E4460FE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E520-2F15-4D7C-AC23-9B129E1298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0DE6-46E6-4AD7-81AD-9E63A49CB0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8849-CDEE-4A60-B3DB-23B043D76E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7E30-CEBA-43FF-B5CF-8390CAACC0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C333-DB18-43FF-A433-E9AF8DBBBE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644D-660F-4AA1-A9C0-7BD32516AB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469F-7C81-4AC8-940B-7C35C32AA2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5FD0-45A8-4FB6-BA8C-BF6DE571C0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28D3-B19D-4C9E-B02B-25124F770F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E233-3A56-4933-8B0B-0558BDA5A8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39A9-1987-47A7-9592-8C2697D148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CDA1-3A72-40C2-A46B-738BDC81A9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54F5-93F6-46DF-B2D7-961DA18527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98ED-05DD-4817-BF2E-92BD6B714E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ECAB-2BA7-43E0-ACBE-2B1414E7A1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BCA6-15CA-4FC0-A7EC-17F4083C66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03A9-2D20-4D23-BF2F-4589E63726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31D5-6F86-4D2E-BE17-4AEB434FDE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D421-2D43-4368-A214-A011F8A1C9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CA18-59D4-45CD-AF13-7E401CD836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B798-3D82-4394-B1A0-526608872A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6BF5-717C-49E8-A961-29F0DD2B3C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9810-B293-48BB-A2DB-7082CFFFB7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EFE7-3DAC-475C-B994-9C874A9B54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DDEB-84DE-43B0-B4CB-1A61B83049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4953-6902-4FDC-8A16-056820A257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A2E5-E0F4-47C6-B551-7D57DC1CC7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8A92-BADC-4340-8BE6-D37185C5B4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8826-949C-49A6-B4A4-DF794909CE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276C-F4E5-48E2-A3EB-B279A264FF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2DD6-F430-43A2-A1C6-4BAB8DFC32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3855-E77D-41AD-89E1-4EA8B33DE2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696C-B9A9-4A40-B9F9-40A6EA26BC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2326-E8EB-409F-A86C-C21189E1D5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A73D-EEB8-4AC2-9B6F-7CCB79691A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4C8D-CD95-4D2E-8CD7-3048040B40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514440" y="2976480"/>
            <a:ext cx="81151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69633" descr=""/>
          <p:cNvPicPr/>
          <p:nvPr/>
        </p:nvPicPr>
        <p:blipFill>
          <a:blip r:embed="rId1"/>
          <a:stretch/>
        </p:blipFill>
        <p:spPr>
          <a:xfrm>
            <a:off x="814320" y="1562040"/>
            <a:ext cx="7515360" cy="37339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826920" y="1657440"/>
            <a:ext cx="3457800" cy="447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3"/>
          <a:stretch/>
        </p:blipFill>
        <p:spPr>
          <a:xfrm>
            <a:off x="4716360" y="1643040"/>
            <a:ext cx="3457800" cy="4478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4"/>
          <a:stretch/>
        </p:blipFill>
        <p:spPr>
          <a:xfrm>
            <a:off x="1116000" y="2421000"/>
            <a:ext cx="6408720" cy="4474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5"/>
          <a:stretch/>
        </p:blipFill>
        <p:spPr>
          <a:xfrm>
            <a:off x="900000" y="3213000"/>
            <a:ext cx="6408720" cy="4478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6"/>
          <a:stretch/>
        </p:blipFill>
        <p:spPr>
          <a:xfrm>
            <a:off x="684360" y="4005360"/>
            <a:ext cx="6408720" cy="4474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7"/>
          <a:stretch/>
        </p:blipFill>
        <p:spPr>
          <a:xfrm>
            <a:off x="755640" y="4797360"/>
            <a:ext cx="770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611280" y="331920"/>
            <a:ext cx="7515000" cy="475272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60429" descr=""/>
          <p:cNvPicPr/>
          <p:nvPr/>
        </p:nvPicPr>
        <p:blipFill>
          <a:blip r:embed="rId2"/>
          <a:stretch/>
        </p:blipFill>
        <p:spPr>
          <a:xfrm>
            <a:off x="395280" y="5386320"/>
            <a:ext cx="8410680" cy="1400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916360" y="1413000"/>
            <a:ext cx="503280" cy="9363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877080" y="1413000"/>
            <a:ext cx="503280" cy="9363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132000" y="2852640"/>
            <a:ext cx="503280" cy="9367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877080" y="2852640"/>
            <a:ext cx="503280" cy="9367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987640" y="4221000"/>
            <a:ext cx="503280" cy="9367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093080" y="4235400"/>
            <a:ext cx="503280" cy="936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804000" y="5734080"/>
            <a:ext cx="1297080" cy="4316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076720" y="6208560"/>
            <a:ext cx="503280" cy="4320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236000" y="6208560"/>
            <a:ext cx="5029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357120" y="662040"/>
            <a:ext cx="8429760" cy="553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3203640" y="177336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6948360" y="177336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2843280" y="263700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6948360" y="2637000"/>
            <a:ext cx="129564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2916360" y="3544920"/>
            <a:ext cx="107928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6877080" y="357336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8"/>
          <a:stretch/>
        </p:blipFill>
        <p:spPr>
          <a:xfrm>
            <a:off x="2987640" y="515772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9"/>
          <a:stretch/>
        </p:blipFill>
        <p:spPr>
          <a:xfrm>
            <a:off x="2700360" y="5632560"/>
            <a:ext cx="79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8373" descr=""/>
          <p:cNvPicPr/>
          <p:nvPr/>
        </p:nvPicPr>
        <p:blipFill>
          <a:blip r:embed="rId1"/>
          <a:stretch/>
        </p:blipFill>
        <p:spPr>
          <a:xfrm>
            <a:off x="247680" y="871560"/>
            <a:ext cx="8648640" cy="51148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1562040" y="357336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590840" y="4292640"/>
            <a:ext cx="649080" cy="7920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1576440" y="5402160"/>
            <a:ext cx="64908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2657520" y="3573360"/>
            <a:ext cx="6490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2685960" y="4292640"/>
            <a:ext cx="649440" cy="7920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2671920" y="5402160"/>
            <a:ext cx="64908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5796000" y="3573360"/>
            <a:ext cx="64908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9"/>
          <a:stretch/>
        </p:blipFill>
        <p:spPr>
          <a:xfrm>
            <a:off x="5810400" y="4292640"/>
            <a:ext cx="649080" cy="7920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0"/>
          <a:stretch/>
        </p:blipFill>
        <p:spPr>
          <a:xfrm>
            <a:off x="5796000" y="5402160"/>
            <a:ext cx="64908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1"/>
          <a:stretch/>
        </p:blipFill>
        <p:spPr>
          <a:xfrm>
            <a:off x="7567560" y="3559320"/>
            <a:ext cx="64944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2"/>
          <a:stretch/>
        </p:blipFill>
        <p:spPr>
          <a:xfrm>
            <a:off x="7596360" y="4292640"/>
            <a:ext cx="649080" cy="7920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3"/>
          <a:stretch/>
        </p:blipFill>
        <p:spPr>
          <a:xfrm>
            <a:off x="7581960" y="538812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4"/>
          <a:stretch/>
        </p:blipFill>
        <p:spPr>
          <a:xfrm>
            <a:off x="4024440" y="5416560"/>
            <a:ext cx="64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7352" descr=""/>
          <p:cNvPicPr/>
          <p:nvPr/>
        </p:nvPicPr>
        <p:blipFill>
          <a:blip r:embed="rId1"/>
          <a:stretch/>
        </p:blipFill>
        <p:spPr>
          <a:xfrm>
            <a:off x="318960" y="1461960"/>
            <a:ext cx="8506080" cy="39340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2916360" y="3616200"/>
            <a:ext cx="129528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2843280" y="4365720"/>
            <a:ext cx="1295280" cy="934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4384800" y="278136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4356000" y="4365720"/>
            <a:ext cx="1295640" cy="934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5867280" y="2781360"/>
            <a:ext cx="129564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5867280" y="3645000"/>
            <a:ext cx="129564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7308720" y="3587760"/>
            <a:ext cx="129564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7308720" y="4408560"/>
            <a:ext cx="1295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56324" descr=""/>
          <p:cNvPicPr/>
          <p:nvPr/>
        </p:nvPicPr>
        <p:blipFill>
          <a:blip r:embed="rId1"/>
          <a:stretch/>
        </p:blipFill>
        <p:spPr>
          <a:xfrm>
            <a:off x="343080" y="723960"/>
            <a:ext cx="8458200" cy="54100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900000" y="3268800"/>
            <a:ext cx="251964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251964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900000" y="4869000"/>
            <a:ext cx="251964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755640" y="5646600"/>
            <a:ext cx="792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55300" descr=""/>
          <p:cNvPicPr/>
          <p:nvPr/>
        </p:nvPicPr>
        <p:blipFill>
          <a:blip r:embed="rId1"/>
          <a:stretch/>
        </p:blipFill>
        <p:spPr>
          <a:xfrm>
            <a:off x="314280" y="1528920"/>
            <a:ext cx="8515440" cy="38001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604836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3"/>
          <a:stretch/>
        </p:blipFill>
        <p:spPr>
          <a:xfrm>
            <a:off x="1403280" y="4076640"/>
            <a:ext cx="7416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图片 54276" descr=""/>
          <p:cNvPicPr/>
          <p:nvPr/>
        </p:nvPicPr>
        <p:blipFill>
          <a:blip r:embed="rId1"/>
          <a:stretch/>
        </p:blipFill>
        <p:spPr>
          <a:xfrm>
            <a:off x="638280" y="1538280"/>
            <a:ext cx="7867440" cy="37814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2"/>
          <a:stretch/>
        </p:blipFill>
        <p:spPr>
          <a:xfrm>
            <a:off x="1187280" y="3933720"/>
            <a:ext cx="590580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3"/>
          <a:stretch/>
        </p:blipFill>
        <p:spPr>
          <a:xfrm>
            <a:off x="1042920" y="4724280"/>
            <a:ext cx="590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52231" descr=""/>
          <p:cNvPicPr/>
          <p:nvPr/>
        </p:nvPicPr>
        <p:blipFill>
          <a:blip r:embed="rId1"/>
          <a:stretch/>
        </p:blipFill>
        <p:spPr>
          <a:xfrm>
            <a:off x="271440" y="1171440"/>
            <a:ext cx="86011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23:4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