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C6C-4A99-4E3F-A530-A42789D8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32F-3921-4FA8-844A-0CC13BC6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5F0D9-2863-4254-B5F9-D4A4382B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D00F9-ACA3-4DD0-8AE3-E011DEA1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64A0B-98A9-465D-9097-820E6CC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490E0-C0E0-4B99-A3D0-62FDEA2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21BD3-92E6-4AA5-9088-F3ABBA27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C3BB8-668C-476B-9050-8440CC4F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F1AA5-6C9F-4921-B0B3-2306153A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0BDAC-1326-4979-AE52-5491573A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B25C5-B086-40C7-A0EC-B75ECFC8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ED1E1-1DCB-4AD5-948F-F2B944E2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400-88F4-47B4-9E99-788400D5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9F614-6BF8-40FA-BF57-5139DAC2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A9B85-D90F-47AA-B8B7-0F29E96D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97ECA-B095-4F7E-8F1A-5F498B68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9B6C5-F82C-4EAA-9066-5CC72248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EF17E-9087-4B41-99B9-5BF15C47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25168-4276-4644-9669-C8A99AF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97B86-C5D4-4DE4-9034-97FE4A87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F751E-DCBF-49D0-8235-F0263018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63275-C427-47F3-9819-7C889850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55D25-6364-4678-A9EA-DE84F1BB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5F7-A9CD-4CB4-9851-E75DB3F4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DE65F-AC35-489B-88E6-52861450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539DC-C3B3-419B-8432-CABF0476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62B1C-9484-46BA-A20F-F83F1F0A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DDE69-2C31-49A9-8795-54D1F483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60216-0104-4C2C-A9D8-DBFA2AB9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E79A7-E66A-44DB-8553-8759749F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4F852-4C5A-4643-A212-B624EAE6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E894A-8B47-43A3-A643-EA1BFC3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31E8B-EAD0-41D1-8577-3491446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25111-9050-4859-B25D-A3824944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3907-CABD-4428-BBE2-D7CA0315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D987A-CBAA-4A80-BEBA-AE58311D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F1B83-3721-4562-BA3D-D9197E6E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83CE9-D4E2-40C7-8C6D-796A57AF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0C175-DA05-47B6-9343-A846B420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4ECEF-776A-4806-86B4-2111C669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EE068-559B-4CD5-8BD0-7D16E549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1D23A-7647-44FC-8459-7852372A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8D393-B9A1-4E23-B755-BF4B90F3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16C5A-A34E-4F2E-976D-52CC1F87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CFF16-BA47-4625-AEC0-8A220E42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F705-DE26-47B7-90BB-38143E93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13D2C-649B-4541-94C7-A8022FE7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35F53-A38E-48E8-B431-7EFF23A9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A129C-F348-444B-A0C4-46A378FA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F5932-5A5A-45C7-AD35-A4AEF457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768C0-B31B-4D8C-AC47-5B058DA8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9865C-1DE3-4352-A18C-9BABE6BC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9E428-C41B-4C1D-A3DD-38F4F484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2C024-C866-4740-9BC2-640C5402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1653E-DEAE-4169-A9FE-DA695360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4D082-10E1-4401-B27D-F86534E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7CCD-502F-48CF-AF86-CE5ECA49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A4D89-6517-4CAD-94A4-FCFAC810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E5E64-720F-4A0A-AA8E-C9C1CB38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82D18-1655-445F-88C5-EB377B6F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00BC6-F391-4247-BEE1-8BA6FDD8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55F42-DF1C-451E-A557-4C29C30A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FC22F-AFBB-4D16-94BB-C2D3CAF7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39659-DCE0-4664-8430-6254E47A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265D2-FFBF-4AB3-93C9-B23339F3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46ED5-3711-4D82-BD7E-D7813BEF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983142-0736-4852-952E-8CE79559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BFA4-9CEE-4238-AFB2-EC89A50E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DDA37-E9C4-49CD-A7D4-F0619D59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D7820-672A-4C78-84C5-613AD194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B735E-AB77-4959-A787-426F89EF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22584-5261-43D8-9902-967924D3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57391-75A2-43C9-9BF7-CD5449C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21DA6-10E4-4658-9989-24DB374F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B602B-8A37-4A22-BF7D-C09EBCD8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82A16-D480-4B5C-84FC-578945B3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97BA7-8D55-4E82-AEE9-9A8C9389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7767E-2770-4287-9031-FB92463F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988B-248C-4CB6-9ADF-CF3830F1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6F6C4-4335-4637-B18F-A8943E69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014E5-FBC4-4007-96E9-732A8D59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332B2C-9DA0-45B4-8ED2-A891D18D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DF1D7-3082-411D-B205-AB6820C1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88639-3712-4B88-AB32-4996667C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92BA4-3CE5-4101-9DB7-3FA21FA4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A70F0-6651-4DBC-BFF6-6B7A68E3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DC0B7-CD9F-4BED-9181-406782F2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2F0B0-766D-4EF8-92F8-48A083C8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6FFC6-E2BD-4CFF-B172-A8E259FE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5398-F003-4A39-86E5-99883480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75A29-0BB1-4175-AEAF-61F2E3AC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4011A-3366-4F16-9D10-525A90DF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F9B9E-B8D6-4EC9-92A2-914A2669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703D7-C8CC-435F-A4D2-12F6F14A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6124F-481D-4613-98F5-62251C11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641E4-FE02-49B8-90F9-267F9D07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CC602-5208-4569-B5C5-225AD15D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75650-96F2-4BC8-B687-5F08EE63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12D7C2-0AE9-43D6-A274-826B185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1B1AC2-4528-46C7-9DAD-835C82AD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396B-3F3C-4146-BD73-81280E5E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13122-942C-4819-8066-DB30A506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837D1-DA49-418E-91F2-E7FD4109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528AB-36D6-45D7-AD87-0C5C554D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E7ADC-BC78-4AA8-B0E0-6F023EC5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4AA12-0058-434D-945C-BF314244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8259F-56DE-464A-9AB1-3C25EE5D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E7F2B-D550-43B0-BCB7-3C0C2E35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52656E-9FF6-4EAF-A4CC-3BE89CF3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42046-6CBE-4CB0-B6EB-D686DA35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E771B-EF14-4B3D-8DC0-D76FDC59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C70-E8D7-4E0F-AB56-7FE7E636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118A-9DFB-4702-8673-07E9C7FD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666A8-4AE7-4D69-8905-2BA39CA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7394D-F192-41BD-97CA-A7402755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D1CFCD-C842-4B55-A0FB-30E044AC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8B1B3-BD77-4A76-8922-DAFBC2EF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55E57-3D72-4B74-8FC7-2C73531F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A36AF-9A3D-4FCE-A38C-8D8776BF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CC095-117A-4DAF-BCE5-88BF200C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A1BDC-D1E4-41A8-BB0A-912526B5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0A95B-83FF-4B67-BED3-686FA3DD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75C0D0-9CCB-46E6-A85D-5262E340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E9C3-611A-43E9-B0B0-030C39F5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C32A7-5252-4C74-8C49-9074F217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09F49-E732-45B8-8E1B-133D376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94C2F-5B76-46F0-BF4B-44C1B830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C9AD58-2A96-4BE8-A3C0-DD358316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523B5-BEFB-49D2-BD64-84849872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0E73BB-43CD-4CCE-86C9-24940811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E6A65-6E2B-495B-B2CF-8919C5C9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487816-9749-4348-95EB-8783D4D1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52A6E8-5346-4360-90BB-A31012D0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E043C2-7A81-49FF-915B-0A9B0DF8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1D24-5AE9-4ECD-AB62-9C87E578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A93B8B-E5CF-43EC-ABE7-ACE3FDE9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16F2F-AFDB-4D80-B88B-F046DAED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607728-3CEA-4F96-A8CA-EFE02DCF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C4D255-4710-4E00-B7F8-8ED5CDA5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43D6B1-B9C3-4DD5-8DD5-C7DDE49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3ED90-9097-47D9-8C54-7B137D32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10E6E-9667-4CCD-8D86-CF4B7DD1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516F6B-D89B-4AB5-B4CC-C65C8BF4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DBAA1C-6FB9-40CF-A811-C47D9CE5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3E7613-CD59-4BCF-9767-D6B55324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CBB9-D8BA-472B-9826-9F26DBDB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D0864B-1E18-4272-A9C1-81ABFD85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A140A-C7C4-47E1-8683-018DC990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23125-AD5D-41BA-80F2-EF8AEF5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347E12-E39F-4CE3-B5EE-6FDEC856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507F32-FB9A-4511-9C1A-A5985AAD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C7247-E57C-462C-ABF9-4E34871D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6BCFA-225D-4011-936D-A060C682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C205AB-D3AF-4B7C-A1D1-743A2CFA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2CBB9B-BC71-47CA-9DF9-7685292D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03E15C-8AEA-4BAD-AF82-F30C2E0E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D6C2-4100-402F-B3BF-80180C60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B4DD4C-B9F5-4B9A-A52D-EBB07C4F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2A6414-7560-4282-BF42-80ED6453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202C42-F582-4619-A180-B603C736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4E3494-3E05-427A-831C-65A24D00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F70FD-C0F5-4BB9-8716-27ED529D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00E40-48E2-4529-922B-3879C7B4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140EC8-2842-409A-93F0-A250754D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8E0494-5756-4E12-9759-EDA9DC1F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76B98E-A107-4149-9E51-BF7C738F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D7044D-48D5-4488-A6AF-65065F5A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0972-6A6F-4470-9A55-4067A40F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3E064-6F0B-46EC-8DF3-9A5DE8DE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609A70-04FB-47C5-BC55-A638FAB7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B89FA1-14F2-4894-98EC-DF58F7F4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B8CB-83BF-49A9-AEEF-01C1B705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BC35-66D3-4C81-B50A-79F33425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413D9-4AF8-40B8-A6E0-5142BA58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EDD0-0C66-4311-BDBC-DD4DDB53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AC3-4B85-43B3-8CB0-2BA41CA8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7C581-9CFC-482F-9634-74243D9D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7815-5B43-4E14-88AD-9C59FBF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B8FD3-F16A-41A4-B094-4525639B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DA0D9-066A-4820-81C0-43DB1E1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02DAB-E741-41B2-9028-1E80525D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AC86-8D5B-414D-A540-80AAAC48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8E60-7065-4CF1-BBE8-52E04CDB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BB2C-D881-4E0A-8238-106EE03B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D008B-505B-43A0-982C-4BFE9630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3715-2222-4E0F-A67A-383F4FA6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4DB-02C3-44EC-889D-12AEB907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F1CA-E386-4866-845F-54CADAA7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0D6B-5585-4A7C-861A-D6F052EF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8199B-BBAD-4166-A8D1-8327A427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D321-2841-4FFB-B26F-F6AD943C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76477-CF34-49C5-B712-E3382C80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40BD1-2FEC-4242-8708-F066DCFD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23F33-16FE-47A7-A37B-C7C9D9A6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09468-2B45-49A1-B3D8-5B460A41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4B125-B244-4C97-8153-D11CA519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93B30-3CB2-47CB-BC06-4A43FE94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34DF-9223-431D-9BC7-43A24ADC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CBDDD-791D-4DC8-85A9-6218C1C4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FE50C-EBFD-45F6-A330-8B40AF2B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6B1C0-66ED-4181-B84E-B0D70A3A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22DEE-E616-47DE-BD7C-BB8E2631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7009-012F-430F-B12F-60D33D7E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F7548-3D32-4A1E-997F-CBCEFA67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5F564-B4C3-465B-B341-D93589C4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F093F-B68D-4617-896B-A455A836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41A1A-D604-4F18-A485-026DA112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46C5-A8B3-4535-BD3B-31AE5ED6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3EB-690C-4A1E-8102-3BCDE5A6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1194F-EF6E-4A21-8D81-5F30FFDA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CA62F-4530-460D-93CB-3DADF963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E9F6C-640D-42CB-88B6-26C9CFBF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8B2B1-D286-437F-8D95-4353BE2D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85FA6-9F5B-4453-AB53-3DB345D1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01C4-2B4C-4578-B797-8BA114AA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F7BF1-3568-4BFA-A98B-38F6A240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C5942-2AD6-4E48-AD80-F42A28B8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0ECD1-1264-4EB3-A94D-89EEB61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5EF4E-7444-4461-AB7F-61C7821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17B-16BD-4631-8493-0B134B94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34E7-0448-4DCC-ABC4-128CD6BA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E101-A411-4DF0-B8EC-419DB59C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FA6CD-8372-445C-B3AE-AD790267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96744-4518-4FD9-8746-22356901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632D6-F74B-4F13-9669-4391D5D8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AAF94-0953-4EA6-B437-E6F064B6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41A0C-5ED5-487E-AC79-701F7640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98BD8-C1CA-4169-BEBA-99436119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FAFC6-275E-4CF1-A972-4E3A9547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414D0-1B23-4DA6-A56F-873D1E18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B0E4-FD9C-4AA3-9F66-B5BD51E6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0D296-E5DF-46B1-BA88-252C434B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CB835-0A98-485E-9CDD-59F87E2A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9579C-B9A8-460B-8401-905C343C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48F23-6CA9-48A5-BAE7-BAF209AB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5845E-73C3-4D75-A64D-6220C9EC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C5435-4675-4ABB-8BC0-4D6A94D4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F2FE8-1F15-4C7D-B130-A4B58C70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BEC88-D1B2-4C9A-901E-D84CDE4A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B4224-753C-4823-8C63-4884C429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974CF-F230-48F9-A11C-8B182BFD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584-8AA9-441F-B673-F190AC61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91D3F-6A0D-45D7-9C15-B16231D0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4C919-A565-4FF1-9DA6-E406CB52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B9271-2770-48B3-B387-8C87063B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06A99-424F-42EE-A5B0-F8A92654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A793C-7DB1-40A1-8FE1-95F9AADE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40FEA-6141-4730-802E-9FF3A32B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8CF0A-5475-4266-B8DD-5F0A8554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A1394-6BC4-4A94-B22F-0C3875D4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D01C7-0A61-4766-8068-E72A5FB5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D7E5A-FFDD-4F83-85CD-E4502FEC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B1FE-18E4-49AC-AD0A-B35E01F2B5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529A-C1A2-494F-B471-E2A898FD8C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3FC7-DB53-4C6F-B909-E953A91F3E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BFEA-77CD-4BD5-B0BA-AC6A7DC042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6A48-FB6B-4752-8A5C-36BEFDF986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128B-4D48-459F-913E-FA9D0C21AE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B5D5-FD83-40CD-B7F0-AA2EFDF73F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724B-A64A-4BE0-B8DD-09FDF19BB9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F561-6336-412E-97E9-43BC341A3F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A5B3-E4DE-451B-95C3-D4A626930A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2BF6-F967-496A-BE04-3A4E8B51FB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E7D7-27D2-4E22-B57F-62A072BAA3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2233-59B9-450A-8FA1-24C4C196DF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5972-8D9B-4EA1-A63A-CEE51A9D98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085B-0495-45D6-83B8-5AEDEFB678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53AE-4437-49F0-B7DE-D9107B001A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B6D0-A559-425D-A5DA-FEE6B378D7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E72B-00B3-4282-AC52-4DDFBE46EF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368D-D4F6-4578-BCCC-12942FFBFC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EEFB-5EE9-416A-B751-90FF216342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2CAD-6902-41BF-8DCD-E79B017907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747F-6618-4B36-9131-82219A8F2F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6B76-E992-4D9D-A179-3068F84AAE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290C-F781-4A7C-9D24-FD2AEE3BF9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03F3-EA38-41C1-968D-7B6F02B62E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A45E-4156-45DD-B009-EF2623F7BD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0D08-68D6-45AE-8366-01F2E152E0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6A6C-1108-4E97-AEBE-3773FCFD8E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AEF8-B92B-46C3-B3EA-3AA2634511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B491-BCEF-4380-8F0C-EA84EF6C6B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4648-CFF6-436A-AB6E-21D428C412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6FE0-1DB5-4E52-A387-C49211FD03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01CF-3062-41D1-9C55-AED845A023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ACF1-2052-43D9-A1E9-C89CB8CA4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0BAD-EFDD-42B2-AEB6-7F7E6EB356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1F9C-299C-43DC-8F2A-D1A1F3597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974B-8A37-44BC-9068-22BDB45163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EDEC-94A1-4352-8B40-65E8ADF105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4F39-48C4-49A8-909D-E4008E122C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8957-A57A-402F-B31E-BFB6AC6E92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52360" y="3000240"/>
            <a:ext cx="86392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33360" y="728640"/>
            <a:ext cx="8477280" cy="54007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547640" y="528624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59410" descr=""/>
          <p:cNvPicPr/>
          <p:nvPr/>
        </p:nvPicPr>
        <p:blipFill>
          <a:blip r:embed="rId1"/>
          <a:stretch/>
        </p:blipFill>
        <p:spPr>
          <a:xfrm>
            <a:off x="652320" y="866880"/>
            <a:ext cx="7839360" cy="51242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3708360" y="15717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6588000" y="3357720"/>
            <a:ext cx="1368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4356000" y="400536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2771640" y="4768920"/>
            <a:ext cx="446436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3419640" y="5445000"/>
            <a:ext cx="446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8373" descr=""/>
          <p:cNvPicPr/>
          <p:nvPr/>
        </p:nvPicPr>
        <p:blipFill>
          <a:blip r:embed="rId1"/>
          <a:stretch/>
        </p:blipFill>
        <p:spPr>
          <a:xfrm>
            <a:off x="476280" y="833400"/>
            <a:ext cx="8191440" cy="5619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916360" y="154152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987640" y="2219400"/>
            <a:ext cx="453708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5940360" y="295272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2411280" y="497052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4716360" y="497052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3708360" y="589104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347760" y="1281240"/>
            <a:ext cx="8448480" cy="4295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1042920" y="2982960"/>
            <a:ext cx="403380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403380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403380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755640" y="5084640"/>
            <a:ext cx="504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295200" y="276120"/>
            <a:ext cx="8553600" cy="6305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755640" y="4005360"/>
            <a:ext cx="604836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826920" y="4724280"/>
            <a:ext cx="604872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755640" y="5416560"/>
            <a:ext cx="80643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318960" y="1324080"/>
            <a:ext cx="8506080" cy="4209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971640" y="2909880"/>
            <a:ext cx="388764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971640" y="3645000"/>
            <a:ext cx="388764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38876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971640" y="5070600"/>
            <a:ext cx="540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324000" y="477720"/>
            <a:ext cx="8496000" cy="6191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971640" y="3371760"/>
            <a:ext cx="698508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826920" y="4121280"/>
            <a:ext cx="698508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826920" y="4797360"/>
            <a:ext cx="698508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55640" y="5530680"/>
            <a:ext cx="81374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2231" descr=""/>
          <p:cNvPicPr/>
          <p:nvPr/>
        </p:nvPicPr>
        <p:blipFill>
          <a:blip r:embed="rId1"/>
          <a:stretch/>
        </p:blipFill>
        <p:spPr>
          <a:xfrm>
            <a:off x="130320" y="4149720"/>
            <a:ext cx="8762760" cy="191448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52232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486560" cy="19432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067280" y="204624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4427640" y="270828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7451640" y="2060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308720" y="270828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2124000" y="4508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2268360" y="522936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5003640" y="458136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5076720" y="522936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8101080" y="458136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8101080" y="5229360"/>
            <a:ext cx="718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3:3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